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7F3-BF5F-4D49-BA75-FB8F4965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535-8330-47DF-9436-693168D4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F72-ED34-4901-A597-93F9C9B9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ADB-F344-4B42-9A1B-203C9CA8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FD5-F1B5-412E-B295-8F969275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03F-3E1D-46C5-A621-7CC877F1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FCF-8A7B-4A90-83F6-0A535A1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6D0-C2C8-42DA-A0D0-13765351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BA7-FCFA-4950-A425-AF245430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9F3-00D4-4935-95F3-A875BD1F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2EA-A8BC-4244-A8ED-E7C32222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994-2C14-423A-A768-E808E481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cs.gla.ac.uk/~daw/books/J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cc"/>
                </a:solidFill>
                <a:latin typeface="Times New Roman"/>
              </a:rPr>
              <a:t>Java Collections</a:t>
            </a:r>
            <a:br>
              <a:rPr sz="8000"/>
            </a:br>
            <a:br>
              <a:rPr sz="80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n Introduction to</a:t>
            </a:r>
            <a:br>
              <a:rPr sz="36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bstract Data Types,</a:t>
            </a:r>
            <a:br>
              <a:rPr sz="36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ata Structures,</a:t>
            </a:r>
            <a:br>
              <a:rPr sz="36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nd Algorithm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vid A Wat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ryck F Brow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6172200"/>
            <a:ext cx="3124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6520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ims</a:t>
            </a:r>
            <a:br>
              <a:rPr sz="2000"/>
            </a:b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the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how to analyze thei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the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data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 abstract data types most commonly used in software development (stacks, queues, lists, sets, and map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the bas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st commonly used to represent these abstract data types (arrays, linked lists, binary search trees, and hash tables), together with algorithms operating on these data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899-7EBE-498B-84F9-5C2629A4F76F}" type="slidenum">
              <a:t>2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6520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ontents</a:t>
            </a:r>
            <a:br>
              <a:rPr sz="2000"/>
            </a:b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90920" y="1600200"/>
          <a:ext cx="3962160" cy="4743360"/>
        </p:xfrm>
        <a:graphic>
          <a:graphicData uri="http://schemas.openxmlformats.org/drawingml/2006/table">
            <a:tbl>
              <a:tblPr/>
              <a:tblGrid>
                <a:gridCol w="533160"/>
                <a:gridCol w="3429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t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lgorith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he Array Data 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Linked-List Data Stru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bstract Data Ty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tack Abstract Data Ty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Queue Abstract Data Ty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List Abstract Data Ty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et Abstract Data Ty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Binary Tree Data Stru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Map Abstract Data Ty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Hash-Table Data Stru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369-1D00-4127-961E-6C13ADB860C3}" type="slidenum">
              <a:t>3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6520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Textbook</a:t>
            </a:r>
            <a:br>
              <a:rPr sz="2000"/>
            </a:b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pic>
        <p:nvPicPr>
          <p:cNvPr id="50" name="cover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110120" cy="512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667-8F5C-4053-B024-1B4B2DCB6235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Textbook (continued)</a:t>
            </a:r>
            <a:br>
              <a:rPr sz="2000"/>
            </a:b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68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cs.gla.ac.uk/~daw/books/J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t of slide presentations covers Chapters 1–12 of the text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presentations covering Chapters 13–17 will be added in due cou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4E3-3E29-47EB-A8A5-394ED03BF4C5}" type="slidenum">
              <a:t>5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Watt</cp:lastModifiedBy>
  <cp:lastPrinted>2000-10-30T14:19:39Z</cp:lastPrinted>
  <dcterms:modified xsi:type="dcterms:W3CDTF">2001-10-20T09:57:38Z</dcterms:modified>
  <cp:revision>137</cp:revision>
  <dc:subject/>
  <dc:title>Formalizing the Dynamic Semantics of Java</dc:title>
</cp:coreProperties>
</file>