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ADD0-EF84-4D42-AEE7-361491529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716B-9859-4804-9345-B2C04F511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986F-24F7-4A43-9DC4-58E531D37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788F-7B01-49A7-9F11-9C6AB9533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828F-25D6-4BB6-87C7-27D9B1B9B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EFEB-DFB1-47E9-A0E6-E24383729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95E4-1925-403A-A3B6-D3420367D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9B25-B037-407C-A8AE-E12B0529C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1077-DAA1-4D95-9B0B-96C2A2859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01E3-4506-48A9-BA40-276B8542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0E9F-3BEC-404E-936C-F6EC93098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BA4A-C165-4E8D-A284-42A94927A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-</a:t>
            </a:r>
            <a:fld id="{DFA828A0-C25B-492C-B3F2-914AD3409978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4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Linked List Data Structure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lists: singly-linked and doubly-lin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2D5A-9673-4D86-AF84-61C07816DA85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LL manipul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swap an SLL’s first and second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wapFirstTwo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 this SLL’s 1st and 2nd n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suming length &gt; 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LNode secon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 = second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.succ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 = seco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5334120"/>
            <a:ext cx="6477120" cy="1218960"/>
            <a:chOff x="1066680" y="5334120"/>
            <a:chExt cx="6477120" cy="1218960"/>
          </a:xfrm>
        </p:grpSpPr>
        <p:sp>
          <p:nvSpPr>
            <p:cNvPr id="249" name=""/>
            <p:cNvSpPr/>
            <p:nvPr/>
          </p:nvSpPr>
          <p:spPr>
            <a:xfrm>
              <a:off x="1066680" y="533412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5638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61960" y="5791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006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008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160" y="5791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360" y="5791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62560" y="5791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28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66680" y="5334120"/>
            <a:ext cx="6477120" cy="1371960"/>
            <a:chOff x="1066680" y="5334120"/>
            <a:chExt cx="6477120" cy="1371960"/>
          </a:xfrm>
        </p:grpSpPr>
        <p:sp>
          <p:nvSpPr>
            <p:cNvPr id="260" name=""/>
            <p:cNvSpPr/>
            <p:nvPr/>
          </p:nvSpPr>
          <p:spPr>
            <a:xfrm>
              <a:off x="1066680" y="533412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09680" y="56386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1960" y="5790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008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160" y="5790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2360" y="5790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62560" y="5790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8960" y="5638680"/>
              <a:ext cx="91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6095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896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1960" y="5867280"/>
              <a:ext cx="2438640" cy="38052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5334120"/>
            <a:ext cx="6477120" cy="1371960"/>
            <a:chOff x="1066680" y="5334120"/>
            <a:chExt cx="6477120" cy="1371960"/>
          </a:xfrm>
        </p:grpSpPr>
        <p:sp>
          <p:nvSpPr>
            <p:cNvPr id="274" name=""/>
            <p:cNvSpPr/>
            <p:nvPr/>
          </p:nvSpPr>
          <p:spPr>
            <a:xfrm>
              <a:off x="1066680" y="533412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56386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1960" y="5790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62360" y="5790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560" y="5790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528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160" y="5790960"/>
              <a:ext cx="243864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9680" y="60958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896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61960" y="5867280"/>
              <a:ext cx="2438640" cy="38052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066680" y="5334120"/>
            <a:ext cx="6477120" cy="1371960"/>
            <a:chOff x="1066680" y="5334120"/>
            <a:chExt cx="6477120" cy="1371960"/>
          </a:xfrm>
        </p:grpSpPr>
        <p:sp>
          <p:nvSpPr>
            <p:cNvPr id="288" name=""/>
            <p:cNvSpPr/>
            <p:nvPr/>
          </p:nvSpPr>
          <p:spPr>
            <a:xfrm>
              <a:off x="1066680" y="533412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09680" y="5638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006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8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1960" y="57913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2560" y="5791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9528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62160" y="5791320"/>
              <a:ext cx="243864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9680" y="6095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1896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1960" y="5867280"/>
              <a:ext cx="2438640" cy="38124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95480" y="548640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192">
                  <a:moveTo>
                    <a:pt x="1680" y="192"/>
                  </a:moveTo>
                  <a:lnTo>
                    <a:pt x="1872" y="192"/>
                  </a:lnTo>
                  <a:lnTo>
                    <a:pt x="1872" y="0"/>
                  </a:lnTo>
                  <a:lnTo>
                    <a:pt x="0" y="0"/>
                  </a:lnTo>
                  <a:lnTo>
                    <a:pt x="192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066680" y="5334120"/>
            <a:ext cx="6477120" cy="1371960"/>
            <a:chOff x="1066680" y="5334120"/>
            <a:chExt cx="6477120" cy="1371960"/>
          </a:xfrm>
        </p:grpSpPr>
        <p:sp>
          <p:nvSpPr>
            <p:cNvPr id="302" name=""/>
            <p:cNvSpPr/>
            <p:nvPr/>
          </p:nvSpPr>
          <p:spPr>
            <a:xfrm>
              <a:off x="1066680" y="533412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9680" y="56386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04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06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00800" y="56386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2560" y="5790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62160" y="5790960"/>
              <a:ext cx="243864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9680" y="6095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1896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1960" y="5867280"/>
              <a:ext cx="2438640" cy="38052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95480" y="5486040"/>
              <a:ext cx="2971800" cy="304560"/>
            </a:xfrm>
            <a:custGeom>
              <a:avLst/>
              <a:gdLst/>
              <a:ahLst/>
              <a:rect l="l" t="t" r="r" b="b"/>
              <a:pathLst>
                <a:path w="1872" h="192">
                  <a:moveTo>
                    <a:pt x="1680" y="192"/>
                  </a:moveTo>
                  <a:lnTo>
                    <a:pt x="1872" y="192"/>
                  </a:lnTo>
                  <a:lnTo>
                    <a:pt x="1872" y="0"/>
                  </a:lnTo>
                  <a:lnTo>
                    <a:pt x="0" y="0"/>
                  </a:lnTo>
                  <a:lnTo>
                    <a:pt x="192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1960" y="5790960"/>
              <a:ext cx="243864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860A-A69A-48B0-B804-A3AB8CB1E3D2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oub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y-linked 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sists of a sequence of nodes, connected by links in both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LL node contains a single element, plus links to the node’s successor and predecessor (or null link(s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LL header contains links to the DLL’s first and last nodes (or null links if the DLL is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143000" y="4572000"/>
            <a:ext cx="7010280" cy="618840"/>
            <a:chOff x="1143000" y="4572000"/>
            <a:chExt cx="7010280" cy="618840"/>
          </a:xfrm>
        </p:grpSpPr>
        <p:sp>
          <p:nvSpPr>
            <p:cNvPr id="319" name=""/>
            <p:cNvSpPr/>
            <p:nvPr/>
          </p:nvSpPr>
          <p:spPr>
            <a:xfrm>
              <a:off x="1143000" y="45813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3000" y="48862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3720" y="4572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33920" y="4572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34320" y="4572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95480" y="46576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96080" y="4657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4657680"/>
              <a:ext cx="83844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248520" y="48099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048120" y="48099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4809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82680" y="4809960"/>
              <a:ext cx="6870600" cy="231840"/>
            </a:xfrm>
            <a:custGeom>
              <a:avLst/>
              <a:gdLst/>
              <a:ahLst/>
              <a:rect l="l" t="t" r="r" b="b"/>
              <a:pathLst>
                <a:path w="4328" h="146">
                  <a:moveTo>
                    <a:pt x="0" y="146"/>
                  </a:moveTo>
                  <a:lnTo>
                    <a:pt x="4328" y="144"/>
                  </a:lnTo>
                  <a:lnTo>
                    <a:pt x="4328" y="0"/>
                  </a:lnTo>
                  <a:lnTo>
                    <a:pt x="4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4120" y="45720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95680" y="46576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648320" y="48099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46576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143000" y="5477040"/>
            <a:ext cx="2209680" cy="618480"/>
            <a:chOff x="1143000" y="5477040"/>
            <a:chExt cx="2209680" cy="618480"/>
          </a:xfrm>
        </p:grpSpPr>
        <p:sp>
          <p:nvSpPr>
            <p:cNvPr id="336" name=""/>
            <p:cNvSpPr/>
            <p:nvPr/>
          </p:nvSpPr>
          <p:spPr>
            <a:xfrm>
              <a:off x="1143000" y="548640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3000" y="579096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54770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280" y="5562360"/>
              <a:ext cx="83844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6000" y="5715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57680" y="5562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5280" y="5715000"/>
              <a:ext cx="2057400" cy="228240"/>
            </a:xfrm>
            <a:custGeom>
              <a:avLst/>
              <a:gdLst/>
              <a:ahLst/>
              <a:rect l="l" t="t" r="r" b="b"/>
              <a:pathLst>
                <a:path w="1296" h="144">
                  <a:moveTo>
                    <a:pt x="0" y="144"/>
                  </a:moveTo>
                  <a:lnTo>
                    <a:pt x="1296" y="144"/>
                  </a:lnTo>
                  <a:lnTo>
                    <a:pt x="1296" y="0"/>
                  </a:lnTo>
                  <a:lnTo>
                    <a:pt x="11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181480" y="5486400"/>
            <a:ext cx="304920" cy="609480"/>
            <a:chOff x="5181480" y="5486400"/>
            <a:chExt cx="304920" cy="609480"/>
          </a:xfrm>
        </p:grpSpPr>
        <p:sp>
          <p:nvSpPr>
            <p:cNvPr id="344" name=""/>
            <p:cNvSpPr/>
            <p:nvPr/>
          </p:nvSpPr>
          <p:spPr>
            <a:xfrm>
              <a:off x="5181480" y="54864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57909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4120" y="5943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4120" y="5638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698A-3E22-496F-BE2D-CF397A902A97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oub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DLL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Node pred, suc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Node (Object ele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LLNode pred, DLLNode 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lement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red = pred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ucc = 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4121-A648-411F-81BB-3F0C5FA071AE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oub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DLL hea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 {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Node first, la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LL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mpty D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a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029200"/>
            <a:ext cx="2667240" cy="380880"/>
          </a:xfrm>
          <a:prstGeom prst="wedgeRectCallout">
            <a:avLst>
              <a:gd name="adj1" fmla="val -128810"/>
              <a:gd name="adj2" fmla="val -2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DLL methods (to fo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1986-94E3-4947-8B8A-39B49099E30C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066680" y="4952880"/>
            <a:ext cx="6553080" cy="1371600"/>
            <a:chOff x="1066680" y="4952880"/>
            <a:chExt cx="6553080" cy="1371600"/>
          </a:xfrm>
        </p:grpSpPr>
        <p:sp>
          <p:nvSpPr>
            <p:cNvPr id="357" name=""/>
            <p:cNvSpPr/>
            <p:nvPr/>
          </p:nvSpPr>
          <p:spPr>
            <a:xfrm>
              <a:off x="1066680" y="4952880"/>
              <a:ext cx="65530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1148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5419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77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79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1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98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00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5190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09680" y="519084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5620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9618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0400" y="5343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9680" y="53434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51051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43000" y="54100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LL traversal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traverse a DLL, from last node to fir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LastTo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all elements in this DLL, in last-to-first ord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LLNode cur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la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pr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urr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66680" y="4952880"/>
            <a:ext cx="6553080" cy="1371600"/>
            <a:chOff x="1066680" y="4952880"/>
            <a:chExt cx="6553080" cy="1371600"/>
          </a:xfrm>
        </p:grpSpPr>
        <p:sp>
          <p:nvSpPr>
            <p:cNvPr id="376" name=""/>
            <p:cNvSpPr/>
            <p:nvPr/>
          </p:nvSpPr>
          <p:spPr>
            <a:xfrm>
              <a:off x="1066680" y="4952880"/>
              <a:ext cx="65530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57400" y="58672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3000" y="5867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51145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57400" y="5419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7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79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481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98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10280" y="5190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519084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562000" y="53431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961800" y="53431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5343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534312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43000" y="51051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3000" y="54100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5410080"/>
              <a:ext cx="4038480" cy="609480"/>
            </a:xfrm>
            <a:custGeom>
              <a:avLst/>
              <a:gdLst/>
              <a:ahLst/>
              <a:rect l="l" t="t" r="r" b="b"/>
              <a:pathLst>
                <a:path w="2544" h="384">
                  <a:moveTo>
                    <a:pt x="0" y="384"/>
                  </a:moveTo>
                  <a:lnTo>
                    <a:pt x="2160" y="384"/>
                  </a:lnTo>
                  <a:lnTo>
                    <a:pt x="25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066680" y="4952880"/>
            <a:ext cx="6553080" cy="1371600"/>
            <a:chOff x="1066680" y="4952880"/>
            <a:chExt cx="6553080" cy="1371600"/>
          </a:xfrm>
        </p:grpSpPr>
        <p:sp>
          <p:nvSpPr>
            <p:cNvPr id="396" name=""/>
            <p:cNvSpPr/>
            <p:nvPr/>
          </p:nvSpPr>
          <p:spPr>
            <a:xfrm>
              <a:off x="1066680" y="4952880"/>
              <a:ext cx="65530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400" y="58672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43000" y="5867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7400" y="51148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57400" y="5419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77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479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481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98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00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10280" y="5190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9680" y="519084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5620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9618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00400" y="5343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09680" y="53434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43000" y="51051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43000" y="54100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22280" y="5410080"/>
              <a:ext cx="2425680" cy="60948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66680" y="4952880"/>
            <a:ext cx="6553080" cy="1371600"/>
            <a:chOff x="1066680" y="4952880"/>
            <a:chExt cx="6553080" cy="1371600"/>
          </a:xfrm>
        </p:grpSpPr>
        <p:sp>
          <p:nvSpPr>
            <p:cNvPr id="416" name=""/>
            <p:cNvSpPr/>
            <p:nvPr/>
          </p:nvSpPr>
          <p:spPr>
            <a:xfrm>
              <a:off x="1066680" y="4952880"/>
              <a:ext cx="65530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7400" y="58672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43000" y="5867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7400" y="5114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7400" y="541980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7760" y="5105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47960" y="5105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48160" y="5105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0988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1008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028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09680" y="519120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5620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961800" y="5343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0400" y="5343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53434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510552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43000" y="54100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22280" y="5410080"/>
              <a:ext cx="825480" cy="609840"/>
            </a:xfrm>
            <a:custGeom>
              <a:avLst/>
              <a:gdLst/>
              <a:ahLst/>
              <a:rect l="l" t="t" r="r" b="b"/>
              <a:pathLst>
                <a:path w="520" h="384">
                  <a:moveTo>
                    <a:pt x="0" y="384"/>
                  </a:moveTo>
                  <a:lnTo>
                    <a:pt x="136" y="384"/>
                  </a:lnTo>
                  <a:lnTo>
                    <a:pt x="5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066680" y="4952880"/>
            <a:ext cx="6553080" cy="1371600"/>
            <a:chOff x="1066680" y="4952880"/>
            <a:chExt cx="6553080" cy="1371600"/>
          </a:xfrm>
        </p:grpSpPr>
        <p:sp>
          <p:nvSpPr>
            <p:cNvPr id="436" name=""/>
            <p:cNvSpPr/>
            <p:nvPr/>
          </p:nvSpPr>
          <p:spPr>
            <a:xfrm>
              <a:off x="1066680" y="4952880"/>
              <a:ext cx="65530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57400" y="58672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3000" y="5867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7400" y="51145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57400" y="54194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77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79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48160" y="51051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98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008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10280" y="5190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09680" y="519084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562000" y="53431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961800" y="53431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0400" y="53431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9680" y="534312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51051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54100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6019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8DE0-F58B-41E3-AD4A-BFB3D07D057E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LL manipul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lete a DLL’s first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lete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is DLL’s first node (assuming length &gt; 0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LLNode secon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.pre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 = seco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066680" y="5029200"/>
            <a:ext cx="6629400" cy="1523880"/>
            <a:chOff x="1066680" y="5029200"/>
            <a:chExt cx="6629400" cy="1523880"/>
          </a:xfrm>
        </p:grpSpPr>
        <p:sp>
          <p:nvSpPr>
            <p:cNvPr id="459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53431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33720" y="56480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864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0" y="541944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6383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0381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76720" y="5571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5571720"/>
              <a:ext cx="5257800" cy="22824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47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337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3720" y="53434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564840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242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244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86200" y="54198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6400" y="54198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86600" y="541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0" y="541980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6383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0381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76720" y="5572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86000" y="55720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533412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98600" y="5638680"/>
              <a:ext cx="2425680" cy="60984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49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33720" y="53434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3720" y="5648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864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6383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76720" y="5572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86000" y="55720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98600" y="5638680"/>
              <a:ext cx="2425680" cy="60948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6920" y="5562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86000" y="54100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51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33720" y="6095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33720" y="53431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33720" y="56480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64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6383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571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0" y="5571720"/>
              <a:ext cx="5257800" cy="22824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98600" y="5638680"/>
              <a:ext cx="2425680" cy="60912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76920" y="5562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5181480"/>
              <a:ext cx="2438280" cy="30420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97F0-7776-427D-B72E-6467889F359F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DLL manipul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lete a DLL’s last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lete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is DLL’s last node (assuming length &gt; 0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LLNode pen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ast.pre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ult.succ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ast = pen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066680" y="5029200"/>
            <a:ext cx="6629400" cy="1523880"/>
            <a:chOff x="1066680" y="5029200"/>
            <a:chExt cx="6629400" cy="1523880"/>
          </a:xfrm>
        </p:grpSpPr>
        <p:sp>
          <p:nvSpPr>
            <p:cNvPr id="539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33720" y="53431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33720" y="56480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864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6000" y="541944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6383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0381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76720" y="5571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6000" y="5571720"/>
              <a:ext cx="5257800" cy="22824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55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pen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33720" y="53434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564840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24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242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44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6200" y="54198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6400" y="54198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6600" y="541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6000" y="541980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6383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0381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76720" y="5572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55720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533412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98600" y="5638680"/>
              <a:ext cx="2425680" cy="60984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57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3720" y="6095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pen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33720" y="534348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33720" y="564804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638320" y="55720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76720" y="5572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86000" y="55720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98600" y="5638680"/>
              <a:ext cx="2425680" cy="60948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54100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86400" y="5410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38120" y="55623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066680" y="5029200"/>
            <a:ext cx="6629400" cy="1676880"/>
            <a:chOff x="1066680" y="5029200"/>
            <a:chExt cx="6629400" cy="1676880"/>
          </a:xfrm>
        </p:grpSpPr>
        <p:sp>
          <p:nvSpPr>
            <p:cNvPr id="596" name=""/>
            <p:cNvSpPr/>
            <p:nvPr/>
          </p:nvSpPr>
          <p:spPr>
            <a:xfrm>
              <a:off x="1066680" y="5029200"/>
              <a:ext cx="6629400" cy="152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33720" y="6095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3000" y="60958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pen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3720" y="534312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33720" y="5648040"/>
              <a:ext cx="30456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240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242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4480" y="53337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86200" y="54194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5419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638320" y="5571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571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19320" y="53337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56386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98600" y="5638680"/>
              <a:ext cx="2425680" cy="609120"/>
            </a:xfrm>
            <a:custGeom>
              <a:avLst/>
              <a:gdLst/>
              <a:ahLst/>
              <a:rect l="l" t="t" r="r" b="b"/>
              <a:pathLst>
                <a:path w="1528" h="384">
                  <a:moveTo>
                    <a:pt x="0" y="384"/>
                  </a:moveTo>
                  <a:lnTo>
                    <a:pt x="1144" y="384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86000" y="5410080"/>
              <a:ext cx="838080" cy="7560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86400" y="5410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86000" y="5638680"/>
              <a:ext cx="3606840" cy="151920"/>
            </a:xfrm>
            <a:custGeom>
              <a:avLst/>
              <a:gdLst/>
              <a:ahLst/>
              <a:rect l="l" t="t" r="r" b="b"/>
              <a:pathLst>
                <a:path w="2272" h="96">
                  <a:moveTo>
                    <a:pt x="0" y="96"/>
                  </a:moveTo>
                  <a:lnTo>
                    <a:pt x="2272" y="96"/>
                  </a:lnTo>
                  <a:lnTo>
                    <a:pt x="21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038120" y="55623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2936-61AF-493B-8C37-92B232A99945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= forward SLL + backward SLL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a DLL 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ward 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imposed o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ward 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143000" y="2590920"/>
            <a:ext cx="6705720" cy="618840"/>
            <a:chOff x="1143000" y="2590920"/>
            <a:chExt cx="6705720" cy="618840"/>
          </a:xfrm>
        </p:grpSpPr>
        <p:sp>
          <p:nvSpPr>
            <p:cNvPr id="619" name=""/>
            <p:cNvSpPr/>
            <p:nvPr/>
          </p:nvSpPr>
          <p:spPr>
            <a:xfrm>
              <a:off x="2438280" y="2600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38280" y="29052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29000" y="2590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29200" y="2590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29400" y="2590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91120" y="26766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1320" y="26766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91520" y="2676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90920" y="2676600"/>
              <a:ext cx="83808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43600" y="28288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343400" y="28288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1280" y="2828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0920" y="282888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43000" y="2590920"/>
              <a:ext cx="106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LL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143000" y="3495600"/>
            <a:ext cx="6705720" cy="619200"/>
            <a:chOff x="1143000" y="3495600"/>
            <a:chExt cx="6705720" cy="619200"/>
          </a:xfrm>
        </p:grpSpPr>
        <p:sp>
          <p:nvSpPr>
            <p:cNvPr id="634" name=""/>
            <p:cNvSpPr/>
            <p:nvPr/>
          </p:nvSpPr>
          <p:spPr>
            <a:xfrm>
              <a:off x="2438280" y="35053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38280" y="3809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29000" y="3495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29200" y="3495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29400" y="3495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91120" y="35812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91320" y="35812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91520" y="3581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812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943600" y="3733920"/>
              <a:ext cx="8380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343400" y="3733920"/>
              <a:ext cx="8380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280" y="3733920"/>
              <a:ext cx="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373392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c0c0c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43000" y="3495600"/>
              <a:ext cx="1066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rward SLL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143000" y="4400640"/>
            <a:ext cx="6705720" cy="619200"/>
            <a:chOff x="1143000" y="4400640"/>
            <a:chExt cx="6705720" cy="619200"/>
          </a:xfrm>
        </p:grpSpPr>
        <p:sp>
          <p:nvSpPr>
            <p:cNvPr id="649" name=""/>
            <p:cNvSpPr/>
            <p:nvPr/>
          </p:nvSpPr>
          <p:spPr>
            <a:xfrm>
              <a:off x="2438280" y="4410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38280" y="47149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9000" y="4400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29200" y="4400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29400" y="440064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1120" y="4486320"/>
              <a:ext cx="8380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91320" y="4486320"/>
              <a:ext cx="83808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91520" y="4486320"/>
              <a:ext cx="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90920" y="448632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c0c0c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943600" y="46386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343400" y="46386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4638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0920" y="46386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4400640"/>
              <a:ext cx="1066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ckward SLL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89D9-4EA7-45D2-9050-FFF02AEDEF44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nser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Insert a new element at a given point in a link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case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in an empty linked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before the first node of a nonempty linked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after the last node of a nonempty linked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between nodes of a nonempty linked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ertion algorithm needs links to the new node’s successor and prede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C7B1-71E8-4BD4-A0D6-CD962CFED30E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L inser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ser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 given point in the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link to a newly-created node with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or nu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sertion point is before the first nod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sertion point is after th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8877-41B8-44AF-9CB6-4765A486D48B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 a sequen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u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(except the last)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each node (except the first)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contains a sing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bject or value), plus links to its successor and/or prede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52480" y="4476600"/>
            <a:ext cx="5105520" cy="305280"/>
            <a:chOff x="1752480" y="4476600"/>
            <a:chExt cx="5105520" cy="305280"/>
          </a:xfrm>
        </p:grpSpPr>
        <p:sp>
          <p:nvSpPr>
            <p:cNvPr id="49" name=""/>
            <p:cNvSpPr/>
            <p:nvPr/>
          </p:nvSpPr>
          <p:spPr>
            <a:xfrm>
              <a:off x="1752480" y="44766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4760" y="46288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4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43400" y="44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4476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4960" y="46288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5160" y="46288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628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52480" y="5629320"/>
            <a:ext cx="5410080" cy="619200"/>
            <a:chOff x="1752480" y="5629320"/>
            <a:chExt cx="5410080" cy="619200"/>
          </a:xfrm>
        </p:grpSpPr>
        <p:sp>
          <p:nvSpPr>
            <p:cNvPr id="58" name=""/>
            <p:cNvSpPr/>
            <p:nvPr/>
          </p:nvSpPr>
          <p:spPr>
            <a:xfrm>
              <a:off x="1752480" y="563904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2480" y="59436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5629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5629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3600" y="56293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4960" y="57150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160" y="57150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5360" y="5715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4760" y="571500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257800" y="58676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57600" y="58676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5867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4760" y="586764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371600" y="5029200"/>
            <a:ext cx="838080" cy="304920"/>
          </a:xfrm>
          <a:prstGeom prst="wedgeRectCallout">
            <a:avLst>
              <a:gd name="adj1" fmla="val 11365"/>
              <a:gd name="adj2" fmla="val -1208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029200"/>
            <a:ext cx="990720" cy="304920"/>
          </a:xfrm>
          <a:prstGeom prst="wedgeRectCallout">
            <a:avLst>
              <a:gd name="adj1" fmla="val -53203"/>
              <a:gd name="adj2" fmla="val -158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ul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029200"/>
            <a:ext cx="609480" cy="304920"/>
          </a:xfrm>
          <a:prstGeom prst="wedgeRectCallout">
            <a:avLst>
              <a:gd name="adj1" fmla="val -15625"/>
              <a:gd name="adj2" fmla="val -1208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029200"/>
            <a:ext cx="990360" cy="304920"/>
          </a:xfrm>
          <a:prstGeom prst="wedgeRectCallout">
            <a:avLst>
              <a:gd name="adj1" fmla="val 30129"/>
              <a:gd name="adj2" fmla="val -141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5029200"/>
            <a:ext cx="533520" cy="304920"/>
          </a:xfrm>
          <a:prstGeom prst="wedgeRectCallout">
            <a:avLst>
              <a:gd name="adj1" fmla="val -27379"/>
              <a:gd name="adj2" fmla="val -1708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B404-DC60-4C92-A0C0-C05277201BB7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insertion before first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066680" y="1981080"/>
            <a:ext cx="6400800" cy="4343400"/>
            <a:chOff x="1066680" y="1981080"/>
            <a:chExt cx="6400800" cy="4343400"/>
          </a:xfrm>
        </p:grpSpPr>
        <p:sp>
          <p:nvSpPr>
            <p:cNvPr id="673" name=""/>
            <p:cNvSpPr/>
            <p:nvPr/>
          </p:nvSpPr>
          <p:spPr>
            <a:xfrm>
              <a:off x="1066680" y="1981080"/>
              <a:ext cx="64008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0476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956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58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57040" y="5562720"/>
              <a:ext cx="243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57440" y="5562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764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1240" y="54100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42640" y="205740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066680" y="1981080"/>
            <a:ext cx="6400800" cy="4343400"/>
            <a:chOff x="1066680" y="1981080"/>
            <a:chExt cx="6400800" cy="4343400"/>
          </a:xfrm>
        </p:grpSpPr>
        <p:sp>
          <p:nvSpPr>
            <p:cNvPr id="683" name=""/>
            <p:cNvSpPr/>
            <p:nvPr/>
          </p:nvSpPr>
          <p:spPr>
            <a:xfrm>
              <a:off x="1066680" y="1981080"/>
              <a:ext cx="64008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0476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95480" y="5857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956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057040" y="5562720"/>
              <a:ext cx="243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57440" y="5562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764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71240" y="54100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04760" y="5867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71240" y="58672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42640" y="205740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57240" y="6019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7040" y="6010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066680" y="1981080"/>
            <a:ext cx="6400800" cy="4343400"/>
            <a:chOff x="1066680" y="1981080"/>
            <a:chExt cx="6400800" cy="4343400"/>
          </a:xfrm>
        </p:grpSpPr>
        <p:sp>
          <p:nvSpPr>
            <p:cNvPr id="698" name=""/>
            <p:cNvSpPr/>
            <p:nvPr/>
          </p:nvSpPr>
          <p:spPr>
            <a:xfrm>
              <a:off x="1066680" y="1981080"/>
              <a:ext cx="64008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0476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95480" y="5857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56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958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57040" y="5562720"/>
              <a:ext cx="243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57440" y="5562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764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71240" y="54100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04760" y="5867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71240" y="58672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2640" y="205740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7040" y="6010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57240" y="5638680"/>
              <a:ext cx="83844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92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066680" y="1981080"/>
            <a:ext cx="6400800" cy="4343400"/>
            <a:chOff x="1066680" y="1981080"/>
            <a:chExt cx="6400800" cy="4343400"/>
          </a:xfrm>
        </p:grpSpPr>
        <p:sp>
          <p:nvSpPr>
            <p:cNvPr id="713" name=""/>
            <p:cNvSpPr/>
            <p:nvPr/>
          </p:nvSpPr>
          <p:spPr>
            <a:xfrm>
              <a:off x="1066680" y="1981080"/>
              <a:ext cx="64008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0476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95480" y="5857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958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57440" y="5562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5764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71240" y="54100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4760" y="5867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71240" y="58672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42640" y="205740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57040" y="6010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57240" y="5638680"/>
              <a:ext cx="83844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92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57040" y="5562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192" y="0"/>
                  </a:lnTo>
                  <a:lnTo>
                    <a:pt x="52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066680" y="1981080"/>
            <a:ext cx="6400800" cy="4343400"/>
            <a:chOff x="1066680" y="1981080"/>
            <a:chExt cx="6400800" cy="4343400"/>
          </a:xfrm>
        </p:grpSpPr>
        <p:sp>
          <p:nvSpPr>
            <p:cNvPr id="728" name=""/>
            <p:cNvSpPr/>
            <p:nvPr/>
          </p:nvSpPr>
          <p:spPr>
            <a:xfrm>
              <a:off x="1066680" y="1981080"/>
              <a:ext cx="64008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5120" y="54100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95480" y="5857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956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9588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57800" y="55627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58000" y="5562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71600" y="5410080"/>
              <a:ext cx="45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43000" y="205740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57600" y="563868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192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7400" y="556272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192" y="0"/>
                  </a:lnTo>
                  <a:lnTo>
                    <a:pt x="528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BDFD-7AB9-4722-BF77-136923D23CFE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insertion after intermediate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066680" y="1905120"/>
            <a:ext cx="7238880" cy="4343400"/>
            <a:chOff x="1066680" y="1905120"/>
            <a:chExt cx="7238880" cy="4343400"/>
          </a:xfrm>
        </p:grpSpPr>
        <p:sp>
          <p:nvSpPr>
            <p:cNvPr id="743" name=""/>
            <p:cNvSpPr/>
            <p:nvPr/>
          </p:nvSpPr>
          <p:spPr>
            <a:xfrm>
              <a:off x="1066680" y="1905120"/>
              <a:ext cx="723888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52480" y="53341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98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71640" y="5486760"/>
              <a:ext cx="198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2640" y="53341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2640" y="198144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1904760" y="5486760"/>
              <a:ext cx="1905120" cy="0"/>
              <a:chOff x="1904760" y="5486760"/>
              <a:chExt cx="1905120" cy="0"/>
            </a:xfrm>
          </p:grpSpPr>
          <p:sp>
            <p:nvSpPr>
              <p:cNvPr id="751" name=""/>
              <p:cNvSpPr/>
              <p:nvPr/>
            </p:nvSpPr>
            <p:spPr>
              <a:xfrm>
                <a:off x="1904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047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66880" y="54867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314840" y="54867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52480" y="57913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42640" y="57913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04760" y="5562720"/>
              <a:ext cx="1905120" cy="38124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912" y="240"/>
                  </a:lnTo>
                  <a:lnTo>
                    <a:pt x="12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066680" y="1905120"/>
            <a:ext cx="7238880" cy="4343400"/>
            <a:chOff x="1066680" y="1905120"/>
            <a:chExt cx="7238880" cy="4343400"/>
          </a:xfrm>
        </p:grpSpPr>
        <p:sp>
          <p:nvSpPr>
            <p:cNvPr id="759" name=""/>
            <p:cNvSpPr/>
            <p:nvPr/>
          </p:nvSpPr>
          <p:spPr>
            <a:xfrm>
              <a:off x="1066680" y="1905120"/>
              <a:ext cx="723888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190760" y="57913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2480" y="53341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098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1640" y="5486760"/>
              <a:ext cx="198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42640" y="53341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42640" y="198144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81480" y="5781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1904760" y="5486760"/>
              <a:ext cx="1905120" cy="0"/>
              <a:chOff x="1904760" y="5486760"/>
              <a:chExt cx="1905120" cy="0"/>
            </a:xfrm>
          </p:grpSpPr>
          <p:sp>
            <p:nvSpPr>
              <p:cNvPr id="769" name=""/>
              <p:cNvSpPr/>
              <p:nvPr/>
            </p:nvSpPr>
            <p:spPr>
              <a:xfrm>
                <a:off x="1904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47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666880" y="54867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7314840" y="54867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2480" y="57913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42640" y="57913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81280" y="579132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43040" y="5943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04760" y="5562720"/>
              <a:ext cx="1905120" cy="38124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912" y="240"/>
                  </a:lnTo>
                  <a:lnTo>
                    <a:pt x="12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43240" y="5943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066680" y="1905120"/>
            <a:ext cx="7238880" cy="4343400"/>
            <a:chOff x="1066680" y="1905120"/>
            <a:chExt cx="7238880" cy="4343400"/>
          </a:xfrm>
        </p:grpSpPr>
        <p:sp>
          <p:nvSpPr>
            <p:cNvPr id="780" name=""/>
            <p:cNvSpPr/>
            <p:nvPr/>
          </p:nvSpPr>
          <p:spPr>
            <a:xfrm>
              <a:off x="1066680" y="1905120"/>
              <a:ext cx="723888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90760" y="57913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52480" y="53341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098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53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71640" y="5486760"/>
              <a:ext cx="198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42640" y="53341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42640" y="198144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81480" y="5781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1904760" y="5486760"/>
              <a:ext cx="1905120" cy="0"/>
              <a:chOff x="1904760" y="5486760"/>
              <a:chExt cx="1905120" cy="0"/>
            </a:xfrm>
          </p:grpSpPr>
          <p:sp>
            <p:nvSpPr>
              <p:cNvPr id="790" name=""/>
              <p:cNvSpPr/>
              <p:nvPr/>
            </p:nvSpPr>
            <p:spPr>
              <a:xfrm>
                <a:off x="1904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47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66880" y="54867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7314840" y="54867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52480" y="57913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42640" y="57913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81280" y="579132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43040" y="5943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04760" y="5562720"/>
              <a:ext cx="1905120" cy="38124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912" y="240"/>
                  </a:lnTo>
                  <a:lnTo>
                    <a:pt x="12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43240" y="5562720"/>
              <a:ext cx="609840" cy="38124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240"/>
                  </a:moveTo>
                  <a:lnTo>
                    <a:pt x="192" y="240"/>
                  </a:lnTo>
                  <a:lnTo>
                    <a:pt x="3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066680" y="1905120"/>
            <a:ext cx="7238880" cy="4343400"/>
            <a:chOff x="1066680" y="1905120"/>
            <a:chExt cx="7238880" cy="4343400"/>
          </a:xfrm>
        </p:grpSpPr>
        <p:sp>
          <p:nvSpPr>
            <p:cNvPr id="801" name=""/>
            <p:cNvSpPr/>
            <p:nvPr/>
          </p:nvSpPr>
          <p:spPr>
            <a:xfrm>
              <a:off x="1066680" y="1905120"/>
              <a:ext cx="723888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90760" y="579132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52480" y="53341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098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53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42640" y="53341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42640" y="198144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181480" y="578196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904760" y="5486760"/>
              <a:ext cx="1905120" cy="0"/>
              <a:chOff x="1904760" y="5486760"/>
              <a:chExt cx="1905120" cy="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4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47760" y="54867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66880" y="54867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7314840" y="54867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52480" y="579132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42640" y="57913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81280" y="579132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040" y="59439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04760" y="5562720"/>
              <a:ext cx="1905120" cy="38124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912" y="240"/>
                  </a:lnTo>
                  <a:lnTo>
                    <a:pt x="12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71640" y="5486760"/>
              <a:ext cx="609840" cy="39348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0" y="0"/>
                  </a:moveTo>
                  <a:lnTo>
                    <a:pt x="192" y="0"/>
                  </a:lnTo>
                  <a:lnTo>
                    <a:pt x="384" y="2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240" y="5562720"/>
              <a:ext cx="609840" cy="38124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240"/>
                  </a:moveTo>
                  <a:lnTo>
                    <a:pt x="192" y="240"/>
                  </a:lnTo>
                  <a:lnTo>
                    <a:pt x="3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066680" y="1905120"/>
            <a:ext cx="7239240" cy="4343400"/>
            <a:chOff x="1066680" y="1905120"/>
            <a:chExt cx="7239240" cy="4343400"/>
          </a:xfrm>
        </p:grpSpPr>
        <p:sp>
          <p:nvSpPr>
            <p:cNvPr id="822" name=""/>
            <p:cNvSpPr/>
            <p:nvPr/>
          </p:nvSpPr>
          <p:spPr>
            <a:xfrm>
              <a:off x="1066680" y="1905120"/>
              <a:ext cx="723924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52480" y="53341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098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3080" y="53341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43000" y="53341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43000" y="1981080"/>
              <a:ext cx="62485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before the first node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the insertion point is after th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81480" y="57816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1905120" y="5486400"/>
              <a:ext cx="1904400" cy="0"/>
              <a:chOff x="1905120" y="5486400"/>
              <a:chExt cx="1904400" cy="0"/>
            </a:xfrm>
          </p:grpSpPr>
          <p:sp>
            <p:nvSpPr>
              <p:cNvPr id="830" name=""/>
              <p:cNvSpPr/>
              <p:nvPr/>
            </p:nvSpPr>
            <p:spPr>
              <a:xfrm>
                <a:off x="1905120" y="548640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7760" y="548640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666880" y="548640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7315200" y="54864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72000" y="5486400"/>
              <a:ext cx="609480" cy="39384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0" y="0"/>
                  </a:moveTo>
                  <a:lnTo>
                    <a:pt x="192" y="0"/>
                  </a:lnTo>
                  <a:lnTo>
                    <a:pt x="384" y="2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43600" y="556272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240"/>
                  </a:moveTo>
                  <a:lnTo>
                    <a:pt x="192" y="240"/>
                  </a:lnTo>
                  <a:lnTo>
                    <a:pt x="3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4129-46ED-470B-9C80-0A2F9D7234F5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Object elem SLLNode pred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a given point in this SLL, either after the n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before the first node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u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in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(ele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re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.succ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 = i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.succ = pred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.succ = i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0856-4D16-4598-9B11-47075DA29BFD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L inser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ser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 given point in the DLL headed b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link to a newly-created node with el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ecessor null, and successor nu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insertion point in the forward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(or null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 successor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backward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5558-F535-4940-9106-E10CD71E4992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iliary forward SLL inser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ser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 given point in the forward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sertion point is before the first nod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sertion point is after th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21BF-244D-496B-A910-B1FA87ACAAF0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iliary backward SLL insertion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ser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backward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null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5305-57A7-4562-8D3D-5B3EE67B12A7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insertion before the first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852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38280" y="5038560"/>
              <a:ext cx="2437920" cy="763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48"/>
                  </a:moveTo>
                  <a:lnTo>
                    <a:pt x="96" y="0"/>
                  </a:lnTo>
                  <a:lnTo>
                    <a:pt x="1536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292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867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763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38280" y="5038560"/>
              <a:ext cx="2437920" cy="76320"/>
            </a:xfrm>
            <a:custGeom>
              <a:avLst/>
              <a:gdLst/>
              <a:ahLst/>
              <a:rect l="l" t="t" r="r" b="b"/>
              <a:pathLst>
                <a:path w="1536" h="48">
                  <a:moveTo>
                    <a:pt x="0" y="48"/>
                  </a:moveTo>
                  <a:lnTo>
                    <a:pt x="96" y="0"/>
                  </a:lnTo>
                  <a:lnTo>
                    <a:pt x="1536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38280" y="465768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384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292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888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763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290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38280" y="465768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384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92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38280" y="4572000"/>
              <a:ext cx="837720" cy="53316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336"/>
                  </a:moveTo>
                  <a:lnTo>
                    <a:pt x="160" y="336"/>
                  </a:lnTo>
                  <a:lnTo>
                    <a:pt x="34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910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763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290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38280" y="465768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384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292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860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761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92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38280" y="4572000"/>
              <a:ext cx="837720" cy="53316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336"/>
                  </a:moveTo>
                  <a:lnTo>
                    <a:pt x="160" y="336"/>
                  </a:lnTo>
                  <a:lnTo>
                    <a:pt x="34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38280" y="5257800"/>
              <a:ext cx="2437920" cy="609480"/>
            </a:xfrm>
            <a:custGeom>
              <a:avLst/>
              <a:gdLst/>
              <a:ahLst/>
              <a:rect l="l" t="t" r="r" b="b"/>
              <a:pathLst>
                <a:path w="1536" h="384">
                  <a:moveTo>
                    <a:pt x="0" y="384"/>
                  </a:moveTo>
                  <a:lnTo>
                    <a:pt x="1152" y="384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935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763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290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38280" y="465768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384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860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761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92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38280" y="4572000"/>
              <a:ext cx="837720" cy="53316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336"/>
                  </a:moveTo>
                  <a:lnTo>
                    <a:pt x="160" y="336"/>
                  </a:lnTo>
                  <a:lnTo>
                    <a:pt x="34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5257800"/>
              <a:ext cx="2437920" cy="609480"/>
            </a:xfrm>
            <a:custGeom>
              <a:avLst/>
              <a:gdLst/>
              <a:ahLst/>
              <a:rect l="l" t="t" r="r" b="b"/>
              <a:pathLst>
                <a:path w="1536" h="384">
                  <a:moveTo>
                    <a:pt x="0" y="384"/>
                  </a:moveTo>
                  <a:lnTo>
                    <a:pt x="1152" y="384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907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288"/>
                  </a:moveTo>
                  <a:lnTo>
                    <a:pt x="336" y="28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960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763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4767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386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88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57909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290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38280" y="5190840"/>
              <a:ext cx="525744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92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38280" y="4572000"/>
              <a:ext cx="837720" cy="53316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336"/>
                  </a:moveTo>
                  <a:lnTo>
                    <a:pt x="160" y="336"/>
                  </a:lnTo>
                  <a:lnTo>
                    <a:pt x="34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907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288"/>
                  </a:moveTo>
                  <a:lnTo>
                    <a:pt x="336" y="28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5849-255F-48D3-897D-280BE875F39D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insertion after the last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982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386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38280" y="5190840"/>
              <a:ext cx="3657240" cy="231840"/>
            </a:xfrm>
            <a:custGeom>
              <a:avLst/>
              <a:gdLst/>
              <a:ahLst/>
              <a:rect l="l" t="t" r="r" b="b"/>
              <a:pathLst>
                <a:path w="2304" h="146">
                  <a:moveTo>
                    <a:pt x="0" y="146"/>
                  </a:moveTo>
                  <a:lnTo>
                    <a:pt x="2304" y="144"/>
                  </a:lnTo>
                  <a:lnTo>
                    <a:pt x="2304" y="0"/>
                  </a:lnTo>
                  <a:lnTo>
                    <a:pt x="2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997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67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386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6294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38280" y="5190840"/>
              <a:ext cx="3657240" cy="231840"/>
            </a:xfrm>
            <a:custGeom>
              <a:avLst/>
              <a:gdLst/>
              <a:ahLst/>
              <a:rect l="l" t="t" r="r" b="b"/>
              <a:pathLst>
                <a:path w="2304" h="146">
                  <a:moveTo>
                    <a:pt x="0" y="146"/>
                  </a:moveTo>
                  <a:lnTo>
                    <a:pt x="2304" y="144"/>
                  </a:lnTo>
                  <a:lnTo>
                    <a:pt x="2304" y="0"/>
                  </a:lnTo>
                  <a:lnTo>
                    <a:pt x="2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2388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38280" y="4647960"/>
              <a:ext cx="403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018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767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294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38280" y="5190840"/>
              <a:ext cx="3657240" cy="231840"/>
            </a:xfrm>
            <a:custGeom>
              <a:avLst/>
              <a:gdLst/>
              <a:ahLst/>
              <a:rect l="l" t="t" r="r" b="b"/>
              <a:pathLst>
                <a:path w="2304" h="146">
                  <a:moveTo>
                    <a:pt x="0" y="146"/>
                  </a:moveTo>
                  <a:lnTo>
                    <a:pt x="2304" y="144"/>
                  </a:lnTo>
                  <a:lnTo>
                    <a:pt x="2304" y="0"/>
                  </a:lnTo>
                  <a:lnTo>
                    <a:pt x="2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388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38280" y="4647960"/>
              <a:ext cx="403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3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039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767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29400" y="4733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38280" y="5190840"/>
              <a:ext cx="3657240" cy="231840"/>
            </a:xfrm>
            <a:custGeom>
              <a:avLst/>
              <a:gdLst/>
              <a:ahLst/>
              <a:rect l="l" t="t" r="r" b="b"/>
              <a:pathLst>
                <a:path w="2304" h="146">
                  <a:moveTo>
                    <a:pt x="0" y="146"/>
                  </a:moveTo>
                  <a:lnTo>
                    <a:pt x="2304" y="144"/>
                  </a:lnTo>
                  <a:lnTo>
                    <a:pt x="2304" y="0"/>
                  </a:lnTo>
                  <a:lnTo>
                    <a:pt x="21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388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860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761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38280" y="4647960"/>
              <a:ext cx="403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3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4382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063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860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761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767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388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860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1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438280" y="4647960"/>
              <a:ext cx="403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3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4382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38280" y="4724280"/>
              <a:ext cx="5257440" cy="685800"/>
            </a:xfrm>
            <a:custGeom>
              <a:avLst/>
              <a:gdLst/>
              <a:ahLst/>
              <a:rect l="l" t="t" r="r" b="b"/>
              <a:pathLst>
                <a:path w="3312" h="432">
                  <a:moveTo>
                    <a:pt x="0" y="432"/>
                  </a:moveTo>
                  <a:lnTo>
                    <a:pt x="3312" y="432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909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336" y="0"/>
                  </a:lnTo>
                  <a:lnTo>
                    <a:pt x="144" y="288"/>
                  </a:lnTo>
                  <a:lnTo>
                    <a:pt x="0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087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860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860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767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765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38480" y="503856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190760" y="51908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761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761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38880" y="4581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290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38280" y="5029200"/>
              <a:ext cx="837720" cy="7596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3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38280" y="4724280"/>
              <a:ext cx="5257440" cy="685800"/>
            </a:xfrm>
            <a:custGeom>
              <a:avLst/>
              <a:gdLst/>
              <a:ahLst/>
              <a:rect l="l" t="t" r="r" b="b"/>
              <a:pathLst>
                <a:path w="3312" h="432">
                  <a:moveTo>
                    <a:pt x="0" y="432"/>
                  </a:moveTo>
                  <a:lnTo>
                    <a:pt x="3312" y="432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909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336" y="0"/>
                  </a:lnTo>
                  <a:lnTo>
                    <a:pt x="144" y="288"/>
                  </a:lnTo>
                  <a:lnTo>
                    <a:pt x="0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4469-AB12-4E08-A958-886CB5F5D745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106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4190400" y="518148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51080" y="502920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125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288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189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765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981080" y="4647960"/>
              <a:ext cx="289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4190400" y="518148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1080" y="502920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2920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38680" y="4572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150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8288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189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765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981080" y="4647960"/>
              <a:ext cx="289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02920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190400" y="518148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8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44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insertion between nod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177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288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89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65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8288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189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81080" y="4647960"/>
              <a:ext cx="289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2920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4190400" y="518148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8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81080" y="5257800"/>
              <a:ext cx="4495320" cy="609480"/>
            </a:xfrm>
            <a:custGeom>
              <a:avLst/>
              <a:gdLst/>
              <a:ahLst/>
              <a:rect l="l" t="t" r="r" b="b"/>
              <a:pathLst>
                <a:path w="2832" h="384">
                  <a:moveTo>
                    <a:pt x="0" y="384"/>
                  </a:moveTo>
                  <a:lnTo>
                    <a:pt x="2544" y="384"/>
                  </a:lnTo>
                  <a:lnTo>
                    <a:pt x="28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44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205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28800" y="45050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18960" y="450504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765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828800" y="57243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18960" y="572436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81080" y="4647960"/>
              <a:ext cx="289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8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81080" y="5257800"/>
              <a:ext cx="4495320" cy="609480"/>
            </a:xfrm>
            <a:custGeom>
              <a:avLst/>
              <a:gdLst/>
              <a:ahLst/>
              <a:rect l="l" t="t" r="r" b="b"/>
              <a:pathLst>
                <a:path w="2832" h="384">
                  <a:moveTo>
                    <a:pt x="0" y="384"/>
                  </a:moveTo>
                  <a:lnTo>
                    <a:pt x="2544" y="384"/>
                  </a:lnTo>
                  <a:lnTo>
                    <a:pt x="28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907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384" y="0"/>
                  </a:lnTo>
                  <a:lnTo>
                    <a:pt x="144" y="288"/>
                  </a:lnTo>
                  <a:lnTo>
                    <a:pt x="0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44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909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288"/>
                  </a:moveTo>
                  <a:lnTo>
                    <a:pt x="384" y="28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990720" y="1981080"/>
            <a:ext cx="7467480" cy="4191120"/>
            <a:chOff x="990720" y="1981080"/>
            <a:chExt cx="7467480" cy="4191120"/>
          </a:xfrm>
        </p:grpSpPr>
        <p:sp>
          <p:nvSpPr>
            <p:cNvPr id="1233" name=""/>
            <p:cNvSpPr/>
            <p:nvPr/>
          </p:nvSpPr>
          <p:spPr>
            <a:xfrm>
              <a:off x="990720" y="1981080"/>
              <a:ext cx="746748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66680" y="2057400"/>
              <a:ext cx="73148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a given point in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k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 link to a newly-created node with elemen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decessor null, and successor null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the insertion point in the for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(or null 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 no successor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r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fter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the backward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28800" y="496224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28800" y="5267160"/>
              <a:ext cx="304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476760" y="494352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76360" y="49528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76560" y="4495680"/>
              <a:ext cx="9140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1896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1896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90808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27200" y="50292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93680" y="5029200"/>
              <a:ext cx="53316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7391160" y="5181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96080" y="51814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81080" y="5181480"/>
              <a:ext cx="624816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38880" y="5029200"/>
              <a:ext cx="45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2895120" y="51814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84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288"/>
                  </a:moveTo>
                  <a:lnTo>
                    <a:pt x="144" y="288"/>
                  </a:lnTo>
                  <a:lnTo>
                    <a:pt x="384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1907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384" y="0"/>
                  </a:lnTo>
                  <a:lnTo>
                    <a:pt x="144" y="288"/>
                  </a:lnTo>
                  <a:lnTo>
                    <a:pt x="0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638680" y="4572000"/>
              <a:ext cx="83772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0" y="0"/>
                  </a:moveTo>
                  <a:lnTo>
                    <a:pt x="144" y="0"/>
                  </a:lnTo>
                  <a:lnTo>
                    <a:pt x="528" y="2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0960" y="4724280"/>
              <a:ext cx="838080" cy="4572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288"/>
                  </a:moveTo>
                  <a:lnTo>
                    <a:pt x="384" y="28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4ACC-354F-4D46-A1A4-57EF22479599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ele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Delete a given node from a link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case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of a singleton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of the first (but not last)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of the last (but not first) 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spcBef>
                <a:spcPts val="901"/>
              </a:spcBef>
              <a:buClr>
                <a:srgbClr val="339966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of an intermediate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etion algorithm needs links to the deleted node’s successor and prede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FAF9-D3A3-431B-B800-6769644DA3A9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linked list is the number of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ed list has no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inked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manipulate the individual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manipulate the links, thus changing the linked list’s very structure! (This is impossible in an arra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25EF-DB7C-4CCC-8E2A-A26419125265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L dele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let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(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successo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is no link from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ts predecessor, so step 3.1 can acc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redecessor only by following link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557E-46F3-4040-9A4A-8023716C9E43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deleting the first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1066680" y="2057400"/>
            <a:ext cx="6400800" cy="3809880"/>
            <a:chOff x="1066680" y="2057400"/>
            <a:chExt cx="6400800" cy="3809880"/>
          </a:xfrm>
        </p:grpSpPr>
        <p:sp>
          <p:nvSpPr>
            <p:cNvPr id="1264" name=""/>
            <p:cNvSpPr/>
            <p:nvPr/>
          </p:nvSpPr>
          <p:spPr>
            <a:xfrm>
              <a:off x="1066680" y="2057400"/>
              <a:ext cx="640080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81080" y="4952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333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714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571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71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335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3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9339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95280" y="49528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810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2952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3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1066680" y="2057400"/>
            <a:ext cx="6400800" cy="3809880"/>
            <a:chOff x="1066680" y="2057400"/>
            <a:chExt cx="6400800" cy="3809880"/>
          </a:xfrm>
        </p:grpSpPr>
        <p:sp>
          <p:nvSpPr>
            <p:cNvPr id="1279" name=""/>
            <p:cNvSpPr/>
            <p:nvPr/>
          </p:nvSpPr>
          <p:spPr>
            <a:xfrm>
              <a:off x="1066680" y="2057400"/>
              <a:ext cx="640080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81080" y="4952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3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714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571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71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335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33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339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95280" y="49528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810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952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333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812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954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335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066680" y="2057400"/>
            <a:ext cx="6400800" cy="3809880"/>
            <a:chOff x="1066680" y="2057400"/>
            <a:chExt cx="6400800" cy="3809880"/>
          </a:xfrm>
        </p:grpSpPr>
        <p:sp>
          <p:nvSpPr>
            <p:cNvPr id="1297" name=""/>
            <p:cNvSpPr/>
            <p:nvPr/>
          </p:nvSpPr>
          <p:spPr>
            <a:xfrm>
              <a:off x="1066680" y="2057400"/>
              <a:ext cx="640080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81080" y="4952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9714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71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71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335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33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9339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295280" y="49528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10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2952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333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5812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954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335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133360" y="4800240"/>
              <a:ext cx="243828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1066680" y="2057400"/>
            <a:ext cx="6400800" cy="3809880"/>
            <a:chOff x="1066680" y="2057400"/>
            <a:chExt cx="6400800" cy="3809880"/>
          </a:xfrm>
        </p:grpSpPr>
        <p:sp>
          <p:nvSpPr>
            <p:cNvPr id="1315" name=""/>
            <p:cNvSpPr/>
            <p:nvPr/>
          </p:nvSpPr>
          <p:spPr>
            <a:xfrm>
              <a:off x="1066680" y="2057400"/>
              <a:ext cx="640080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81080" y="49528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71440" y="4952880"/>
              <a:ext cx="914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71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71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335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33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339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95280" y="49528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33360" y="4800240"/>
              <a:ext cx="243828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09880" y="5410080"/>
              <a:ext cx="990360" cy="380520"/>
            </a:xfrm>
            <a:prstGeom prst="wedgeRectCallout">
              <a:avLst>
                <a:gd name="adj1" fmla="val -78847"/>
                <a:gd name="adj2" fmla="val -700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arb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66BC-A32A-44A2-9CB3-13BE9AB631F3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deleting an intermediate (or last)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66680" y="2057400"/>
            <a:ext cx="7391160" cy="3809880"/>
            <a:chOff x="1066680" y="2057400"/>
            <a:chExt cx="7391160" cy="3809880"/>
          </a:xfrm>
        </p:grpSpPr>
        <p:sp>
          <p:nvSpPr>
            <p:cNvPr id="1331" name=""/>
            <p:cNvSpPr/>
            <p:nvPr/>
          </p:nvSpPr>
          <p:spPr>
            <a:xfrm>
              <a:off x="1066680" y="2057400"/>
              <a:ext cx="739116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828440" y="4952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28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28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290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90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909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42640" y="49528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0384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3526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907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810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8954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14240" y="51051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3911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1066680" y="2057400"/>
            <a:ext cx="7391160" cy="3809880"/>
            <a:chOff x="1066680" y="2057400"/>
            <a:chExt cx="7391160" cy="3809880"/>
          </a:xfrm>
        </p:grpSpPr>
        <p:sp>
          <p:nvSpPr>
            <p:cNvPr id="1348" name=""/>
            <p:cNvSpPr/>
            <p:nvPr/>
          </p:nvSpPr>
          <p:spPr>
            <a:xfrm>
              <a:off x="1066680" y="2057400"/>
              <a:ext cx="739116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28440" y="4952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28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28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290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190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909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142640" y="49528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0384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526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907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810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954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14240" y="51051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911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386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528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909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066680" y="2057400"/>
            <a:ext cx="7391160" cy="3809880"/>
            <a:chOff x="1066680" y="2057400"/>
            <a:chExt cx="7391160" cy="3809880"/>
          </a:xfrm>
        </p:grpSpPr>
        <p:sp>
          <p:nvSpPr>
            <p:cNvPr id="1368" name=""/>
            <p:cNvSpPr/>
            <p:nvPr/>
          </p:nvSpPr>
          <p:spPr>
            <a:xfrm>
              <a:off x="1066680" y="2057400"/>
              <a:ext cx="739116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28440" y="4952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28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28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90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907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09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142640" y="49528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384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526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907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9810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954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514240" y="51051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3911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386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9528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909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382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524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905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1066680" y="2057400"/>
            <a:ext cx="7391160" cy="3809880"/>
            <a:chOff x="1066680" y="2057400"/>
            <a:chExt cx="7391160" cy="3809880"/>
          </a:xfrm>
        </p:grpSpPr>
        <p:sp>
          <p:nvSpPr>
            <p:cNvPr id="1391" name=""/>
            <p:cNvSpPr/>
            <p:nvPr/>
          </p:nvSpPr>
          <p:spPr>
            <a:xfrm>
              <a:off x="1066680" y="2057400"/>
              <a:ext cx="739116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828440" y="4952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28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288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90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909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42640" y="49528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384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526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07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810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8954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14240" y="51051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911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386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528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909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38280" y="5410080"/>
              <a:ext cx="30456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52480" y="5410080"/>
              <a:ext cx="6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90560" y="5181480"/>
              <a:ext cx="838080" cy="38052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90760" y="4800240"/>
              <a:ext cx="243828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1066680" y="2057400"/>
            <a:ext cx="7391160" cy="3809880"/>
            <a:chOff x="1066680" y="2057400"/>
            <a:chExt cx="7391160" cy="3809880"/>
          </a:xfrm>
        </p:grpSpPr>
        <p:sp>
          <p:nvSpPr>
            <p:cNvPr id="1414" name=""/>
            <p:cNvSpPr/>
            <p:nvPr/>
          </p:nvSpPr>
          <p:spPr>
            <a:xfrm>
              <a:off x="1066680" y="2057400"/>
              <a:ext cx="7391160" cy="3809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142640" y="2133360"/>
              <a:ext cx="62485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wise (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successor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28440" y="4952880"/>
              <a:ext cx="304920" cy="30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4286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28840" y="4952880"/>
              <a:ext cx="914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904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909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42640" y="495288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810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95480" y="5105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14240" y="51051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91160" y="5105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90760" y="4800240"/>
              <a:ext cx="243828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43240" y="5410080"/>
              <a:ext cx="990720" cy="380520"/>
            </a:xfrm>
            <a:prstGeom prst="wedgeRectCallout">
              <a:avLst>
                <a:gd name="adj1" fmla="val -78847"/>
                <a:gd name="adj2" fmla="val -7000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garb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CB83-459E-4112-AE74-5550544D3BCB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LL’s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.1 must visit all nodes from the first node to the deleted node’s predecessor. There are between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 such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no. of nodes visited  =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F780-C0EB-4753-97AF-994EEC6185A5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as a Java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SLLNode de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no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is S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succ = del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el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 = 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LNode pre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red.succ != de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 = pred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.succ = 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7575-DB91-4F6F-A2F2-5392B228F154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L dele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let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DLL headed b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edecessor and success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ose predecessor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the forward S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ose successor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the backward S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C784-9F6B-4C1F-902E-3E8CCA9ADB95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439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057400" y="4962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05740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481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483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485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098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4100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102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09680" y="503856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55627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9625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20040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209680" y="51912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4792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4792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057400" y="4495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47920" y="44956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209680" y="46483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144" y="0"/>
                  </a:lnTo>
                  <a:lnTo>
                    <a:pt x="528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460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0574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4479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057400" y="4962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5740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81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483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85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098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4100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102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09680" y="503856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lnTo>
                    <a:pt x="96" y="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5627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39625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0040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209680" y="51912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792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4792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6576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481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057400" y="4495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447920" y="44956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209680" y="46483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144" y="0"/>
                  </a:lnTo>
                  <a:lnTo>
                    <a:pt x="528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09880" y="5257800"/>
              <a:ext cx="83844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deleting the first (but not last)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489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0574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479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057400" y="4962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05740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0481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483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2485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8098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100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102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55627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39625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0040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09680" y="51912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44792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44792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576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481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57400" y="4495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447920" y="44956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09680" y="46483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144" y="0"/>
                  </a:lnTo>
                  <a:lnTo>
                    <a:pt x="528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809880" y="5257800"/>
              <a:ext cx="83844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096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09680" y="4800600"/>
              <a:ext cx="2438640" cy="30492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516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0574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479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57400" y="4962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5740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0481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485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098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100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102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5627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0040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209680" y="51912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4792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4792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57600" y="5715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048120" y="57150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057400" y="4495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47920" y="44956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09680" y="46483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144" y="0"/>
                  </a:lnTo>
                  <a:lnTo>
                    <a:pt x="528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09880" y="5257800"/>
              <a:ext cx="83844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09680" y="5867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09680" y="4800600"/>
              <a:ext cx="2438640" cy="30492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006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543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57400" y="49626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7400" y="5267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48120" y="4952880"/>
              <a:ext cx="914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483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4852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098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10080" y="5038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010280" y="5038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5562720" y="5191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00400" y="5191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09680" y="5191200"/>
              <a:ext cx="5257800" cy="228600"/>
            </a:xfrm>
            <a:custGeom>
              <a:avLst/>
              <a:gdLst/>
              <a:ahLst/>
              <a:rect l="l" t="t" r="r" b="b"/>
              <a:pathLst>
                <a:path w="3312" h="144">
                  <a:moveTo>
                    <a:pt x="0" y="144"/>
                  </a:moveTo>
                  <a:lnTo>
                    <a:pt x="3312" y="144"/>
                  </a:lnTo>
                  <a:lnTo>
                    <a:pt x="3312" y="0"/>
                  </a:lnTo>
                  <a:lnTo>
                    <a:pt x="31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447920" y="495288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47920" y="5257800"/>
              <a:ext cx="53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209680" y="4800600"/>
              <a:ext cx="2438640" cy="30492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192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0060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F21D-9A96-42E3-AD39-C85D08EA37AD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LL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 (deleting an intermediate nod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564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05120" y="4495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95280" y="449568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905120" y="4952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051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53080" y="4933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526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9528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295280" y="49435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95280" y="524844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84400" y="5019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603520" y="501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70000" y="5019840"/>
              <a:ext cx="53352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7467120" y="517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5172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057400" y="5172120"/>
              <a:ext cx="624852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15200" y="5019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971800" y="5172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150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42667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148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8669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057400" y="4648320"/>
              <a:ext cx="2895480" cy="304560"/>
            </a:xfrm>
            <a:custGeom>
              <a:avLst/>
              <a:gdLst/>
              <a:ahLst/>
              <a:rect l="l" t="t" r="r" b="b"/>
              <a:pathLst>
                <a:path w="1824" h="192">
                  <a:moveTo>
                    <a:pt x="0" y="0"/>
                  </a:moveTo>
                  <a:lnTo>
                    <a:pt x="1488" y="0"/>
                  </a:lnTo>
                  <a:lnTo>
                    <a:pt x="1824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589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05120" y="4495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295280" y="449568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905120" y="4952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9051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553080" y="4933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526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9528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295280" y="49435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295280" y="524844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84400" y="5019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603520" y="501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70000" y="5019840"/>
              <a:ext cx="53352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467120" y="517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772400" y="5172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57400" y="5172120"/>
              <a:ext cx="624852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315200" y="5019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2971800" y="5172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7524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5627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528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7150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2667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48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58669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057400" y="4648320"/>
              <a:ext cx="2895480" cy="304560"/>
            </a:xfrm>
            <a:custGeom>
              <a:avLst/>
              <a:gdLst/>
              <a:ahLst/>
              <a:rect l="l" t="t" r="r" b="b"/>
              <a:pathLst>
                <a:path w="1824" h="192">
                  <a:moveTo>
                    <a:pt x="0" y="0"/>
                  </a:moveTo>
                  <a:lnTo>
                    <a:pt x="1488" y="0"/>
                  </a:lnTo>
                  <a:lnTo>
                    <a:pt x="1824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3623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146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7150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620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905120" y="4495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95280" y="449568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905120" y="4952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051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53080" y="4933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3526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9528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95280" y="49435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295280" y="524844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984400" y="5019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03520" y="501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70000" y="5019840"/>
              <a:ext cx="53352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67120" y="517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772400" y="5172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057400" y="5172120"/>
              <a:ext cx="624852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315200" y="5019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2971800" y="5172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524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5627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528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150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42667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58669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057400" y="4648320"/>
              <a:ext cx="2895480" cy="304560"/>
            </a:xfrm>
            <a:custGeom>
              <a:avLst/>
              <a:gdLst/>
              <a:ahLst/>
              <a:rect l="l" t="t" r="r" b="b"/>
              <a:pathLst>
                <a:path w="1824" h="192">
                  <a:moveTo>
                    <a:pt x="0" y="0"/>
                  </a:moveTo>
                  <a:lnTo>
                    <a:pt x="1488" y="0"/>
                  </a:lnTo>
                  <a:lnTo>
                    <a:pt x="1824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623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146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150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114800" y="48006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144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651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05120" y="44956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295280" y="449568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05120" y="4952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051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53080" y="4933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526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528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295280" y="49435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295280" y="524844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984400" y="5019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03520" y="501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70000" y="5019840"/>
              <a:ext cx="53352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7467120" y="517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2400" y="5172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057400" y="5172120"/>
              <a:ext cx="624852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15200" y="5019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2971800" y="5172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524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5627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952880" y="571500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7150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42667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57400" y="4648320"/>
              <a:ext cx="2895480" cy="304560"/>
            </a:xfrm>
            <a:custGeom>
              <a:avLst/>
              <a:gdLst/>
              <a:ahLst/>
              <a:rect l="l" t="t" r="r" b="b"/>
              <a:pathLst>
                <a:path w="1824" h="192">
                  <a:moveTo>
                    <a:pt x="0" y="0"/>
                  </a:moveTo>
                  <a:lnTo>
                    <a:pt x="1488" y="0"/>
                  </a:lnTo>
                  <a:lnTo>
                    <a:pt x="1824" y="1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362320" y="57150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5146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15000" y="5257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0" y="384"/>
                  </a:moveTo>
                  <a:lnTo>
                    <a:pt x="144" y="384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14800" y="48006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144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267080" y="5181480"/>
              <a:ext cx="2438640" cy="152640"/>
            </a:xfrm>
            <a:custGeom>
              <a:avLst/>
              <a:gdLst/>
              <a:ahLst/>
              <a:rect l="l" t="t" r="r" b="b"/>
              <a:pathLst>
                <a:path w="1536" h="96">
                  <a:moveTo>
                    <a:pt x="1536" y="0"/>
                  </a:moveTo>
                  <a:lnTo>
                    <a:pt x="1008" y="96"/>
                  </a:lnTo>
                  <a:lnTo>
                    <a:pt x="432" y="96"/>
                  </a:lnTo>
                  <a:lnTo>
                    <a:pt x="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1066680" y="1981080"/>
            <a:ext cx="7467840" cy="4191120"/>
            <a:chOff x="1066680" y="1981080"/>
            <a:chExt cx="7467840" cy="4191120"/>
          </a:xfrm>
        </p:grpSpPr>
        <p:sp>
          <p:nvSpPr>
            <p:cNvPr id="1682" name=""/>
            <p:cNvSpPr/>
            <p:nvPr/>
          </p:nvSpPr>
          <p:spPr>
            <a:xfrm>
              <a:off x="1066680" y="1981080"/>
              <a:ext cx="7467840" cy="419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43000" y="2048040"/>
              <a:ext cx="7315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DLL headed b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s predecessor and successor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prede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forwar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L 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lete nod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whose successor 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c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from the backward SL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aded b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905120" y="495288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905120" y="5257800"/>
              <a:ext cx="30456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553080" y="49338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352680" y="49435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52880" y="4943520"/>
              <a:ext cx="914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295280" y="494352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95280" y="5248440"/>
              <a:ext cx="53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984400" y="5019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03520" y="501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70000" y="5019840"/>
              <a:ext cx="533520" cy="7596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0" y="48"/>
                  </a:moveTo>
                  <a:lnTo>
                    <a:pt x="96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467120" y="517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72400" y="5172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57400" y="5172120"/>
              <a:ext cx="6248520" cy="228600"/>
            </a:xfrm>
            <a:custGeom>
              <a:avLst/>
              <a:gdLst/>
              <a:ahLst/>
              <a:rect l="l" t="t" r="r" b="b"/>
              <a:pathLst>
                <a:path w="3936" h="144">
                  <a:moveTo>
                    <a:pt x="0" y="144"/>
                  </a:moveTo>
                  <a:lnTo>
                    <a:pt x="3936" y="144"/>
                  </a:lnTo>
                  <a:lnTo>
                    <a:pt x="3936" y="0"/>
                  </a:lnTo>
                  <a:lnTo>
                    <a:pt x="38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15200" y="5019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2971800" y="5172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715000" y="50292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426672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114800" y="48006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144"/>
                  </a:moveTo>
                  <a:lnTo>
                    <a:pt x="528" y="0"/>
                  </a:lnTo>
                  <a:lnTo>
                    <a:pt x="1104" y="0"/>
                  </a:lnTo>
                  <a:lnTo>
                    <a:pt x="153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67080" y="5181480"/>
              <a:ext cx="2438640" cy="152640"/>
            </a:xfrm>
            <a:custGeom>
              <a:avLst/>
              <a:gdLst/>
              <a:ahLst/>
              <a:rect l="l" t="t" r="r" b="b"/>
              <a:pathLst>
                <a:path w="1536" h="96">
                  <a:moveTo>
                    <a:pt x="1536" y="0"/>
                  </a:moveTo>
                  <a:lnTo>
                    <a:pt x="1008" y="96"/>
                  </a:lnTo>
                  <a:lnTo>
                    <a:pt x="432" y="96"/>
                  </a:lnTo>
                  <a:lnTo>
                    <a:pt x="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A7CB-AD7C-42DA-B26D-70AE8B6189AF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omparison of insertion and deletion algorithm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1705" name=""/>
          <p:cNvGraphicFramePr/>
          <p:nvPr/>
        </p:nvGraphicFramePr>
        <p:xfrm>
          <a:off x="2590920" y="2209680"/>
          <a:ext cx="3733560" cy="152424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121896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3098-5A10-4A74-8A50-0BDE17878CA7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arc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earch for a given target value in a link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orted SLL linear search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which (if any) node of the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an element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LL head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qual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lement, terminate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L linear search is similar, except that we can search from last to first if prefe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7810-21D2-443E-B484-B661AAAC0745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ing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y-linked 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sists of a sequence of nodes, connected by links in one directio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L node contains a single element, plus a link to the node’s successor (or a null link if the node has no success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SLL header contains a link to the SLL’s first node (or a null link if the SLL is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43000" y="4876920"/>
            <a:ext cx="6705720" cy="305280"/>
            <a:chOff x="1143000" y="4876920"/>
            <a:chExt cx="6705720" cy="305280"/>
          </a:xfrm>
        </p:grpSpPr>
        <p:sp>
          <p:nvSpPr>
            <p:cNvPr id="83" name=""/>
            <p:cNvSpPr/>
            <p:nvPr/>
          </p:nvSpPr>
          <p:spPr>
            <a:xfrm>
              <a:off x="1143000" y="48769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95280" y="5029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4876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4876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4876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95480" y="5029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96080" y="50292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4120" y="487692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5029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502920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43000" y="5410080"/>
            <a:ext cx="1905120" cy="305280"/>
            <a:chOff x="1143000" y="5410080"/>
            <a:chExt cx="1905120" cy="305280"/>
          </a:xfrm>
        </p:grpSpPr>
        <p:sp>
          <p:nvSpPr>
            <p:cNvPr id="94" name=""/>
            <p:cNvSpPr/>
            <p:nvPr/>
          </p:nvSpPr>
          <p:spPr>
            <a:xfrm>
              <a:off x="1143000" y="54100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55623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54100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5562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43000" y="5952960"/>
            <a:ext cx="304920" cy="304920"/>
            <a:chOff x="1143000" y="5952960"/>
            <a:chExt cx="304920" cy="304920"/>
          </a:xfrm>
        </p:grpSpPr>
        <p:sp>
          <p:nvSpPr>
            <p:cNvPr id="99" name=""/>
            <p:cNvSpPr/>
            <p:nvPr/>
          </p:nvSpPr>
          <p:spPr>
            <a:xfrm>
              <a:off x="1143000" y="59529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95280" y="61056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F507-3C43-4537-BFDD-12B688FA8706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arc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SLL’s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search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no. of comparisons  =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search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uccess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comparis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case,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B6F8-FAF7-4818-AC94-67B086F63E37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earc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search (Objec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which (if any) node of this SLL contains an element equa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turn a link to the matching node (or null if there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LLNode cur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arget.equals(curr.element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ur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5AC0-5E42-473B-BDBE-BA526A170912}" type="slidenum">
              <a:t>41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ing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SLL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elem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suc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(Object elem, SLLNode 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lement = ele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succ = 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46E4-E94D-4E26-88BC-5D142AF1990F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ingly-linked lis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SLL hea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 {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Node fir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LL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mpty S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800600"/>
            <a:ext cx="2667240" cy="380880"/>
          </a:xfrm>
          <a:prstGeom prst="wedgeRectCallout">
            <a:avLst>
              <a:gd name="adj1" fmla="val -128810"/>
              <a:gd name="adj2" fmla="val -2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SLL methods (to fo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B09F-B6C9-402C-BF8A-74C850A98868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066680" y="4800600"/>
            <a:ext cx="6324840" cy="1219320"/>
            <a:chOff x="1066680" y="4800600"/>
            <a:chExt cx="6324840" cy="1219320"/>
          </a:xfrm>
        </p:grpSpPr>
        <p:sp>
          <p:nvSpPr>
            <p:cNvPr id="110" name=""/>
            <p:cNvSpPr/>
            <p:nvPr/>
          </p:nvSpPr>
          <p:spPr>
            <a:xfrm>
              <a:off x="1066680" y="4800600"/>
              <a:ext cx="63248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5029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5181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50292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LL traversal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traverse an S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FirstToLa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all elements in this SLL, in first-to-last ord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SLLNode cur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ir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suc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urr.element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066680" y="4800600"/>
            <a:ext cx="6324840" cy="1219320"/>
            <a:chOff x="1066680" y="4800600"/>
            <a:chExt cx="6324840" cy="1219320"/>
          </a:xfrm>
        </p:grpSpPr>
        <p:sp>
          <p:nvSpPr>
            <p:cNvPr id="123" name=""/>
            <p:cNvSpPr/>
            <p:nvPr/>
          </p:nvSpPr>
          <p:spPr>
            <a:xfrm>
              <a:off x="1066680" y="4800600"/>
              <a:ext cx="63248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029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96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81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85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98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5181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50292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74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54864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5257800"/>
              <a:ext cx="83844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240"/>
                  </a:moveTo>
                  <a:lnTo>
                    <a:pt x="240" y="240"/>
                  </a:lnTo>
                  <a:lnTo>
                    <a:pt x="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66680" y="4800600"/>
            <a:ext cx="6324840" cy="1218960"/>
            <a:chOff x="1066680" y="4800600"/>
            <a:chExt cx="6324840" cy="1218960"/>
          </a:xfrm>
        </p:grpSpPr>
        <p:sp>
          <p:nvSpPr>
            <p:cNvPr id="137" name=""/>
            <p:cNvSpPr/>
            <p:nvPr/>
          </p:nvSpPr>
          <p:spPr>
            <a:xfrm>
              <a:off x="1066680" y="4800600"/>
              <a:ext cx="632484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400" y="50292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096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81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8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3000" y="50292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7400" y="548640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3000" y="54864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2640" y="5257800"/>
              <a:ext cx="2425680" cy="380880"/>
            </a:xfrm>
            <a:custGeom>
              <a:avLst/>
              <a:gdLst/>
              <a:ahLst/>
              <a:rect l="l" t="t" r="r" b="b"/>
              <a:pathLst>
                <a:path w="1528" h="240">
                  <a:moveTo>
                    <a:pt x="0" y="240"/>
                  </a:moveTo>
                  <a:lnTo>
                    <a:pt x="1240" y="240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66680" y="4800600"/>
            <a:ext cx="6324840" cy="1219320"/>
            <a:chOff x="1066680" y="4800600"/>
            <a:chExt cx="6324840" cy="1219320"/>
          </a:xfrm>
        </p:grpSpPr>
        <p:sp>
          <p:nvSpPr>
            <p:cNvPr id="151" name=""/>
            <p:cNvSpPr/>
            <p:nvPr/>
          </p:nvSpPr>
          <p:spPr>
            <a:xfrm>
              <a:off x="1066680" y="4800600"/>
              <a:ext cx="63248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7400" y="5029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81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8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85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51814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0280" y="5181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50292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54864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9680" y="5257800"/>
              <a:ext cx="4038840" cy="380880"/>
            </a:xfrm>
            <a:custGeom>
              <a:avLst/>
              <a:gdLst/>
              <a:ahLst/>
              <a:rect l="l" t="t" r="r" b="b"/>
              <a:pathLst>
                <a:path w="2544" h="240">
                  <a:moveTo>
                    <a:pt x="0" y="240"/>
                  </a:moveTo>
                  <a:lnTo>
                    <a:pt x="2256" y="240"/>
                  </a:lnTo>
                  <a:lnTo>
                    <a:pt x="25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6680" y="4800600"/>
            <a:ext cx="6324840" cy="1219320"/>
            <a:chOff x="1066680" y="4800600"/>
            <a:chExt cx="6324840" cy="1219320"/>
          </a:xfrm>
        </p:grpSpPr>
        <p:sp>
          <p:nvSpPr>
            <p:cNvPr id="165" name=""/>
            <p:cNvSpPr/>
            <p:nvPr/>
          </p:nvSpPr>
          <p:spPr>
            <a:xfrm>
              <a:off x="1066680" y="4800600"/>
              <a:ext cx="63248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7400" y="5029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096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83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502920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518184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5181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50292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574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548640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cu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5639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EA8A-3043-47A8-9587-27B2313BD162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LL manipul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lete an SLL’s first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leteFirst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is SLL’s first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suming length &gt; 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66680" y="4495680"/>
            <a:ext cx="6324840" cy="914400"/>
            <a:chOff x="1066680" y="4495680"/>
            <a:chExt cx="6324840" cy="914400"/>
          </a:xfrm>
        </p:grpSpPr>
        <p:sp>
          <p:nvSpPr>
            <p:cNvPr id="182" name=""/>
            <p:cNvSpPr/>
            <p:nvPr/>
          </p:nvSpPr>
          <p:spPr>
            <a:xfrm>
              <a:off x="1066680" y="4495680"/>
              <a:ext cx="632484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57400" y="4724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4876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83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85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4876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10080" y="4876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10280" y="4876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4724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6680" y="4495680"/>
            <a:ext cx="6324840" cy="914400"/>
            <a:chOff x="1066680" y="4495680"/>
            <a:chExt cx="6324840" cy="914400"/>
          </a:xfrm>
        </p:grpSpPr>
        <p:sp>
          <p:nvSpPr>
            <p:cNvPr id="193" name=""/>
            <p:cNvSpPr/>
            <p:nvPr/>
          </p:nvSpPr>
          <p:spPr>
            <a:xfrm>
              <a:off x="1066680" y="4495680"/>
              <a:ext cx="632484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7400" y="47242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81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83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8520" y="47242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4876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10080" y="48769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76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47242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9680" y="4876920"/>
              <a:ext cx="2438640" cy="30456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D6CF-B0A4-4579-81FD-159554D377F9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LL manipula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method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lete an SLL’s second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leteSecond 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is SLL’s second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suming length &gt; 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LNode secon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first.succ = second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66680" y="4724280"/>
            <a:ext cx="6477120" cy="1219320"/>
            <a:chOff x="1066680" y="4724280"/>
            <a:chExt cx="6477120" cy="1219320"/>
          </a:xfrm>
        </p:grpSpPr>
        <p:sp>
          <p:nvSpPr>
            <p:cNvPr id="207" name=""/>
            <p:cNvSpPr/>
            <p:nvPr/>
          </p:nvSpPr>
          <p:spPr>
            <a:xfrm>
              <a:off x="1066680" y="4724280"/>
              <a:ext cx="647712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09680" y="4952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1960" y="51055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06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008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2160" y="51055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62360" y="51055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2560" y="5105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95280" y="49528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66680" y="4724280"/>
            <a:ext cx="6477120" cy="1296000"/>
            <a:chOff x="1066680" y="4724280"/>
            <a:chExt cx="6477120" cy="1296000"/>
          </a:xfrm>
        </p:grpSpPr>
        <p:sp>
          <p:nvSpPr>
            <p:cNvPr id="218" name=""/>
            <p:cNvSpPr/>
            <p:nvPr/>
          </p:nvSpPr>
          <p:spPr>
            <a:xfrm>
              <a:off x="1066680" y="4724280"/>
              <a:ext cx="6477120" cy="1218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49528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1960" y="51051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2160" y="51051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2360" y="51051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625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8960" y="4952880"/>
              <a:ext cx="91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54100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8960" y="54100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1960" y="5181480"/>
              <a:ext cx="2438640" cy="38088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066680" y="4724280"/>
            <a:ext cx="6477120" cy="1296000"/>
            <a:chOff x="1066680" y="4724280"/>
            <a:chExt cx="6477120" cy="1296000"/>
          </a:xfrm>
        </p:grpSpPr>
        <p:sp>
          <p:nvSpPr>
            <p:cNvPr id="232" name=""/>
            <p:cNvSpPr/>
            <p:nvPr/>
          </p:nvSpPr>
          <p:spPr>
            <a:xfrm>
              <a:off x="1066680" y="4724280"/>
              <a:ext cx="647712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09680" y="4952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6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4952880"/>
              <a:ext cx="9144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1960" y="51051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62360" y="51051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56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5280" y="495288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62160" y="5105160"/>
              <a:ext cx="2438640" cy="304920"/>
            </a:xfrm>
            <a:custGeom>
              <a:avLst/>
              <a:gdLst/>
              <a:ahLst/>
              <a:rect l="l" t="t" r="r" b="b"/>
              <a:pathLst>
                <a:path w="1536" h="192">
                  <a:moveTo>
                    <a:pt x="0" y="0"/>
                  </a:moveTo>
                  <a:lnTo>
                    <a:pt x="528" y="192"/>
                  </a:lnTo>
                  <a:lnTo>
                    <a:pt x="1104" y="192"/>
                  </a:lnTo>
                  <a:lnTo>
                    <a:pt x="1536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5410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8960" y="5410080"/>
              <a:ext cx="914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1960" y="5181480"/>
              <a:ext cx="2438640" cy="380880"/>
            </a:xfrm>
            <a:custGeom>
              <a:avLst/>
              <a:gdLst/>
              <a:ahLst/>
              <a:rect l="l" t="t" r="r" b="b"/>
              <a:pathLst>
                <a:path w="1536" h="240">
                  <a:moveTo>
                    <a:pt x="0" y="240"/>
                  </a:moveTo>
                  <a:lnTo>
                    <a:pt x="1104" y="240"/>
                  </a:lnTo>
                  <a:lnTo>
                    <a:pt x="15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6768-5E45-4316-9AD0-3DFF992B9E23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2:26:23Z</dcterms:modified>
  <cp:revision>237</cp:revision>
  <dc:subject/>
  <dc:title>Formalizing the Dynamic Semantics of Java</dc:title>
</cp:coreProperties>
</file>