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072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AAC-ED49-476C-A253-01EB4CA7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BF3-BE44-4309-ADAE-A5B4D015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D4E-78C3-4394-9008-20221D37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16C-2E5A-48F3-B222-CD8A8BF4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F0F-8FC2-4173-8B44-E8C0D3A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9B-9509-4719-B2EE-CA40482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FD2-39D0-4FC1-A42F-AFA76BE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06D-E3DF-4367-A0FE-4190DD1C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52E-42D9-4AD1-81EE-61F7670D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5F4-345C-494E-8C81-282014A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250-419C-4692-A5DF-FEF68CA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24B-2AFF-49E7-9874-57E0D9E1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2-</a:t>
            </a:r>
            <a:fld id="{6DFEAD4D-BF53-42F7-89AD-B201D3A8A3E6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Algorithm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5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EA8-3C50-4FA2-97B6-55E7B036155A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dial Mathematics</a:t>
            </a:r>
            <a:br>
              <a:rPr sz="2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Logarithms example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s must we halve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carding any remainders) to reach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wer of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 must be halved 3 tim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 must be halved 4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halv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a power of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must be halved 3 tim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5 must be halved 3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halv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36D-B807-4FF4-A2EF-D3A726B714F2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dial Mathematics</a:t>
            </a:r>
            <a:br>
              <a:rPr sz="2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Logarithms example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halv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25000">
                <a:solidFill>
                  <a:srgbClr val="000000"/>
                </a:solidFill>
                <a:latin typeface="Times New Roman"/>
              </a:rPr>
              <a:t>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</a:t>
            </a:r>
            <a:r>
              <a:rPr b="0" i="1" lang="en-US" sz="2400" spc="-1" strike="noStrike" baseline="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o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ritt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o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largest integer not great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halved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imes to reach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halved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+1 times to reach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20B-9C5F-45DB-B7A7-804A3A5B74A0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ow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1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54F-871E-4FF0-B73B-3F5E3BDD3C24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(counting multiplic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.1 performs a multipl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ep is repea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of multiplicati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8B8-3E5E-4503-AA08-D6463CB4521A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w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 baseline="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n-negativ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 =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*= b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FD8-9320-4B02-9E27-C455E8B41478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we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can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only 1 more multipl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rt pow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1,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0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dd, multip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scarding any remainder)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itse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771-C9C6-4F35-A424-D057C2D51F9C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(counting multiplic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2.1–3 together perform at most 2 multiplica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repeated as often as we must halve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carding any remainder) until it reaches 0, i.e.,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1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o. of multi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(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FFD-E61E-46B9-918A-D3A6E154DB42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w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 baseline="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n-negativ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 = 1, q = b, m = 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m &gt; 0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m%2 != 0)  p *= q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 /= 2;  q *= q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DBE-6EFB-4437-9F1F-3708600AA8C6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676520" y="1676520"/>
            <a:ext cx="6019920" cy="4648320"/>
            <a:chOff x="1676520" y="1676520"/>
            <a:chExt cx="6019920" cy="4648320"/>
          </a:xfrm>
        </p:grpSpPr>
        <p:sp>
          <p:nvSpPr>
            <p:cNvPr id="153" name=""/>
            <p:cNvSpPr/>
            <p:nvPr/>
          </p:nvSpPr>
          <p:spPr>
            <a:xfrm>
              <a:off x="3809880" y="1828440"/>
              <a:ext cx="381024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6760" y="4805280"/>
              <a:ext cx="450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035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6528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416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73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0496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ulti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36480" y="4748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6480" y="39621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6480" y="3200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36480" y="2438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8080" y="54860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18080" y="5333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808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18080" y="5028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41760" y="4876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808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18080" y="4571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18080" y="4419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41760" y="4114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808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1808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8080" y="36572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4176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18080" y="35049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18080" y="32000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18080" y="3047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1808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8080" y="2742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41760" y="2590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1808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18080" y="2438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8080" y="2285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8080" y="2133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8080" y="1981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66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896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5124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038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5616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0844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610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336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564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828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056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2284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754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2776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04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26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496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3724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98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216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36480" y="1676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41760" y="1828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671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02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6292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012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7600" y="5805360"/>
              <a:ext cx="2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988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2680" y="5516280"/>
              <a:ext cx="2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62720" y="60195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794040" y="1828440"/>
            <a:ext cx="3810240" cy="3809880"/>
            <a:chOff x="3794040" y="1828440"/>
            <a:chExt cx="3810240" cy="3809880"/>
          </a:xfrm>
        </p:grpSpPr>
        <p:sp>
          <p:nvSpPr>
            <p:cNvPr id="224" name=""/>
            <p:cNvSpPr/>
            <p:nvPr/>
          </p:nvSpPr>
          <p:spPr>
            <a:xfrm>
              <a:off x="5805360" y="1904760"/>
              <a:ext cx="1417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imple power 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794040" y="1828440"/>
              <a:ext cx="3810240" cy="3809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794040" y="4038480"/>
            <a:ext cx="3841920" cy="1600200"/>
            <a:chOff x="3794040" y="4038480"/>
            <a:chExt cx="3841920" cy="1600200"/>
          </a:xfrm>
        </p:grpSpPr>
        <p:sp>
          <p:nvSpPr>
            <p:cNvPr id="227" name=""/>
            <p:cNvSpPr/>
            <p:nvPr/>
          </p:nvSpPr>
          <p:spPr>
            <a:xfrm>
              <a:off x="6324480" y="4038480"/>
              <a:ext cx="1311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mart power 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94040" y="4724280"/>
              <a:ext cx="3810240" cy="914400"/>
            </a:xfrm>
            <a:custGeom>
              <a:avLst/>
              <a:gdLst/>
              <a:ahLst/>
              <a:rect l="l" t="t" r="r" b="b"/>
              <a:pathLst>
                <a:path w="2400" h="576">
                  <a:moveTo>
                    <a:pt x="0" y="576"/>
                  </a:moveTo>
                  <a:lnTo>
                    <a:pt x="96" y="384"/>
                  </a:lnTo>
                  <a:lnTo>
                    <a:pt x="144" y="384"/>
                  </a:lnTo>
                  <a:lnTo>
                    <a:pt x="192" y="288"/>
                  </a:lnTo>
                  <a:lnTo>
                    <a:pt x="336" y="288"/>
                  </a:lnTo>
                  <a:lnTo>
                    <a:pt x="384" y="192"/>
                  </a:lnTo>
                  <a:lnTo>
                    <a:pt x="720" y="192"/>
                  </a:lnTo>
                  <a:lnTo>
                    <a:pt x="768" y="96"/>
                  </a:lnTo>
                  <a:lnTo>
                    <a:pt x="1488" y="96"/>
                  </a:lnTo>
                  <a:lnTo>
                    <a:pt x="1536" y="0"/>
                  </a:lnTo>
                  <a:lnTo>
                    <a:pt x="240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BC7-05DC-4298-BB5A-273078E71953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omplexit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interesting algorithms, the exact number of operations is too difficult to analyse mathe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implify the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the fastest-growi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lect slower-growing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lect the constant factor in the fastest-growing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formula is the algorithm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focuses o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th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algorithm’s time requi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795-DEEE-4972-92CD-11AD5A0F4BFB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ep-by-step procedure for solving a st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will be perform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ich may be human, mechanical, or electron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must be express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the processor is capable of perfo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must eventual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B89-2EAE-47EC-AFB5-9F5FD9D98E0E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 : analysis of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simple power algorith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unting multiplic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of multiplicati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aken is approximately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rd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is writt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358-CB4C-4B4D-A766-5AED51A0F8F7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smart power algorithm (counting multiplic’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o. of multiplications 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1911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181620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181620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rd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ritt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56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946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2590920"/>
            <a:ext cx="3581280" cy="380880"/>
          </a:xfrm>
          <a:prstGeom prst="wedgeRectCallout">
            <a:avLst>
              <a:gd name="adj1" fmla="val -54787"/>
              <a:gd name="adj2" fmla="val -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glect slow-growing term, +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3200400"/>
            <a:ext cx="3581280" cy="380880"/>
          </a:xfrm>
          <a:prstGeom prst="wedgeRectCallout">
            <a:avLst>
              <a:gd name="adj1" fmla="val -66490"/>
              <a:gd name="adj2" fmla="val -30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glect constant factor,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3581280" cy="685800"/>
          </a:xfrm>
          <a:prstGeom prst="wedgeRectCallout">
            <a:avLst>
              <a:gd name="adj1" fmla="val -73537"/>
              <a:gd name="adj2" fmla="val -31944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eglect floor(), which on average subtracts 0.5, a constant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 : analysis of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40F-CD43-4349-A14A-C644284D9E8E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123720" y="1676520"/>
            <a:ext cx="4344120" cy="4648320"/>
            <a:chOff x="3123720" y="1676520"/>
            <a:chExt cx="4344120" cy="4648320"/>
          </a:xfrm>
        </p:grpSpPr>
        <p:sp>
          <p:nvSpPr>
            <p:cNvPr id="246" name=""/>
            <p:cNvSpPr/>
            <p:nvPr/>
          </p:nvSpPr>
          <p:spPr>
            <a:xfrm>
              <a:off x="3581280" y="1828800"/>
              <a:ext cx="3810240" cy="38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4000" y="4805280"/>
              <a:ext cx="4510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076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25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140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49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4120" y="60195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3720" y="4748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3720" y="39621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3720" y="3200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3720" y="2438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5320" y="5486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5320" y="5333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5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53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4876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5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4419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532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05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05320" y="35049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5320" y="3047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2590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05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5320" y="2438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53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05320" y="2133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05320" y="1981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39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62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8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11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340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56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0552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8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627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0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6728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940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388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3720" y="1676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29000" y="1828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38200" y="54864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9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38520" y="5805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9152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4960" y="5805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81280" y="56386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581280" y="1828440"/>
            <a:ext cx="3810240" cy="3809880"/>
            <a:chOff x="3581280" y="1828440"/>
            <a:chExt cx="3810240" cy="3809880"/>
          </a:xfrm>
        </p:grpSpPr>
        <p:sp>
          <p:nvSpPr>
            <p:cNvPr id="315" name=""/>
            <p:cNvSpPr/>
            <p:nvPr/>
          </p:nvSpPr>
          <p:spPr>
            <a:xfrm flipV="1">
              <a:off x="3581280" y="1828440"/>
              <a:ext cx="3810240" cy="3809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34320" y="182880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657600" y="4876920"/>
            <a:ext cx="3746520" cy="761400"/>
            <a:chOff x="3657600" y="4876920"/>
            <a:chExt cx="3746520" cy="761400"/>
          </a:xfrm>
        </p:grpSpPr>
        <p:sp>
          <p:nvSpPr>
            <p:cNvPr id="318" name=""/>
            <p:cNvSpPr/>
            <p:nvPr/>
          </p:nvSpPr>
          <p:spPr>
            <a:xfrm>
              <a:off x="6781680" y="487692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57600" y="5168880"/>
              <a:ext cx="3746520" cy="469440"/>
            </a:xfrm>
            <a:custGeom>
              <a:avLst/>
              <a:gdLst/>
              <a:ahLst/>
              <a:rect l="l" t="t" r="r" b="b"/>
              <a:pathLst>
                <a:path w="2360" h="296">
                  <a:moveTo>
                    <a:pt x="0" y="296"/>
                  </a:moveTo>
                  <a:cubicBezTo>
                    <a:pt x="12" y="280"/>
                    <a:pt x="24" y="264"/>
                    <a:pt x="48" y="248"/>
                  </a:cubicBezTo>
                  <a:cubicBezTo>
                    <a:pt x="72" y="232"/>
                    <a:pt x="96" y="216"/>
                    <a:pt x="144" y="200"/>
                  </a:cubicBezTo>
                  <a:cubicBezTo>
                    <a:pt x="192" y="184"/>
                    <a:pt x="240" y="168"/>
                    <a:pt x="336" y="152"/>
                  </a:cubicBezTo>
                  <a:cubicBezTo>
                    <a:pt x="432" y="136"/>
                    <a:pt x="528" y="120"/>
                    <a:pt x="720" y="104"/>
                  </a:cubicBezTo>
                  <a:cubicBezTo>
                    <a:pt x="912" y="88"/>
                    <a:pt x="1215" y="73"/>
                    <a:pt x="1488" y="56"/>
                  </a:cubicBezTo>
                  <a:cubicBezTo>
                    <a:pt x="1761" y="39"/>
                    <a:pt x="2178" y="12"/>
                    <a:pt x="2360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 : analysis of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17C-3AF0-45B0-821C-4D896ABB5020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-notation 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seen th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lgorithm is inherently better tha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lgorithm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ignifies a slower growth rat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eans “of or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growing proportionally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ifies the growth rat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ecting slower-growing terms and constant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857-94A6-4379-AFEC-5085122DDD48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-notation 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time complex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times feasib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b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times 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905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rely fea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3D1-76C3-41FE-8486-67FE1B39135E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Growth rat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growth r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143000" y="2133720"/>
          <a:ext cx="6172200" cy="3200400"/>
        </p:xfrm>
        <a:graphic>
          <a:graphicData uri="http://schemas.openxmlformats.org/drawingml/2006/table">
            <a:tbl>
              <a:tblPr/>
              <a:tblGrid>
                <a:gridCol w="1067040"/>
                <a:gridCol w="1218960"/>
                <a:gridCol w="1295640"/>
                <a:gridCol w="1295280"/>
                <a:gridCol w="1295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tr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0C6-CB6A-4FE4-A9CD-A0A7D640C413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2971800" y="1676520"/>
            <a:ext cx="4496040" cy="4618080"/>
            <a:chOff x="2971800" y="1676520"/>
            <a:chExt cx="4496040" cy="4618080"/>
          </a:xfrm>
        </p:grpSpPr>
        <p:sp>
          <p:nvSpPr>
            <p:cNvPr id="333" name=""/>
            <p:cNvSpPr/>
            <p:nvPr/>
          </p:nvSpPr>
          <p:spPr>
            <a:xfrm>
              <a:off x="3581280" y="1798560"/>
              <a:ext cx="381024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90760" y="5851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520" y="5851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11400" y="5851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14920" y="5851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07880" y="4748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07880" y="3962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07880" y="3200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040" y="553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56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83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06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528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78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00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627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50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6728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22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244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771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940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816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3432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38880" y="5684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13160" y="5257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05320" y="5486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0532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053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2900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290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29000" y="3733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07880" y="2438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29000" y="2209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71800" y="167652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29000" y="1828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8948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8948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8948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948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8948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8948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8948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8948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8948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948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8948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8948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8948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8948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8948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8948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8948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8948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8948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8948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89480" y="3276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8948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948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89480" y="3048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8948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89480" y="2819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8948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8948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8948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89480" y="2438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89480" y="2362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8948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89480" y="2133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8948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89480" y="1981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89480" y="1905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89480" y="1905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520" y="5837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152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5837400"/>
              <a:ext cx="2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5684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5684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09720" y="6019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Growth rat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657600" y="4923000"/>
            <a:ext cx="3746520" cy="761760"/>
            <a:chOff x="3657600" y="4923000"/>
            <a:chExt cx="3746520" cy="761760"/>
          </a:xfrm>
        </p:grpSpPr>
        <p:sp>
          <p:nvSpPr>
            <p:cNvPr id="428" name=""/>
            <p:cNvSpPr/>
            <p:nvPr/>
          </p:nvSpPr>
          <p:spPr>
            <a:xfrm>
              <a:off x="6781680" y="4923000"/>
              <a:ext cx="60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5214960"/>
              <a:ext cx="3746520" cy="469800"/>
            </a:xfrm>
            <a:custGeom>
              <a:avLst/>
              <a:gdLst/>
              <a:ahLst/>
              <a:rect l="l" t="t" r="r" b="b"/>
              <a:pathLst>
                <a:path w="2360" h="296">
                  <a:moveTo>
                    <a:pt x="0" y="296"/>
                  </a:moveTo>
                  <a:cubicBezTo>
                    <a:pt x="12" y="280"/>
                    <a:pt x="24" y="264"/>
                    <a:pt x="48" y="248"/>
                  </a:cubicBezTo>
                  <a:cubicBezTo>
                    <a:pt x="72" y="232"/>
                    <a:pt x="96" y="216"/>
                    <a:pt x="144" y="200"/>
                  </a:cubicBezTo>
                  <a:cubicBezTo>
                    <a:pt x="192" y="184"/>
                    <a:pt x="240" y="168"/>
                    <a:pt x="336" y="152"/>
                  </a:cubicBezTo>
                  <a:cubicBezTo>
                    <a:pt x="432" y="136"/>
                    <a:pt x="528" y="120"/>
                    <a:pt x="720" y="104"/>
                  </a:cubicBezTo>
                  <a:cubicBezTo>
                    <a:pt x="912" y="88"/>
                    <a:pt x="1215" y="73"/>
                    <a:pt x="1488" y="56"/>
                  </a:cubicBezTo>
                  <a:cubicBezTo>
                    <a:pt x="1761" y="39"/>
                    <a:pt x="2178" y="12"/>
                    <a:pt x="2360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81280" y="3551400"/>
            <a:ext cx="3826080" cy="2133000"/>
            <a:chOff x="3581280" y="3551400"/>
            <a:chExt cx="3826080" cy="2133000"/>
          </a:xfrm>
        </p:grpSpPr>
        <p:sp>
          <p:nvSpPr>
            <p:cNvPr id="431" name=""/>
            <p:cNvSpPr/>
            <p:nvPr/>
          </p:nvSpPr>
          <p:spPr>
            <a:xfrm>
              <a:off x="7086600" y="355140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581280" y="3779640"/>
              <a:ext cx="3826080" cy="190476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673440" y="1798560"/>
            <a:ext cx="2498760" cy="3886200"/>
            <a:chOff x="3673440" y="1798560"/>
            <a:chExt cx="2498760" cy="3886200"/>
          </a:xfrm>
        </p:grpSpPr>
        <p:sp>
          <p:nvSpPr>
            <p:cNvPr id="434" name=""/>
            <p:cNvSpPr/>
            <p:nvPr/>
          </p:nvSpPr>
          <p:spPr>
            <a:xfrm>
              <a:off x="3673440" y="1798560"/>
              <a:ext cx="1635120" cy="3886200"/>
            </a:xfrm>
            <a:custGeom>
              <a:avLst/>
              <a:gdLst/>
              <a:ahLst/>
              <a:rect l="l" t="t" r="r" b="b"/>
              <a:pathLst>
                <a:path w="1030" h="2448">
                  <a:moveTo>
                    <a:pt x="0" y="2448"/>
                  </a:moveTo>
                  <a:cubicBezTo>
                    <a:pt x="12" y="2440"/>
                    <a:pt x="24" y="2432"/>
                    <a:pt x="48" y="2400"/>
                  </a:cubicBezTo>
                  <a:cubicBezTo>
                    <a:pt x="72" y="2368"/>
                    <a:pt x="96" y="2344"/>
                    <a:pt x="144" y="2256"/>
                  </a:cubicBezTo>
                  <a:cubicBezTo>
                    <a:pt x="192" y="2168"/>
                    <a:pt x="240" y="2096"/>
                    <a:pt x="336" y="1872"/>
                  </a:cubicBezTo>
                  <a:cubicBezTo>
                    <a:pt x="432" y="1648"/>
                    <a:pt x="604" y="1224"/>
                    <a:pt x="720" y="912"/>
                  </a:cubicBezTo>
                  <a:cubicBezTo>
                    <a:pt x="836" y="600"/>
                    <a:pt x="966" y="190"/>
                    <a:pt x="1030" y="0"/>
                  </a:cubicBezTo>
                </a:path>
              </a:pathLst>
            </a:custGeom>
            <a:noFill/>
            <a:ln w="255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10080" y="179856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log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81280" y="1798560"/>
            <a:ext cx="1067040" cy="3886200"/>
            <a:chOff x="3581280" y="1798560"/>
            <a:chExt cx="1067040" cy="3886200"/>
          </a:xfrm>
        </p:grpSpPr>
        <p:sp>
          <p:nvSpPr>
            <p:cNvPr id="437" name=""/>
            <p:cNvSpPr/>
            <p:nvPr/>
          </p:nvSpPr>
          <p:spPr>
            <a:xfrm>
              <a:off x="4419720" y="17985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1798560"/>
              <a:ext cx="762120" cy="3886200"/>
            </a:xfrm>
            <a:custGeom>
              <a:avLst/>
              <a:gdLst/>
              <a:ahLst/>
              <a:rect l="l" t="t" r="r" b="b"/>
              <a:pathLst>
                <a:path w="480" h="2448">
                  <a:moveTo>
                    <a:pt x="0" y="2448"/>
                  </a:moveTo>
                  <a:cubicBezTo>
                    <a:pt x="32" y="2428"/>
                    <a:pt x="64" y="2408"/>
                    <a:pt x="96" y="2352"/>
                  </a:cubicBezTo>
                  <a:cubicBezTo>
                    <a:pt x="128" y="2296"/>
                    <a:pt x="160" y="2224"/>
                    <a:pt x="192" y="2112"/>
                  </a:cubicBezTo>
                  <a:cubicBezTo>
                    <a:pt x="224" y="2000"/>
                    <a:pt x="256" y="1880"/>
                    <a:pt x="288" y="1680"/>
                  </a:cubicBezTo>
                  <a:cubicBezTo>
                    <a:pt x="320" y="1480"/>
                    <a:pt x="352" y="1192"/>
                    <a:pt x="384" y="912"/>
                  </a:cubicBezTo>
                  <a:cubicBezTo>
                    <a:pt x="416" y="632"/>
                    <a:pt x="448" y="316"/>
                    <a:pt x="480" y="0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673440" y="1798560"/>
            <a:ext cx="441360" cy="3810240"/>
            <a:chOff x="3673440" y="1798560"/>
            <a:chExt cx="441360" cy="3810240"/>
          </a:xfrm>
        </p:grpSpPr>
        <p:sp>
          <p:nvSpPr>
            <p:cNvPr id="440" name=""/>
            <p:cNvSpPr/>
            <p:nvPr/>
          </p:nvSpPr>
          <p:spPr>
            <a:xfrm>
              <a:off x="3673440" y="1798560"/>
              <a:ext cx="441360" cy="3810240"/>
            </a:xfrm>
            <a:custGeom>
              <a:avLst/>
              <a:gdLst/>
              <a:ahLst/>
              <a:rect l="l" t="t" r="r" b="b"/>
              <a:pathLst>
                <a:path w="278" h="2400">
                  <a:moveTo>
                    <a:pt x="0" y="2400"/>
                  </a:moveTo>
                  <a:cubicBezTo>
                    <a:pt x="16" y="2388"/>
                    <a:pt x="32" y="2376"/>
                    <a:pt x="48" y="2352"/>
                  </a:cubicBezTo>
                  <a:cubicBezTo>
                    <a:pt x="64" y="2328"/>
                    <a:pt x="80" y="2296"/>
                    <a:pt x="96" y="2256"/>
                  </a:cubicBezTo>
                  <a:cubicBezTo>
                    <a:pt x="112" y="2216"/>
                    <a:pt x="128" y="2208"/>
                    <a:pt x="144" y="2112"/>
                  </a:cubicBezTo>
                  <a:cubicBezTo>
                    <a:pt x="160" y="2016"/>
                    <a:pt x="176" y="1880"/>
                    <a:pt x="192" y="1680"/>
                  </a:cubicBezTo>
                  <a:cubicBezTo>
                    <a:pt x="208" y="1480"/>
                    <a:pt x="226" y="1192"/>
                    <a:pt x="240" y="912"/>
                  </a:cubicBezTo>
                  <a:cubicBezTo>
                    <a:pt x="254" y="632"/>
                    <a:pt x="270" y="190"/>
                    <a:pt x="278" y="0"/>
                  </a:cubicBezTo>
                </a:path>
              </a:pathLst>
            </a:custGeom>
            <a:noFill/>
            <a:ln w="255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25720" y="17985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24C-F0AC-4160-9C40-EB6E5FE5ADF8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growth rat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238560"/>
                <a:tab algn="r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problem that requ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items to be pro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3238560"/>
                <a:tab algn="r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everal competing algorithms to solve this problem. Suppose that their time requirements on a particular processor are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3238560"/>
                <a:tab algn="r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Lo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Li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LogLi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Qu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Cu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Ex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EB7-4171-45D0-8F76-C74D0AC12F36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228600" y="2590920"/>
            <a:ext cx="8686800" cy="3201120"/>
            <a:chOff x="228600" y="2590920"/>
            <a:chExt cx="8686800" cy="3201120"/>
          </a:xfrm>
        </p:grpSpPr>
        <p:sp>
          <p:nvSpPr>
            <p:cNvPr id="447" name=""/>
            <p:cNvSpPr/>
            <p:nvPr/>
          </p:nvSpPr>
          <p:spPr>
            <a:xfrm>
              <a:off x="1067040" y="2590920"/>
              <a:ext cx="761976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8600" y="26672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8600" y="31244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" y="3581640"/>
              <a:ext cx="762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g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8600" y="40388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Qu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44960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8600" y="495324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28800" y="2590920"/>
              <a:ext cx="6095880" cy="2742840"/>
              <a:chOff x="1828800" y="2590920"/>
              <a:chExt cx="6095880" cy="2742840"/>
            </a:xfrm>
          </p:grpSpPr>
          <p:sp>
            <p:nvSpPr>
              <p:cNvPr id="455" name=""/>
              <p:cNvSpPr/>
              <p:nvPr/>
            </p:nvSpPr>
            <p:spPr>
              <a:xfrm>
                <a:off x="182880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9056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5268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1480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7656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3868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0080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256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24680" y="2590920"/>
                <a:ext cx="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 flipV="1">
              <a:off x="106704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5909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5304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11480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8769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63904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40080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1629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92504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868680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9848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6024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1912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2264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6244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2420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308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8624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26040" y="53643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53643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360" y="5364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467840" y="4648320"/>
              <a:ext cx="914400" cy="533160"/>
              <a:chOff x="7467840" y="4648320"/>
              <a:chExt cx="914400" cy="533160"/>
            </a:xfrm>
          </p:grpSpPr>
          <p:sp>
            <p:nvSpPr>
              <p:cNvPr id="487" name=""/>
              <p:cNvSpPr/>
              <p:nvPr/>
            </p:nvSpPr>
            <p:spPr>
              <a:xfrm>
                <a:off x="7467840" y="47242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467840" y="49528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544160" y="464832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20480" y="472428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306280" y="47242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306280" y="49528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105520" y="5486760"/>
              <a:ext cx="22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66680" y="2743200"/>
            <a:ext cx="7315200" cy="2438280"/>
            <a:chOff x="1066680" y="2743200"/>
            <a:chExt cx="7315200" cy="2438280"/>
          </a:xfrm>
        </p:grpSpPr>
        <p:sp>
          <p:nvSpPr>
            <p:cNvPr id="495" name=""/>
            <p:cNvSpPr/>
            <p:nvPr/>
          </p:nvSpPr>
          <p:spPr>
            <a:xfrm>
              <a:off x="1066680" y="4572000"/>
              <a:ext cx="7621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66680" y="3200400"/>
              <a:ext cx="76212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6680" y="3657600"/>
              <a:ext cx="76212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6680" y="4114800"/>
              <a:ext cx="76212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2743200"/>
              <a:ext cx="76212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6680" y="5029200"/>
              <a:ext cx="7621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47242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67480" y="49528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43800" y="4648320"/>
              <a:ext cx="76176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9760" y="472428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0: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05560" y="47242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05560" y="49528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growth rat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how many data item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ach algorithm can process in 1, 2, …, 10 seco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510" name=""/>
            <p:cNvSpPr/>
            <p:nvPr/>
          </p:nvSpPr>
          <p:spPr>
            <a:xfrm>
              <a:off x="1066680" y="4572000"/>
              <a:ext cx="91440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66680" y="3200400"/>
              <a:ext cx="15242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66680" y="3657600"/>
              <a:ext cx="121932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66680" y="4114800"/>
              <a:ext cx="106704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15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066680" y="5029200"/>
              <a:ext cx="8384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7480" y="47242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67480" y="49528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43800" y="4648320"/>
              <a:ext cx="76212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20120" y="4724280"/>
              <a:ext cx="62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0: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05920" y="4724280"/>
              <a:ext cx="75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05920" y="4952880"/>
              <a:ext cx="75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526" name=""/>
            <p:cNvSpPr/>
            <p:nvPr/>
          </p:nvSpPr>
          <p:spPr>
            <a:xfrm>
              <a:off x="1066680" y="4572000"/>
              <a:ext cx="106668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66680" y="3200400"/>
              <a:ext cx="22860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66680" y="3657600"/>
              <a:ext cx="167616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66680" y="4114800"/>
              <a:ext cx="129528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31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1066680" y="5029200"/>
              <a:ext cx="8380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67480" y="4724280"/>
              <a:ext cx="75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67480" y="4952880"/>
              <a:ext cx="75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43440" y="4648320"/>
              <a:ext cx="76212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19760" y="4724280"/>
              <a:ext cx="62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0: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05560" y="47242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05560" y="4952880"/>
              <a:ext cx="76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542" name=""/>
            <p:cNvSpPr/>
            <p:nvPr/>
          </p:nvSpPr>
          <p:spPr>
            <a:xfrm>
              <a:off x="1066680" y="4572000"/>
              <a:ext cx="114300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66680" y="3200400"/>
              <a:ext cx="304812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66680" y="3657600"/>
              <a:ext cx="205740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66680" y="4114800"/>
              <a:ext cx="152388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47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066680" y="502920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467480" y="4648320"/>
              <a:ext cx="914400" cy="533160"/>
              <a:chOff x="7467480" y="4648320"/>
              <a:chExt cx="914400" cy="533160"/>
            </a:xfrm>
          </p:grpSpPr>
          <p:sp>
            <p:nvSpPr>
              <p:cNvPr id="552" name=""/>
              <p:cNvSpPr/>
              <p:nvPr/>
            </p:nvSpPr>
            <p:spPr>
              <a:xfrm>
                <a:off x="7467480" y="47242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467480" y="49528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43800" y="464832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20120" y="472428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5920" y="47242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05920" y="49528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559" name=""/>
            <p:cNvSpPr/>
            <p:nvPr/>
          </p:nvSpPr>
          <p:spPr>
            <a:xfrm>
              <a:off x="1066680" y="4572000"/>
              <a:ext cx="129564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66680" y="3200400"/>
              <a:ext cx="38102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66680" y="3657600"/>
              <a:ext cx="251460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66680" y="4114800"/>
              <a:ext cx="167652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64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066680" y="502920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28800" y="3581280"/>
              <a:ext cx="393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7467480" y="4648320"/>
              <a:ext cx="914400" cy="533160"/>
              <a:chOff x="7467480" y="4648320"/>
              <a:chExt cx="914400" cy="533160"/>
            </a:xfrm>
          </p:grpSpPr>
          <p:sp>
            <p:nvSpPr>
              <p:cNvPr id="570" name=""/>
              <p:cNvSpPr/>
              <p:nvPr/>
            </p:nvSpPr>
            <p:spPr>
              <a:xfrm>
                <a:off x="7467480" y="47242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467480" y="49528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43800" y="464832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20120" y="472428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305920" y="47242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305920" y="49528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1066680" y="2743200"/>
            <a:ext cx="7924680" cy="2437920"/>
            <a:chOff x="1066680" y="2743200"/>
            <a:chExt cx="7924680" cy="2437920"/>
          </a:xfrm>
        </p:grpSpPr>
        <p:sp>
          <p:nvSpPr>
            <p:cNvPr id="577" name=""/>
            <p:cNvSpPr/>
            <p:nvPr/>
          </p:nvSpPr>
          <p:spPr>
            <a:xfrm>
              <a:off x="1066680" y="4571640"/>
              <a:ext cx="137160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66680" y="3200040"/>
              <a:ext cx="45720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66680" y="3657240"/>
              <a:ext cx="289584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66680" y="4114440"/>
              <a:ext cx="182880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82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066680" y="502884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7467480" y="4647960"/>
              <a:ext cx="914400" cy="533160"/>
              <a:chOff x="7467480" y="4647960"/>
              <a:chExt cx="914400" cy="533160"/>
            </a:xfrm>
          </p:grpSpPr>
          <p:sp>
            <p:nvSpPr>
              <p:cNvPr id="587" name=""/>
              <p:cNvSpPr/>
              <p:nvPr/>
            </p:nvSpPr>
            <p:spPr>
              <a:xfrm>
                <a:off x="7467480" y="47239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67480" y="49525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43800" y="464796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20120" y="472392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05920" y="47239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305920" y="49525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1066680" y="2743200"/>
            <a:ext cx="7924680" cy="2437920"/>
            <a:chOff x="1066680" y="2743200"/>
            <a:chExt cx="7924680" cy="2437920"/>
          </a:xfrm>
        </p:grpSpPr>
        <p:sp>
          <p:nvSpPr>
            <p:cNvPr id="594" name=""/>
            <p:cNvSpPr/>
            <p:nvPr/>
          </p:nvSpPr>
          <p:spPr>
            <a:xfrm>
              <a:off x="1066680" y="4571640"/>
              <a:ext cx="14475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66680" y="3200040"/>
              <a:ext cx="533376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66680" y="3657240"/>
              <a:ext cx="33526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66680" y="4114440"/>
              <a:ext cx="198108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599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1066680" y="502884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467480" y="4647960"/>
              <a:ext cx="914400" cy="533160"/>
              <a:chOff x="7467480" y="4647960"/>
              <a:chExt cx="914400" cy="533160"/>
            </a:xfrm>
          </p:grpSpPr>
          <p:sp>
            <p:nvSpPr>
              <p:cNvPr id="604" name=""/>
              <p:cNvSpPr/>
              <p:nvPr/>
            </p:nvSpPr>
            <p:spPr>
              <a:xfrm>
                <a:off x="7467480" y="47239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67480" y="49525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43800" y="464796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620120" y="472392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05920" y="47239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305920" y="49525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0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611" name=""/>
            <p:cNvSpPr/>
            <p:nvPr/>
          </p:nvSpPr>
          <p:spPr>
            <a:xfrm>
              <a:off x="1066680" y="4572000"/>
              <a:ext cx="152388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66680" y="3200400"/>
              <a:ext cx="60958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3657600"/>
              <a:ext cx="35812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680" y="4114800"/>
              <a:ext cx="213336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616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066680" y="5029200"/>
              <a:ext cx="9903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467480" y="4647960"/>
              <a:ext cx="914400" cy="533160"/>
              <a:chOff x="7467480" y="4647960"/>
              <a:chExt cx="914400" cy="533160"/>
            </a:xfrm>
          </p:grpSpPr>
          <p:sp>
            <p:nvSpPr>
              <p:cNvPr id="621" name=""/>
              <p:cNvSpPr/>
              <p:nvPr/>
            </p:nvSpPr>
            <p:spPr>
              <a:xfrm>
                <a:off x="7467480" y="47239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467480" y="49525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43800" y="464796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20120" y="472392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305920" y="47239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05920" y="49525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1066680" y="2743200"/>
            <a:ext cx="7924680" cy="2437920"/>
            <a:chOff x="1066680" y="2743200"/>
            <a:chExt cx="7924680" cy="2437920"/>
          </a:xfrm>
        </p:grpSpPr>
        <p:sp>
          <p:nvSpPr>
            <p:cNvPr id="628" name=""/>
            <p:cNvSpPr/>
            <p:nvPr/>
          </p:nvSpPr>
          <p:spPr>
            <a:xfrm>
              <a:off x="1066680" y="4571640"/>
              <a:ext cx="152388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66680" y="3200040"/>
              <a:ext cx="68580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6680" y="3657240"/>
              <a:ext cx="396216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66680" y="4114440"/>
              <a:ext cx="228600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633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066680" y="5028840"/>
              <a:ext cx="9903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7467480" y="4647960"/>
              <a:ext cx="914400" cy="533160"/>
              <a:chOff x="7467480" y="4647960"/>
              <a:chExt cx="914400" cy="533160"/>
            </a:xfrm>
          </p:grpSpPr>
          <p:sp>
            <p:nvSpPr>
              <p:cNvPr id="638" name=""/>
              <p:cNvSpPr/>
              <p:nvPr/>
            </p:nvSpPr>
            <p:spPr>
              <a:xfrm>
                <a:off x="7467480" y="47239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67480" y="495252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43800" y="464796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20120" y="472392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0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305920" y="47239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305920" y="495252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1066680" y="2743200"/>
            <a:ext cx="7924680" cy="2438280"/>
            <a:chOff x="1066680" y="2743200"/>
            <a:chExt cx="7924680" cy="2438280"/>
          </a:xfrm>
        </p:grpSpPr>
        <p:sp>
          <p:nvSpPr>
            <p:cNvPr id="645" name=""/>
            <p:cNvSpPr/>
            <p:nvPr/>
          </p:nvSpPr>
          <p:spPr>
            <a:xfrm>
              <a:off x="1066680" y="4572000"/>
              <a:ext cx="160020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66680" y="3200400"/>
              <a:ext cx="762012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66680" y="3657600"/>
              <a:ext cx="434340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66680" y="4114800"/>
              <a:ext cx="2362320" cy="1522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1066680" y="2743200"/>
              <a:ext cx="7924680" cy="152280"/>
              <a:chOff x="1066680" y="2743200"/>
              <a:chExt cx="792468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1066680" y="2743200"/>
                <a:ext cx="76201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2760" y="2743200"/>
                <a:ext cx="7632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915400" y="2743200"/>
                <a:ext cx="7596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1066680" y="5029200"/>
              <a:ext cx="9907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7467480" y="4648320"/>
              <a:ext cx="914400" cy="533160"/>
              <a:chOff x="7467480" y="4648320"/>
              <a:chExt cx="914400" cy="533160"/>
            </a:xfrm>
          </p:grpSpPr>
          <p:sp>
            <p:nvSpPr>
              <p:cNvPr id="655" name=""/>
              <p:cNvSpPr/>
              <p:nvPr/>
            </p:nvSpPr>
            <p:spPr>
              <a:xfrm>
                <a:off x="7467480" y="47242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67480" y="4952880"/>
                <a:ext cx="763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543800" y="4648320"/>
                <a:ext cx="7621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20120" y="4724280"/>
                <a:ext cx="625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0: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305920" y="47242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305920" y="4952880"/>
                <a:ext cx="759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25E-EA33-4BB7-9664-3564F503B8E0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66"/>
                </a:solidFill>
                <a:latin typeface="Times New Roman"/>
              </a:rPr>
              <a:t>Recurs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ne expressed in terms of itself. In other words, at least one step of a recursive algorithm is a “call” to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ne that call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BF8-EFD3-4E1E-B64C-48716FC7EDE1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must be expressed in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the processor “understands”. (But the underlying procedure is independent of the particular language chose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d problem must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.e., capable of solution by a step-by-step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59F-D702-4833-88F9-A6A8F977ED63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66"/>
                </a:solidFill>
                <a:latin typeface="Times New Roman"/>
              </a:rPr>
              <a:t>When should recursion be used?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an algorithm can be expressed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r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ursion. The recursive version tends to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legant and easier to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icient (extra calls consume time and spa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an algorithm can be express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recu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ECB-2EBD-48E0-806A-BC77C5BA67C7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When does recursion work?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recursive algorithm, how can we sure that it termin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“easy”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“hard” c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 “easy” case, the algorithm must give a direct answer without call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“hard” case, the algorithm may call itself, but only to deal with an “easier”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823-65DF-46D5-8A3E-9DFA6FA2D768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recursive pow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1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10080" y="3962520"/>
            <a:ext cx="3124440" cy="380880"/>
          </a:xfrm>
          <a:prstGeom prst="wedgeRectCallout">
            <a:avLst>
              <a:gd name="adj1" fmla="val -142884"/>
              <a:gd name="adj2" fmla="val 2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Easy case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solved di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10080" y="4495680"/>
            <a:ext cx="3124440" cy="990720"/>
          </a:xfrm>
          <a:prstGeom prst="wedgeRectCallout">
            <a:avLst>
              <a:gd name="adj1" fmla="val -142481"/>
              <a:gd name="adj2" fmla="val -12819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ard case: solved by comput-ing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–1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, which is easier since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1 is closer than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to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65B-CCD0-4D44-A665-6498FAB2E26D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w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n-negativ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 == 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* </a:t>
            </a:r>
            <a:r>
              <a:rPr b="0" lang="en-US" sz="20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wer(b, n-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636-6DE6-4F4C-B5E0-A008A369E4C2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recursiv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all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discards the remainder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D4F-C952-4CC0-B41E-623E024CC3A5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recursive power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1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v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d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2514600"/>
            <a:ext cx="3200400" cy="380880"/>
          </a:xfrm>
          <a:prstGeom prst="wedgeRectCallout">
            <a:avLst>
              <a:gd name="adj1" fmla="val -134324"/>
              <a:gd name="adj2" fmla="val 4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Easy case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solved di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34120" y="3124080"/>
            <a:ext cx="3200400" cy="914400"/>
          </a:xfrm>
          <a:prstGeom prst="wedgeRectCallout">
            <a:avLst>
              <a:gd name="adj1" fmla="val -134324"/>
              <a:gd name="adj2" fmla="val -1111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ard case: solved b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mput-ing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/2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, which is easier since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2 is closer than 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to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71C-627C-4437-A682-B1F2F7F6D2E6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w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n-negativ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 == 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 = </a:t>
            </a:r>
            <a:r>
              <a:rPr b="0" lang="en-US" sz="20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wer(b, n/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 % 2 == 0)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 * 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* p * 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E27-F0CE-45DC-9CFE-F060B1B3B475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(counting multiplic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ecursive power algorithm performs the same number of multiplications as the corresponding non-recursive algorithm. So their time complexities are the s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676520" y="3505320"/>
          <a:ext cx="6095880" cy="130968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167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recu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power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rt power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56A-A81D-4C0C-BC80-6E1AEC279C2F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cursive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power algorith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7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(spa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n-recursive power algorithms use constant space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cursive algorithm uses extra space for each recursive call. The simple recursive power algorithm calls itsel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s before returning, whereas the smart recursive power algorithm calls itself floor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600200" y="4648320"/>
          <a:ext cx="6095880" cy="130968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167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recu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power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rt power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781-18D0-44DA-A2E5-B985C04770DC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 rendering integer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lue means computing a string representation of it (suitable for printing or displa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Render a given inte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n the range 2…10)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438280" y="3657600"/>
          <a:ext cx="4114800" cy="2286000"/>
        </p:xfrm>
        <a:graphic>
          <a:graphicData uri="http://schemas.openxmlformats.org/drawingml/2006/table">
            <a:tbl>
              <a:tblPr/>
              <a:tblGrid>
                <a:gridCol w="1218960"/>
                <a:gridCol w="1295640"/>
                <a:gridCol w="1600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d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1368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70B-8E3F-46F7-9719-496160DAC3A4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fficienc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several algorithms to solve the same problem, which algorithm is “best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n algorithm, is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se it at all? In other words, is it efficient enough to be usable in prac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the algorithm requ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mory) does the algorithm requ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both time and space requirements depend on the algorithm’s input (typically the “size” of the inpu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931-06F3-472C-9AF9-C2DC9FB8B42B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 rendering integer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ve integer rendering algorith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nder the integ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 the character ‘–’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nder (–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 to the base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digit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 the charac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digit corresponding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nder 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 to the base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 the charac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4419720"/>
            <a:ext cx="2819520" cy="990360"/>
          </a:xfrm>
          <a:prstGeom prst="wedgeRectCallout">
            <a:avLst>
              <a:gd name="adj1" fmla="val -167342"/>
              <a:gd name="adj2" fmla="val -2179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ard case: solved b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ndering (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, which has one fewer digit than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733920"/>
            <a:ext cx="2819520" cy="380880"/>
          </a:xfrm>
          <a:prstGeom prst="wedgeRectCallout">
            <a:avLst>
              <a:gd name="adj1" fmla="val -153208"/>
              <a:gd name="adj2" fmla="val -3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Easy case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solved di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2514600"/>
            <a:ext cx="2819520" cy="990720"/>
          </a:xfrm>
          <a:prstGeom prst="wedgeRectCallout">
            <a:avLst>
              <a:gd name="adj1" fmla="val -167342"/>
              <a:gd name="adj2" fmla="val -1410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ard case: solved by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ndering (–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, which is unsigned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9E3-A26E-42A9-B44F-84D3ECDBB921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 rendering integer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-3351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ring rend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b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n the range 2…1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 = ""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0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'-';  s += </a:t>
            </a:r>
            <a:r>
              <a:rPr b="0" lang="en-US" sz="20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render(-i, 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 &lt; r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 =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('0' + 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d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 =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('0' + i%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0" lang="en-US" sz="20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render(i/r, 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s += 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133-B6A6-4E93-8AAB-17479DC4571A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Towers of Hanoi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vertical poles (1, 2, 3) are mounted on a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 of differently-sized disks are threaded on to pole 1, forming a tower with the largest disk at the bottom and the smallest disk at the t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y m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k at a time, from any pole to any other pole, but we must never place a larger disk on top of a smaller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Move the tower of disks from pole 1 to pole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243-8C58-4D06-92CB-5C4B0AA25204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Towers of Hanoi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with 2 disk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143000" y="2133720"/>
            <a:ext cx="4724280" cy="1904760"/>
            <a:chOff x="1143000" y="2133720"/>
            <a:chExt cx="4724280" cy="1904760"/>
          </a:xfrm>
        </p:grpSpPr>
        <p:sp>
          <p:nvSpPr>
            <p:cNvPr id="717" name=""/>
            <p:cNvSpPr/>
            <p:nvPr/>
          </p:nvSpPr>
          <p:spPr>
            <a:xfrm>
              <a:off x="1143000" y="2133720"/>
              <a:ext cx="472428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23880" y="3352680"/>
              <a:ext cx="1219320" cy="151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52480" y="3657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00200" y="320004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57400" y="236196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236196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00600" y="236196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71600" y="3504960"/>
              <a:ext cx="426708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33800" y="3657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05400" y="3657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143000" y="2133720"/>
            <a:ext cx="4724280" cy="1904760"/>
            <a:chOff x="1143000" y="2133720"/>
            <a:chExt cx="4724280" cy="1904760"/>
          </a:xfrm>
        </p:grpSpPr>
        <p:sp>
          <p:nvSpPr>
            <p:cNvPr id="728" name=""/>
            <p:cNvSpPr/>
            <p:nvPr/>
          </p:nvSpPr>
          <p:spPr>
            <a:xfrm>
              <a:off x="1143000" y="2133720"/>
              <a:ext cx="472428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23880" y="3352680"/>
              <a:ext cx="1219320" cy="152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52480" y="365760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3352680"/>
              <a:ext cx="10666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574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290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006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71600" y="3505320"/>
              <a:ext cx="42670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33800" y="365760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05400" y="365760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143000" y="2133720"/>
            <a:ext cx="4724280" cy="1904760"/>
            <a:chOff x="1143000" y="2133720"/>
            <a:chExt cx="4724280" cy="1904760"/>
          </a:xfrm>
        </p:grpSpPr>
        <p:sp>
          <p:nvSpPr>
            <p:cNvPr id="739" name=""/>
            <p:cNvSpPr/>
            <p:nvPr/>
          </p:nvSpPr>
          <p:spPr>
            <a:xfrm>
              <a:off x="1143000" y="2133720"/>
              <a:ext cx="472428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95480" y="3352680"/>
              <a:ext cx="1219320" cy="152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480" y="365760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43400" y="3352680"/>
              <a:ext cx="10666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74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290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006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71600" y="3505320"/>
              <a:ext cx="42670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33440" y="365760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05040" y="365760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143000" y="2133720"/>
            <a:ext cx="4724280" cy="1904760"/>
            <a:chOff x="1143000" y="2133720"/>
            <a:chExt cx="4724280" cy="1904760"/>
          </a:xfrm>
        </p:grpSpPr>
        <p:sp>
          <p:nvSpPr>
            <p:cNvPr id="750" name=""/>
            <p:cNvSpPr/>
            <p:nvPr/>
          </p:nvSpPr>
          <p:spPr>
            <a:xfrm>
              <a:off x="1143000" y="2133720"/>
              <a:ext cx="472428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95480" y="3352680"/>
              <a:ext cx="1219320" cy="1526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52480" y="365760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1800" y="320040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574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00600" y="2362320"/>
              <a:ext cx="1522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71600" y="3505320"/>
              <a:ext cx="42670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33800" y="365760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05400" y="365760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F19-A117-4A0C-85D5-85FE72326045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Towers of Hanoi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ers of Hanoi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ve a towe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ks from po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o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a single disk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remaining pole, oth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ove a tower of 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1) disks from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urce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are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a single disk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ove a tower of 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1) disks from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are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st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14C-697C-4D67-BB3F-D6DA0E771A45}" type="slidenum">
              <a:t>44</a:t>
            </a:fld>
          </a:p>
        </p:txBody>
      </p:sp>
    </p:spTree>
  </p:cSld>
  <p:transition>
    <p:cover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765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720" y="2209680"/>
              <a:ext cx="693396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19520" y="609588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1800" y="5029200"/>
              <a:ext cx="45720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9520" y="5334120"/>
              <a:ext cx="76176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66880" y="5638680"/>
              <a:ext cx="106704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43200" y="5486400"/>
              <a:ext cx="9144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95480" y="5181480"/>
              <a:ext cx="609840" cy="152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95680" y="4800600"/>
              <a:ext cx="152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4800600"/>
              <a:ext cx="152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00480" y="609588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90920" y="5791320"/>
              <a:ext cx="121896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4080" y="4800600"/>
              <a:ext cx="152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38280" y="5943600"/>
              <a:ext cx="42674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780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90360" y="2210040"/>
              <a:ext cx="69343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19160" y="6096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71800" y="5029200"/>
              <a:ext cx="457200" cy="152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19160" y="5334120"/>
              <a:ext cx="76212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66880" y="563904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43200" y="5486400"/>
              <a:ext cx="91440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95480" y="5181840"/>
              <a:ext cx="6094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956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672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0048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8144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90560" y="5791320"/>
              <a:ext cx="121932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240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38280" y="5943600"/>
              <a:ext cx="4267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Towers of Hanoi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 (with 6 disk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798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90360" y="2210040"/>
              <a:ext cx="69343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160" y="6096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715000" y="5181840"/>
              <a:ext cx="45720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62360" y="5486400"/>
              <a:ext cx="76212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10080" y="579132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86400" y="5639040"/>
              <a:ext cx="9144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38680" y="5334120"/>
              <a:ext cx="6094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956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672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0048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8144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90560" y="5791320"/>
              <a:ext cx="121932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240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38280" y="5943600"/>
              <a:ext cx="4267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814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90360" y="2210040"/>
              <a:ext cx="69343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19160" y="6096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15000" y="5181840"/>
              <a:ext cx="45720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62360" y="5486400"/>
              <a:ext cx="76212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10080" y="579132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86400" y="5639040"/>
              <a:ext cx="91440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638680" y="5334120"/>
              <a:ext cx="6094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240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672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0048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8144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962160" y="5791320"/>
              <a:ext cx="121932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38280" y="5943600"/>
              <a:ext cx="4267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830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360" y="2210040"/>
              <a:ext cx="69343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19160" y="6096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43400" y="5029200"/>
              <a:ext cx="457200" cy="152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90760" y="5334120"/>
              <a:ext cx="76212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38480" y="563904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5486400"/>
              <a:ext cx="91440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67080" y="5181840"/>
              <a:ext cx="6094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72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0048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8144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62160" y="5791320"/>
              <a:ext cx="121932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956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8280" y="5943600"/>
              <a:ext cx="4267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914400" y="2133720"/>
            <a:ext cx="7086600" cy="4343400"/>
            <a:chOff x="914400" y="2133720"/>
            <a:chExt cx="7086600" cy="4343400"/>
          </a:xfrm>
        </p:grpSpPr>
        <p:sp>
          <p:nvSpPr>
            <p:cNvPr id="846" name=""/>
            <p:cNvSpPr/>
            <p:nvPr/>
          </p:nvSpPr>
          <p:spPr>
            <a:xfrm>
              <a:off x="914400" y="2133720"/>
              <a:ext cx="7086600" cy="4343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90360" y="2210040"/>
              <a:ext cx="69343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29196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1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 the remaining pole, other tha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single disk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ve a tower of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1) disk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a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ermin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819160" y="6096240"/>
              <a:ext cx="75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3400" y="5029200"/>
              <a:ext cx="457200" cy="152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0760" y="5334120"/>
              <a:ext cx="76212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38480" y="5639040"/>
              <a:ext cx="10666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14800" y="5486400"/>
              <a:ext cx="91440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67080" y="5181840"/>
              <a:ext cx="60948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240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672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0048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81440" y="6096240"/>
              <a:ext cx="7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62160" y="5791320"/>
              <a:ext cx="1219320" cy="1522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95680" y="4800600"/>
              <a:ext cx="1522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38280" y="5943600"/>
              <a:ext cx="4267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D4F-E071-4BF9-9C30-7EB150FB4AC4}" type="slidenum">
              <a:t>45</a:t>
            </a:fld>
          </a:p>
        </p:txBody>
      </p:sp>
    </p:spTree>
  </p:cSld>
  <p:transition>
    <p:cover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Example: Towers of Hanoi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(counting mov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no. of moves required to move a tow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ks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 1 +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C8D-6FF2-48A9-9CDB-B78F0B3C8FE4}" type="slidenum">
              <a:t>46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efficiency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tical profile of two sorti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15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B’s time grows more slowly than A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47920" y="2057400"/>
            <a:ext cx="6553080" cy="3505680"/>
            <a:chOff x="1447920" y="2057400"/>
            <a:chExt cx="6553080" cy="3505680"/>
          </a:xfrm>
        </p:grpSpPr>
        <p:sp>
          <p:nvSpPr>
            <p:cNvPr id="60" name=""/>
            <p:cNvSpPr/>
            <p:nvPr/>
          </p:nvSpPr>
          <p:spPr>
            <a:xfrm>
              <a:off x="2359080" y="2210040"/>
              <a:ext cx="5562720" cy="30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25960" y="5257800"/>
              <a:ext cx="207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tems to be sorted,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55600" y="5257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3800" y="431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3800" y="35496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3800" y="2787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7920" y="3353040"/>
              <a:ext cx="477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me (m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22160" y="2292480"/>
              <a:ext cx="48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Ke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26120" y="3178440"/>
              <a:ext cx="150840" cy="2998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4280" y="27496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lgorithm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6120" y="2730600"/>
              <a:ext cx="150840" cy="29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45000" y="3194280"/>
              <a:ext cx="1296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lgorithm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15640" y="513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2760" y="5073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2760" y="4921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2760" y="4768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2760" y="4616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82760" y="4311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2760" y="41594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2760" y="4006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2760" y="3854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2760" y="35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2760" y="3397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2760" y="3245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2760" y="3092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6800" y="4464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6800" y="3702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6800" y="2940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2760" y="2787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2760" y="2635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2600" y="5105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4880" y="5029200"/>
              <a:ext cx="152280" cy="2286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2519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1320" y="2367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5000" y="2214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3800" y="20574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6800" y="5257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54360" y="4648320"/>
            <a:ext cx="304920" cy="882360"/>
            <a:chOff x="3654360" y="4648320"/>
            <a:chExt cx="304920" cy="882360"/>
          </a:xfrm>
        </p:grpSpPr>
        <p:sp>
          <p:nvSpPr>
            <p:cNvPr id="98" name=""/>
            <p:cNvSpPr/>
            <p:nvPr/>
          </p:nvSpPr>
          <p:spPr>
            <a:xfrm>
              <a:off x="3729960" y="52560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4360" y="4648320"/>
              <a:ext cx="152280" cy="609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6640" y="4724280"/>
              <a:ext cx="152280" cy="5331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16480" y="3886200"/>
            <a:ext cx="304920" cy="1643040"/>
            <a:chOff x="4416480" y="3886200"/>
            <a:chExt cx="304920" cy="1643040"/>
          </a:xfrm>
        </p:grpSpPr>
        <p:sp>
          <p:nvSpPr>
            <p:cNvPr id="102" name=""/>
            <p:cNvSpPr/>
            <p:nvPr/>
          </p:nvSpPr>
          <p:spPr>
            <a:xfrm>
              <a:off x="4443120" y="5254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6480" y="3886200"/>
              <a:ext cx="152640" cy="1371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9120" y="4343400"/>
              <a:ext cx="15228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78600" y="2819520"/>
            <a:ext cx="304200" cy="2709720"/>
            <a:chOff x="5178600" y="2819520"/>
            <a:chExt cx="304200" cy="2709720"/>
          </a:xfrm>
        </p:grpSpPr>
        <p:sp>
          <p:nvSpPr>
            <p:cNvPr id="106" name=""/>
            <p:cNvSpPr/>
            <p:nvPr/>
          </p:nvSpPr>
          <p:spPr>
            <a:xfrm>
              <a:off x="5189040" y="5254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8600" y="2819520"/>
              <a:ext cx="151920" cy="2438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0520" y="3962160"/>
              <a:ext cx="152280" cy="1295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E33-B90D-4391-A296-655220A64E69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fficiency: measuring time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time in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useful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language, compiler, and proces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algorithm ste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epend on compiler or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granularity of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(e.g., arithmetic ops in math algorithms, comparisons in searching algorith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ly on the algorithm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s the algorithm’s intrinsic effici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27E-6615-44D6-AD02-9E0F7F405BAA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dial Mathematics</a:t>
            </a:r>
            <a:br>
              <a:rPr sz="2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ower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pow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ritt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multipl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p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999-2AC6-43DF-9793-955D201AD544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848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dial Mathematics</a:t>
            </a:r>
            <a:br>
              <a:rPr sz="2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Logarithm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positive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arithm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base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ritt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number of copies of 2 that must be multiplied together to equ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14300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wer of 2,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te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276720"/>
            <a:ext cx="1295280" cy="380880"/>
          </a:xfrm>
          <a:prstGeom prst="wedgeRectCallout">
            <a:avLst>
              <a:gd name="adj1" fmla="val -247550"/>
              <a:gd name="adj2" fmla="val 6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ce 2</a:t>
            </a:r>
            <a:r>
              <a:rPr b="0" lang="en-US" sz="1600" spc="-1" strike="noStrike" baseline="40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733920"/>
            <a:ext cx="1295280" cy="380880"/>
          </a:xfrm>
          <a:prstGeom prst="wedgeRectCallout">
            <a:avLst>
              <a:gd name="adj1" fmla="val -245587"/>
              <a:gd name="adj2" fmla="val 3666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ce 2</a:t>
            </a:r>
            <a:r>
              <a:rPr b="0" lang="en-US" sz="1600" spc="-1" strike="noStrike" baseline="40000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4191120"/>
            <a:ext cx="1295280" cy="380880"/>
          </a:xfrm>
          <a:prstGeom prst="wedgeRectCallout">
            <a:avLst>
              <a:gd name="adj1" fmla="val -245587"/>
              <a:gd name="adj2" fmla="val 133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ce 2</a:t>
            </a:r>
            <a:r>
              <a:rPr b="0" lang="en-US" sz="1600" spc="-1" strike="noStrike" baseline="4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648320"/>
            <a:ext cx="1295280" cy="380880"/>
          </a:xfrm>
          <a:prstGeom prst="wedgeRectCallout">
            <a:avLst>
              <a:gd name="adj1" fmla="val -246569"/>
              <a:gd name="adj2" fmla="val -9999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ce 2</a:t>
            </a:r>
            <a:r>
              <a:rPr b="0" lang="en-US" sz="1600" spc="-1" strike="noStrike" baseline="40000">
                <a:solidFill>
                  <a:srgbClr val="008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1055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a power of 2,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rac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1143000"/>
                <a:tab algn="l" pos="209556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3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D1A-FB1B-43B0-A1D3-F22AF78948DF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77440"/>
            <a:ext cx="78487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dial Mathematics</a:t>
            </a:r>
            <a:br>
              <a:rPr sz="2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Logarithm law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981080"/>
            <a:ext cx="3352680" cy="1371600"/>
          </a:xfrm>
          <a:prstGeom prst="wedgeRectCallout">
            <a:avLst>
              <a:gd name="adj1" fmla="val -67236"/>
              <a:gd name="adj2" fmla="val -370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ince the no. of 2s multiplied to make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is the sum of the no. of 2s multiplied to make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and the no. of 2s multiplied to make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1C9-23E7-4DF4-AB2F-679D297156EF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3T11:12:38Z</dcterms:modified>
  <cp:revision>229</cp:revision>
  <dc:subject/>
  <dc:title>Formalizing the Dynamic Semantics of Java</dc:title>
</cp:coreProperties>
</file>