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5E67B-0456-4421-A459-1DE91496D5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F400F-C303-4B82-87EC-CAFFC31292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CB617-ECFE-4878-96C4-0E98EEA9DC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0F00A-7267-4C96-9FF0-8E515EE033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2DA56-4626-4956-A82C-5A1A8A6637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647C4-D3A1-4A1B-85C2-2D3EEE3EC6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FEC73-AC60-4F25-B0E0-9BC25463F9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E7B18-AAC8-4A5E-BD10-F99CD1F906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95D2A-1F9F-43CF-80B2-725A320559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EC2FC-7919-44AE-9636-49E1F0A5E5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C76A5-E66C-4C4C-846B-C925B13546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E4966-A277-4499-A686-C9C4FEB175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800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8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5-</a:t>
            </a:r>
            <a:fld id="{F70A2BA7-9FFF-4ABF-86A5-3A09C68B1783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types: values, operations, and data represen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tract data type: values and operations on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, contract, implementation(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of abstract data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 abstract data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tract data types in the Java class libr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85800" y="60948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Abstract Data Typ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624852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2001, D.A. Watt and D.F. Br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609480"/>
            <a:ext cx="9144000" cy="1676520"/>
            <a:chOff x="0" y="609480"/>
            <a:chExt cx="9144000" cy="1676520"/>
          </a:xfrm>
        </p:grpSpPr>
        <p:sp>
          <p:nvSpPr>
            <p:cNvPr id="44" name=""/>
            <p:cNvSpPr/>
            <p:nvPr/>
          </p:nvSpPr>
          <p:spPr>
            <a:xfrm>
              <a:off x="0" y="609480"/>
              <a:ext cx="914400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2286000"/>
              <a:ext cx="914400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508A1-AF59-4D03-9729-53522E237636}" type="slidenum">
              <a:t>1</a:t>
            </a:fld>
          </a:p>
        </p:txBody>
      </p:sp>
    </p:spTree>
  </p:cSld>
  <p:transition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Example: </a:t>
            </a:r>
            <a:r>
              <a:rPr b="1" lang="en-US" sz="3600" spc="-1" strike="noStrike">
                <a:solidFill>
                  <a:srgbClr val="339966"/>
                </a:solidFill>
                <a:latin typeface="Courier New"/>
                <a:ea typeface="Times New Roman"/>
              </a:rPr>
              <a:t>Date</a:t>
            </a: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 data type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(4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: This data representation admit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s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;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ors and methods can (should) be coded to avoid improper values. 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e today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ate(2001, 2, 3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throw an excep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what if the data representation is accessed direct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e today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ate(2001, 2, 14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oday.d += 16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A3FCE-F8FC-4285-841D-3B6175E7AC0F}" type="slidenum">
              <a:t>10</a:t>
            </a:fld>
          </a:p>
        </p:txBody>
      </p:sp>
    </p:spTree>
  </p:cSld>
  <p:transition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Example: </a:t>
            </a:r>
            <a:r>
              <a:rPr b="1" lang="en-US" sz="3600" spc="-1" strike="noStrike">
                <a:solidFill>
                  <a:srgbClr val="339966"/>
                </a:solidFill>
                <a:latin typeface="Courier New"/>
                <a:ea typeface="Times New Roman"/>
              </a:rPr>
              <a:t>Date</a:t>
            </a: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 data type again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ifferent data representation is possi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ate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 is a past, present, or futur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date is represented by a day-in-epoch numb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where 0 represents 1 January 2000)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at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y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) {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dvanc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) {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ak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v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aster, bu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e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lo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56D75-DDD7-4353-B7D5-10E730FC536C}" type="slidenum">
              <a:t>11</a:t>
            </a:fld>
          </a:p>
        </p:txBody>
      </p:sp>
    </p:spTree>
  </p:cSld>
  <p:transition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Example: </a:t>
            </a:r>
            <a:r>
              <a:rPr b="1" lang="en-US" sz="3600" spc="-1" strike="noStrike">
                <a:solidFill>
                  <a:srgbClr val="339966"/>
                </a:solidFill>
                <a:latin typeface="Courier New"/>
                <a:ea typeface="Times New Roman"/>
              </a:rPr>
              <a:t>Date</a:t>
            </a: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 data type again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all existing application co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e today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ate(2001, 2, 14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oday.advance(16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today.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'-' +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today.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'-' + </a:t>
            </a:r>
            <a:r>
              <a:rPr b="0" lang="en-US" sz="20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today.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3733920"/>
            <a:ext cx="1752840" cy="304560"/>
          </a:xfrm>
          <a:prstGeom prst="wedgeRectCallout">
            <a:avLst>
              <a:gd name="adj1" fmla="val -33694"/>
              <a:gd name="adj2" fmla="val -258333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fails to comp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733920"/>
            <a:ext cx="2057400" cy="304560"/>
          </a:xfrm>
          <a:prstGeom prst="wedgeRectCallout">
            <a:avLst>
              <a:gd name="adj1" fmla="val 34875"/>
              <a:gd name="adj2" fmla="val -166666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yields wrong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24480" y="3733920"/>
            <a:ext cx="1752840" cy="304560"/>
          </a:xfrm>
          <a:prstGeom prst="wedgeRectCallout">
            <a:avLst>
              <a:gd name="adj1" fmla="val -11958"/>
              <a:gd name="adj2" fmla="val -262500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fails to comp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BD382-7B19-45EC-B7B0-B5D1723F27D0}" type="slidenum">
              <a:t>12</a:t>
            </a:fld>
          </a:p>
        </p:txBody>
      </p:sp>
    </p:spTree>
  </p:cSld>
  <p:transition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Public vs. private data representation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data representation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code might make improper val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ing application code might be invalidated by change of re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data representation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code cannot make improper val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ing application code cannot be invalidated by change of re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29C04-FB6C-45F1-B815-9EEB57DC682C}" type="slidenum">
              <a:t>13</a:t>
            </a:fld>
          </a:p>
        </p:txBody>
      </p:sp>
    </p:spTree>
  </p:cSld>
  <p:transition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Abstract data types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tract data 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s characteriz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et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et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aracterized by its data represen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ata representation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o application code cannot access it. (Only the operations can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ata representation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ith no effect on application code. (Only the operations must be recoded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98C9B-8AA7-4CCA-8C24-63F3DB7F4746}" type="slidenum">
              <a:t>14</a:t>
            </a:fld>
          </a:p>
        </p:txBody>
      </p:sp>
    </p:spTree>
  </p:cSld>
  <p:transition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ADT specification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ADT should have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es the set of values of the A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es each operation of the AD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.e., the operation’s name, parameter type(s), result type, and observable behavio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tract do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ecify the data representation, nor the algorithms used to implement the oper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able behavi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an operation is its effect as ‘observed’ by the application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 of observable behavior: search an arr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 of algorithms with that behavior: linear search, binary sear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BC06F-BA7A-412D-93FC-71FA570F935E}" type="slidenum">
              <a:t>15</a:t>
            </a:fld>
          </a:p>
        </p:txBody>
      </p:sp>
    </p:spTree>
  </p:cSld>
  <p:transition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ADT specification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T programm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dertakes to provide an implementation of the ADT that respects the contra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programm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dertakes to process values of the ADT using only the operations specified in the contra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aration of concer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DT programmer is not concerned with what applications the ADT is used f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pplication programmer is not concerned with how the ADT is implemen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aration of concerns is essential for designing and implementing large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E9817-F5C3-4C71-88B5-3C3DEA97BFEB}" type="slidenum">
              <a:t>16</a:t>
            </a:fld>
          </a:p>
        </p:txBody>
      </p:sp>
    </p:spTree>
  </p:cSld>
  <p:transition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Example: contract for </a:t>
            </a:r>
            <a:r>
              <a:rPr b="1" lang="en-US" sz="3600" spc="-1" strike="noStrike">
                <a:solidFill>
                  <a:srgbClr val="339966"/>
                </a:solidFill>
                <a:latin typeface="Courier New"/>
                <a:ea typeface="Times New Roman"/>
              </a:rPr>
              <a:t>Date</a:t>
            </a: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 ADT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ed application require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70120" indent="-412920">
              <a:spcBef>
                <a:spcPts val="901"/>
              </a:spcBef>
              <a:buClr>
                <a:srgbClr val="339966"/>
              </a:buClr>
              <a:buFont typeface="Times New Roman"/>
              <a:buAutoNum type="arabicParenR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alues must be all past, present, and future da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0120" indent="-412920">
              <a:spcBef>
                <a:spcPts val="901"/>
              </a:spcBef>
              <a:buClr>
                <a:srgbClr val="339966"/>
              </a:buClr>
              <a:buFont typeface="Times New Roman"/>
              <a:buAutoNum type="arabicParenR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possible to construct a date from year numb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onth numb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day-in-month numb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0120" indent="-412920">
              <a:spcBef>
                <a:spcPts val="901"/>
              </a:spcBef>
              <a:buClr>
                <a:srgbClr val="339966"/>
              </a:buClr>
              <a:buFont typeface="Times New Roman"/>
              <a:buAutoNum type="arabicParenR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possible to compare da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0120" indent="-412920">
              <a:spcBef>
                <a:spcPts val="901"/>
              </a:spcBef>
              <a:buClr>
                <a:srgbClr val="339966"/>
              </a:buClr>
              <a:buFont typeface="Times New Roman"/>
              <a:buAutoNum type="arabicParenR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possible to render a date in ISO format 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0120" indent="-412920">
              <a:spcBef>
                <a:spcPts val="901"/>
              </a:spcBef>
              <a:buClr>
                <a:srgbClr val="339966"/>
              </a:buClr>
              <a:buFont typeface="Times New Roman"/>
              <a:buAutoNum type="arabicParenR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possible to advance a date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74426-ECE6-4386-AC5F-270700566A44}" type="slidenum">
              <a:t>17</a:t>
            </a:fld>
          </a:p>
        </p:txBody>
      </p:sp>
    </p:spTree>
  </p:cSld>
  <p:transition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Example: contract for </a:t>
            </a:r>
            <a:r>
              <a:rPr b="1" lang="en-US" sz="3600" spc="-1" strike="noStrike">
                <a:solidFill>
                  <a:srgbClr val="339966"/>
                </a:solidFill>
                <a:latin typeface="Courier New"/>
                <a:ea typeface="Times New Roman"/>
              </a:rPr>
              <a:t>Date</a:t>
            </a: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 ADT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contract, expressed as an outline class decla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ate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 is a past, present, or futur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at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y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 a date with yea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on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day-in-mon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mpareTo (Date that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–1 if this date is earlier th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0 if this date is equal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+1 if this date is later th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B13AA-8121-4221-9DD9-BAF3164D8DDC}" type="slidenum">
              <a:t>18</a:t>
            </a:fld>
          </a:p>
        </p:txBody>
      </p:sp>
    </p:spTree>
  </p:cSld>
  <p:transition>
    <p:cover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Example: contract for </a:t>
            </a:r>
            <a:r>
              <a:rPr b="1" lang="en-US" sz="3600" spc="-1" strike="noStrike">
                <a:solidFill>
                  <a:srgbClr val="339966"/>
                </a:solidFill>
                <a:latin typeface="Courier New"/>
                <a:ea typeface="Times New Roman"/>
              </a:rPr>
              <a:t>Date</a:t>
            </a: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 ADT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(3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contra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ring toString 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his date rendered in ISO form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dvanc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ce this date b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ys (wher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≥ 0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3B886-75CD-4AC7-8E86-ADC2FD087471}" type="slidenum">
              <a:t>19</a:t>
            </a:fld>
          </a:p>
        </p:txBody>
      </p:sp>
    </p:spTree>
  </p:cSld>
  <p:transition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Data types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lassify all data in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typ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uc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ole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s of various cla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data type is characteriz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et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which is common to all these valu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et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which can be applied uniformly to all these valu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A0A81-6F31-4CF7-B5FA-A9C4418FD662}" type="slidenum">
              <a:t>2</a:t>
            </a:fld>
          </a:p>
        </p:txBody>
      </p:sp>
    </p:spTree>
  </p:cSld>
  <p:transition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Example: contract for </a:t>
            </a:r>
            <a:r>
              <a:rPr b="1" lang="en-US" sz="3600" spc="-1" strike="noStrike">
                <a:solidFill>
                  <a:srgbClr val="339966"/>
                </a:solidFill>
                <a:latin typeface="Courier New"/>
                <a:ea typeface="Times New Roman"/>
              </a:rPr>
              <a:t>Date</a:t>
            </a: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 ADT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(4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application co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e today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e easter =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new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 Date(2001, 4, 15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today.advance(16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today.compareTo(easter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lt; 0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today.toString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ssible application co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today.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= 16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today.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'-' +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today.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'-' +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today.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24480" y="5638680"/>
            <a:ext cx="1752840" cy="304920"/>
          </a:xfrm>
          <a:prstGeom prst="wedgeRectCallout">
            <a:avLst>
              <a:gd name="adj1" fmla="val -11958"/>
              <a:gd name="adj2" fmla="val -216666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fails to comp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5638680"/>
            <a:ext cx="1752480" cy="304920"/>
          </a:xfrm>
          <a:prstGeom prst="wedgeRectCallout">
            <a:avLst>
              <a:gd name="adj1" fmla="val -1087"/>
              <a:gd name="adj2" fmla="val -325000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fails to comp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5DE51-15F3-4121-A6EE-7E4A9F9905E9}" type="slidenum">
              <a:t>20</a:t>
            </a:fld>
          </a:p>
        </p:txBody>
      </p:sp>
    </p:spTree>
  </p:cSld>
  <p:transition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ADT implementation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an ADT entai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oosing a data 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oosing an algorithm for each oper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ata representation must be priv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ata representation must cover all possible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lgorithms must be consistent with the data represen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CFFB7-4597-4602-933E-489AE774DBDF}" type="slidenum">
              <a:t>21</a:t>
            </a:fld>
          </a:p>
        </p:txBody>
      </p:sp>
    </p:spTree>
  </p:cSld>
  <p:transition>
    <p:cover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Example: first implementation</a:t>
            </a:r>
            <a:br>
              <a:rPr sz="3600"/>
            </a:b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 of </a:t>
            </a:r>
            <a:r>
              <a:rPr b="1" lang="en-US" sz="3600" spc="-1" strike="noStrike">
                <a:solidFill>
                  <a:srgbClr val="339966"/>
                </a:solidFill>
                <a:latin typeface="Courier New"/>
                <a:ea typeface="Times New Roman"/>
              </a:rPr>
              <a:t>Date</a:t>
            </a: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 ADT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decla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ate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 is a past, present, or futur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date is represented by a year numb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 month numbe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a day-in-month numb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y, m, 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at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y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 a date with yea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on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day-in-mon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y = y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 = m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d = d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B12D5-CB26-4AE1-AD6B-C1AC6878D61B}" type="slidenum">
              <a:t>22</a:t>
            </a:fld>
          </a:p>
        </p:txBody>
      </p:sp>
    </p:spTree>
  </p:cSld>
  <p:transition>
    <p:cover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Example: first implementation</a:t>
            </a:r>
            <a:br>
              <a:rPr sz="3600"/>
            </a:b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 of </a:t>
            </a:r>
            <a:r>
              <a:rPr b="1" lang="en-US" sz="3600" spc="-1" strike="noStrike">
                <a:solidFill>
                  <a:srgbClr val="339966"/>
                </a:solidFill>
                <a:latin typeface="Courier New"/>
                <a:ea typeface="Times New Roman"/>
              </a:rPr>
              <a:t>Date</a:t>
            </a: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 ADT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declar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mpareTo (Date that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–1 if this date is earlier th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0 if this date is equal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+1 if this date is later th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y &lt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a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y ? -1 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y &gt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a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y ? +1 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 &lt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a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 ? -1 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 &gt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a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 ? +1 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d &lt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a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d ? -1 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d &gt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a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d ? +1 : 0);    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B449F-CF68-4546-9358-74DAF5FC5CDC}" type="slidenum">
              <a:t>23</a:t>
            </a:fld>
          </a:p>
        </p:txBody>
      </p:sp>
    </p:spTree>
  </p:cSld>
  <p:transition>
    <p:cover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Example: first implementation</a:t>
            </a:r>
            <a:br>
              <a:rPr sz="3600"/>
            </a:b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 of </a:t>
            </a:r>
            <a:r>
              <a:rPr b="1" lang="en-US" sz="3600" spc="-1" strike="noStrike">
                <a:solidFill>
                  <a:srgbClr val="339966"/>
                </a:solidFill>
                <a:latin typeface="Courier New"/>
                <a:ea typeface="Times New Roman"/>
              </a:rPr>
              <a:t>Date</a:t>
            </a: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 ADT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(3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declar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ring toString (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his date rendered in ISO forma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y + '-'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 + '-'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d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dvanc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ce this date b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ys (wher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≥ 0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86600" y="4648320"/>
            <a:ext cx="1371600" cy="380880"/>
          </a:xfrm>
          <a:prstGeom prst="wedgeRectCallout">
            <a:avLst>
              <a:gd name="adj1" fmla="val -382870"/>
              <a:gd name="adj2" fmla="val -23333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compli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40B56-713F-4EE8-9580-D90E4E1138B8}" type="slidenum">
              <a:t>24</a:t>
            </a:fld>
          </a:p>
        </p:txBody>
      </p:sp>
    </p:spTree>
  </p:cSld>
  <p:transition>
    <p:cover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Example: second implementation</a:t>
            </a:r>
            <a:br>
              <a:rPr sz="3600"/>
            </a:b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of </a:t>
            </a:r>
            <a:r>
              <a:rPr b="1" lang="en-US" sz="3600" spc="-1" strike="noStrike">
                <a:solidFill>
                  <a:srgbClr val="339966"/>
                </a:solidFill>
                <a:latin typeface="Courier New"/>
                <a:ea typeface="Times New Roman"/>
              </a:rPr>
              <a:t>Date</a:t>
            </a: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 ADT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decla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ate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 is a past, present, or futur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date is represented by a day-in-epoch numb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where 0 represents 1 January 2000)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at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y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 a date with yea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on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day-in-mon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d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4800600"/>
            <a:ext cx="1371600" cy="380880"/>
          </a:xfrm>
          <a:prstGeom prst="wedgeRectCallout">
            <a:avLst>
              <a:gd name="adj1" fmla="val -382870"/>
              <a:gd name="adj2" fmla="val -23333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compli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B049D-9D4F-4AD3-8448-F45C45CE9218}" type="slidenum">
              <a:t>25</a:t>
            </a:fld>
          </a:p>
        </p:txBody>
      </p:sp>
    </p:spTree>
  </p:cSld>
  <p:transition>
    <p:cover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Example: second implementation</a:t>
            </a:r>
            <a:br>
              <a:rPr sz="3600"/>
            </a:b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of </a:t>
            </a:r>
            <a:r>
              <a:rPr b="1" lang="en-US" sz="3600" spc="-1" strike="noStrike">
                <a:solidFill>
                  <a:srgbClr val="339966"/>
                </a:solidFill>
                <a:latin typeface="Courier New"/>
                <a:ea typeface="Times New Roman"/>
              </a:rPr>
              <a:t>Date</a:t>
            </a: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 ADT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declar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mpareTo (Date that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–1 if this date is earlier th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0 if this date is equal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+1 if this date is later th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d &lt; that.d ? -1 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d &gt; that.d ? +1 : 0);    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87F90-6A61-4003-B2AA-A1F634BE9BC0}" type="slidenum">
              <a:t>26</a:t>
            </a:fld>
          </a:p>
        </p:txBody>
      </p:sp>
    </p:spTree>
  </p:cSld>
  <p:transition>
    <p:cover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Example: second implementation</a:t>
            </a:r>
            <a:br>
              <a:rPr sz="3600"/>
            </a:b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of </a:t>
            </a:r>
            <a:r>
              <a:rPr b="1" lang="en-US" sz="3600" spc="-1" strike="noStrike">
                <a:solidFill>
                  <a:srgbClr val="339966"/>
                </a:solidFill>
                <a:latin typeface="Courier New"/>
                <a:ea typeface="Times New Roman"/>
              </a:rPr>
              <a:t>Date</a:t>
            </a: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 ADT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(3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declar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ring toString (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his date rendered in ISO forma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y, m, d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y + '-' + m + '-' + d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dvanc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ce this date b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ys (wher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≥ 0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d += n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86600" y="3124080"/>
            <a:ext cx="1371600" cy="381240"/>
          </a:xfrm>
          <a:prstGeom prst="wedgeRectCallout">
            <a:avLst>
              <a:gd name="adj1" fmla="val -382870"/>
              <a:gd name="adj2" fmla="val -23333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compli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2BBC9-8ECF-45C5-AF57-6D013325DF0C}" type="slidenum">
              <a:t>27</a:t>
            </a:fld>
          </a:p>
        </p:txBody>
      </p:sp>
    </p:spTree>
  </p:cSld>
  <p:transition>
    <p:cover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ADT design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s a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ffici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together they meet all the ADT’s requir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the application be written entirely in terms of calls to these oper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operation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ess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it is not surplus to the ADT’s requir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ld the operation be safely omitt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well-designed ADT provides operations that are necessary and sufficient for its requir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4681A-AEE8-4E36-9461-067E4F627878}" type="slidenum">
              <a:t>28</a:t>
            </a:fld>
          </a:p>
        </p:txBody>
      </p:sp>
    </p:spTree>
  </p:cSld>
  <p:transition>
    <p:cover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Example: design of </a:t>
            </a:r>
            <a:r>
              <a:rPr b="1" lang="en-US" sz="3600" spc="-1" strike="noStrike">
                <a:solidFill>
                  <a:srgbClr val="339966"/>
                </a:solidFill>
                <a:latin typeface="Courier New"/>
                <a:ea typeface="Times New Roman"/>
              </a:rPr>
              <a:t>Date</a:t>
            </a: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 ADT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(1)</a:t>
            </a: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 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all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ract of Example 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ate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at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y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mpareTo (Date that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ring toString 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dvanc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operations are suffic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these operations are necess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C76A4-2131-4CC3-90FA-08CA07D8ACAE}" type="slidenum">
              <a:t>29</a:t>
            </a:fld>
          </a:p>
        </p:txBody>
      </p:sp>
    </p:spTree>
  </p:cSld>
  <p:transition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Java built-in data types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" y="1641600"/>
          <a:ext cx="7772400" cy="4149720"/>
        </p:xfrm>
        <a:graphic>
          <a:graphicData uri="http://schemas.openxmlformats.org/drawingml/2006/table">
            <a:tbl>
              <a:tblPr/>
              <a:tblGrid>
                <a:gridCol w="1371600"/>
                <a:gridCol w="2590920"/>
                <a:gridCol w="2133360"/>
                <a:gridCol w="16765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u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represen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er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66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, 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by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|| &amp;&amp; 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h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code charac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by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s for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gative, zero, positive whole numb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-bit twos-compl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+ - * / %</a:t>
                      </a:r>
                      <a:br>
                        <a:rPr sz="2000"/>
                      </a:b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 &gt; ==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lo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gative, zero, positive floating-point numb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EEE 32-bit floating-p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quences of charac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ray of charac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+ length charAt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A4924-312C-41B4-A51C-48A5E418FDAB}" type="slidenum">
              <a:t>3</a:t>
            </a:fld>
          </a:p>
        </p:txBody>
      </p:sp>
    </p:spTree>
  </p:cSld>
  <p:transition>
    <p:cover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Example: design of </a:t>
            </a:r>
            <a:r>
              <a:rPr b="1" lang="en-US" sz="3600" spc="-1" strike="noStrike">
                <a:solidFill>
                  <a:srgbClr val="339966"/>
                </a:solidFill>
                <a:latin typeface="Courier New"/>
                <a:ea typeface="Times New Roman"/>
              </a:rPr>
              <a:t>Date</a:t>
            </a: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 ADT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another possibl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ra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ate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at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y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getYear 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getMonth 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getDay 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operations are sufficient. (Date comparison and rendering are clumsier, but still possibl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these operations are necess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93199-76A7-4D8A-BF38-EAA4D6F018F7}" type="slidenum">
              <a:t>30</a:t>
            </a:fld>
          </a:p>
        </p:txBody>
      </p:sp>
    </p:spTree>
  </p:cSld>
  <p:transition>
    <p:cover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Example: design of </a:t>
            </a:r>
            <a:r>
              <a:rPr b="1" lang="en-US" sz="3600" spc="-1" strike="noStrike">
                <a:solidFill>
                  <a:srgbClr val="339966"/>
                </a:solidFill>
                <a:latin typeface="Courier New"/>
                <a:ea typeface="Times New Roman"/>
              </a:rPr>
              <a:t>Date</a:t>
            </a: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 ADT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(3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yet another possibl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ra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ate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at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y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mpareTo (Date that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ring toString 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dvanc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dvance1Day 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vance1D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nnecess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74B53-77B5-4E2D-8D73-8D351DAB7E3B}" type="slidenum">
              <a:t>31</a:t>
            </a:fld>
          </a:p>
        </p:txBody>
      </p:sp>
    </p:spTree>
  </p:cSld>
  <p:transition>
    <p:cover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ADT design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n operation that creates a value of the AD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n operation that uses a value of the ADT to compute a value of some other ty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orm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n operation that computes a new value of the same AD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well-designed ADT provides at least one constructor, at least one accessor, and at least one transformer. The constructors and transformers together can generate all values of the AD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F6659-4575-4A7B-AE47-FFAE4BE14AE6}" type="slidenum">
              <a:t>32</a:t>
            </a:fld>
          </a:p>
        </p:txBody>
      </p:sp>
    </p:spTree>
  </p:cSld>
  <p:transition>
    <p:cover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ADT design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(3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ransformer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tati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it overwrites the old value with the new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it returns the new value, without overwriting the old va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alues of an ADT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t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the ADT provides at least one mutative transfor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ut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the ADT provides no mutative transform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7B0D3-EBFF-412C-A75D-D89F8DA470A4}" type="slidenum">
              <a:t>33</a:t>
            </a:fld>
          </a:p>
        </p:txBody>
      </p:sp>
    </p:spTree>
  </p:cSld>
  <p:transition>
    <p:cover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Example: design of </a:t>
            </a:r>
            <a:r>
              <a:rPr b="1" lang="en-US" sz="3600" spc="-1" strike="noStrike">
                <a:solidFill>
                  <a:srgbClr val="339966"/>
                </a:solidFill>
                <a:latin typeface="Courier New"/>
                <a:ea typeface="Times New Roman"/>
              </a:rPr>
              <a:t>Date</a:t>
            </a: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 ADT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(1)</a:t>
            </a: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 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all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ract of Example 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ate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at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y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mpareTo (Date that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ring toString 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dvanc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162920" y="2666880"/>
            <a:ext cx="1371600" cy="304920"/>
          </a:xfrm>
          <a:prstGeom prst="wedgeRectCallout">
            <a:avLst>
              <a:gd name="adj1" fmla="val -80092"/>
              <a:gd name="adj2" fmla="val 37500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constr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162920" y="3809880"/>
            <a:ext cx="1371600" cy="609840"/>
          </a:xfrm>
          <a:prstGeom prst="wedgeRectCallout">
            <a:avLst>
              <a:gd name="adj1" fmla="val -142129"/>
              <a:gd name="adj2" fmla="val -41666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mutative transfor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62920" y="3048120"/>
            <a:ext cx="1371600" cy="304560"/>
          </a:xfrm>
          <a:prstGeom prst="wedgeRectCallout">
            <a:avLst>
              <a:gd name="adj1" fmla="val -90277"/>
              <a:gd name="adj2" fmla="val 8333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ac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162920" y="3429000"/>
            <a:ext cx="1371600" cy="304920"/>
          </a:xfrm>
          <a:prstGeom prst="wedgeRectCallout">
            <a:avLst>
              <a:gd name="adj1" fmla="val -166203"/>
              <a:gd name="adj2" fmla="val -12500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ac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1B8D8-0EDD-4296-AD3D-FE238DABF9E3}" type="slidenum">
              <a:t>34</a:t>
            </a:fld>
          </a:p>
        </p:txBody>
      </p:sp>
    </p:spTree>
  </p:cSld>
  <p:transition>
    <p:cover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Example: design of </a:t>
            </a:r>
            <a:r>
              <a:rPr b="1" lang="en-US" sz="3600" spc="-1" strike="noStrike">
                <a:solidFill>
                  <a:srgbClr val="339966"/>
                </a:solidFill>
                <a:latin typeface="Courier New"/>
                <a:ea typeface="Times New Roman"/>
              </a:rPr>
              <a:t>Date</a:t>
            </a: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 ADT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another possibl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ra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ate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at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y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mpareTo (Date that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ring toString 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ate plus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2666880"/>
            <a:ext cx="1371600" cy="304920"/>
          </a:xfrm>
          <a:prstGeom prst="wedgeRectCallout">
            <a:avLst>
              <a:gd name="adj1" fmla="val -80092"/>
              <a:gd name="adj2" fmla="val 37500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constr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3809880"/>
            <a:ext cx="1371600" cy="609840"/>
          </a:xfrm>
          <a:prstGeom prst="wedgeRectCallout">
            <a:avLst>
              <a:gd name="adj1" fmla="val -174537"/>
              <a:gd name="adj2" fmla="val -43750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applicative transfor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3048120"/>
            <a:ext cx="1371600" cy="304560"/>
          </a:xfrm>
          <a:prstGeom prst="wedgeRectCallout">
            <a:avLst>
              <a:gd name="adj1" fmla="val -90277"/>
              <a:gd name="adj2" fmla="val 8333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ac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162920" y="3429000"/>
            <a:ext cx="1371600" cy="304920"/>
          </a:xfrm>
          <a:prstGeom prst="wedgeRectCallout">
            <a:avLst>
              <a:gd name="adj1" fmla="val -166203"/>
              <a:gd name="adj2" fmla="val -12500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ac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8F7E3-9196-4015-96AA-413CCC05FE07}" type="slidenum">
              <a:t>35</a:t>
            </a:fld>
          </a:p>
        </p:txBody>
      </p:sp>
    </p:spTree>
  </p:cSld>
  <p:transition>
    <p:cover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Strings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quence of charac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haracters have consecutiv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a string is a subsequence of its charac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a (sub)string is its number of charac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ring has length z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8C994-9D0A-4603-92C2-48C6A29B9BED}" type="slidenum">
              <a:t>36</a:t>
            </a:fld>
          </a:p>
        </p:txBody>
      </p:sp>
    </p:spTree>
  </p:cSld>
  <p:transition>
    <p:cover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String ADTs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ed application require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901"/>
              </a:spcBef>
              <a:buClr>
                <a:srgbClr val="339966"/>
              </a:buClr>
              <a:buFont typeface="Times New Roman"/>
              <a:buAutoNum type="arabicParenR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alues are to be strings of any leng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901"/>
              </a:spcBef>
              <a:buClr>
                <a:srgbClr val="339966"/>
              </a:buClr>
              <a:buFont typeface="Times New Roman"/>
              <a:buAutoNum type="arabicParenR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possible to determine the length of a str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901"/>
              </a:spcBef>
              <a:buClr>
                <a:srgbClr val="339966"/>
              </a:buClr>
              <a:buFont typeface="Times New Roman"/>
              <a:buAutoNum type="arabicParenR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possible to obtain the character at a given inde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901"/>
              </a:spcBef>
              <a:buClr>
                <a:srgbClr val="339966"/>
              </a:buClr>
              <a:buFont typeface="Times New Roman"/>
              <a:buAutoNum type="arabicParenR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possible to obtain the substring at a given range of i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901"/>
              </a:spcBef>
              <a:buClr>
                <a:srgbClr val="339966"/>
              </a:buClr>
              <a:buFont typeface="Times New Roman"/>
              <a:buAutoNum type="arabicParenR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possible to compare strings lexicographical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901"/>
              </a:spcBef>
              <a:buClr>
                <a:srgbClr val="339966"/>
              </a:buClr>
              <a:buFont typeface="Times New Roman"/>
              <a:buAutoNum type="arabicParenR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possible to concatenate strin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6BC25-9700-4C13-B9A0-DAA231993EA2}" type="slidenum">
              <a:t>37</a:t>
            </a:fld>
          </a:p>
        </p:txBody>
      </p:sp>
    </p:spTree>
  </p:cSld>
  <p:transition>
    <p:cover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Immutable strings: contract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contract expressed as an outline class decla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ring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 is an immutable string of characters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any length, with indices starting at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///////////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///////////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ring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] cs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 a string consisting of all the chars 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DAB6F-50A9-4577-98B2-B0FE096BD161}" type="slidenum">
              <a:t>38</a:t>
            </a:fld>
          </a:p>
        </p:txBody>
      </p:sp>
    </p:spTree>
  </p:cSld>
  <p:transition>
    <p:cover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Immutable strings: contract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contra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///////////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o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///////////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ngth 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he length of this str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harAt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he character at index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is str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o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equals (String that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rue if and only if this string is equal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mpareTo (String that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–1 if this string is lexicographically less th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0 if this string is equal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+1 if this string is lexicographically greater th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0A5D1-C7EC-42AC-8BCD-27E0047FF3A7}" type="slidenum">
              <a:t>39</a:t>
            </a:fld>
          </a:p>
        </p:txBody>
      </p:sp>
    </p:spTree>
  </p:cSld>
  <p:transition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Introducing new data types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introduce a new data type, we must define its values, data representation, and oper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Java, use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decla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ass’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termine the values and data re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ass’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o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the oper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object of the cl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those instanc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reated by one of those constru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inspected and/or updated by any of those metho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12E76-4A76-4615-A1C2-1EB8B6E602F4}" type="slidenum">
              <a:t>4</a:t>
            </a:fld>
          </a:p>
        </p:txBody>
      </p:sp>
    </p:spTree>
  </p:cSld>
  <p:transition>
    <p:cover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Immutable strings: contract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(3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contra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///////////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orm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///////////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ring substring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j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he substring of this string consisting of the character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se indices ar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ring concat (String that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he string obtained by concatenating this string a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th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81280" y="5257800"/>
            <a:ext cx="1371600" cy="609480"/>
          </a:xfrm>
          <a:prstGeom prst="wedgeRectCallout">
            <a:avLst>
              <a:gd name="adj1" fmla="val -8796"/>
              <a:gd name="adj2" fmla="val -181250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applicative transfor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CE681-9B0E-4ACE-93C1-787DA77E08E0}" type="slidenum">
              <a:t>40</a:t>
            </a:fld>
          </a:p>
        </p:txBody>
      </p:sp>
    </p:spTree>
  </p:cSld>
  <p:transition>
    <p:cover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Immutable strings: implementations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a string by its leng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gether with an array of exactl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aracters, 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3352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represent a string by its leng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gether with a linked list of characters, 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51814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rray representation is much better. Since these strings are immutable, we never insert or delete charac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676520" y="2438280"/>
            <a:ext cx="2133000" cy="610200"/>
            <a:chOff x="1676520" y="2438280"/>
            <a:chExt cx="2133000" cy="610200"/>
          </a:xfrm>
        </p:grpSpPr>
        <p:sp>
          <p:nvSpPr>
            <p:cNvPr id="185" name=""/>
            <p:cNvSpPr/>
            <p:nvPr/>
          </p:nvSpPr>
          <p:spPr>
            <a:xfrm>
              <a:off x="1676520" y="2743200"/>
              <a:ext cx="60948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86000" y="2743200"/>
              <a:ext cx="38052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J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666880" y="2743200"/>
              <a:ext cx="38052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047760" y="2743200"/>
              <a:ext cx="38088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v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29000" y="2743200"/>
              <a:ext cx="38052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429000" y="2438280"/>
              <a:ext cx="380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47760" y="2438280"/>
              <a:ext cx="380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666880" y="2438280"/>
              <a:ext cx="380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286000" y="2438280"/>
              <a:ext cx="380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676520" y="2438280"/>
              <a:ext cx="60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leng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676520" y="4287960"/>
            <a:ext cx="5943600" cy="588960"/>
            <a:chOff x="1676520" y="4287960"/>
            <a:chExt cx="5943600" cy="588960"/>
          </a:xfrm>
        </p:grpSpPr>
        <p:sp>
          <p:nvSpPr>
            <p:cNvPr id="196" name=""/>
            <p:cNvSpPr/>
            <p:nvPr/>
          </p:nvSpPr>
          <p:spPr>
            <a:xfrm>
              <a:off x="3505320" y="4562640"/>
              <a:ext cx="6858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J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48320" y="4562640"/>
              <a:ext cx="6858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91320" y="4562640"/>
              <a:ext cx="6858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v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934320" y="4562640"/>
              <a:ext cx="6858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038840" y="472428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181840" y="472428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324840" y="472428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67840" y="47242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76520" y="4562640"/>
              <a:ext cx="6098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676520" y="4287960"/>
              <a:ext cx="609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leng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286360" y="4562640"/>
              <a:ext cx="609480" cy="314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90920" y="47149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86360" y="4297320"/>
              <a:ext cx="60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9497E-FB9E-406B-8C61-356CA86E0E45}" type="slidenum">
              <a:t>41</a:t>
            </a:fld>
          </a:p>
        </p:txBody>
      </p:sp>
    </p:spTree>
  </p:cSld>
  <p:transition>
    <p:cover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Mutable strings: contract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contract expressed as an outline class decla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utableString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utableSt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 is a mutable string, of an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ngth, with indices starting at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///////////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///////////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utableString 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 an empty mutable str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1B180-B186-4C6D-96F3-FB75825EE675}" type="slidenum">
              <a:t>42</a:t>
            </a:fld>
          </a:p>
        </p:txBody>
      </p:sp>
    </p:spTree>
  </p:cSld>
  <p:transition>
    <p:cover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Mutable strings: contract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contra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///////////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o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///////////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ngth 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he length of this str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harAt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he character at index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is str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mpareTo (MutableString that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–1 if this string is lexicographically less th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0 if this string is equal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+1 if this string is lexicographically greater th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ring substring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j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he substring of this string consisting of the character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se indices ar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1C337-B795-47F0-8E92-C9263971B0C6}" type="slidenum">
              <a:t>43</a:t>
            </a:fld>
          </a:p>
        </p:txBody>
      </p:sp>
    </p:spTree>
  </p:cSld>
  <p:transition>
    <p:cover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Mutable strings: contract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(3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contra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///////////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orm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///////////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tCharAt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he character at index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is string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ppend (String s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the characters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fter the last character of this str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nsert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, String s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the characters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fore the character at index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str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elet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j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e the characters of this string whose indices ar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76720" y="6019920"/>
            <a:ext cx="1371600" cy="609480"/>
          </a:xfrm>
          <a:prstGeom prst="wedgeRectCallout">
            <a:avLst>
              <a:gd name="adj1" fmla="val -16203"/>
              <a:gd name="adj2" fmla="val -93750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mutative transfor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3872F-5DFE-4519-8AB0-3CF64C1DD9ED}" type="slidenum">
              <a:t>44</a:t>
            </a:fld>
          </a:p>
        </p:txBody>
      </p:sp>
    </p:spTree>
  </p:cSld>
  <p:transition>
    <p:cover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ADTs in the Java class library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ava.lang.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similar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b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ava.lang.StringBuff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similar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utable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b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ava.util.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pports li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ava.util.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pports s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ava.util.M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pports maps (tabl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ag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ava.aw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ava.i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ava.ut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tc., support many other A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C132A-B195-4CCC-A8D6-FD7DF2827AB0}" type="slidenum">
              <a:t>45</a:t>
            </a:fld>
          </a:p>
        </p:txBody>
      </p:sp>
    </p:spTree>
  </p:cSld>
  <p:transition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Example: </a:t>
            </a:r>
            <a:r>
              <a:rPr b="1" lang="en-US" sz="3600" spc="-1" strike="noStrike">
                <a:solidFill>
                  <a:srgbClr val="339966"/>
                </a:solidFill>
                <a:latin typeface="Courier New"/>
                <a:ea typeface="Times New Roman"/>
              </a:rPr>
              <a:t>Person</a:t>
            </a: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 data type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decla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ring surname, forenam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yearOfBirt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 (String sname, String fname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year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surname = sname;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hangeName (String newName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surname = newNam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393D2-20BD-4686-9556-89B94C30BB4B}" type="slidenum">
              <a:t>5</a:t>
            </a:fld>
          </a:p>
        </p:txBody>
      </p:sp>
    </p:spTree>
  </p:cSld>
  <p:transition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Example: </a:t>
            </a:r>
            <a:r>
              <a:rPr b="1" lang="en-US" sz="3600" spc="-1" strike="noStrike">
                <a:solidFill>
                  <a:srgbClr val="339966"/>
                </a:solidFill>
                <a:latin typeface="Courier New"/>
                <a:ea typeface="Times New Roman"/>
              </a:rPr>
              <a:t>Person</a:t>
            </a: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 data type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application co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p1 =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("Curie", "Pierre", 185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p2 =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("Sklodowska", "Marie", 1867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2.changeName(p1.surnam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15D1E-38FB-454F-A7BF-696110BC4564}" type="slidenum">
              <a:t>6</a:t>
            </a:fld>
          </a:p>
        </p:txBody>
      </p:sp>
    </p:spTree>
  </p:cSld>
  <p:transition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Example: </a:t>
            </a:r>
            <a:r>
              <a:rPr b="1" lang="en-US" sz="3600" spc="-1" strike="noStrike">
                <a:solidFill>
                  <a:srgbClr val="339966"/>
                </a:solidFill>
                <a:latin typeface="Courier New"/>
                <a:ea typeface="Times New Roman"/>
              </a:rPr>
              <a:t>Date</a:t>
            </a: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 data type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decla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ate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 is a past, present, or futur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date is represented by a year numb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 month numbe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…12), and a day-in-month numb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…31)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y, m, 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at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y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 a date with yea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on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day-in-mon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m &lt; 1 ||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o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y = y;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 = m;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d = d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4B657-5B05-4FAB-8B2F-EFC85810C5D3}" type="slidenum">
              <a:t>7</a:t>
            </a:fld>
          </a:p>
        </p:txBody>
      </p:sp>
    </p:spTree>
  </p:cSld>
  <p:transition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Example: </a:t>
            </a:r>
            <a:r>
              <a:rPr b="1" lang="en-US" sz="3600" spc="-1" strike="noStrike">
                <a:solidFill>
                  <a:srgbClr val="339966"/>
                </a:solidFill>
                <a:latin typeface="Courier New"/>
                <a:ea typeface="Times New Roman"/>
              </a:rPr>
              <a:t>Date</a:t>
            </a: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 data type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declar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dvanc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ce this date b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ys (wher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≥ 0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y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y, m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d + n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;;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ast = …;  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. of days 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d &lt;= last)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 -= las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m &lt; 12)  m++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{ m = 1;  y++; 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y = y;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 = m;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d = d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75916-37B7-46DF-991B-960CD2442F19}" type="slidenum">
              <a:t>8</a:t>
            </a:fld>
          </a:p>
        </p:txBody>
      </p:sp>
    </p:spTree>
  </p:cSld>
  <p:transition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Example: </a:t>
            </a:r>
            <a:r>
              <a:rPr b="1" lang="en-US" sz="3600" spc="-1" strike="noStrike">
                <a:solidFill>
                  <a:srgbClr val="339966"/>
                </a:solidFill>
                <a:latin typeface="Courier New"/>
                <a:ea typeface="Times New Roman"/>
              </a:rPr>
              <a:t>Date</a:t>
            </a: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 data type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(3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application co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e today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ate(2001, 2, 14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oday.advance(16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today.y + '-' + today.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'-' + today.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should print “2001-3-2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2F889-E6C2-4E7F-AF45-99FE91A1D056}" type="slidenum">
              <a:t>9</a:t>
            </a:fld>
          </a:p>
        </p:txBody>
      </p:sp>
    </p:spTree>
  </p:cSld>
  <p:transition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2T12:16:58Z</dcterms:created>
  <dc:creator>Watt</dc:creator>
  <dc:description/>
  <dc:language>en-US</dc:language>
  <cp:lastModifiedBy>David A Watt</cp:lastModifiedBy>
  <cp:lastPrinted>2000-10-24T16:09:57Z</cp:lastPrinted>
  <dcterms:modified xsi:type="dcterms:W3CDTF">2002-01-03T12:05:32Z</dcterms:modified>
  <cp:revision>206</cp:revision>
  <dc:subject/>
  <dc:title>Formalizing the Dynamic Semantics of Java</dc:title>
</cp:coreProperties>
</file>