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5F78-7264-4F0E-A174-E9E51B149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9669-1F61-4598-AF3D-6A70051E0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31A5-BC7B-4F88-A39C-8FE604CE4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7065-F730-497D-8AC8-BBF24B7A4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5A39-638B-4A1C-908E-CE536E2C8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B4BC-6859-4C92-BE89-2B57A3E4D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DD72-219B-4F4E-AEFE-D9B5B84E6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3F11-E852-4AD6-AB40-C3012425B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0CFC-FF11-4F8A-A04C-79DAAFA36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E8B6-8421-4982-8230-014FFA8D0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BE11-6355-4A10-A0BA-61746426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821C-38A6-4D5A-BBD8-E27F6409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-</a:t>
            </a:r>
            <a:fld id="{C6160C96-9547-4812-95CC-674D1C0B3BB3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8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List ADT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ADT: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s of lists: using arrays, linked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s in the Java class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A6EF-55DF-45E9-BF89-D557C64F22A4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element with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quals (Lis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list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the sa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, and each element of this list equals the correspond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E0E8-7EDA-4AF8-BFA4-2CA53AC9B9E6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list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lement at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element with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the last element of this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1A9F-5770-4DCA-8D2D-A5DEC4E091A8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All (List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ll the elem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the last element of this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and return the element with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iterato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n iterator that will visit all elements of this list,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-to-right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D869-8562-4E7D-95C1-BCD62CDF9A63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verse arr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 mimic this to traver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list.size()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st.get(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st.set(i, 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is traversal has time complex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FF0E-1666-44B7-B99B-44A4667D66F8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traversal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, us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raver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 elems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list.iterato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elems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elem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elems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752480"/>
            <a:ext cx="2057400" cy="990720"/>
          </a:xfrm>
          <a:prstGeom prst="wedgeRectCallout">
            <a:avLst>
              <a:gd name="adj1" fmla="val -75615"/>
              <a:gd name="adj2" fmla="val 320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nstructs an iterator over the elements of </a:t>
            </a:r>
            <a:r>
              <a:rPr b="0" lang="en-GB" sz="2000" spc="-1" strike="noStrike">
                <a:solidFill>
                  <a:srgbClr val="008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895480"/>
            <a:ext cx="2057400" cy="990720"/>
          </a:xfrm>
          <a:prstGeom prst="wedgeRectCallout">
            <a:avLst>
              <a:gd name="adj1" fmla="val -147837"/>
              <a:gd name="adj2" fmla="val -47435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tests whether that iterator has any mor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809880"/>
            <a:ext cx="2057400" cy="990720"/>
          </a:xfrm>
          <a:prstGeom prst="wedgeRectCallout">
            <a:avLst>
              <a:gd name="adj1" fmla="val -31791"/>
              <a:gd name="adj2" fmla="val -9102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ccesses the next element in that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raversal has time complex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73FC-6B07-4DCD-BF19-958E0350FE5D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terator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 an iterator as a chain to which elements are attached in the required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iterators over the list «‘to’, ‘be’, ‘or’, ‘not’, ‘to’, ‘be’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19320" y="3513240"/>
            <a:ext cx="5181480" cy="381240"/>
            <a:chOff x="1219320" y="3513240"/>
            <a:chExt cx="5181480" cy="381240"/>
          </a:xfrm>
        </p:grpSpPr>
        <p:sp>
          <p:nvSpPr>
            <p:cNvPr id="92" name=""/>
            <p:cNvSpPr/>
            <p:nvPr/>
          </p:nvSpPr>
          <p:spPr>
            <a:xfrm>
              <a:off x="1219320" y="3513240"/>
              <a:ext cx="5181480" cy="228600"/>
            </a:xfrm>
            <a:custGeom>
              <a:avLst/>
              <a:gdLst/>
              <a:ahLst/>
              <a:rect l="l" t="t" r="r" b="b"/>
              <a:pathLst>
                <a:path w="3264" h="144">
                  <a:moveTo>
                    <a:pt x="0" y="0"/>
                  </a:moveTo>
                  <a:lnTo>
                    <a:pt x="192" y="0"/>
                  </a:lnTo>
                  <a:lnTo>
                    <a:pt x="336" y="144"/>
                  </a:lnTo>
                  <a:lnTo>
                    <a:pt x="2928" y="144"/>
                  </a:lnTo>
                  <a:lnTo>
                    <a:pt x="3024" y="0"/>
                  </a:lnTo>
                  <a:lnTo>
                    <a:pt x="3264" y="0"/>
                  </a:lnTo>
                </a:path>
              </a:pathLst>
            </a:custGeom>
            <a:noFill/>
            <a:ln w="9360">
              <a:solidFill>
                <a:srgbClr val="ff6600"/>
              </a:solidFill>
              <a:prstDash val="dash"/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35812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35812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35812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35812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0" y="35812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35812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3589200"/>
              <a:ext cx="30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589200"/>
              <a:ext cx="30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4419720"/>
            <a:ext cx="5181480" cy="381240"/>
            <a:chOff x="1219320" y="4419720"/>
            <a:chExt cx="5181480" cy="381240"/>
          </a:xfrm>
        </p:grpSpPr>
        <p:sp>
          <p:nvSpPr>
            <p:cNvPr id="102" name=""/>
            <p:cNvSpPr/>
            <p:nvPr/>
          </p:nvSpPr>
          <p:spPr>
            <a:xfrm>
              <a:off x="1219320" y="4419720"/>
              <a:ext cx="5181480" cy="228600"/>
            </a:xfrm>
            <a:custGeom>
              <a:avLst/>
              <a:gdLst/>
              <a:ahLst/>
              <a:rect l="l" t="t" r="r" b="b"/>
              <a:pathLst>
                <a:path w="3264" h="144">
                  <a:moveTo>
                    <a:pt x="0" y="0"/>
                  </a:moveTo>
                  <a:lnTo>
                    <a:pt x="192" y="0"/>
                  </a:lnTo>
                  <a:lnTo>
                    <a:pt x="336" y="144"/>
                  </a:lnTo>
                  <a:lnTo>
                    <a:pt x="2928" y="144"/>
                  </a:lnTo>
                  <a:lnTo>
                    <a:pt x="3024" y="0"/>
                  </a:lnTo>
                  <a:lnTo>
                    <a:pt x="3264" y="0"/>
                  </a:lnTo>
                </a:path>
              </a:pathLst>
            </a:custGeom>
            <a:noFill/>
            <a:ln w="9360">
              <a:solidFill>
                <a:srgbClr val="ff6600"/>
              </a:solidFill>
              <a:prstDash val="dash"/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4495680"/>
              <a:ext cx="30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495680"/>
              <a:ext cx="30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44956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4600" y="44956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0400" y="44956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44956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44956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4956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9320" y="5334120"/>
            <a:ext cx="5181480" cy="381240"/>
            <a:chOff x="1219320" y="5334120"/>
            <a:chExt cx="5181480" cy="381240"/>
          </a:xfrm>
        </p:grpSpPr>
        <p:sp>
          <p:nvSpPr>
            <p:cNvPr id="112" name=""/>
            <p:cNvSpPr/>
            <p:nvPr/>
          </p:nvSpPr>
          <p:spPr>
            <a:xfrm>
              <a:off x="1219320" y="5334120"/>
              <a:ext cx="5181480" cy="228600"/>
            </a:xfrm>
            <a:custGeom>
              <a:avLst/>
              <a:gdLst/>
              <a:ahLst/>
              <a:rect l="l" t="t" r="r" b="b"/>
              <a:pathLst>
                <a:path w="3264" h="144">
                  <a:moveTo>
                    <a:pt x="0" y="0"/>
                  </a:moveTo>
                  <a:lnTo>
                    <a:pt x="192" y="0"/>
                  </a:lnTo>
                  <a:lnTo>
                    <a:pt x="336" y="144"/>
                  </a:lnTo>
                  <a:lnTo>
                    <a:pt x="768" y="144"/>
                  </a:lnTo>
                  <a:lnTo>
                    <a:pt x="864" y="0"/>
                  </a:lnTo>
                  <a:lnTo>
                    <a:pt x="1104" y="0"/>
                  </a:lnTo>
                  <a:lnTo>
                    <a:pt x="1200" y="144"/>
                  </a:lnTo>
                  <a:lnTo>
                    <a:pt x="1632" y="144"/>
                  </a:lnTo>
                  <a:lnTo>
                    <a:pt x="1728" y="0"/>
                  </a:lnTo>
                  <a:lnTo>
                    <a:pt x="1968" y="0"/>
                  </a:lnTo>
                  <a:lnTo>
                    <a:pt x="2064" y="144"/>
                  </a:lnTo>
                  <a:lnTo>
                    <a:pt x="2496" y="144"/>
                  </a:lnTo>
                  <a:lnTo>
                    <a:pt x="2592" y="0"/>
                  </a:lnTo>
                  <a:lnTo>
                    <a:pt x="3264" y="0"/>
                  </a:lnTo>
                </a:path>
              </a:pathLst>
            </a:custGeom>
            <a:noFill/>
            <a:ln w="9360">
              <a:solidFill>
                <a:srgbClr val="ff6600"/>
              </a:solidFill>
              <a:prstDash val="dash"/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5402160"/>
              <a:ext cx="30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5402160"/>
              <a:ext cx="30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54100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4600" y="54100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54100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86200" y="54100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54100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7800" y="5410080"/>
              <a:ext cx="53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238880" y="3429000"/>
            <a:ext cx="1295640" cy="609480"/>
          </a:xfrm>
          <a:prstGeom prst="wedgeRectCallout">
            <a:avLst>
              <a:gd name="adj1" fmla="val -104412"/>
              <a:gd name="adj2" fmla="val -3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left-to-right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343400"/>
            <a:ext cx="1295640" cy="609480"/>
          </a:xfrm>
          <a:prstGeom prst="wedgeRectCallout">
            <a:avLst>
              <a:gd name="adj1" fmla="val -104412"/>
              <a:gd name="adj2" fmla="val -3541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right-to-left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5257800"/>
            <a:ext cx="1295640" cy="914400"/>
          </a:xfrm>
          <a:prstGeom prst="wedgeRectCallout">
            <a:avLst>
              <a:gd name="adj1" fmla="val -104412"/>
              <a:gd name="adj2" fmla="val -4027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left-to-right alternating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226D-2BC1-4B87-88FC-3B5596D9C8BD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terator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constructs an iterator on which the list elements are ‘chained’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terator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returns the next element on the ‘chai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terator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s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 tests whether there is a next element on the ‘chai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8EF2-72CC-48F4-B4FD-CB7C11A0A599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terators: contrac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ntract for it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represents an iterator over so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Nex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iterator has a next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nex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next element in this it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4952880"/>
            <a:ext cx="1981440" cy="304920"/>
          </a:xfrm>
          <a:prstGeom prst="wedgeRectCallout">
            <a:avLst>
              <a:gd name="adj1" fmla="val -256731"/>
              <a:gd name="adj2" fmla="val 208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omitted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2CE4-DED6-4022-9D8F-75953F4D5EF3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lists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 (l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listed eleme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3000" y="3714840"/>
            <a:ext cx="7086600" cy="628560"/>
            <a:chOff x="1143000" y="3714840"/>
            <a:chExt cx="7086600" cy="628560"/>
          </a:xfrm>
        </p:grpSpPr>
        <p:sp>
          <p:nvSpPr>
            <p:cNvPr id="135" name=""/>
            <p:cNvSpPr/>
            <p:nvPr/>
          </p:nvSpPr>
          <p:spPr>
            <a:xfrm>
              <a:off x="2819520" y="371484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1280" y="37148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29200" y="3714840"/>
              <a:ext cx="91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7280" y="37148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15200" y="3714840"/>
              <a:ext cx="914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396396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3952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39528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39528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39528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39528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9400" y="39528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0" y="38098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3400" y="3952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38098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43000" y="5467320"/>
            <a:ext cx="6248520" cy="705600"/>
            <a:chOff x="1143000" y="5467320"/>
            <a:chExt cx="6248520" cy="705600"/>
          </a:xfrm>
        </p:grpSpPr>
        <p:sp>
          <p:nvSpPr>
            <p:cNvPr id="151" name=""/>
            <p:cNvSpPr/>
            <p:nvPr/>
          </p:nvSpPr>
          <p:spPr>
            <a:xfrm>
              <a:off x="1143000" y="5562720"/>
              <a:ext cx="1447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6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1280" y="570564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570564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70564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57056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19520" y="570564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9520" y="546732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54673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3400" y="54673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05520" y="546732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57056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29400" y="54673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1320" y="5467320"/>
              <a:ext cx="9144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4629240"/>
            <a:ext cx="7086600" cy="628560"/>
            <a:chOff x="1143000" y="4629240"/>
            <a:chExt cx="7086600" cy="628560"/>
          </a:xfrm>
        </p:grpSpPr>
        <p:sp>
          <p:nvSpPr>
            <p:cNvPr id="165" name=""/>
            <p:cNvSpPr/>
            <p:nvPr/>
          </p:nvSpPr>
          <p:spPr>
            <a:xfrm>
              <a:off x="1143000" y="487692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lis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48672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9520" y="48672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1280" y="46292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5520" y="48672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7280" y="48672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486720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48672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3400" y="486720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724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4724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5200" y="4629240"/>
              <a:ext cx="914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43200" y="4629240"/>
              <a:ext cx="914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76520" y="3257640"/>
            <a:ext cx="6400800" cy="317520"/>
            <a:chOff x="1676520" y="3257640"/>
            <a:chExt cx="6400800" cy="317520"/>
          </a:xfrm>
        </p:grpSpPr>
        <p:sp>
          <p:nvSpPr>
            <p:cNvPr id="179" name=""/>
            <p:cNvSpPr/>
            <p:nvPr/>
          </p:nvSpPr>
          <p:spPr>
            <a:xfrm>
              <a:off x="3962520" y="3270240"/>
              <a:ext cx="1447560" cy="291960"/>
            </a:xfrm>
            <a:prstGeom prst="wedgeRectCallout">
              <a:avLst>
                <a:gd name="adj1" fmla="val 43421"/>
                <a:gd name="adj2" fmla="val 20652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as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81680" y="3270240"/>
              <a:ext cx="1295640" cy="304920"/>
            </a:xfrm>
            <a:prstGeom prst="wedgeRectCallout">
              <a:avLst>
                <a:gd name="adj1" fmla="val -70097"/>
                <a:gd name="adj2" fmla="val 20416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unoccup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6520" y="3257640"/>
              <a:ext cx="1447560" cy="291960"/>
            </a:xfrm>
            <a:prstGeom prst="wedgeRectCallout">
              <a:avLst>
                <a:gd name="adj1" fmla="val 45175"/>
                <a:gd name="adj2" fmla="val 20652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firs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D282-0C68-4568-83C9-CDDC463AFC32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Li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[] elem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Lis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xle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[maxlen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C71F-640C-4154-BEED-CC20766DCFB2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quence of elements, whose order is significa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can added and removed anywhere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list is the number of elements it co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has length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is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ist containing all the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lowed by all the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list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ng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ist) means visiting each of the list’s elements in turn, in some desired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3365-5735-4615-A92A-57CEB08456F4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&lt; 0 || i &gt;= length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s[i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0932-7B7B-4F6F-8402-F41FF9FD6417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Object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&lt; 0 || i &gt; length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ength == elems.length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= length; j &gt; i; j--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j] = elems[j-1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i]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++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E08D-3108-44B7-8B3D-07942DD928E4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iterato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A6C8-1069-4140-86D4-345EFB971F3D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iterators ov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R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left-to-right iterator over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rray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ce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CC55-A1DA-479B-8E3E-6850260F0230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itera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Nex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lace &lt; length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nex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lace &gt;= length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s[place++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217B-060F-4846-BBDD-2099F9B8B21A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8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R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ner clas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s instance methods can ac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variables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9480" y="3352680"/>
            <a:ext cx="4114800" cy="1981080"/>
            <a:chOff x="609480" y="3352680"/>
            <a:chExt cx="4114800" cy="1981080"/>
          </a:xfrm>
        </p:grpSpPr>
        <p:sp>
          <p:nvSpPr>
            <p:cNvPr id="204" name=""/>
            <p:cNvSpPr/>
            <p:nvPr/>
          </p:nvSpPr>
          <p:spPr>
            <a:xfrm>
              <a:off x="1295280" y="50288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7920" y="51814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501948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62520" y="4781160"/>
              <a:ext cx="7617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0400" y="501948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501948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RIt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4781160"/>
              <a:ext cx="9144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0400" y="478116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480" y="500976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5120" y="3352680"/>
              <a:ext cx="1676160" cy="1828800"/>
            </a:xfrm>
            <a:custGeom>
              <a:avLst/>
              <a:gdLst/>
              <a:ahLst/>
              <a:rect l="l" t="t" r="r" b="b"/>
              <a:pathLst>
                <a:path w="1056" h="1152">
                  <a:moveTo>
                    <a:pt x="1056" y="1152"/>
                  </a:moveTo>
                  <a:lnTo>
                    <a:pt x="0" y="336"/>
                  </a:lnTo>
                  <a:lnTo>
                    <a:pt x="0" y="192"/>
                  </a:lnTo>
                  <a:lnTo>
                    <a:pt x="2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791320" y="4800600"/>
            <a:ext cx="2743200" cy="914400"/>
          </a:xfrm>
          <a:prstGeom prst="wedgeRectCallout">
            <a:avLst>
              <a:gd name="adj1" fmla="val -84490"/>
              <a:gd name="adj2" fmla="val -1111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terator construc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iter =</a:t>
            </a:r>
            <a:br>
              <a:rPr sz="1800"/>
            </a:b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  tour.itera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480" y="2895480"/>
            <a:ext cx="8382240" cy="1447560"/>
            <a:chOff x="609480" y="2895480"/>
            <a:chExt cx="8382240" cy="1447560"/>
          </a:xfrm>
        </p:grpSpPr>
        <p:sp>
          <p:nvSpPr>
            <p:cNvPr id="216" name=""/>
            <p:cNvSpPr/>
            <p:nvPr/>
          </p:nvSpPr>
          <p:spPr>
            <a:xfrm>
              <a:off x="5181480" y="40287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43600" y="40287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402876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67480" y="40287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19720" y="402876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37908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3790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3600" y="3790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5720" y="37908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7480" y="3790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40287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3200" y="402876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[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3200" y="3790800"/>
              <a:ext cx="914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7600" y="3790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314316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7920" y="3295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2520" y="313344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289548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313344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313344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ray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2895480"/>
              <a:ext cx="914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89548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480" y="312408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38280" y="327636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720" y="0"/>
                  </a:moveTo>
                  <a:lnTo>
                    <a:pt x="0" y="480"/>
                  </a:lnTo>
                  <a:lnTo>
                    <a:pt x="0" y="576"/>
                  </a:lnTo>
                  <a:lnTo>
                    <a:pt x="1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9600" y="40287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3790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1A98-D7B3-4A06-8639-5CD8B7BE7003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lists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list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SLL, with link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oth e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3000" y="3505320"/>
            <a:ext cx="7238880" cy="609480"/>
            <a:chOff x="1143000" y="3505320"/>
            <a:chExt cx="7238880" cy="609480"/>
          </a:xfrm>
        </p:grpSpPr>
        <p:sp>
          <p:nvSpPr>
            <p:cNvPr id="246" name=""/>
            <p:cNvSpPr/>
            <p:nvPr/>
          </p:nvSpPr>
          <p:spPr>
            <a:xfrm>
              <a:off x="1143000" y="351468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35053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5320" y="350532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350532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480" y="350532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66880" y="36576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365760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7080" y="36576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9600" y="3657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36576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657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3809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3733920"/>
              <a:ext cx="4800600" cy="228600"/>
            </a:xfrm>
            <a:custGeom>
              <a:avLst/>
              <a:gdLst/>
              <a:ahLst/>
              <a:rect l="l" t="t" r="r" b="b"/>
              <a:pathLst>
                <a:path w="3024" h="144">
                  <a:moveTo>
                    <a:pt x="0" y="144"/>
                  </a:moveTo>
                  <a:lnTo>
                    <a:pt x="2832" y="144"/>
                  </a:lnTo>
                  <a:lnTo>
                    <a:pt x="302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971800" y="2971800"/>
            <a:ext cx="5486400" cy="339840"/>
            <a:chOff x="2971800" y="2971800"/>
            <a:chExt cx="5486400" cy="339840"/>
          </a:xfrm>
        </p:grpSpPr>
        <p:sp>
          <p:nvSpPr>
            <p:cNvPr id="260" name=""/>
            <p:cNvSpPr/>
            <p:nvPr/>
          </p:nvSpPr>
          <p:spPr>
            <a:xfrm>
              <a:off x="2971800" y="2971800"/>
              <a:ext cx="1523880" cy="339840"/>
            </a:xfrm>
            <a:prstGeom prst="wedgeRectCallout">
              <a:avLst>
                <a:gd name="adj1" fmla="val 17083"/>
                <a:gd name="adj2" fmla="val 129439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firs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2971800"/>
              <a:ext cx="1523880" cy="339840"/>
            </a:xfrm>
            <a:prstGeom prst="wedgeRectCallout">
              <a:avLst>
                <a:gd name="adj1" fmla="val 16249"/>
                <a:gd name="adj2" fmla="val 129439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las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066680" y="4454640"/>
            <a:ext cx="1752840" cy="609480"/>
            <a:chOff x="1066680" y="4454640"/>
            <a:chExt cx="1752840" cy="609480"/>
          </a:xfrm>
        </p:grpSpPr>
        <p:sp>
          <p:nvSpPr>
            <p:cNvPr id="263" name=""/>
            <p:cNvSpPr/>
            <p:nvPr/>
          </p:nvSpPr>
          <p:spPr>
            <a:xfrm>
              <a:off x="1066680" y="445464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lis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44546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4606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2514600" y="4759200"/>
              <a:ext cx="304920" cy="304920"/>
              <a:chOff x="2514600" y="4759200"/>
              <a:chExt cx="304920" cy="304920"/>
            </a:xfrm>
          </p:grpSpPr>
          <p:sp>
            <p:nvSpPr>
              <p:cNvPr id="267" name=""/>
              <p:cNvSpPr/>
              <p:nvPr/>
            </p:nvSpPr>
            <p:spPr>
              <a:xfrm>
                <a:off x="2514600" y="4759200"/>
                <a:ext cx="304920" cy="304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66880" y="49114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66680" y="5369040"/>
            <a:ext cx="7467840" cy="650880"/>
            <a:chOff x="1066680" y="5369040"/>
            <a:chExt cx="7467840" cy="650880"/>
          </a:xfrm>
        </p:grpSpPr>
        <p:sp>
          <p:nvSpPr>
            <p:cNvPr id="270" name=""/>
            <p:cNvSpPr/>
            <p:nvPr/>
          </p:nvSpPr>
          <p:spPr>
            <a:xfrm>
              <a:off x="1066680" y="5369040"/>
              <a:ext cx="13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4600" y="5410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532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692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H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5562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5562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146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D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38680" y="5562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012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10280" y="5562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188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6880" y="5638680"/>
              <a:ext cx="4953240" cy="228600"/>
            </a:xfrm>
            <a:custGeom>
              <a:avLst/>
              <a:gdLst/>
              <a:ahLst/>
              <a:rect l="l" t="t" r="r" b="b"/>
              <a:pathLst>
                <a:path w="3120" h="144">
                  <a:moveTo>
                    <a:pt x="0" y="144"/>
                  </a:moveTo>
                  <a:lnTo>
                    <a:pt x="2928" y="144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1C7E-B6C9-44AC-ADFB-1D32ED350A05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Li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first, la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Li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rst = la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0C32-BE37-4348-A39A-EE68A5AB1C62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xiliary 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no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a link to the node containing the element with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curr = 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= 0; j &lt; i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= curr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ur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4CF8-940F-438C-94D1-188AC6FC1717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&lt; 0 || i &gt;= length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de(i)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47FB-3711-47BE-9BAE-FC2C7C1C39BB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 for lists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The empty list is « 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notation is used here, b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ed by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li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«1, 1, 2, 3, 5, 8, 13, 21, 44, 65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«2001-02-23, 2001-05-05, 2001-11-05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«GLA, LHR, CDG, GLA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le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«‘to’, ‘be’, ‘or’, ‘not’, ‘to’, ‘be’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le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«‘that’, ‘is’, ‘the’, ‘question’»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en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le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le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‘to’, ‘be’, ‘or’, ‘not’, ‘to’, ‘be’, ‘that’, ‘is’, ‘the’, ‘question’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F402-745E-4460-8AA8-BDA49635D64A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Object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&lt; 0 || i &gt; length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newe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(ele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== 0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est.succ = first;  first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pred = node(i-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est.succ = pred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d.succ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ewest.succ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last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++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A707-B864-4D5B-98AF-22538A8AF815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iterato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5FC1-0F58-45CA-A4C6-80E60AF1C738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iterators ov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tera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R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left-to-right iterator ove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Linked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pl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RIterato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ce = 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2A3E-0C89-4882-9180-A65345A8428F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8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itera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Nex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lace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nex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lace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nextElem = place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ce = place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ext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3D3E-FE9A-4945-87EA-8C2E50709821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9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R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ner clas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s instance methods can ac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4876920"/>
            <a:ext cx="2743200" cy="914400"/>
          </a:xfrm>
          <a:prstGeom prst="wedgeRectCallout">
            <a:avLst>
              <a:gd name="adj1" fmla="val -86342"/>
              <a:gd name="adj2" fmla="val -12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terator construc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iter =</a:t>
            </a:r>
            <a:br>
              <a:rPr sz="1800"/>
            </a:b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  tour.itera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2120" y="3429000"/>
            <a:ext cx="3886200" cy="1981080"/>
            <a:chOff x="762120" y="3429000"/>
            <a:chExt cx="3886200" cy="1981080"/>
          </a:xfrm>
        </p:grpSpPr>
        <p:sp>
          <p:nvSpPr>
            <p:cNvPr id="309" name=""/>
            <p:cNvSpPr/>
            <p:nvPr/>
          </p:nvSpPr>
          <p:spPr>
            <a:xfrm>
              <a:off x="1447920" y="510516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52578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86200" y="5095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6200" y="485748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080" y="5095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509580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RIt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4857480"/>
              <a:ext cx="9144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85748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120" y="50860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7400" y="34290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912" y="1152"/>
                  </a:moveTo>
                  <a:lnTo>
                    <a:pt x="0" y="576"/>
                  </a:lnTo>
                  <a:lnTo>
                    <a:pt x="0" y="192"/>
                  </a:lnTo>
                  <a:lnTo>
                    <a:pt x="2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8280" y="4343400"/>
              <a:ext cx="1828800" cy="91440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1152" y="576"/>
                  </a:moveTo>
                  <a:lnTo>
                    <a:pt x="0" y="96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2971800"/>
            <a:ext cx="7772400" cy="1467000"/>
            <a:chOff x="762120" y="2971800"/>
            <a:chExt cx="7772400" cy="1467000"/>
          </a:xfrm>
        </p:grpSpPr>
        <p:sp>
          <p:nvSpPr>
            <p:cNvPr id="321" name=""/>
            <p:cNvSpPr/>
            <p:nvPr/>
          </p:nvSpPr>
          <p:spPr>
            <a:xfrm>
              <a:off x="1447920" y="32194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3717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14800" y="32097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14800" y="2971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2680" y="32097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38280" y="3209760"/>
              <a:ext cx="91440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ed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2971800"/>
              <a:ext cx="914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52680" y="29718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2120" y="32004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6920" y="3209760"/>
              <a:ext cx="76176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76920" y="297180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57600" y="411480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57600" y="38768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200" y="4114800"/>
              <a:ext cx="91440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L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3200" y="3886200"/>
              <a:ext cx="914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19720" y="387684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19720" y="411480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10280" y="41241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10280" y="38862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4124160"/>
              <a:ext cx="91440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L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5880" y="3886200"/>
              <a:ext cx="914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ass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72400" y="388620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72400" y="4124160"/>
              <a:ext cx="762120" cy="314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4267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38280" y="3352680"/>
              <a:ext cx="1295640" cy="914400"/>
            </a:xfrm>
            <a:custGeom>
              <a:avLst/>
              <a:gdLst/>
              <a:ahLst/>
              <a:rect l="l" t="t" r="r" b="b"/>
              <a:pathLst>
                <a:path w="816" h="576">
                  <a:moveTo>
                    <a:pt x="816" y="0"/>
                  </a:moveTo>
                  <a:lnTo>
                    <a:pt x="0" y="480"/>
                  </a:lnTo>
                  <a:lnTo>
                    <a:pt x="0" y="576"/>
                  </a:lnTo>
                  <a:lnTo>
                    <a:pt x="1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5680" y="3352680"/>
              <a:ext cx="160020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53280" y="4267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5016-A9B6-40E5-AB62-707CDF43955E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ummary of list implement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complexities of mai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43000" y="2133720"/>
          <a:ext cx="7086600" cy="4064040"/>
        </p:xfrm>
        <a:graphic>
          <a:graphicData uri="http://schemas.openxmlformats.org/drawingml/2006/table">
            <a:tbl>
              <a:tblPr/>
              <a:tblGrid>
                <a:gridCol w="2590920"/>
                <a:gridCol w="2286000"/>
                <a:gridCol w="2209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Obj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Obj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7EB2-D373-4337-B8B6-09FE93F23901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s in the Java class librar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the 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ila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the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, representing each list by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the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, representing each list by a D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FDA9-1E75-44E3-961F-873443EAF0ED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implementation of the simple text edi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xtEdi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st tex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xtEdito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ArrayLi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 = -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4267080"/>
            <a:ext cx="2286000" cy="609840"/>
          </a:xfrm>
          <a:prstGeom prst="wedgeRectCallout">
            <a:avLst>
              <a:gd name="adj1" fmla="val -73055"/>
              <a:gd name="adj2" fmla="val -687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GB" sz="1800" spc="-1" strike="noStrike">
                <a:solidFill>
                  <a:srgbClr val="3333cc"/>
                </a:solidFill>
                <a:latin typeface="Courier New"/>
              </a:rPr>
              <a:t> LinkedLi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57FA-4789-4C99-8AC7-3FA6ECCB773E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n &lt; 0 || ln &gt;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siz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 = l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d (String s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el &lt; 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n = sel; ln &lt;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siz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ln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get(ln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ine.indexOf(s) &gt;= 0) { 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 = ln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CB62-1644-4FA7-9F1D-E4A271FAE5BF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Before (String lin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el &lt;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add(sel++, lin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After (String lin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add(++sel, lin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el &lt;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remove(sel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el =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siz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sel--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D12E-9B48-4DDC-8BC8-21AC816E5C43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s vs. linked lis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onfus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T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d-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ADT can be implemented using different data structures (arrays, linked lis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-list data structures can be used to implement many ADTs (e.g., stacks, queues, lists, se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5B17-5CF7-4545-8D6E-F5B98839D842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ad (BufferedReader inpu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 = input.readLin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ine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add(lin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siz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CA01-5CC4-4119-9369-4D46AF02D942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ave (BufferedWriter outpu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 lines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xt.iterato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ines.hasNext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 = (String)lines.nex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(line + "\n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A9FD-A095-42C0-AF29-9FBAE1987DB3}" type="slidenum">
              <a:t>41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applic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ntence is a list of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der of words is signific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word can occur more than once in a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tinerary is a list of places visited on a t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der of places is signific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place can occur more than once in an itiner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g is a list of event records (e.g., equipment faul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vent records are in time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B4C6-7CB6-4D7B-ABFE-A126A108076E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simple text editor that supports insertion and deletion of complete line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load text from a file, or save the text to a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select any line of the tex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 (e.g., by a mouse-cli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earching for the next line matching a given search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delete the selecte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insert a new line, either before or after the selecte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D3DD-7EF9-48FE-95D4-4D2C31FF885F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imple text editor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represent the text being edi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st of lin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the selected lin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ere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length of text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1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mp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implement the user commands straightforwardly in terms of list operations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ve l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b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d the new line as l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add the new line as l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ver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ing each line to the output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2901-E4DF-4248-8A81-F5DC51E2269E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ADT: requiremen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make a list empty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list is empty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obtain the length of a list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an element anywhere in a list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move an element anywhere in a list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inspect or update an element anywhere in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ncatenate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lists for e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raverse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4A99-FE93-456C-B3D9-82900F00EB06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st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n indexed list whose elements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list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is list’s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FFAE-FBA7-49A4-BCD4-135D5D0CDD31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3T17:07:03Z</dcterms:modified>
  <cp:revision>243</cp:revision>
  <dc:subject/>
  <dc:title>Formalizing the Dynamic Semantics of Java</dc:title>
</cp:coreProperties>
</file>