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BCA0-5B58-4510-B3D0-B64238600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E242-0B96-4F5A-9DC4-3B97ED2CB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5E10-946E-4DB4-8838-7B88F1823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B5C7-9506-4920-9D82-48B17E9D8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1D23-664C-46E5-B8AF-8CAF4CF1E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848D-55DC-4A8F-A5CC-9776E63B8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43F8-6575-432A-BA5F-6CA55155E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5C6A-E00B-400F-A65F-B1A2213D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1720"/>
            <a:ext cx="77724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8C33-D596-4A1F-81A7-9846A2507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3767-49DA-427B-BCB8-85DC33357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A0F5-5B3A-4A55-A0A9-AD090B5DB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FFD7-4BAD-4FCC-B495-84CEDEDDE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2004, D.A. Watt and D.F. B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65C8078-C512-42F2-9B48-9BD604130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09480"/>
            <a:ext cx="7772400" cy="16765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16</a:t>
            </a:r>
            <a:br>
              <a:rPr sz="3200"/>
            </a:b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AVL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2590920"/>
            <a:ext cx="77724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ced binary search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L-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EFDB-D21B-4FDF-9BA6-E3FA16765573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 search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VL-tree search algorithm is identical to the BST search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, for an AVL-tree, the height-balanced property guarantees that the time complexity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15EB-C9B5-4475-8035-66AF9EE0C92C}" type="slidenum">
              <a:t>10</a:t>
            </a:fld>
          </a:p>
        </p:txBody>
      </p:sp>
    </p:spTree>
  </p:cSld>
  <p:transition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 insertion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 using BST insertion algorith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 height-balanced property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ow do we restore height balance after inser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unbalanced node with one of its children, and (possibly) one of its grand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e child node belonging to the subtree in which the new node has been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e balance factor of this child node to tell us which kind of rotation to per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5385-2F0E-4B5B-9005-DDA9BDCC7BE0}" type="slidenum">
              <a:t>11</a:t>
            </a:fld>
          </a:p>
        </p:txBody>
      </p:sp>
    </p:spTree>
  </p:cSld>
  <p:transition>
    <p:cover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50600" y="2066760"/>
            <a:ext cx="7708320" cy="1775160"/>
            <a:chOff x="750600" y="2066760"/>
            <a:chExt cx="7708320" cy="1775160"/>
          </a:xfrm>
        </p:grpSpPr>
        <p:sp>
          <p:nvSpPr>
            <p:cNvPr id="244" name=""/>
            <p:cNvSpPr/>
            <p:nvPr/>
          </p:nvSpPr>
          <p:spPr>
            <a:xfrm>
              <a:off x="1863720" y="306360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63720" y="257472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63720" y="353340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70440" y="342252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6200" y="344628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7120" y="293508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8120" y="295740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8160" y="293508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43600" y="295740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05240" y="342252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45000" y="34462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4840" y="3422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6840" y="344628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71920" y="244620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83960" y="24667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371760" y="2520720"/>
              <a:ext cx="1276200" cy="415440"/>
              <a:chOff x="3371760" y="2520720"/>
              <a:chExt cx="1276200" cy="415440"/>
            </a:xfrm>
          </p:grpSpPr>
          <p:sp>
            <p:nvSpPr>
              <p:cNvPr id="260" name=""/>
              <p:cNvSpPr/>
              <p:nvPr/>
            </p:nvSpPr>
            <p:spPr>
              <a:xfrm flipH="1">
                <a:off x="3526920" y="2566440"/>
                <a:ext cx="1066680" cy="31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46440" y="252072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71760" y="2831760"/>
                <a:ext cx="181080" cy="10440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035320" y="2520720"/>
              <a:ext cx="1266840" cy="415440"/>
              <a:chOff x="5035320" y="2520720"/>
              <a:chExt cx="1266840" cy="415440"/>
            </a:xfrm>
          </p:grpSpPr>
          <p:sp>
            <p:nvSpPr>
              <p:cNvPr id="264" name=""/>
              <p:cNvSpPr/>
              <p:nvPr/>
            </p:nvSpPr>
            <p:spPr>
              <a:xfrm>
                <a:off x="5081400" y="2566440"/>
                <a:ext cx="1067040" cy="31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35320" y="25207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24320" y="2831760"/>
                <a:ext cx="177840" cy="104400"/>
              </a:xfrm>
              <a:custGeom>
                <a:avLst/>
                <a:gdLst/>
                <a:ahLst/>
                <a:rect l="l" t="t" r="r" b="b"/>
                <a:pathLst>
                  <a:path w="112" h="66">
                    <a:moveTo>
                      <a:pt x="0" y="66"/>
                    </a:moveTo>
                    <a:lnTo>
                      <a:pt x="112" y="63"/>
                    </a:lnTo>
                    <a:lnTo>
                      <a:pt x="22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572080" y="3009600"/>
              <a:ext cx="539640" cy="409680"/>
              <a:chOff x="5572080" y="3009600"/>
              <a:chExt cx="539640" cy="40968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5699160" y="305568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11640" y="300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72080" y="32763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00520" y="3009600"/>
              <a:ext cx="536400" cy="409680"/>
              <a:chOff x="6500520" y="3009600"/>
              <a:chExt cx="536400" cy="409680"/>
            </a:xfrm>
          </p:grpSpPr>
          <p:sp>
            <p:nvSpPr>
              <p:cNvPr id="272" name=""/>
              <p:cNvSpPr/>
              <p:nvPr/>
            </p:nvSpPr>
            <p:spPr>
              <a:xfrm>
                <a:off x="6546240" y="30556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00520" y="30096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67000" y="32763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908000" y="2079360"/>
              <a:ext cx="24624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643120" y="3009600"/>
              <a:ext cx="539640" cy="409680"/>
              <a:chOff x="2643120" y="3009600"/>
              <a:chExt cx="539640" cy="40968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2768040" y="30556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82680" y="300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43120" y="327636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50600" y="206676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82520" y="2153880"/>
              <a:ext cx="2854440" cy="99720"/>
              <a:chOff x="1982520" y="2153880"/>
              <a:chExt cx="2854440" cy="99720"/>
            </a:xfrm>
          </p:grpSpPr>
          <p:sp>
            <p:nvSpPr>
              <p:cNvPr id="282" name=""/>
              <p:cNvSpPr/>
              <p:nvPr/>
            </p:nvSpPr>
            <p:spPr>
              <a:xfrm>
                <a:off x="2028600" y="219996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82520" y="21538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782960" y="2199960"/>
              <a:ext cx="111240" cy="244440"/>
              <a:chOff x="4782960" y="2199960"/>
              <a:chExt cx="111240" cy="244440"/>
            </a:xfrm>
          </p:grpSpPr>
          <p:sp>
            <p:nvSpPr>
              <p:cNvPr id="285" name=""/>
              <p:cNvSpPr/>
              <p:nvPr/>
            </p:nvSpPr>
            <p:spPr>
              <a:xfrm>
                <a:off x="4836960" y="2199960"/>
                <a:ext cx="180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82960" y="2275920"/>
                <a:ext cx="11124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744960" y="3497040"/>
              <a:ext cx="99720" cy="100080"/>
              <a:chOff x="6744960" y="3497040"/>
              <a:chExt cx="99720" cy="100080"/>
            </a:xfrm>
          </p:grpSpPr>
          <p:sp>
            <p:nvSpPr>
              <p:cNvPr id="288" name=""/>
              <p:cNvSpPr/>
              <p:nvPr/>
            </p:nvSpPr>
            <p:spPr>
              <a:xfrm>
                <a:off x="6791040" y="354312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44960" y="3497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232400" y="3497040"/>
              <a:ext cx="100080" cy="100080"/>
              <a:chOff x="7232400" y="3497040"/>
              <a:chExt cx="100080" cy="100080"/>
            </a:xfrm>
          </p:grpSpPr>
          <p:sp>
            <p:nvSpPr>
              <p:cNvPr id="291" name=""/>
              <p:cNvSpPr/>
              <p:nvPr/>
            </p:nvSpPr>
            <p:spPr>
              <a:xfrm>
                <a:off x="7278480" y="354312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32400" y="3497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279760" y="3497040"/>
              <a:ext cx="100080" cy="100080"/>
              <a:chOff x="5279760" y="3497040"/>
              <a:chExt cx="100080" cy="100080"/>
            </a:xfrm>
          </p:grpSpPr>
          <p:sp>
            <p:nvSpPr>
              <p:cNvPr id="294" name=""/>
              <p:cNvSpPr/>
              <p:nvPr/>
            </p:nvSpPr>
            <p:spPr>
              <a:xfrm>
                <a:off x="5325840" y="354312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79760" y="3497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767200" y="3497040"/>
              <a:ext cx="101520" cy="100080"/>
              <a:chOff x="5767200" y="3497040"/>
              <a:chExt cx="101520" cy="1000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15080" y="354312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67200" y="3497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871720" y="3485880"/>
              <a:ext cx="100080" cy="100080"/>
              <a:chOff x="2871720" y="3485880"/>
              <a:chExt cx="100080" cy="100080"/>
            </a:xfrm>
          </p:grpSpPr>
          <p:sp>
            <p:nvSpPr>
              <p:cNvPr id="300" name=""/>
              <p:cNvSpPr/>
              <p:nvPr/>
            </p:nvSpPr>
            <p:spPr>
              <a:xfrm>
                <a:off x="2917800" y="35319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71720" y="34858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570120" y="3009600"/>
              <a:ext cx="100080" cy="100080"/>
              <a:chOff x="3570120" y="3009600"/>
              <a:chExt cx="100080" cy="100080"/>
            </a:xfrm>
          </p:grpSpPr>
          <p:sp>
            <p:nvSpPr>
              <p:cNvPr id="303" name=""/>
              <p:cNvSpPr/>
              <p:nvPr/>
            </p:nvSpPr>
            <p:spPr>
              <a:xfrm>
                <a:off x="3616200" y="305568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70120" y="3009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349360" y="3497040"/>
              <a:ext cx="100080" cy="100080"/>
              <a:chOff x="2349360" y="3497040"/>
              <a:chExt cx="100080" cy="100080"/>
            </a:xfrm>
          </p:grpSpPr>
          <p:sp>
            <p:nvSpPr>
              <p:cNvPr id="306" name=""/>
              <p:cNvSpPr/>
              <p:nvPr/>
            </p:nvSpPr>
            <p:spPr>
              <a:xfrm>
                <a:off x="2395440" y="354312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49360" y="3497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2582280" y="3659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5000" y="3659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48080" y="3659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55720" y="318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03360" y="31874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14280" y="272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39360" y="34430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39360" y="29574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39360" y="24714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50960" y="4121280"/>
            <a:ext cx="7707960" cy="2260800"/>
            <a:chOff x="750960" y="4121280"/>
            <a:chExt cx="7707960" cy="2260800"/>
          </a:xfrm>
        </p:grpSpPr>
        <p:sp>
          <p:nvSpPr>
            <p:cNvPr id="318" name=""/>
            <p:cNvSpPr/>
            <p:nvPr/>
          </p:nvSpPr>
          <p:spPr>
            <a:xfrm>
              <a:off x="1863720" y="608328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39360" y="59929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63720" y="511812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63720" y="462924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3720" y="558828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87840" y="596268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73600" y="598644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54520" y="547524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5520" y="549756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08160" y="498960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43600" y="501192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22640" y="596268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62400" y="598644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74840" y="547704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6840" y="550080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71920" y="45007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83960" y="452124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371760" y="4575240"/>
              <a:ext cx="1276200" cy="416160"/>
              <a:chOff x="3371760" y="4575240"/>
              <a:chExt cx="1276200" cy="4161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3526920" y="4621320"/>
                <a:ext cx="106668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46440" y="45752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71760" y="488664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289480" y="5550120"/>
              <a:ext cx="539640" cy="408960"/>
              <a:chOff x="5289480" y="5550120"/>
              <a:chExt cx="539640" cy="40896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5416560" y="559584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29040" y="55501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89480" y="581652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217920" y="5550120"/>
              <a:ext cx="536400" cy="408960"/>
              <a:chOff x="6217920" y="5550120"/>
              <a:chExt cx="536400" cy="408960"/>
            </a:xfrm>
          </p:grpSpPr>
          <p:sp>
            <p:nvSpPr>
              <p:cNvPr id="344" name=""/>
              <p:cNvSpPr/>
              <p:nvPr/>
            </p:nvSpPr>
            <p:spPr>
              <a:xfrm>
                <a:off x="6263640" y="5595840"/>
                <a:ext cx="3603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17920" y="555012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84400" y="5816520"/>
                <a:ext cx="16992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908000" y="4133880"/>
              <a:ext cx="24624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643120" y="5064120"/>
              <a:ext cx="539640" cy="409680"/>
              <a:chOff x="2643120" y="5064120"/>
              <a:chExt cx="539640" cy="40968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2768040" y="511020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82680" y="50641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43120" y="53308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750960" y="4121280"/>
              <a:ext cx="823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B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er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‘dog’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982520" y="4208760"/>
              <a:ext cx="2854440" cy="99720"/>
              <a:chOff x="1982520" y="4208760"/>
              <a:chExt cx="2854440" cy="9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2028600" y="42548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82520" y="42087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782960" y="4254480"/>
              <a:ext cx="111240" cy="244440"/>
              <a:chOff x="4782960" y="4254480"/>
              <a:chExt cx="111240" cy="244440"/>
            </a:xfrm>
          </p:grpSpPr>
          <p:sp>
            <p:nvSpPr>
              <p:cNvPr id="357" name=""/>
              <p:cNvSpPr/>
              <p:nvPr/>
            </p:nvSpPr>
            <p:spPr>
              <a:xfrm>
                <a:off x="4836960" y="4254480"/>
                <a:ext cx="180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82960" y="4330440"/>
                <a:ext cx="11124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462720" y="6037560"/>
              <a:ext cx="99720" cy="99720"/>
              <a:chOff x="6462720" y="6037560"/>
              <a:chExt cx="99720" cy="99720"/>
            </a:xfrm>
          </p:grpSpPr>
          <p:sp>
            <p:nvSpPr>
              <p:cNvPr id="360" name=""/>
              <p:cNvSpPr/>
              <p:nvPr/>
            </p:nvSpPr>
            <p:spPr>
              <a:xfrm>
                <a:off x="6508800" y="608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62720" y="603756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949800" y="6037560"/>
              <a:ext cx="100080" cy="99720"/>
              <a:chOff x="6949800" y="6037560"/>
              <a:chExt cx="100080" cy="99720"/>
            </a:xfrm>
          </p:grpSpPr>
          <p:sp>
            <p:nvSpPr>
              <p:cNvPr id="363" name=""/>
              <p:cNvSpPr/>
              <p:nvPr/>
            </p:nvSpPr>
            <p:spPr>
              <a:xfrm>
                <a:off x="6995880" y="60832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49800" y="6037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997160" y="6037560"/>
              <a:ext cx="100080" cy="99720"/>
              <a:chOff x="4997160" y="6037560"/>
              <a:chExt cx="100080" cy="99720"/>
            </a:xfrm>
          </p:grpSpPr>
          <p:sp>
            <p:nvSpPr>
              <p:cNvPr id="366" name=""/>
              <p:cNvSpPr/>
              <p:nvPr/>
            </p:nvSpPr>
            <p:spPr>
              <a:xfrm>
                <a:off x="5043240" y="60832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97160" y="6037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484600" y="6037560"/>
              <a:ext cx="101520" cy="99720"/>
              <a:chOff x="5484600" y="6037560"/>
              <a:chExt cx="101520" cy="99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532480" y="608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84600" y="603756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570120" y="5064120"/>
              <a:ext cx="100080" cy="100080"/>
              <a:chOff x="3570120" y="5064120"/>
              <a:chExt cx="100080" cy="100080"/>
            </a:xfrm>
          </p:grpSpPr>
          <p:sp>
            <p:nvSpPr>
              <p:cNvPr id="372" name=""/>
              <p:cNvSpPr/>
              <p:nvPr/>
            </p:nvSpPr>
            <p:spPr>
              <a:xfrm>
                <a:off x="3616200" y="511020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570120" y="50641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349360" y="5551560"/>
              <a:ext cx="100080" cy="100080"/>
              <a:chOff x="2349360" y="5551560"/>
              <a:chExt cx="100080" cy="100080"/>
            </a:xfrm>
          </p:grpSpPr>
          <p:sp>
            <p:nvSpPr>
              <p:cNvPr id="375" name=""/>
              <p:cNvSpPr/>
              <p:nvPr/>
            </p:nvSpPr>
            <p:spPr>
              <a:xfrm>
                <a:off x="2395440" y="559764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49360" y="55515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2555280" y="571356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52400" y="6199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65480" y="6199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3120" y="572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74920" y="5241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87640" y="4776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39360" y="549756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39360" y="50119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39360" y="45259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47760" y="595944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86080" y="5964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877840" y="5546880"/>
              <a:ext cx="536400" cy="409680"/>
              <a:chOff x="2877840" y="5546880"/>
              <a:chExt cx="536400" cy="409680"/>
            </a:xfrm>
          </p:grpSpPr>
          <p:sp>
            <p:nvSpPr>
              <p:cNvPr id="389" name=""/>
              <p:cNvSpPr/>
              <p:nvPr/>
            </p:nvSpPr>
            <p:spPr>
              <a:xfrm>
                <a:off x="2923560" y="559296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7840" y="554688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44320" y="581364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122280" y="6034320"/>
              <a:ext cx="99720" cy="100080"/>
              <a:chOff x="3122280" y="6034320"/>
              <a:chExt cx="99720" cy="100080"/>
            </a:xfrm>
          </p:grpSpPr>
          <p:sp>
            <p:nvSpPr>
              <p:cNvPr id="393" name=""/>
              <p:cNvSpPr/>
              <p:nvPr/>
            </p:nvSpPr>
            <p:spPr>
              <a:xfrm>
                <a:off x="3168360" y="608040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22280" y="603432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609720" y="6034320"/>
              <a:ext cx="100080" cy="100080"/>
              <a:chOff x="3609720" y="6034320"/>
              <a:chExt cx="100080" cy="10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3655800" y="608040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609720" y="60343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425400" y="6196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035320" y="4581720"/>
              <a:ext cx="1004400" cy="931680"/>
              <a:chOff x="5035320" y="4581720"/>
              <a:chExt cx="1004400" cy="9316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5035320" y="4581720"/>
                <a:ext cx="100080" cy="100080"/>
                <a:chOff x="5035320" y="4581720"/>
                <a:chExt cx="100080" cy="100080"/>
              </a:xfrm>
            </p:grpSpPr>
            <p:sp>
              <p:nvSpPr>
                <p:cNvPr id="401" name=""/>
                <p:cNvSpPr/>
                <p:nvPr/>
              </p:nvSpPr>
              <p:spPr>
                <a:xfrm flipH="1">
                  <a:off x="5087880" y="4627800"/>
                  <a:ext cx="1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5035320" y="4581720"/>
                  <a:ext cx="100080" cy="10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5090760" y="4632480"/>
                <a:ext cx="911520" cy="801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14155800">
                <a:off x="5858280" y="535860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FF64-EB8B-47CC-B6EB-82C25EB0D134}" type="slidenum">
              <a:t>12</a:t>
            </a:fld>
          </a:p>
        </p:txBody>
      </p:sp>
    </p:spTree>
  </p:cSld>
  <p:transition>
    <p:cover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50960" y="2079720"/>
            <a:ext cx="7707960" cy="1780920"/>
            <a:chOff x="750960" y="2079720"/>
            <a:chExt cx="7707960" cy="1780920"/>
          </a:xfrm>
        </p:grpSpPr>
        <p:sp>
          <p:nvSpPr>
            <p:cNvPr id="408" name=""/>
            <p:cNvSpPr/>
            <p:nvPr/>
          </p:nvSpPr>
          <p:spPr>
            <a:xfrm>
              <a:off x="1863720" y="307620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63720" y="258732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3720" y="354600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70440" y="3435120"/>
              <a:ext cx="73512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6200" y="345888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37120" y="2947680"/>
              <a:ext cx="73512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98120" y="297000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8160" y="2947680"/>
              <a:ext cx="735120" cy="24552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3240" y="29700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05240" y="3435120"/>
              <a:ext cx="73512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45000" y="34588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74840" y="3435120"/>
              <a:ext cx="734760" cy="24552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26840" y="345888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71920" y="2458800"/>
              <a:ext cx="73476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83960" y="24793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371760" y="2533320"/>
              <a:ext cx="1276200" cy="415080"/>
              <a:chOff x="3371760" y="2533320"/>
              <a:chExt cx="1276200" cy="41508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3526920" y="2579040"/>
                <a:ext cx="106668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46440" y="253332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71760" y="2844000"/>
                <a:ext cx="181080" cy="10440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5035320" y="2533320"/>
              <a:ext cx="1266840" cy="415080"/>
              <a:chOff x="5035320" y="2533320"/>
              <a:chExt cx="1266840" cy="415080"/>
            </a:xfrm>
          </p:grpSpPr>
          <p:sp>
            <p:nvSpPr>
              <p:cNvPr id="428" name=""/>
              <p:cNvSpPr/>
              <p:nvPr/>
            </p:nvSpPr>
            <p:spPr>
              <a:xfrm>
                <a:off x="5081400" y="2579040"/>
                <a:ext cx="1067040" cy="31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35320" y="25333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24320" y="2844000"/>
                <a:ext cx="177840" cy="104400"/>
              </a:xfrm>
              <a:custGeom>
                <a:avLst/>
                <a:gdLst/>
                <a:ahLst/>
                <a:rect l="l" t="t" r="r" b="b"/>
                <a:pathLst>
                  <a:path w="112" h="66">
                    <a:moveTo>
                      <a:pt x="0" y="66"/>
                    </a:moveTo>
                    <a:lnTo>
                      <a:pt x="112" y="63"/>
                    </a:lnTo>
                    <a:lnTo>
                      <a:pt x="22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572080" y="3022200"/>
              <a:ext cx="539640" cy="408960"/>
              <a:chOff x="5572080" y="3022200"/>
              <a:chExt cx="539640" cy="40896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699160" y="306792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011640" y="30222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72080" y="328860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00520" y="3022200"/>
              <a:ext cx="536400" cy="408960"/>
              <a:chOff x="6500520" y="3022200"/>
              <a:chExt cx="536400" cy="408960"/>
            </a:xfrm>
          </p:grpSpPr>
          <p:sp>
            <p:nvSpPr>
              <p:cNvPr id="436" name=""/>
              <p:cNvSpPr/>
              <p:nvPr/>
            </p:nvSpPr>
            <p:spPr>
              <a:xfrm>
                <a:off x="6546240" y="3067920"/>
                <a:ext cx="3603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00520" y="302220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7000" y="3288600"/>
                <a:ext cx="16992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908000" y="2091960"/>
              <a:ext cx="24624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643120" y="3022200"/>
              <a:ext cx="539640" cy="408960"/>
              <a:chOff x="2643120" y="3022200"/>
              <a:chExt cx="539640" cy="40896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2768040" y="3067920"/>
                <a:ext cx="3603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82680" y="30222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43120" y="3288600"/>
                <a:ext cx="166680" cy="14256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750960" y="2079720"/>
              <a:ext cx="980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rotatio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‘fox’, i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ild, and i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randchild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1982520" y="2166480"/>
              <a:ext cx="2854440" cy="99720"/>
              <a:chOff x="1982520" y="2166480"/>
              <a:chExt cx="2854440" cy="99720"/>
            </a:xfrm>
          </p:grpSpPr>
          <p:sp>
            <p:nvSpPr>
              <p:cNvPr id="446" name=""/>
              <p:cNvSpPr/>
              <p:nvPr/>
            </p:nvSpPr>
            <p:spPr>
              <a:xfrm>
                <a:off x="2028600" y="221256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82520" y="21664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782960" y="2212560"/>
              <a:ext cx="111240" cy="243720"/>
              <a:chOff x="4782960" y="2212560"/>
              <a:chExt cx="111240" cy="24372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6960" y="2212560"/>
                <a:ext cx="1800" cy="8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82960" y="2288160"/>
                <a:ext cx="111240" cy="16812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744960" y="3509640"/>
              <a:ext cx="99720" cy="99720"/>
              <a:chOff x="6744960" y="3509640"/>
              <a:chExt cx="99720" cy="9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6791040" y="3555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44960" y="350964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232400" y="3509640"/>
              <a:ext cx="100080" cy="99720"/>
              <a:chOff x="7232400" y="3509640"/>
              <a:chExt cx="100080" cy="9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278480" y="3555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32400" y="35096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279760" y="3509640"/>
              <a:ext cx="100080" cy="99720"/>
              <a:chOff x="5279760" y="3509640"/>
              <a:chExt cx="100080" cy="9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5325840" y="3555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279760" y="35096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767200" y="3509640"/>
              <a:ext cx="101520" cy="99720"/>
              <a:chOff x="5767200" y="3509640"/>
              <a:chExt cx="101520" cy="9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5815080" y="3555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67200" y="350964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871720" y="3498480"/>
              <a:ext cx="100080" cy="99720"/>
              <a:chOff x="2871720" y="3498480"/>
              <a:chExt cx="100080" cy="99720"/>
            </a:xfrm>
          </p:grpSpPr>
          <p:sp>
            <p:nvSpPr>
              <p:cNvPr id="464" name=""/>
              <p:cNvSpPr/>
              <p:nvPr/>
            </p:nvSpPr>
            <p:spPr>
              <a:xfrm>
                <a:off x="2917800" y="3544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71720" y="34984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349360" y="3509640"/>
              <a:ext cx="100080" cy="99720"/>
              <a:chOff x="2349360" y="3509640"/>
              <a:chExt cx="100080" cy="99720"/>
            </a:xfrm>
          </p:grpSpPr>
          <p:sp>
            <p:nvSpPr>
              <p:cNvPr id="467" name=""/>
              <p:cNvSpPr/>
              <p:nvPr/>
            </p:nvSpPr>
            <p:spPr>
              <a:xfrm>
                <a:off x="2395440" y="3555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49360" y="35096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582280" y="367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35000" y="367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48080" y="367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55720" y="3200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03000" y="3200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14280" y="273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39360" y="34556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39360" y="29700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39360" y="24840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33560" y="3441240"/>
              <a:ext cx="7351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4200" y="346536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563640" y="3028680"/>
              <a:ext cx="536400" cy="408960"/>
              <a:chOff x="3563640" y="3028680"/>
              <a:chExt cx="536400" cy="408960"/>
            </a:xfrm>
          </p:grpSpPr>
          <p:sp>
            <p:nvSpPr>
              <p:cNvPr id="481" name=""/>
              <p:cNvSpPr/>
              <p:nvPr/>
            </p:nvSpPr>
            <p:spPr>
              <a:xfrm>
                <a:off x="3609360" y="3074400"/>
                <a:ext cx="3603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63640" y="302868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30120" y="3295080"/>
                <a:ext cx="16992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808080" y="3516120"/>
              <a:ext cx="99720" cy="99360"/>
              <a:chOff x="3808080" y="3516120"/>
              <a:chExt cx="99720" cy="99360"/>
            </a:xfrm>
          </p:grpSpPr>
          <p:sp>
            <p:nvSpPr>
              <p:cNvPr id="485" name=""/>
              <p:cNvSpPr/>
              <p:nvPr/>
            </p:nvSpPr>
            <p:spPr>
              <a:xfrm>
                <a:off x="3854160" y="356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8080" y="3516120"/>
                <a:ext cx="9972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295520" y="3516120"/>
              <a:ext cx="100080" cy="99360"/>
              <a:chOff x="4295520" y="3516120"/>
              <a:chExt cx="100080" cy="99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341600" y="356184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95520" y="3516120"/>
                <a:ext cx="10008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111200" y="367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BE11-3C8C-4628-B8F9-073440F97CD3}" type="slidenum">
              <a:t>13</a:t>
            </a:fld>
          </a:p>
        </p:txBody>
      </p:sp>
    </p:spTree>
  </p:cSld>
  <p:transition>
    <p:cover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503280" y="1965240"/>
            <a:ext cx="8100360" cy="2327760"/>
            <a:chOff x="503280" y="1965240"/>
            <a:chExt cx="8100360" cy="2327760"/>
          </a:xfrm>
        </p:grpSpPr>
        <p:sp>
          <p:nvSpPr>
            <p:cNvPr id="493" name=""/>
            <p:cNvSpPr/>
            <p:nvPr/>
          </p:nvSpPr>
          <p:spPr>
            <a:xfrm>
              <a:off x="2008080" y="2514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84080" y="24238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4840" y="3979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4840" y="3498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4840" y="2998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49640" y="239076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04880" y="241596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613400" y="2465280"/>
              <a:ext cx="1755720" cy="432000"/>
              <a:chOff x="4613400" y="2465280"/>
              <a:chExt cx="1755720" cy="432000"/>
            </a:xfrm>
          </p:grpSpPr>
          <p:sp>
            <p:nvSpPr>
              <p:cNvPr id="501" name=""/>
              <p:cNvSpPr/>
              <p:nvPr/>
            </p:nvSpPr>
            <p:spPr>
              <a:xfrm>
                <a:off x="4659480" y="2511360"/>
                <a:ext cx="1549440" cy="33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13400" y="2465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93080" y="279252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03280" y="196524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04080" y="287964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5280" y="290520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14840" y="3854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8680" y="38815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27760" y="3367080"/>
              <a:ext cx="7333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64640" y="339228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38520" y="3854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57760" y="3881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391000" y="2954160"/>
              <a:ext cx="787320" cy="415800"/>
              <a:chOff x="5391000" y="2954160"/>
              <a:chExt cx="787320" cy="41580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5535360" y="2999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78240" y="2954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91000" y="32428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903920" y="3441600"/>
              <a:ext cx="298440" cy="415440"/>
              <a:chOff x="4903920" y="3441600"/>
              <a:chExt cx="298440" cy="415440"/>
            </a:xfrm>
          </p:grpSpPr>
          <p:sp>
            <p:nvSpPr>
              <p:cNvPr id="518" name=""/>
              <p:cNvSpPr/>
              <p:nvPr/>
            </p:nvSpPr>
            <p:spPr>
              <a:xfrm flipH="1">
                <a:off x="4991400" y="348732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00840" y="344160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03920" y="368568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5589720" y="3441600"/>
              <a:ext cx="290520" cy="415440"/>
              <a:chOff x="5589720" y="3441600"/>
              <a:chExt cx="290520" cy="415440"/>
            </a:xfrm>
          </p:grpSpPr>
          <p:sp>
            <p:nvSpPr>
              <p:cNvPr id="522" name=""/>
              <p:cNvSpPr/>
              <p:nvPr/>
            </p:nvSpPr>
            <p:spPr>
              <a:xfrm>
                <a:off x="5635800" y="348732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589720" y="34416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42360" y="368568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566040" y="2954160"/>
              <a:ext cx="779400" cy="415800"/>
              <a:chOff x="6566040" y="2954160"/>
              <a:chExt cx="779400" cy="415800"/>
            </a:xfrm>
          </p:grpSpPr>
          <p:sp>
            <p:nvSpPr>
              <p:cNvPr id="526" name=""/>
              <p:cNvSpPr/>
              <p:nvPr/>
            </p:nvSpPr>
            <p:spPr>
              <a:xfrm>
                <a:off x="6612120" y="2999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66040" y="2954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70840" y="324288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4613400" y="3929040"/>
              <a:ext cx="99720" cy="100080"/>
              <a:chOff x="4613400" y="3929040"/>
              <a:chExt cx="99720" cy="100080"/>
            </a:xfrm>
          </p:grpSpPr>
          <p:sp>
            <p:nvSpPr>
              <p:cNvPr id="530" name=""/>
              <p:cNvSpPr/>
              <p:nvPr/>
            </p:nvSpPr>
            <p:spPr>
              <a:xfrm>
                <a:off x="4659120" y="3975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13400" y="3929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100480" y="3929040"/>
              <a:ext cx="101520" cy="100080"/>
              <a:chOff x="5100480" y="3929040"/>
              <a:chExt cx="101520" cy="100080"/>
            </a:xfrm>
          </p:grpSpPr>
          <p:sp>
            <p:nvSpPr>
              <p:cNvPr id="533" name=""/>
              <p:cNvSpPr/>
              <p:nvPr/>
            </p:nvSpPr>
            <p:spPr>
              <a:xfrm>
                <a:off x="5148000" y="3975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00480" y="3929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589720" y="3929040"/>
              <a:ext cx="99720" cy="100080"/>
              <a:chOff x="5589720" y="3929040"/>
              <a:chExt cx="99720" cy="100080"/>
            </a:xfrm>
          </p:grpSpPr>
          <p:sp>
            <p:nvSpPr>
              <p:cNvPr id="536" name=""/>
              <p:cNvSpPr/>
              <p:nvPr/>
            </p:nvSpPr>
            <p:spPr>
              <a:xfrm>
                <a:off x="5635440" y="3975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9720" y="3929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078600" y="3929040"/>
              <a:ext cx="100080" cy="100080"/>
              <a:chOff x="6078600" y="3929040"/>
              <a:chExt cx="100080" cy="100080"/>
            </a:xfrm>
          </p:grpSpPr>
          <p:sp>
            <p:nvSpPr>
              <p:cNvPr id="539" name=""/>
              <p:cNvSpPr/>
              <p:nvPr/>
            </p:nvSpPr>
            <p:spPr>
              <a:xfrm>
                <a:off x="6124680" y="3975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78600" y="3929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980400" y="336708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69040" y="339228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91160" y="3854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55400" y="38815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6856560" y="3441600"/>
              <a:ext cx="298440" cy="415440"/>
              <a:chOff x="6856560" y="3441600"/>
              <a:chExt cx="298440" cy="41544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6944040" y="348732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54920" y="34416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56560" y="368568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66040" y="3929040"/>
              <a:ext cx="99720" cy="100080"/>
              <a:chOff x="6566040" y="3929040"/>
              <a:chExt cx="99720" cy="100080"/>
            </a:xfrm>
          </p:grpSpPr>
          <p:sp>
            <p:nvSpPr>
              <p:cNvPr id="550" name=""/>
              <p:cNvSpPr/>
              <p:nvPr/>
            </p:nvSpPr>
            <p:spPr>
              <a:xfrm>
                <a:off x="6611760" y="3975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566040" y="3929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054920" y="3929040"/>
              <a:ext cx="100080" cy="100080"/>
              <a:chOff x="7054920" y="3929040"/>
              <a:chExt cx="100080" cy="100080"/>
            </a:xfrm>
          </p:grpSpPr>
          <p:sp>
            <p:nvSpPr>
              <p:cNvPr id="553" name=""/>
              <p:cNvSpPr/>
              <p:nvPr/>
            </p:nvSpPr>
            <p:spPr>
              <a:xfrm>
                <a:off x="7101000" y="3975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54920" y="3929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542360" y="3441600"/>
              <a:ext cx="99720" cy="100080"/>
              <a:chOff x="7542360" y="3441600"/>
              <a:chExt cx="99720" cy="100080"/>
            </a:xfrm>
          </p:grpSpPr>
          <p:sp>
            <p:nvSpPr>
              <p:cNvPr id="556" name=""/>
              <p:cNvSpPr/>
              <p:nvPr/>
            </p:nvSpPr>
            <p:spPr>
              <a:xfrm>
                <a:off x="7588080" y="3487680"/>
                <a:ext cx="1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42360" y="34416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1509840" y="2020680"/>
              <a:ext cx="24588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584360" y="2095560"/>
              <a:ext cx="2854440" cy="99720"/>
              <a:chOff x="1584360" y="2095560"/>
              <a:chExt cx="2854440" cy="99720"/>
            </a:xfrm>
          </p:grpSpPr>
          <p:sp>
            <p:nvSpPr>
              <p:cNvPr id="560" name=""/>
              <p:cNvSpPr/>
              <p:nvPr/>
            </p:nvSpPr>
            <p:spPr>
              <a:xfrm>
                <a:off x="1630440" y="21416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84360" y="2095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384800" y="2136600"/>
              <a:ext cx="110880" cy="244440"/>
              <a:chOff x="4384800" y="2136600"/>
              <a:chExt cx="110880" cy="244440"/>
            </a:xfrm>
          </p:grpSpPr>
          <p:sp>
            <p:nvSpPr>
              <p:cNvPr id="563" name=""/>
              <p:cNvSpPr/>
              <p:nvPr/>
            </p:nvSpPr>
            <p:spPr>
              <a:xfrm>
                <a:off x="4438440" y="2136600"/>
                <a:ext cx="144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384800" y="2212560"/>
                <a:ext cx="11088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3297240" y="385740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43840" y="38844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09800" y="3370320"/>
              <a:ext cx="7336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47040" y="339552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371760" y="3444840"/>
              <a:ext cx="290520" cy="415440"/>
              <a:chOff x="3371760" y="3444840"/>
              <a:chExt cx="290520" cy="415440"/>
            </a:xfrm>
          </p:grpSpPr>
          <p:sp>
            <p:nvSpPr>
              <p:cNvPr id="570" name=""/>
              <p:cNvSpPr/>
              <p:nvPr/>
            </p:nvSpPr>
            <p:spPr>
              <a:xfrm>
                <a:off x="3417840" y="349056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71760" y="3444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4400" y="368892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868480" y="3443400"/>
              <a:ext cx="100080" cy="99720"/>
              <a:chOff x="2868480" y="3443400"/>
              <a:chExt cx="100080" cy="99720"/>
            </a:xfrm>
          </p:grpSpPr>
          <p:sp>
            <p:nvSpPr>
              <p:cNvPr id="574" name=""/>
              <p:cNvSpPr/>
              <p:nvPr/>
            </p:nvSpPr>
            <p:spPr>
              <a:xfrm>
                <a:off x="2914560" y="348912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68480" y="34434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371760" y="3932280"/>
              <a:ext cx="100080" cy="100080"/>
              <a:chOff x="3371760" y="3932280"/>
              <a:chExt cx="100080" cy="100080"/>
            </a:xfrm>
          </p:grpSpPr>
          <p:sp>
            <p:nvSpPr>
              <p:cNvPr id="577" name=""/>
              <p:cNvSpPr/>
              <p:nvPr/>
            </p:nvSpPr>
            <p:spPr>
              <a:xfrm>
                <a:off x="3417840" y="3978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371760" y="3932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860640" y="3932280"/>
              <a:ext cx="100080" cy="100080"/>
              <a:chOff x="3860640" y="3932280"/>
              <a:chExt cx="100080" cy="100080"/>
            </a:xfrm>
          </p:grpSpPr>
          <p:sp>
            <p:nvSpPr>
              <p:cNvPr id="580" name=""/>
              <p:cNvSpPr/>
              <p:nvPr/>
            </p:nvSpPr>
            <p:spPr>
              <a:xfrm>
                <a:off x="3906720" y="3978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60640" y="3932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3220200" y="2465280"/>
              <a:ext cx="1003680" cy="931680"/>
              <a:chOff x="3220200" y="2465280"/>
              <a:chExt cx="1003680" cy="93168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4124160" y="2465280"/>
                <a:ext cx="99720" cy="100080"/>
                <a:chOff x="4124160" y="2465280"/>
                <a:chExt cx="99720" cy="1000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169880" y="2511360"/>
                  <a:ext cx="10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124160" y="2465280"/>
                  <a:ext cx="99720" cy="10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 flipH="1">
                <a:off x="3257280" y="2516040"/>
                <a:ext cx="911160" cy="801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444200">
                <a:off x="3224520" y="3242520"/>
                <a:ext cx="176040" cy="10440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7980840" y="3889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80840" y="3408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80840" y="29080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15840" y="411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41640" y="411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49640" y="411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2960" y="411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44920" y="360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38520" y="3116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70560" y="36050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04640" y="36050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36560" y="26305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F470-A973-49B0-B19D-CEE76EC231E4}" type="slidenum">
              <a:t>14</a:t>
            </a:fld>
          </a:p>
        </p:txBody>
      </p:sp>
    </p:spTree>
  </p:cSld>
  <p:transition>
    <p:cover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503280" y="1967040"/>
            <a:ext cx="8100360" cy="2830680"/>
            <a:chOff x="503280" y="1967040"/>
            <a:chExt cx="8100360" cy="2830680"/>
          </a:xfrm>
        </p:grpSpPr>
        <p:sp>
          <p:nvSpPr>
            <p:cNvPr id="602" name=""/>
            <p:cNvSpPr/>
            <p:nvPr/>
          </p:nvSpPr>
          <p:spPr>
            <a:xfrm>
              <a:off x="2008080" y="44701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08080" y="25160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84080" y="24256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04840" y="39812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04840" y="35002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04840" y="30002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49640" y="239220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04880" y="241776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613400" y="2466720"/>
              <a:ext cx="1755720" cy="431280"/>
              <a:chOff x="4613400" y="2466720"/>
              <a:chExt cx="1755720" cy="431280"/>
            </a:xfrm>
          </p:grpSpPr>
          <p:sp>
            <p:nvSpPr>
              <p:cNvPr id="611" name=""/>
              <p:cNvSpPr/>
              <p:nvPr/>
            </p:nvSpPr>
            <p:spPr>
              <a:xfrm>
                <a:off x="4659480" y="2512440"/>
                <a:ext cx="1549440" cy="331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13400" y="24667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93080" y="2793600"/>
                <a:ext cx="176040" cy="10440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503280" y="1967040"/>
              <a:ext cx="823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B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er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‘goat’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04080" y="288108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45280" y="290664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14840" y="385596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28680" y="388296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7760" y="3368520"/>
              <a:ext cx="7333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64640" y="339408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40360" y="4359240"/>
              <a:ext cx="73476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59600" y="43862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391000" y="2955960"/>
              <a:ext cx="787320" cy="415080"/>
              <a:chOff x="5391000" y="2955960"/>
              <a:chExt cx="787320" cy="41508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5535360" y="3001320"/>
                <a:ext cx="588960" cy="291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8240" y="2955960"/>
                <a:ext cx="10008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91000" y="3244320"/>
                <a:ext cx="177840" cy="12672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552920" y="3443040"/>
              <a:ext cx="649440" cy="896400"/>
              <a:chOff x="4552920" y="3443040"/>
              <a:chExt cx="649440" cy="89640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4571640" y="3488760"/>
                <a:ext cx="576360" cy="804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100480" y="3443040"/>
                <a:ext cx="1018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52920" y="4168440"/>
                <a:ext cx="141480" cy="17100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589720" y="3443040"/>
              <a:ext cx="290520" cy="415440"/>
              <a:chOff x="5589720" y="3443040"/>
              <a:chExt cx="290520" cy="415440"/>
            </a:xfrm>
          </p:grpSpPr>
          <p:sp>
            <p:nvSpPr>
              <p:cNvPr id="632" name=""/>
              <p:cNvSpPr/>
              <p:nvPr/>
            </p:nvSpPr>
            <p:spPr>
              <a:xfrm>
                <a:off x="5635800" y="348876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89720" y="34430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42360" y="368712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566040" y="2955960"/>
              <a:ext cx="890280" cy="865800"/>
              <a:chOff x="6566040" y="2955960"/>
              <a:chExt cx="890280" cy="865800"/>
            </a:xfrm>
          </p:grpSpPr>
          <p:sp>
            <p:nvSpPr>
              <p:cNvPr id="636" name=""/>
              <p:cNvSpPr/>
              <p:nvPr/>
            </p:nvSpPr>
            <p:spPr>
              <a:xfrm>
                <a:off x="6611760" y="3001320"/>
                <a:ext cx="696960" cy="71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66040" y="2955960"/>
                <a:ext cx="9972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985200">
                <a:off x="7267320" y="3673080"/>
                <a:ext cx="174600" cy="12636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4214880" y="4433760"/>
              <a:ext cx="100080" cy="99720"/>
              <a:chOff x="4214880" y="4433760"/>
              <a:chExt cx="100080" cy="99720"/>
            </a:xfrm>
          </p:grpSpPr>
          <p:sp>
            <p:nvSpPr>
              <p:cNvPr id="640" name=""/>
              <p:cNvSpPr/>
              <p:nvPr/>
            </p:nvSpPr>
            <p:spPr>
              <a:xfrm>
                <a:off x="4260960" y="447948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214880" y="44337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702320" y="4433760"/>
              <a:ext cx="101520" cy="99720"/>
              <a:chOff x="4702320" y="4433760"/>
              <a:chExt cx="101520" cy="99720"/>
            </a:xfrm>
          </p:grpSpPr>
          <p:sp>
            <p:nvSpPr>
              <p:cNvPr id="643" name=""/>
              <p:cNvSpPr/>
              <p:nvPr/>
            </p:nvSpPr>
            <p:spPr>
              <a:xfrm>
                <a:off x="4749840" y="447948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2320" y="443376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078600" y="3930480"/>
              <a:ext cx="100080" cy="99720"/>
              <a:chOff x="6078600" y="3930480"/>
              <a:chExt cx="100080" cy="99720"/>
            </a:xfrm>
          </p:grpSpPr>
          <p:sp>
            <p:nvSpPr>
              <p:cNvPr id="646" name=""/>
              <p:cNvSpPr/>
              <p:nvPr/>
            </p:nvSpPr>
            <p:spPr>
              <a:xfrm>
                <a:off x="6124680" y="39762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78600" y="39304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6980400" y="3843360"/>
              <a:ext cx="73476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69040" y="386856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91160" y="433044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55400" y="435744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6856560" y="3917880"/>
              <a:ext cx="298440" cy="415080"/>
              <a:chOff x="6856560" y="3917880"/>
              <a:chExt cx="298440" cy="415080"/>
            </a:xfrm>
          </p:grpSpPr>
          <p:sp>
            <p:nvSpPr>
              <p:cNvPr id="653" name=""/>
              <p:cNvSpPr/>
              <p:nvPr/>
            </p:nvSpPr>
            <p:spPr>
              <a:xfrm flipH="1">
                <a:off x="6944040" y="3963600"/>
                <a:ext cx="15696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54920" y="39178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56560" y="416160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6566040" y="4405320"/>
              <a:ext cx="99720" cy="99360"/>
              <a:chOff x="6566040" y="4405320"/>
              <a:chExt cx="99720" cy="99360"/>
            </a:xfrm>
          </p:grpSpPr>
          <p:sp>
            <p:nvSpPr>
              <p:cNvPr id="657" name=""/>
              <p:cNvSpPr/>
              <p:nvPr/>
            </p:nvSpPr>
            <p:spPr>
              <a:xfrm>
                <a:off x="6611760" y="4451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66040" y="4405320"/>
                <a:ext cx="9972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7054920" y="4405320"/>
              <a:ext cx="100080" cy="99360"/>
              <a:chOff x="7054920" y="4405320"/>
              <a:chExt cx="100080" cy="99360"/>
            </a:xfrm>
          </p:grpSpPr>
          <p:sp>
            <p:nvSpPr>
              <p:cNvPr id="660" name=""/>
              <p:cNvSpPr/>
              <p:nvPr/>
            </p:nvSpPr>
            <p:spPr>
              <a:xfrm>
                <a:off x="7101000" y="445104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4920" y="4405320"/>
                <a:ext cx="10008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542360" y="3917880"/>
              <a:ext cx="99720" cy="99720"/>
              <a:chOff x="7542360" y="3917880"/>
              <a:chExt cx="99720" cy="99720"/>
            </a:xfrm>
          </p:grpSpPr>
          <p:sp>
            <p:nvSpPr>
              <p:cNvPr id="663" name=""/>
              <p:cNvSpPr/>
              <p:nvPr/>
            </p:nvSpPr>
            <p:spPr>
              <a:xfrm>
                <a:off x="7588080" y="3963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42360" y="391788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509840" y="2022480"/>
              <a:ext cx="24588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1584360" y="2097000"/>
              <a:ext cx="2854440" cy="99720"/>
              <a:chOff x="1584360" y="2097000"/>
              <a:chExt cx="2854440" cy="9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1630440" y="214308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84360" y="20970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384800" y="2138400"/>
              <a:ext cx="110880" cy="243720"/>
              <a:chOff x="4384800" y="2138400"/>
              <a:chExt cx="110880" cy="243720"/>
            </a:xfrm>
          </p:grpSpPr>
          <p:sp>
            <p:nvSpPr>
              <p:cNvPr id="670" name=""/>
              <p:cNvSpPr/>
              <p:nvPr/>
            </p:nvSpPr>
            <p:spPr>
              <a:xfrm>
                <a:off x="4438440" y="2138400"/>
                <a:ext cx="1440" cy="8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84800" y="2214000"/>
                <a:ext cx="110880" cy="16812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3297240" y="433368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43840" y="436068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09800" y="3846240"/>
              <a:ext cx="7336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7040" y="38718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3371760" y="3921120"/>
              <a:ext cx="290520" cy="415080"/>
              <a:chOff x="3371760" y="3921120"/>
              <a:chExt cx="290520" cy="415080"/>
            </a:xfrm>
          </p:grpSpPr>
          <p:sp>
            <p:nvSpPr>
              <p:cNvPr id="677" name=""/>
              <p:cNvSpPr/>
              <p:nvPr/>
            </p:nvSpPr>
            <p:spPr>
              <a:xfrm>
                <a:off x="3417840" y="3966840"/>
                <a:ext cx="15732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71760" y="39211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24400" y="416484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868480" y="3919320"/>
              <a:ext cx="100080" cy="99720"/>
              <a:chOff x="2868480" y="3919320"/>
              <a:chExt cx="100080" cy="9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2914560" y="396504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868480" y="39193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371760" y="4408200"/>
              <a:ext cx="100080" cy="99720"/>
              <a:chOff x="3371760" y="4408200"/>
              <a:chExt cx="100080" cy="99720"/>
            </a:xfrm>
          </p:grpSpPr>
          <p:sp>
            <p:nvSpPr>
              <p:cNvPr id="684" name=""/>
              <p:cNvSpPr/>
              <p:nvPr/>
            </p:nvSpPr>
            <p:spPr>
              <a:xfrm>
                <a:off x="3417840" y="4453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1760" y="44082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860640" y="4408200"/>
              <a:ext cx="100080" cy="99720"/>
              <a:chOff x="3860640" y="4408200"/>
              <a:chExt cx="100080" cy="99720"/>
            </a:xfrm>
          </p:grpSpPr>
          <p:sp>
            <p:nvSpPr>
              <p:cNvPr id="687" name=""/>
              <p:cNvSpPr/>
              <p:nvPr/>
            </p:nvSpPr>
            <p:spPr>
              <a:xfrm>
                <a:off x="3906720" y="445392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60640" y="44082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120120" y="2466720"/>
              <a:ext cx="1104120" cy="1421640"/>
              <a:chOff x="3120120" y="2466720"/>
              <a:chExt cx="1104120" cy="142164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4124160" y="2466720"/>
                <a:ext cx="100080" cy="99720"/>
                <a:chOff x="4124160" y="2466720"/>
                <a:chExt cx="100080" cy="99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170240" y="2512440"/>
                  <a:ext cx="1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124160" y="2466720"/>
                  <a:ext cx="100080" cy="99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flipH="1">
                <a:off x="3203280" y="2517120"/>
                <a:ext cx="965160" cy="127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7444200">
                <a:off x="3124800" y="373356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7980840" y="38908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80840" y="34099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80840" y="29098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15840" y="4586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43120" y="461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96000" y="41115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2960" y="4586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44920" y="36068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00720" y="3117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560" y="40813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04640" y="40813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36560" y="263196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89600" y="4346280"/>
              <a:ext cx="734760" cy="24732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08840" y="437328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354640" y="3933720"/>
              <a:ext cx="298440" cy="415080"/>
              <a:chOff x="5354640" y="3933720"/>
              <a:chExt cx="298440" cy="415080"/>
            </a:xfrm>
          </p:grpSpPr>
          <p:sp>
            <p:nvSpPr>
              <p:cNvPr id="710" name=""/>
              <p:cNvSpPr/>
              <p:nvPr/>
            </p:nvSpPr>
            <p:spPr>
              <a:xfrm flipH="1">
                <a:off x="5442120" y="3979440"/>
                <a:ext cx="15696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51560" y="393372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54640" y="417744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064120" y="4421160"/>
              <a:ext cx="100080" cy="99720"/>
              <a:chOff x="5064120" y="4421160"/>
              <a:chExt cx="100080" cy="99720"/>
            </a:xfrm>
          </p:grpSpPr>
          <p:sp>
            <p:nvSpPr>
              <p:cNvPr id="714" name=""/>
              <p:cNvSpPr/>
              <p:nvPr/>
            </p:nvSpPr>
            <p:spPr>
              <a:xfrm>
                <a:off x="5110200" y="446688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064120" y="4421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551560" y="4421160"/>
              <a:ext cx="101520" cy="99720"/>
              <a:chOff x="5551560" y="4421160"/>
              <a:chExt cx="101520" cy="99720"/>
            </a:xfrm>
          </p:grpSpPr>
          <p:sp>
            <p:nvSpPr>
              <p:cNvPr id="717" name=""/>
              <p:cNvSpPr/>
              <p:nvPr/>
            </p:nvSpPr>
            <p:spPr>
              <a:xfrm>
                <a:off x="5599080" y="446688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51560" y="442116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292360" y="4601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84080" y="437976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CE28-E53A-434E-96BD-9D7D60453946}" type="slidenum">
              <a:t>15</a:t>
            </a:fld>
          </a:p>
        </p:txBody>
      </p:sp>
    </p:spTree>
  </p:cSld>
  <p:transition>
    <p:cover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503640" y="1989000"/>
            <a:ext cx="8100000" cy="2334240"/>
            <a:chOff x="503640" y="1989000"/>
            <a:chExt cx="8100000" cy="2334240"/>
          </a:xfrm>
        </p:grpSpPr>
        <p:sp>
          <p:nvSpPr>
            <p:cNvPr id="723" name=""/>
            <p:cNvSpPr/>
            <p:nvPr/>
          </p:nvSpPr>
          <p:spPr>
            <a:xfrm>
              <a:off x="2008080" y="25383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84080" y="24480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04840" y="40035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04840" y="3522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04840" y="30225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49640" y="2414520"/>
              <a:ext cx="735120" cy="2476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04160" y="244008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613400" y="2489040"/>
              <a:ext cx="1755720" cy="432000"/>
              <a:chOff x="4613400" y="2489040"/>
              <a:chExt cx="1755720" cy="432000"/>
            </a:xfrm>
          </p:grpSpPr>
          <p:sp>
            <p:nvSpPr>
              <p:cNvPr id="731" name=""/>
              <p:cNvSpPr/>
              <p:nvPr/>
            </p:nvSpPr>
            <p:spPr>
              <a:xfrm>
                <a:off x="4659480" y="2535120"/>
                <a:ext cx="1549440" cy="33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613400" y="2489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193080" y="281628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503640" y="1989000"/>
              <a:ext cx="980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rotatio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‘cat’, 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ild and 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randchild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4080" y="2903400"/>
              <a:ext cx="73476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5280" y="292896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25960" y="338616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39800" y="341316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21120" y="2900520"/>
              <a:ext cx="7333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58720" y="292572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92360" y="387828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1600" y="39052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567240" y="3952800"/>
              <a:ext cx="99720" cy="100080"/>
              <a:chOff x="3567240" y="3952800"/>
              <a:chExt cx="99720" cy="100080"/>
            </a:xfrm>
          </p:grpSpPr>
          <p:sp>
            <p:nvSpPr>
              <p:cNvPr id="744" name=""/>
              <p:cNvSpPr/>
              <p:nvPr/>
            </p:nvSpPr>
            <p:spPr>
              <a:xfrm>
                <a:off x="3612960" y="3998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567240" y="39528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4054320" y="3952800"/>
              <a:ext cx="101520" cy="100080"/>
              <a:chOff x="4054320" y="3952800"/>
              <a:chExt cx="101520" cy="100080"/>
            </a:xfrm>
          </p:grpSpPr>
          <p:sp>
            <p:nvSpPr>
              <p:cNvPr id="747" name=""/>
              <p:cNvSpPr/>
              <p:nvPr/>
            </p:nvSpPr>
            <p:spPr>
              <a:xfrm>
                <a:off x="4101840" y="399888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054320" y="395280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589720" y="3460680"/>
              <a:ext cx="99720" cy="100080"/>
              <a:chOff x="5589720" y="3460680"/>
              <a:chExt cx="99720" cy="100080"/>
            </a:xfrm>
          </p:grpSpPr>
          <p:sp>
            <p:nvSpPr>
              <p:cNvPr id="750" name=""/>
              <p:cNvSpPr/>
              <p:nvPr/>
            </p:nvSpPr>
            <p:spPr>
              <a:xfrm>
                <a:off x="5635440" y="3506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589720" y="346068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980400" y="338616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69040" y="341136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91160" y="387360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55400" y="390060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856560" y="3460680"/>
              <a:ext cx="298440" cy="416160"/>
              <a:chOff x="6856560" y="3460680"/>
              <a:chExt cx="298440" cy="416160"/>
            </a:xfrm>
          </p:grpSpPr>
          <p:sp>
            <p:nvSpPr>
              <p:cNvPr id="757" name=""/>
              <p:cNvSpPr/>
              <p:nvPr/>
            </p:nvSpPr>
            <p:spPr>
              <a:xfrm flipH="1">
                <a:off x="6944040" y="350676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54920" y="34606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856560" y="370512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566040" y="3948120"/>
              <a:ext cx="99720" cy="100080"/>
              <a:chOff x="6566040" y="3948120"/>
              <a:chExt cx="99720" cy="100080"/>
            </a:xfrm>
          </p:grpSpPr>
          <p:sp>
            <p:nvSpPr>
              <p:cNvPr id="761" name=""/>
              <p:cNvSpPr/>
              <p:nvPr/>
            </p:nvSpPr>
            <p:spPr>
              <a:xfrm>
                <a:off x="6611760" y="399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66040" y="394812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054920" y="3948120"/>
              <a:ext cx="100080" cy="100080"/>
              <a:chOff x="7054920" y="3948120"/>
              <a:chExt cx="100080" cy="100080"/>
            </a:xfrm>
          </p:grpSpPr>
          <p:sp>
            <p:nvSpPr>
              <p:cNvPr id="764" name=""/>
              <p:cNvSpPr/>
              <p:nvPr/>
            </p:nvSpPr>
            <p:spPr>
              <a:xfrm>
                <a:off x="7101000" y="399420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54920" y="39481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7542360" y="3460680"/>
              <a:ext cx="99720" cy="100080"/>
              <a:chOff x="7542360" y="3460680"/>
              <a:chExt cx="99720" cy="100080"/>
            </a:xfrm>
          </p:grpSpPr>
          <p:sp>
            <p:nvSpPr>
              <p:cNvPr id="767" name=""/>
              <p:cNvSpPr/>
              <p:nvPr/>
            </p:nvSpPr>
            <p:spPr>
              <a:xfrm>
                <a:off x="7588080" y="3506760"/>
                <a:ext cx="1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542360" y="346068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1509840" y="2044800"/>
              <a:ext cx="2458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1584360" y="2119320"/>
              <a:ext cx="2854440" cy="99720"/>
              <a:chOff x="1584360" y="2119320"/>
              <a:chExt cx="2854440" cy="99720"/>
            </a:xfrm>
          </p:grpSpPr>
          <p:sp>
            <p:nvSpPr>
              <p:cNvPr id="771" name=""/>
              <p:cNvSpPr/>
              <p:nvPr/>
            </p:nvSpPr>
            <p:spPr>
              <a:xfrm>
                <a:off x="1630440" y="216540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84360" y="21193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4384800" y="2160720"/>
              <a:ext cx="110880" cy="244440"/>
              <a:chOff x="4384800" y="2160720"/>
              <a:chExt cx="110880" cy="244440"/>
            </a:xfrm>
          </p:grpSpPr>
          <p:sp>
            <p:nvSpPr>
              <p:cNvPr id="774" name=""/>
              <p:cNvSpPr/>
              <p:nvPr/>
            </p:nvSpPr>
            <p:spPr>
              <a:xfrm>
                <a:off x="4438440" y="2160720"/>
                <a:ext cx="144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84800" y="2236680"/>
                <a:ext cx="11088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467080" y="388764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13680" y="391464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79640" y="3400560"/>
              <a:ext cx="7333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16520" y="342576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2541600" y="3475080"/>
              <a:ext cx="290520" cy="415440"/>
              <a:chOff x="2541600" y="3475080"/>
              <a:chExt cx="290520" cy="415440"/>
            </a:xfrm>
          </p:grpSpPr>
          <p:sp>
            <p:nvSpPr>
              <p:cNvPr id="781" name=""/>
              <p:cNvSpPr/>
              <p:nvPr/>
            </p:nvSpPr>
            <p:spPr>
              <a:xfrm>
                <a:off x="2587680" y="352080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541600" y="34750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94240" y="371916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2038320" y="3473280"/>
              <a:ext cx="100080" cy="100080"/>
              <a:chOff x="2038320" y="3473280"/>
              <a:chExt cx="100080" cy="100080"/>
            </a:xfrm>
          </p:grpSpPr>
          <p:sp>
            <p:nvSpPr>
              <p:cNvPr id="785" name=""/>
              <p:cNvSpPr/>
              <p:nvPr/>
            </p:nvSpPr>
            <p:spPr>
              <a:xfrm>
                <a:off x="2084400" y="3519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38320" y="3473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2541600" y="3962520"/>
              <a:ext cx="100080" cy="99720"/>
              <a:chOff x="2541600" y="3962520"/>
              <a:chExt cx="100080" cy="99720"/>
            </a:xfrm>
          </p:grpSpPr>
          <p:sp>
            <p:nvSpPr>
              <p:cNvPr id="788" name=""/>
              <p:cNvSpPr/>
              <p:nvPr/>
            </p:nvSpPr>
            <p:spPr>
              <a:xfrm>
                <a:off x="2587680" y="40082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41600" y="39625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3030480" y="3962520"/>
              <a:ext cx="100080" cy="99720"/>
              <a:chOff x="3030480" y="3962520"/>
              <a:chExt cx="100080" cy="99720"/>
            </a:xfrm>
          </p:grpSpPr>
          <p:sp>
            <p:nvSpPr>
              <p:cNvPr id="791" name=""/>
              <p:cNvSpPr/>
              <p:nvPr/>
            </p:nvSpPr>
            <p:spPr>
              <a:xfrm>
                <a:off x="3076560" y="400824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30480" y="39625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7980840" y="39132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0840" y="34322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80840" y="293220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42920" y="414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95480" y="413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06760" y="36417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52960" y="4129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76360" y="31384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00360" y="313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70560" y="3624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4480" y="363528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55640" y="265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00720" y="3876840"/>
              <a:ext cx="73476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19960" y="390384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4865760" y="3463920"/>
              <a:ext cx="298440" cy="415440"/>
              <a:chOff x="4865760" y="3463920"/>
              <a:chExt cx="298440" cy="41544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4953240" y="350964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62680" y="346392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65760" y="370800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575240" y="3951360"/>
              <a:ext cx="100080" cy="100080"/>
              <a:chOff x="4575240" y="3951360"/>
              <a:chExt cx="100080" cy="100080"/>
            </a:xfrm>
          </p:grpSpPr>
          <p:sp>
            <p:nvSpPr>
              <p:cNvPr id="812" name=""/>
              <p:cNvSpPr/>
              <p:nvPr/>
            </p:nvSpPr>
            <p:spPr>
              <a:xfrm>
                <a:off x="4621320" y="399744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5240" y="39513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5062680" y="3951360"/>
              <a:ext cx="101520" cy="100080"/>
              <a:chOff x="5062680" y="3951360"/>
              <a:chExt cx="101520" cy="100080"/>
            </a:xfrm>
          </p:grpSpPr>
          <p:sp>
            <p:nvSpPr>
              <p:cNvPr id="815" name=""/>
              <p:cNvSpPr/>
              <p:nvPr/>
            </p:nvSpPr>
            <p:spPr>
              <a:xfrm>
                <a:off x="5110200" y="399744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062680" y="395136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4803480" y="4132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597360" y="2968560"/>
              <a:ext cx="787320" cy="415800"/>
              <a:chOff x="6597360" y="2968560"/>
              <a:chExt cx="787320" cy="415800"/>
            </a:xfrm>
          </p:grpSpPr>
          <p:sp>
            <p:nvSpPr>
              <p:cNvPr id="819" name=""/>
              <p:cNvSpPr/>
              <p:nvPr/>
            </p:nvSpPr>
            <p:spPr>
              <a:xfrm>
                <a:off x="6651360" y="30142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597360" y="2968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206840" y="32572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364000" y="2968560"/>
              <a:ext cx="787320" cy="415800"/>
              <a:chOff x="5364000" y="2968560"/>
              <a:chExt cx="787320" cy="415800"/>
            </a:xfrm>
          </p:grpSpPr>
          <p:sp>
            <p:nvSpPr>
              <p:cNvPr id="823" name=""/>
              <p:cNvSpPr/>
              <p:nvPr/>
            </p:nvSpPr>
            <p:spPr>
              <a:xfrm flipH="1">
                <a:off x="5508360" y="30142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051240" y="2968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364000" y="32572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3419640" y="2492280"/>
              <a:ext cx="787320" cy="415800"/>
              <a:chOff x="3419640" y="2492280"/>
              <a:chExt cx="787320" cy="415800"/>
            </a:xfrm>
          </p:grpSpPr>
          <p:sp>
            <p:nvSpPr>
              <p:cNvPr id="827" name=""/>
              <p:cNvSpPr/>
              <p:nvPr/>
            </p:nvSpPr>
            <p:spPr>
              <a:xfrm flipH="1">
                <a:off x="3564000" y="253800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06880" y="2492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19640" y="278100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2378160" y="2968560"/>
              <a:ext cx="787320" cy="415800"/>
              <a:chOff x="2378160" y="2968560"/>
              <a:chExt cx="787320" cy="415800"/>
            </a:xfrm>
          </p:grpSpPr>
          <p:sp>
            <p:nvSpPr>
              <p:cNvPr id="831" name=""/>
              <p:cNvSpPr/>
              <p:nvPr/>
            </p:nvSpPr>
            <p:spPr>
              <a:xfrm flipH="1">
                <a:off x="2522520" y="30142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065400" y="2968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378160" y="32572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606840" y="2978280"/>
              <a:ext cx="311400" cy="876240"/>
              <a:chOff x="3606840" y="2978280"/>
              <a:chExt cx="311400" cy="876240"/>
            </a:xfrm>
          </p:grpSpPr>
          <p:sp>
            <p:nvSpPr>
              <p:cNvPr id="835" name=""/>
              <p:cNvSpPr/>
              <p:nvPr/>
            </p:nvSpPr>
            <p:spPr>
              <a:xfrm>
                <a:off x="3660840" y="3024000"/>
                <a:ext cx="190440" cy="765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606840" y="2978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892200">
                <a:off x="3760560" y="366840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CB33-2357-4E47-8A1A-E6BDB28907FD}" type="slidenum">
              <a:t>16</a:t>
            </a:fld>
          </a:p>
        </p:txBody>
      </p:sp>
    </p:spTree>
  </p:cSld>
  <p:transition>
    <p:cover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ursive BST inser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insert the elem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to the 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null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 new node contain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with no children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not null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less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left child to the result of inser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to 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 to the result of inser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to 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73A8-8B23-433E-A057-2EE86A1B47EC}" type="slidenum">
              <a:t>17</a:t>
            </a:fld>
          </a:p>
        </p:txBody>
      </p:sp>
    </p:spTree>
  </p:cSld>
  <p:transition>
    <p:cover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BST insertion algorithm, the subtree whose topmost nod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ay become height unbalanced after the node is inserted in eith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s left or right sub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we must check after steps 2.1.1 and 2.2.1 to see if the tree must be restructured to restore the height-balanced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perform either a single (two nodes) or a double (three nodes) rotation to restore the height-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40E1-A7D4-4B76-B1E3-F75DA8B285A7}" type="slidenum">
              <a:t>18</a:t>
            </a:fld>
          </a:p>
        </p:txBody>
      </p:sp>
    </p:spTree>
  </p:cSld>
  <p:transition>
    <p:cover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1116000" y="2373480"/>
            <a:ext cx="6722280" cy="3216240"/>
            <a:chOff x="1116000" y="2373480"/>
            <a:chExt cx="6722280" cy="3216240"/>
          </a:xfrm>
        </p:grpSpPr>
        <p:sp>
          <p:nvSpPr>
            <p:cNvPr id="844" name=""/>
            <p:cNvSpPr/>
            <p:nvPr/>
          </p:nvSpPr>
          <p:spPr>
            <a:xfrm>
              <a:off x="1116000" y="4416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28600" y="34768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28600" y="29880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89040" y="382788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58360" y="3716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35280" y="334836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98120" y="3272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97600" y="285948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6080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3998880" y="2934000"/>
              <a:ext cx="1276200" cy="415440"/>
              <a:chOff x="3998880" y="2934000"/>
              <a:chExt cx="1276200" cy="415440"/>
            </a:xfrm>
          </p:grpSpPr>
          <p:sp>
            <p:nvSpPr>
              <p:cNvPr id="855" name=""/>
              <p:cNvSpPr/>
              <p:nvPr/>
            </p:nvSpPr>
            <p:spPr>
              <a:xfrm flipH="1">
                <a:off x="4154040" y="2979720"/>
                <a:ext cx="1066680" cy="315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73560" y="293400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98880" y="3245040"/>
                <a:ext cx="181080" cy="10440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2124000" y="3902400"/>
              <a:ext cx="539640" cy="409680"/>
              <a:chOff x="2124000" y="3902400"/>
              <a:chExt cx="539640" cy="40968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2251080" y="394848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563560" y="39024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124000" y="41691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052800" y="3902400"/>
              <a:ext cx="536400" cy="409680"/>
              <a:chOff x="3052800" y="3902400"/>
              <a:chExt cx="536400" cy="409680"/>
            </a:xfrm>
          </p:grpSpPr>
          <p:sp>
            <p:nvSpPr>
              <p:cNvPr id="863" name=""/>
              <p:cNvSpPr/>
              <p:nvPr/>
            </p:nvSpPr>
            <p:spPr>
              <a:xfrm>
                <a:off x="3098520" y="39484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52800" y="39024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19280" y="41691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2791800" y="3422880"/>
              <a:ext cx="987840" cy="437400"/>
              <a:chOff x="2791800" y="3422880"/>
              <a:chExt cx="987840" cy="437400"/>
            </a:xfrm>
          </p:grpSpPr>
          <p:sp>
            <p:nvSpPr>
              <p:cNvPr id="867" name=""/>
              <p:cNvSpPr/>
              <p:nvPr/>
            </p:nvSpPr>
            <p:spPr>
              <a:xfrm flipH="1">
                <a:off x="2878920" y="34689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79560" y="34228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852600">
                <a:off x="2806560" y="36986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7104600" y="3856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04600" y="33706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04600" y="28846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619280" y="4331160"/>
              <a:ext cx="1224000" cy="125856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560"/>
                <a:gd name="textAreaBottom" fmla="*/ 981720 h 12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21164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91640" y="432612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916360" y="4331160"/>
              <a:ext cx="1224000" cy="125856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560"/>
                <a:gd name="textAreaBottom" fmla="*/ 981720 h 12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245120" y="3429360"/>
              <a:ext cx="536400" cy="409680"/>
              <a:chOff x="4245120" y="3429360"/>
              <a:chExt cx="536400" cy="409680"/>
            </a:xfrm>
          </p:grpSpPr>
          <p:sp>
            <p:nvSpPr>
              <p:cNvPr id="878" name=""/>
              <p:cNvSpPr/>
              <p:nvPr/>
            </p:nvSpPr>
            <p:spPr>
              <a:xfrm>
                <a:off x="4290840" y="347544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245120" y="342936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11600" y="369612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3984120" y="357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50840" y="4077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1008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25360" y="2476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01360" y="2373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5691240" y="2934000"/>
              <a:ext cx="488880" cy="893160"/>
              <a:chOff x="5691240" y="2934000"/>
              <a:chExt cx="488880" cy="893160"/>
            </a:xfrm>
          </p:grpSpPr>
          <p:sp>
            <p:nvSpPr>
              <p:cNvPr id="888" name=""/>
              <p:cNvSpPr/>
              <p:nvPr/>
            </p:nvSpPr>
            <p:spPr>
              <a:xfrm>
                <a:off x="5737320" y="298008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91240" y="2934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542000">
                <a:off x="5987520" y="36543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2085480" y="49420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55560" y="49420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5480" y="49420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1000" y="49420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, initi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4107-A30F-4FA8-BE63-2662D9819E5C}" type="slidenum">
              <a:t>19</a:t>
            </a:fld>
          </a:p>
        </p:txBody>
      </p:sp>
    </p:spTree>
  </p:cSld>
  <p:transition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Balanced binary search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erformance of a binary search tree (BST) depends on how well balanced the tree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ll-balanced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search, insertion, and dele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l-balanced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search, insertion, and de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ition of balanced (for a tree of dep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nodes at dep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 have two children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t dep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have 0, 1 or 2 children, 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t dep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no children (by defini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sertion and deletion algorithms can keep the tree balanced (at a small cost), we will g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formance al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9E38-F02C-44BC-8BC2-0B2CE719F3CB}" type="slidenum">
              <a:t>2</a:t>
            </a:fld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1116000" y="2276640"/>
            <a:ext cx="6722280" cy="3324240"/>
            <a:chOff x="1116000" y="2276640"/>
            <a:chExt cx="6722280" cy="3324240"/>
          </a:xfrm>
        </p:grpSpPr>
        <p:sp>
          <p:nvSpPr>
            <p:cNvPr id="898" name=""/>
            <p:cNvSpPr/>
            <p:nvPr/>
          </p:nvSpPr>
          <p:spPr>
            <a:xfrm>
              <a:off x="1125360" y="2487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16000" y="442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128600" y="3487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28600" y="2998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28600" y="3957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89040" y="336384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58360" y="3252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35280" y="287496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98120" y="2798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97600" y="236700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60800" y="22766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3998880" y="2441520"/>
              <a:ext cx="1276200" cy="416160"/>
              <a:chOff x="3998880" y="2441520"/>
              <a:chExt cx="1276200" cy="416160"/>
            </a:xfrm>
          </p:grpSpPr>
          <p:sp>
            <p:nvSpPr>
              <p:cNvPr id="910" name=""/>
              <p:cNvSpPr/>
              <p:nvPr/>
            </p:nvSpPr>
            <p:spPr>
              <a:xfrm flipH="1">
                <a:off x="4154040" y="2487600"/>
                <a:ext cx="106668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73560" y="244152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98880" y="275292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2124000" y="3438360"/>
              <a:ext cx="539640" cy="409680"/>
              <a:chOff x="2124000" y="3438360"/>
              <a:chExt cx="539640" cy="409680"/>
            </a:xfrm>
          </p:grpSpPr>
          <p:sp>
            <p:nvSpPr>
              <p:cNvPr id="914" name=""/>
              <p:cNvSpPr/>
              <p:nvPr/>
            </p:nvSpPr>
            <p:spPr>
              <a:xfrm flipH="1">
                <a:off x="2251080" y="348444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63560" y="34383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24000" y="370512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2791800" y="2949480"/>
              <a:ext cx="987840" cy="437400"/>
              <a:chOff x="2791800" y="2949480"/>
              <a:chExt cx="987840" cy="437400"/>
            </a:xfrm>
          </p:grpSpPr>
          <p:sp>
            <p:nvSpPr>
              <p:cNvPr id="918" name=""/>
              <p:cNvSpPr/>
              <p:nvPr/>
            </p:nvSpPr>
            <p:spPr>
              <a:xfrm flipH="1">
                <a:off x="2878920" y="29955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79560" y="29494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852600">
                <a:off x="2806560" y="32252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7104600" y="38671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04600" y="3381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04600" y="2895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4211640" y="3852720"/>
              <a:ext cx="1224000" cy="174816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480 h 1748160"/>
                <a:gd name="textAreaBottom" fmla="*/ 1363680 h 174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91640" y="433692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916360" y="434124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1129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71640" y="36133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10080" y="26100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01360" y="23842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508720" y="3852720"/>
              <a:ext cx="1224000" cy="174816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480 h 1748160"/>
                <a:gd name="textAreaBottom" fmla="*/ 1363680 h 174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5691240" y="2441520"/>
              <a:ext cx="516240" cy="1394280"/>
              <a:chOff x="5691240" y="2441520"/>
              <a:chExt cx="516240" cy="1394280"/>
            </a:xfrm>
          </p:grpSpPr>
          <p:sp>
            <p:nvSpPr>
              <p:cNvPr id="933" name=""/>
              <p:cNvSpPr/>
              <p:nvPr/>
            </p:nvSpPr>
            <p:spPr>
              <a:xfrm>
                <a:off x="5737320" y="2487600"/>
                <a:ext cx="347400" cy="1239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691240" y="2441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272200">
                <a:off x="6011640" y="3655800"/>
                <a:ext cx="16956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1619280" y="3852720"/>
              <a:ext cx="1224000" cy="174816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480 h 1748160"/>
                <a:gd name="textAreaBottom" fmla="*/ 1363680 h 174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078000" y="3430440"/>
              <a:ext cx="488880" cy="893160"/>
              <a:chOff x="3078000" y="3430440"/>
              <a:chExt cx="488880" cy="893160"/>
            </a:xfrm>
          </p:grpSpPr>
          <p:sp>
            <p:nvSpPr>
              <p:cNvPr id="938" name=""/>
              <p:cNvSpPr/>
              <p:nvPr/>
            </p:nvSpPr>
            <p:spPr>
              <a:xfrm>
                <a:off x="3124080" y="347652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078000" y="34304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542000">
                <a:off x="3374280" y="4150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230720" y="2946240"/>
              <a:ext cx="488880" cy="893160"/>
              <a:chOff x="4230720" y="2946240"/>
              <a:chExt cx="488880" cy="893160"/>
            </a:xfrm>
          </p:grpSpPr>
          <p:sp>
            <p:nvSpPr>
              <p:cNvPr id="942" name=""/>
              <p:cNvSpPr/>
              <p:nvPr/>
            </p:nvSpPr>
            <p:spPr>
              <a:xfrm>
                <a:off x="4276800" y="299232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230720" y="29462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42000">
                <a:off x="4527000" y="36666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085480" y="4952880"/>
              <a:ext cx="255240" cy="274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55560" y="49528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95480" y="49528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1000" y="495288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balance factor is positi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5118-A666-4A67-8A4A-D3BD07981753}" type="slidenum">
              <a:t>20</a:t>
            </a:fld>
          </a:p>
        </p:txBody>
      </p:sp>
    </p:spTree>
  </p:cSld>
  <p:transition>
    <p:cover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1116000" y="2373480"/>
            <a:ext cx="6722280" cy="3215880"/>
            <a:chOff x="1116000" y="2373480"/>
            <a:chExt cx="6722280" cy="3215880"/>
          </a:xfrm>
        </p:grpSpPr>
        <p:sp>
          <p:nvSpPr>
            <p:cNvPr id="952" name=""/>
            <p:cNvSpPr/>
            <p:nvPr/>
          </p:nvSpPr>
          <p:spPr>
            <a:xfrm>
              <a:off x="1116000" y="34671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25360" y="2476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9040" y="335268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58360" y="3241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89360" y="286380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52200" y="278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14720" y="324180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2124000" y="3427560"/>
              <a:ext cx="539640" cy="408960"/>
              <a:chOff x="2124000" y="3427560"/>
              <a:chExt cx="539640" cy="408960"/>
            </a:xfrm>
          </p:grpSpPr>
          <p:sp>
            <p:nvSpPr>
              <p:cNvPr id="963" name=""/>
              <p:cNvSpPr/>
              <p:nvPr/>
            </p:nvSpPr>
            <p:spPr>
              <a:xfrm flipH="1">
                <a:off x="2251080" y="347328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63560" y="3427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24000" y="369396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945880" y="2938320"/>
              <a:ext cx="987840" cy="437400"/>
              <a:chOff x="2945880" y="2938320"/>
              <a:chExt cx="987840" cy="437400"/>
            </a:xfrm>
          </p:grpSpPr>
          <p:sp>
            <p:nvSpPr>
              <p:cNvPr id="967" name=""/>
              <p:cNvSpPr/>
              <p:nvPr/>
            </p:nvSpPr>
            <p:spPr>
              <a:xfrm flipH="1">
                <a:off x="3033000" y="29844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833640" y="29383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852600">
                <a:off x="2960640" y="32140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421164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8080" y="3102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771640" y="36021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09720" y="3606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01360" y="2373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078000" y="3419640"/>
              <a:ext cx="488880" cy="892800"/>
              <a:chOff x="3078000" y="3419640"/>
              <a:chExt cx="488880" cy="892800"/>
            </a:xfrm>
          </p:grpSpPr>
          <p:sp>
            <p:nvSpPr>
              <p:cNvPr id="983" name=""/>
              <p:cNvSpPr/>
              <p:nvPr/>
            </p:nvSpPr>
            <p:spPr>
              <a:xfrm>
                <a:off x="3124080" y="3465360"/>
                <a:ext cx="347400" cy="809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078000" y="34196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542000">
                <a:off x="3374280" y="4139640"/>
                <a:ext cx="16992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56200" y="334800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4691160" y="3422520"/>
              <a:ext cx="539640" cy="409680"/>
              <a:chOff x="4691160" y="3422520"/>
              <a:chExt cx="539640" cy="409680"/>
            </a:xfrm>
          </p:grpSpPr>
          <p:sp>
            <p:nvSpPr>
              <p:cNvPr id="992" name=""/>
              <p:cNvSpPr/>
              <p:nvPr/>
            </p:nvSpPr>
            <p:spPr>
              <a:xfrm flipH="1">
                <a:off x="4818240" y="346860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13072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91160" y="368928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5619600" y="3422520"/>
              <a:ext cx="536400" cy="409680"/>
              <a:chOff x="5619600" y="3422520"/>
              <a:chExt cx="536400" cy="409680"/>
            </a:xfrm>
          </p:grpSpPr>
          <p:sp>
            <p:nvSpPr>
              <p:cNvPr id="996" name=""/>
              <p:cNvSpPr/>
              <p:nvPr/>
            </p:nvSpPr>
            <p:spPr>
              <a:xfrm>
                <a:off x="5665320" y="346860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619600" y="342252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86080" y="368928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390560" y="2933640"/>
              <a:ext cx="987840" cy="437400"/>
              <a:chOff x="4390560" y="2933640"/>
              <a:chExt cx="987840" cy="437400"/>
            </a:xfrm>
          </p:grpSpPr>
          <p:sp>
            <p:nvSpPr>
              <p:cNvPr id="1000" name=""/>
              <p:cNvSpPr/>
              <p:nvPr/>
            </p:nvSpPr>
            <p:spPr>
              <a:xfrm>
                <a:off x="4444920" y="297972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4390560" y="2933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 rot="20747400">
                <a:off x="5196600" y="320940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sing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C3F1-EB70-4483-82D5-5E5CDF2A112A}" type="slidenum">
              <a:t>21</a:t>
            </a:fld>
          </a:p>
        </p:txBody>
      </p:sp>
    </p:spTree>
  </p:cSld>
  <p:transition>
    <p:cover dir="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, initi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116000" y="2373480"/>
            <a:ext cx="6722280" cy="3215880"/>
            <a:chOff x="1116000" y="2373480"/>
            <a:chExt cx="6722280" cy="3215880"/>
          </a:xfrm>
        </p:grpSpPr>
        <p:sp>
          <p:nvSpPr>
            <p:cNvPr id="1008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84680" y="3827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5364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94120" y="334476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6960" y="326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3960" y="285588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97160" y="276552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419640" y="3902040"/>
              <a:ext cx="539640" cy="409680"/>
              <a:chOff x="3419640" y="3902040"/>
              <a:chExt cx="539640" cy="409680"/>
            </a:xfrm>
          </p:grpSpPr>
          <p:sp>
            <p:nvSpPr>
              <p:cNvPr id="1019" name=""/>
              <p:cNvSpPr/>
              <p:nvPr/>
            </p:nvSpPr>
            <p:spPr>
              <a:xfrm flipH="1">
                <a:off x="354672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85920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41964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4348080" y="3902040"/>
              <a:ext cx="536400" cy="409680"/>
              <a:chOff x="4348080" y="3902040"/>
              <a:chExt cx="536400" cy="409680"/>
            </a:xfrm>
          </p:grpSpPr>
          <p:sp>
            <p:nvSpPr>
              <p:cNvPr id="1023" name=""/>
              <p:cNvSpPr/>
              <p:nvPr/>
            </p:nvSpPr>
            <p:spPr>
              <a:xfrm>
                <a:off x="439380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34808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1456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180880" y="3419640"/>
              <a:ext cx="987840" cy="437400"/>
              <a:chOff x="2180880" y="3419640"/>
              <a:chExt cx="987840" cy="437400"/>
            </a:xfrm>
          </p:grpSpPr>
          <p:sp>
            <p:nvSpPr>
              <p:cNvPr id="1027" name=""/>
              <p:cNvSpPr/>
              <p:nvPr/>
            </p:nvSpPr>
            <p:spPr>
              <a:xfrm flipH="1">
                <a:off x="2268000" y="346572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68640" y="3419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852600">
                <a:off x="2195640" y="369540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145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1619280" y="3859920"/>
              <a:ext cx="1224000" cy="172908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0160 h 1729080"/>
                <a:gd name="textAreaBottom" fmla="*/ 13489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603600" y="3425760"/>
              <a:ext cx="536400" cy="409680"/>
              <a:chOff x="3603600" y="3425760"/>
              <a:chExt cx="536400" cy="409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649320" y="347184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603600" y="342576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970080" y="369252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3342960" y="357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14612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46440" y="30988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25360" y="2476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01360" y="2373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508720" y="3859920"/>
              <a:ext cx="1224000" cy="172908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0160 h 1729080"/>
                <a:gd name="textAreaBottom" fmla="*/ 13489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4826160" y="2930400"/>
              <a:ext cx="1326960" cy="906480"/>
              <a:chOff x="4826160" y="2930400"/>
              <a:chExt cx="1326960" cy="906480"/>
            </a:xfrm>
          </p:grpSpPr>
          <p:sp>
            <p:nvSpPr>
              <p:cNvPr id="1048" name=""/>
              <p:cNvSpPr/>
              <p:nvPr/>
            </p:nvSpPr>
            <p:spPr>
              <a:xfrm>
                <a:off x="4871880" y="2976480"/>
                <a:ext cx="121284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826160" y="29304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983200" y="36939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3404880" y="2921040"/>
              <a:ext cx="987840" cy="437400"/>
              <a:chOff x="3404880" y="2921040"/>
              <a:chExt cx="987840" cy="437400"/>
            </a:xfrm>
          </p:grpSpPr>
          <p:sp>
            <p:nvSpPr>
              <p:cNvPr id="1052" name=""/>
              <p:cNvSpPr/>
              <p:nvPr/>
            </p:nvSpPr>
            <p:spPr>
              <a:xfrm flipH="1">
                <a:off x="3492000" y="296712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292640" y="2921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852600">
                <a:off x="3419640" y="319680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3F87-1A8A-42DB-8203-5ACCC1FE6C08}" type="slidenum">
              <a:t>22</a:t>
            </a:fld>
          </a:p>
        </p:txBody>
      </p:sp>
    </p:spTree>
  </p:cSld>
  <p:transition>
    <p:cover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balance factor is negati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116000" y="2276640"/>
            <a:ext cx="6722280" cy="3312720"/>
            <a:chOff x="1116000" y="2276640"/>
            <a:chExt cx="6722280" cy="3312720"/>
          </a:xfrm>
        </p:grpSpPr>
        <p:sp>
          <p:nvSpPr>
            <p:cNvPr id="1062" name=""/>
            <p:cNvSpPr/>
            <p:nvPr/>
          </p:nvSpPr>
          <p:spPr>
            <a:xfrm>
              <a:off x="1125360" y="2476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84680" y="335448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53640" y="3243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94120" y="285588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756960" y="2779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33960" y="236700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97160" y="22766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3419640" y="3429000"/>
              <a:ext cx="539640" cy="409680"/>
              <a:chOff x="3419640" y="3429000"/>
              <a:chExt cx="539640" cy="409680"/>
            </a:xfrm>
          </p:grpSpPr>
          <p:sp>
            <p:nvSpPr>
              <p:cNvPr id="1074" name=""/>
              <p:cNvSpPr/>
              <p:nvPr/>
            </p:nvSpPr>
            <p:spPr>
              <a:xfrm flipH="1">
                <a:off x="3546000" y="347508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85920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19640" y="36957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3603600" y="2936880"/>
              <a:ext cx="536400" cy="409680"/>
              <a:chOff x="3603600" y="2936880"/>
              <a:chExt cx="536400" cy="409680"/>
            </a:xfrm>
          </p:grpSpPr>
          <p:sp>
            <p:nvSpPr>
              <p:cNvPr id="1084" name=""/>
              <p:cNvSpPr/>
              <p:nvPr/>
            </p:nvSpPr>
            <p:spPr>
              <a:xfrm>
                <a:off x="3649320" y="298296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603600" y="293688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970080" y="320364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3339720" y="30812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7280" y="35845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546440" y="26100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01360" y="2373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71880" y="2487600"/>
              <a:ext cx="1212840" cy="130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26160" y="2441520"/>
              <a:ext cx="9972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182600">
              <a:off x="5931000" y="3655800"/>
              <a:ext cx="169920" cy="142560"/>
            </a:xfrm>
            <a:custGeom>
              <a:avLst/>
              <a:gdLst/>
              <a:ahLst/>
              <a:rect l="l" t="t" r="r" b="b"/>
              <a:pathLst>
                <a:path w="107" h="90">
                  <a:moveTo>
                    <a:pt x="0" y="55"/>
                  </a:moveTo>
                  <a:lnTo>
                    <a:pt x="107" y="90"/>
                  </a:lnTo>
                  <a:lnTo>
                    <a:pt x="4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3404880" y="2432160"/>
              <a:ext cx="987840" cy="437400"/>
              <a:chOff x="3404880" y="2432160"/>
              <a:chExt cx="987840" cy="437400"/>
            </a:xfrm>
          </p:grpSpPr>
          <p:sp>
            <p:nvSpPr>
              <p:cNvPr id="1096" name=""/>
              <p:cNvSpPr/>
              <p:nvPr/>
            </p:nvSpPr>
            <p:spPr>
              <a:xfrm flipH="1">
                <a:off x="3492000" y="247824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292640" y="24321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852600">
                <a:off x="3419640" y="270792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91636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4357800" y="3421080"/>
              <a:ext cx="488880" cy="893160"/>
              <a:chOff x="4357800" y="3421080"/>
              <a:chExt cx="488880" cy="893160"/>
            </a:xfrm>
          </p:grpSpPr>
          <p:sp>
            <p:nvSpPr>
              <p:cNvPr id="1105" name=""/>
              <p:cNvSpPr/>
              <p:nvPr/>
            </p:nvSpPr>
            <p:spPr>
              <a:xfrm>
                <a:off x="4403880" y="346716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57800" y="34210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542000">
                <a:off x="4654080" y="414144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2124000" y="2924280"/>
              <a:ext cx="1044720" cy="896760"/>
              <a:chOff x="2124000" y="2924280"/>
              <a:chExt cx="1044720" cy="89676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2195280" y="2970360"/>
                <a:ext cx="919080" cy="819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068640" y="2924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124000" y="3678120"/>
                <a:ext cx="16848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B2DE-AC9B-4B60-80DB-13257DA6A9E7}" type="slidenum">
              <a:t>23</a:t>
            </a:fld>
          </a:p>
        </p:txBody>
      </p:sp>
    </p:spTree>
  </p:cSld>
  <p:transition>
    <p:cover dir="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doub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116000" y="2373480"/>
            <a:ext cx="6722280" cy="3215880"/>
            <a:chOff x="1116000" y="2373480"/>
            <a:chExt cx="6722280" cy="3215880"/>
          </a:xfrm>
        </p:grpSpPr>
        <p:sp>
          <p:nvSpPr>
            <p:cNvPr id="1115" name=""/>
            <p:cNvSpPr/>
            <p:nvPr/>
          </p:nvSpPr>
          <p:spPr>
            <a:xfrm>
              <a:off x="1125360" y="2476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84680" y="2854440"/>
              <a:ext cx="73476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553640" y="2743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19280" y="335268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82120" y="32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097600" y="3363840"/>
              <a:ext cx="734760" cy="2476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60800" y="3273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2124000" y="3429000"/>
              <a:ext cx="539640" cy="409680"/>
              <a:chOff x="2124000" y="3429000"/>
              <a:chExt cx="539640" cy="409680"/>
            </a:xfrm>
          </p:grpSpPr>
          <p:sp>
            <p:nvSpPr>
              <p:cNvPr id="1127" name=""/>
              <p:cNvSpPr/>
              <p:nvPr/>
            </p:nvSpPr>
            <p:spPr>
              <a:xfrm flipH="1">
                <a:off x="2250360" y="347508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56356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124000" y="36957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42920" y="3578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34960" y="308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09720" y="36068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01360" y="237348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2936520" y="2938320"/>
              <a:ext cx="987840" cy="437400"/>
              <a:chOff x="2936520" y="2938320"/>
              <a:chExt cx="987840" cy="437400"/>
            </a:xfrm>
          </p:grpSpPr>
          <p:sp>
            <p:nvSpPr>
              <p:cNvPr id="1142" name=""/>
              <p:cNvSpPr/>
              <p:nvPr/>
            </p:nvSpPr>
            <p:spPr>
              <a:xfrm flipH="1">
                <a:off x="3023640" y="29844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24280" y="29383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852600">
                <a:off x="2951280" y="32140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91636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4763880" y="3421080"/>
              <a:ext cx="488880" cy="893160"/>
              <a:chOff x="4763880" y="3421080"/>
              <a:chExt cx="488880" cy="893160"/>
            </a:xfrm>
          </p:grpSpPr>
          <p:sp>
            <p:nvSpPr>
              <p:cNvPr id="1151" name=""/>
              <p:cNvSpPr/>
              <p:nvPr/>
            </p:nvSpPr>
            <p:spPr>
              <a:xfrm flipH="1">
                <a:off x="4859280" y="346716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5152680" y="34210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rot="20058000">
                <a:off x="4785840" y="4141440"/>
                <a:ext cx="16992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3095280" y="3429000"/>
              <a:ext cx="539640" cy="409680"/>
              <a:chOff x="3095280" y="3429000"/>
              <a:chExt cx="539640" cy="409680"/>
            </a:xfrm>
          </p:grpSpPr>
          <p:sp>
            <p:nvSpPr>
              <p:cNvPr id="1155" name=""/>
              <p:cNvSpPr/>
              <p:nvPr/>
            </p:nvSpPr>
            <p:spPr>
              <a:xfrm>
                <a:off x="3149640" y="347508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309528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3466440" y="36957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687640" y="3429000"/>
              <a:ext cx="539640" cy="409680"/>
              <a:chOff x="5687640" y="3429000"/>
              <a:chExt cx="539640" cy="4096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742000" y="347508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568764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6058800" y="36957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381200" y="2943360"/>
              <a:ext cx="987840" cy="437400"/>
              <a:chOff x="4381200" y="2943360"/>
              <a:chExt cx="987840" cy="437400"/>
            </a:xfrm>
          </p:grpSpPr>
          <p:sp>
            <p:nvSpPr>
              <p:cNvPr id="1163" name=""/>
              <p:cNvSpPr/>
              <p:nvPr/>
            </p:nvSpPr>
            <p:spPr>
              <a:xfrm>
                <a:off x="4435560" y="298944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4381200" y="29433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rot="20747400">
                <a:off x="5187240" y="321912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53AA-605C-455E-98DB-777266890DAD}" type="slidenum">
              <a:t>24</a:t>
            </a:fld>
          </a:p>
        </p:txBody>
      </p:sp>
    </p:spTree>
  </p:cSld>
  <p:transition>
    <p:cover dir="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returning to the inser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no longer height balanced because of an insertion in its left subtree, then we restore balance by perfo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ts left child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left child’s balance factor is 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ub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s left child, and its left child’s right child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left child’s balance factor is 0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nsider inser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right subtree, we get the mirror of the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852E-E104-4D4A-8026-0DF073ABE6F9}" type="slidenum">
              <a:t>25</a:t>
            </a:fld>
          </a:p>
        </p:txBody>
      </p:sp>
    </p:spTree>
  </p:cSld>
  <p:transition>
    <p:cover dir="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ursive AVL-tree inser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insert the elemen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nto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ull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 new node contain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with no children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null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less than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 to the result of insert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nto t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 longer height-balanced, and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’s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is +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sing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 longer height-balanced, and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’s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is 0 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doub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B7EA-C08E-4E58-8761-6AD67E7BEF0F}" type="slidenum">
              <a:t>26</a:t>
            </a:fld>
          </a:p>
        </p:txBody>
      </p:sp>
    </p:spTree>
  </p:cSld>
  <p:transition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the result of insert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nto t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 longer height-balanced, and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’s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i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sing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 longer height-balanced , and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’s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is 0 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doub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C6BD-BCDC-4A1C-B69D-A6D14D87E1B4}" type="slidenum">
              <a:t>27</a:t>
            </a:fld>
          </a:p>
        </p:txBody>
      </p:sp>
    </p:spTree>
  </p:cSld>
  <p:transition>
    <p:cover dir="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iliary algorithms for r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perform a single left rotation of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perform a double left rotation of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 to the sing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the answer of a sing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perform a single right rotation of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 to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perform a double right rotation of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the sing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the answer of a sing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EC9E-7C99-466C-BC45-0D16CE0D62CE}" type="slidenum">
              <a:t>28</a:t>
            </a:fld>
          </a:p>
        </p:txBody>
      </p:sp>
    </p:spTree>
  </p:cSld>
  <p:transition>
    <p:cover dir="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 Java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Comparable elem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the AVL tree whose topmost node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 = AVLTreeNode.insert(elem, root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insert (Comparable elem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Node 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the AVL tree whose topmost node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modified AVL tre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(elem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483D-61B2-4BD8-8394-2F4E4AA98E02}" type="slidenum">
              <a:t>29</a:t>
            </a:fld>
          </a:p>
        </p:txBody>
      </p:sp>
    </p:spTree>
  </p:cSld>
  <p:transition>
    <p:cover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eight of a binary search tree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heigh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a BST is the number of links between the node and its remotest descend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heigh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sub)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height of its topmos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eight of a leaf node is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eight of a non-leaf node is 1 greater than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imum height of its sub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mpty tree has heigh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6FDF-852A-42EC-A562-6D6DC6E60F87}" type="slidenum">
              <a:t>3</a:t>
            </a:fld>
          </a:p>
        </p:txBody>
      </p:sp>
    </p:spTree>
  </p:cSld>
  <p:transition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 = elem.compareTo(top.elemen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mp &lt; 0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left = insert(elem, top.lef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top.isHeightBalanced()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left.balanceFactor() == +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singleLeftRotation(to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doubleLeftRotation(to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// comp &gt;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74C2-29D4-4F7D-A84A-D7E5CCA3458D}" type="slidenum">
              <a:t>30</a:t>
            </a:fld>
          </a:p>
        </p:txBody>
      </p:sp>
    </p:spTree>
  </p:cSld>
  <p:transition>
    <p:cover dir="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 &gt;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right = insert(elem, top.righ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top.isHeightBalanced()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right.balanceFactor() == -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singleRightRotation(to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doubleRightRotation(to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height = Math.max(height(top.left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(top.right)) +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168A-E137-4160-8728-28A0236BAC0E}" type="slidenum">
              <a:t>31</a:t>
            </a:fld>
          </a:p>
        </p:txBody>
      </p:sp>
    </p:spTree>
  </p:cSld>
  <p:transition>
    <p:cover dir="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inser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iliary methods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HeightBalanced 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AVL tree node is height balanced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h.abs(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balanceFactor()) &lt;= 1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alanceFactor() {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balance factor of this nod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eight(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eft) - height(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eight (AVLTreeNode n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height of the AVL tree nod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-1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mpty tre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 =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? -1 : n.he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eed auxiliary methods for the single and double rotation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B789-7803-424C-8D2C-B184B28E6F0B}" type="slidenum">
              <a:t>32</a:t>
            </a:fld>
          </a:p>
        </p:txBody>
      </p:sp>
    </p:spTree>
  </p:cSld>
  <p:transition>
    <p:cover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 deletion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ode using BST deletion algorith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 height-balanced property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we restore height-balance by rotating the unbalanced node with one of its children, and (possibly) one of its grand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e child node belonging to the opposite subtree from the one in which the node has been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e balance factor of this child node to tell us which kind of rotation to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0A89-E4B2-489E-82C0-51A9457186E1}" type="slidenum">
              <a:t>33</a:t>
            </a:fld>
          </a:p>
        </p:txBody>
      </p:sp>
    </p:spTree>
  </p:cSld>
  <p:transition>
    <p:cover dir="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3280" y="2181240"/>
            <a:ext cx="8100360" cy="2327760"/>
            <a:chOff x="503280" y="2181240"/>
            <a:chExt cx="8100360" cy="2327760"/>
          </a:xfrm>
        </p:grpSpPr>
        <p:sp>
          <p:nvSpPr>
            <p:cNvPr id="1185" name=""/>
            <p:cNvSpPr/>
            <p:nvPr/>
          </p:nvSpPr>
          <p:spPr>
            <a:xfrm>
              <a:off x="2008080" y="2730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84080" y="26398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004840" y="4195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004840" y="3714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004840" y="3214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49640" y="260676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04880" y="263196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4613400" y="2681280"/>
              <a:ext cx="1755720" cy="432000"/>
              <a:chOff x="4613400" y="2681280"/>
              <a:chExt cx="1755720" cy="432000"/>
            </a:xfrm>
          </p:grpSpPr>
          <p:sp>
            <p:nvSpPr>
              <p:cNvPr id="1193" name=""/>
              <p:cNvSpPr/>
              <p:nvPr/>
            </p:nvSpPr>
            <p:spPr>
              <a:xfrm>
                <a:off x="4659480" y="2727360"/>
                <a:ext cx="1549440" cy="33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13400" y="2681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193080" y="300852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503280" y="218124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04080" y="309564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45280" y="312120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1484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28680" y="40975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027760" y="3583080"/>
              <a:ext cx="7333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64640" y="360828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3852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57760" y="4097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391000" y="3170160"/>
              <a:ext cx="787320" cy="415800"/>
              <a:chOff x="5391000" y="3170160"/>
              <a:chExt cx="787320" cy="415800"/>
            </a:xfrm>
          </p:grpSpPr>
          <p:sp>
            <p:nvSpPr>
              <p:cNvPr id="1206" name=""/>
              <p:cNvSpPr/>
              <p:nvPr/>
            </p:nvSpPr>
            <p:spPr>
              <a:xfrm flipH="1">
                <a:off x="553536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7824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91000" y="34588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4903920" y="3657600"/>
              <a:ext cx="298440" cy="415440"/>
              <a:chOff x="4903920" y="3657600"/>
              <a:chExt cx="298440" cy="415440"/>
            </a:xfrm>
          </p:grpSpPr>
          <p:sp>
            <p:nvSpPr>
              <p:cNvPr id="1210" name=""/>
              <p:cNvSpPr/>
              <p:nvPr/>
            </p:nvSpPr>
            <p:spPr>
              <a:xfrm flipH="1">
                <a:off x="4991400" y="370332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100840" y="365760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903920" y="390168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5589720" y="3657600"/>
              <a:ext cx="290520" cy="415440"/>
              <a:chOff x="5589720" y="3657600"/>
              <a:chExt cx="290520" cy="415440"/>
            </a:xfrm>
          </p:grpSpPr>
          <p:sp>
            <p:nvSpPr>
              <p:cNvPr id="1214" name=""/>
              <p:cNvSpPr/>
              <p:nvPr/>
            </p:nvSpPr>
            <p:spPr>
              <a:xfrm>
                <a:off x="5635800" y="370332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589720" y="36576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742360" y="390168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6566040" y="3170160"/>
              <a:ext cx="779400" cy="415800"/>
              <a:chOff x="6566040" y="3170160"/>
              <a:chExt cx="779400" cy="4158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61212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56604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170840" y="345888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4613400" y="4145040"/>
              <a:ext cx="99720" cy="100080"/>
              <a:chOff x="4613400" y="4145040"/>
              <a:chExt cx="99720" cy="100080"/>
            </a:xfrm>
          </p:grpSpPr>
          <p:sp>
            <p:nvSpPr>
              <p:cNvPr id="1222" name=""/>
              <p:cNvSpPr/>
              <p:nvPr/>
            </p:nvSpPr>
            <p:spPr>
              <a:xfrm>
                <a:off x="4659120" y="419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61340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100480" y="4145040"/>
              <a:ext cx="101520" cy="100080"/>
              <a:chOff x="5100480" y="4145040"/>
              <a:chExt cx="101520" cy="100080"/>
            </a:xfrm>
          </p:grpSpPr>
          <p:sp>
            <p:nvSpPr>
              <p:cNvPr id="1225" name=""/>
              <p:cNvSpPr/>
              <p:nvPr/>
            </p:nvSpPr>
            <p:spPr>
              <a:xfrm>
                <a:off x="514800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00480" y="4145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5589720" y="4145040"/>
              <a:ext cx="99720" cy="100080"/>
              <a:chOff x="5589720" y="4145040"/>
              <a:chExt cx="99720" cy="100080"/>
            </a:xfrm>
          </p:grpSpPr>
          <p:sp>
            <p:nvSpPr>
              <p:cNvPr id="1228" name=""/>
              <p:cNvSpPr/>
              <p:nvPr/>
            </p:nvSpPr>
            <p:spPr>
              <a:xfrm>
                <a:off x="563544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8972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6078600" y="4145040"/>
              <a:ext cx="100080" cy="100080"/>
              <a:chOff x="6078600" y="4145040"/>
              <a:chExt cx="100080" cy="100080"/>
            </a:xfrm>
          </p:grpSpPr>
          <p:sp>
            <p:nvSpPr>
              <p:cNvPr id="1231" name=""/>
              <p:cNvSpPr/>
              <p:nvPr/>
            </p:nvSpPr>
            <p:spPr>
              <a:xfrm>
                <a:off x="612468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07860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6980400" y="358308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169040" y="360828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9116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55400" y="40975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6856560" y="3657600"/>
              <a:ext cx="298440" cy="415440"/>
              <a:chOff x="6856560" y="3657600"/>
              <a:chExt cx="298440" cy="41544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6944040" y="370332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054920" y="36576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56560" y="390168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6566040" y="4145040"/>
              <a:ext cx="99720" cy="100080"/>
              <a:chOff x="6566040" y="4145040"/>
              <a:chExt cx="99720" cy="100080"/>
            </a:xfrm>
          </p:grpSpPr>
          <p:sp>
            <p:nvSpPr>
              <p:cNvPr id="1242" name=""/>
              <p:cNvSpPr/>
              <p:nvPr/>
            </p:nvSpPr>
            <p:spPr>
              <a:xfrm>
                <a:off x="661176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6604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7054920" y="4145040"/>
              <a:ext cx="100080" cy="100080"/>
              <a:chOff x="7054920" y="4145040"/>
              <a:chExt cx="100080" cy="100080"/>
            </a:xfrm>
          </p:grpSpPr>
          <p:sp>
            <p:nvSpPr>
              <p:cNvPr id="1245" name=""/>
              <p:cNvSpPr/>
              <p:nvPr/>
            </p:nvSpPr>
            <p:spPr>
              <a:xfrm>
                <a:off x="710100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05492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7542360" y="3657600"/>
              <a:ext cx="99720" cy="100080"/>
              <a:chOff x="7542360" y="3657600"/>
              <a:chExt cx="99720" cy="100080"/>
            </a:xfrm>
          </p:grpSpPr>
          <p:sp>
            <p:nvSpPr>
              <p:cNvPr id="1248" name=""/>
              <p:cNvSpPr/>
              <p:nvPr/>
            </p:nvSpPr>
            <p:spPr>
              <a:xfrm>
                <a:off x="7588080" y="3703680"/>
                <a:ext cx="1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42360" y="36576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1509840" y="2236680"/>
              <a:ext cx="24588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584360" y="2311560"/>
              <a:ext cx="2854440" cy="99720"/>
              <a:chOff x="1584360" y="2311560"/>
              <a:chExt cx="2854440" cy="99720"/>
            </a:xfrm>
          </p:grpSpPr>
          <p:sp>
            <p:nvSpPr>
              <p:cNvPr id="1252" name=""/>
              <p:cNvSpPr/>
              <p:nvPr/>
            </p:nvSpPr>
            <p:spPr>
              <a:xfrm>
                <a:off x="1630440" y="23576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584360" y="2311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4384800" y="2352600"/>
              <a:ext cx="110880" cy="244440"/>
              <a:chOff x="4384800" y="2352600"/>
              <a:chExt cx="110880" cy="244440"/>
            </a:xfrm>
          </p:grpSpPr>
          <p:sp>
            <p:nvSpPr>
              <p:cNvPr id="1255" name=""/>
              <p:cNvSpPr/>
              <p:nvPr/>
            </p:nvSpPr>
            <p:spPr>
              <a:xfrm>
                <a:off x="4438440" y="2352600"/>
                <a:ext cx="144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384800" y="2428560"/>
                <a:ext cx="11088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3297240" y="407340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43840" y="41004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09800" y="3586320"/>
              <a:ext cx="7336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47040" y="361152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3371760" y="3660840"/>
              <a:ext cx="290520" cy="415440"/>
              <a:chOff x="3371760" y="3660840"/>
              <a:chExt cx="290520" cy="415440"/>
            </a:xfrm>
          </p:grpSpPr>
          <p:sp>
            <p:nvSpPr>
              <p:cNvPr id="1262" name=""/>
              <p:cNvSpPr/>
              <p:nvPr/>
            </p:nvSpPr>
            <p:spPr>
              <a:xfrm>
                <a:off x="3417840" y="370656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371760" y="3660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524400" y="390492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868480" y="3659400"/>
              <a:ext cx="100080" cy="99720"/>
              <a:chOff x="2868480" y="3659400"/>
              <a:chExt cx="100080" cy="99720"/>
            </a:xfrm>
          </p:grpSpPr>
          <p:sp>
            <p:nvSpPr>
              <p:cNvPr id="1266" name=""/>
              <p:cNvSpPr/>
              <p:nvPr/>
            </p:nvSpPr>
            <p:spPr>
              <a:xfrm>
                <a:off x="2914560" y="370512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868480" y="36594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3371760" y="4148280"/>
              <a:ext cx="100080" cy="100080"/>
              <a:chOff x="3371760" y="4148280"/>
              <a:chExt cx="100080" cy="100080"/>
            </a:xfrm>
          </p:grpSpPr>
          <p:sp>
            <p:nvSpPr>
              <p:cNvPr id="1269" name=""/>
              <p:cNvSpPr/>
              <p:nvPr/>
            </p:nvSpPr>
            <p:spPr>
              <a:xfrm>
                <a:off x="3417840" y="419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371760" y="4148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3860640" y="4148280"/>
              <a:ext cx="100080" cy="100080"/>
              <a:chOff x="3860640" y="4148280"/>
              <a:chExt cx="100080" cy="100080"/>
            </a:xfrm>
          </p:grpSpPr>
          <p:sp>
            <p:nvSpPr>
              <p:cNvPr id="1272" name=""/>
              <p:cNvSpPr/>
              <p:nvPr/>
            </p:nvSpPr>
            <p:spPr>
              <a:xfrm>
                <a:off x="3906720" y="419436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60640" y="4148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3220200" y="2681280"/>
              <a:ext cx="1003680" cy="931680"/>
              <a:chOff x="3220200" y="2681280"/>
              <a:chExt cx="1003680" cy="93168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4124160" y="2681280"/>
                <a:ext cx="99720" cy="100080"/>
                <a:chOff x="4124160" y="2681280"/>
                <a:chExt cx="99720" cy="1000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169880" y="2727360"/>
                  <a:ext cx="10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124160" y="2681280"/>
                  <a:ext cx="99720" cy="10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8" name=""/>
              <p:cNvSpPr/>
              <p:nvPr/>
            </p:nvSpPr>
            <p:spPr>
              <a:xfrm flipH="1">
                <a:off x="3257280" y="2732040"/>
                <a:ext cx="911160" cy="801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7444200">
                <a:off x="3224520" y="3458520"/>
                <a:ext cx="176040" cy="10440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7980840" y="4105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80840" y="3624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980840" y="31240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158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8416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96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5296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4492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38520" y="3332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70560" y="38210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04640" y="38210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36560" y="28465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4CC1-AD24-4852-A293-199EEA3DFDD7}" type="slidenum">
              <a:t>34</a:t>
            </a:fld>
          </a:p>
        </p:txBody>
      </p:sp>
    </p:spTree>
  </p:cSld>
  <p:transition>
    <p:cover dir="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"/>
          <p:cNvGrpSpPr/>
          <p:nvPr/>
        </p:nvGrpSpPr>
        <p:grpSpPr>
          <a:xfrm>
            <a:off x="504000" y="2181240"/>
            <a:ext cx="8099640" cy="2327760"/>
            <a:chOff x="504000" y="2181240"/>
            <a:chExt cx="8099640" cy="2327760"/>
          </a:xfrm>
        </p:grpSpPr>
        <p:sp>
          <p:nvSpPr>
            <p:cNvPr id="1295" name=""/>
            <p:cNvSpPr/>
            <p:nvPr/>
          </p:nvSpPr>
          <p:spPr>
            <a:xfrm>
              <a:off x="2008080" y="2730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984080" y="26402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04840" y="4195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04840" y="3714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04840" y="3214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49640" y="260676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04880" y="263232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4613400" y="2681280"/>
              <a:ext cx="1755720" cy="432000"/>
              <a:chOff x="4613400" y="2681280"/>
              <a:chExt cx="1755720" cy="432000"/>
            </a:xfrm>
          </p:grpSpPr>
          <p:sp>
            <p:nvSpPr>
              <p:cNvPr id="1303" name=""/>
              <p:cNvSpPr/>
              <p:nvPr/>
            </p:nvSpPr>
            <p:spPr>
              <a:xfrm>
                <a:off x="4659480" y="2727360"/>
                <a:ext cx="1549440" cy="331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613400" y="2681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193080" y="300852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504000" y="2181240"/>
              <a:ext cx="773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B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etion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t’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04080" y="309564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5280" y="312120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1484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8680" y="40975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27760" y="3583080"/>
              <a:ext cx="7333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64640" y="360864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3852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57760" y="4097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5391000" y="3170160"/>
              <a:ext cx="787320" cy="415800"/>
              <a:chOff x="5391000" y="3170160"/>
              <a:chExt cx="787320" cy="415800"/>
            </a:xfrm>
          </p:grpSpPr>
          <p:sp>
            <p:nvSpPr>
              <p:cNvPr id="1316" name=""/>
              <p:cNvSpPr/>
              <p:nvPr/>
            </p:nvSpPr>
            <p:spPr>
              <a:xfrm flipH="1">
                <a:off x="553536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7824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91000" y="34588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4903920" y="3657600"/>
              <a:ext cx="298440" cy="416160"/>
              <a:chOff x="4903920" y="3657600"/>
              <a:chExt cx="298440" cy="416160"/>
            </a:xfrm>
          </p:grpSpPr>
          <p:sp>
            <p:nvSpPr>
              <p:cNvPr id="1320" name=""/>
              <p:cNvSpPr/>
              <p:nvPr/>
            </p:nvSpPr>
            <p:spPr>
              <a:xfrm flipH="1">
                <a:off x="4991400" y="370368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100840" y="365760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903920" y="390204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5589720" y="3657600"/>
              <a:ext cx="290520" cy="416160"/>
              <a:chOff x="5589720" y="3657600"/>
              <a:chExt cx="290520" cy="416160"/>
            </a:xfrm>
          </p:grpSpPr>
          <p:sp>
            <p:nvSpPr>
              <p:cNvPr id="1324" name=""/>
              <p:cNvSpPr/>
              <p:nvPr/>
            </p:nvSpPr>
            <p:spPr>
              <a:xfrm>
                <a:off x="5635800" y="3703680"/>
                <a:ext cx="15732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58972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742360" y="3902040"/>
                <a:ext cx="137880" cy="17172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566040" y="3170160"/>
              <a:ext cx="779400" cy="415800"/>
              <a:chOff x="6566040" y="3170160"/>
              <a:chExt cx="779400" cy="4158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61212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56604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170840" y="345888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613400" y="4145040"/>
              <a:ext cx="99720" cy="100080"/>
              <a:chOff x="4613400" y="4145040"/>
              <a:chExt cx="99720" cy="100080"/>
            </a:xfrm>
          </p:grpSpPr>
          <p:sp>
            <p:nvSpPr>
              <p:cNvPr id="1332" name=""/>
              <p:cNvSpPr/>
              <p:nvPr/>
            </p:nvSpPr>
            <p:spPr>
              <a:xfrm>
                <a:off x="4659120" y="419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61340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100480" y="4145040"/>
              <a:ext cx="101520" cy="100080"/>
              <a:chOff x="5100480" y="4145040"/>
              <a:chExt cx="101520" cy="100080"/>
            </a:xfrm>
          </p:grpSpPr>
          <p:sp>
            <p:nvSpPr>
              <p:cNvPr id="1335" name=""/>
              <p:cNvSpPr/>
              <p:nvPr/>
            </p:nvSpPr>
            <p:spPr>
              <a:xfrm>
                <a:off x="514800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100480" y="4145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589720" y="4145040"/>
              <a:ext cx="99720" cy="100080"/>
              <a:chOff x="5589720" y="4145040"/>
              <a:chExt cx="99720" cy="1000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63544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58972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078600" y="4145040"/>
              <a:ext cx="100080" cy="100080"/>
              <a:chOff x="6078600" y="4145040"/>
              <a:chExt cx="100080" cy="100080"/>
            </a:xfrm>
          </p:grpSpPr>
          <p:sp>
            <p:nvSpPr>
              <p:cNvPr id="1341" name=""/>
              <p:cNvSpPr/>
              <p:nvPr/>
            </p:nvSpPr>
            <p:spPr>
              <a:xfrm>
                <a:off x="612468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07860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6980400" y="358308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169040" y="360864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9116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755400" y="40975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6856560" y="3657600"/>
              <a:ext cx="298440" cy="416160"/>
              <a:chOff x="6856560" y="3657600"/>
              <a:chExt cx="298440" cy="416160"/>
            </a:xfrm>
          </p:grpSpPr>
          <p:sp>
            <p:nvSpPr>
              <p:cNvPr id="1348" name=""/>
              <p:cNvSpPr/>
              <p:nvPr/>
            </p:nvSpPr>
            <p:spPr>
              <a:xfrm flipH="1">
                <a:off x="6944040" y="370368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05492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56560" y="390204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6566040" y="4145040"/>
              <a:ext cx="99720" cy="100080"/>
              <a:chOff x="6566040" y="4145040"/>
              <a:chExt cx="99720" cy="100080"/>
            </a:xfrm>
          </p:grpSpPr>
          <p:sp>
            <p:nvSpPr>
              <p:cNvPr id="1352" name=""/>
              <p:cNvSpPr/>
              <p:nvPr/>
            </p:nvSpPr>
            <p:spPr>
              <a:xfrm>
                <a:off x="661176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56604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7054920" y="4145040"/>
              <a:ext cx="100080" cy="100080"/>
              <a:chOff x="7054920" y="4145040"/>
              <a:chExt cx="100080" cy="100080"/>
            </a:xfrm>
          </p:grpSpPr>
          <p:sp>
            <p:nvSpPr>
              <p:cNvPr id="1355" name=""/>
              <p:cNvSpPr/>
              <p:nvPr/>
            </p:nvSpPr>
            <p:spPr>
              <a:xfrm>
                <a:off x="710100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05492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7542360" y="3657600"/>
              <a:ext cx="99720" cy="100080"/>
              <a:chOff x="7542360" y="3657600"/>
              <a:chExt cx="99720" cy="100080"/>
            </a:xfrm>
          </p:grpSpPr>
          <p:sp>
            <p:nvSpPr>
              <p:cNvPr id="1358" name=""/>
              <p:cNvSpPr/>
              <p:nvPr/>
            </p:nvSpPr>
            <p:spPr>
              <a:xfrm>
                <a:off x="7588080" y="3703680"/>
                <a:ext cx="1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542360" y="36576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09840" y="2237040"/>
              <a:ext cx="2458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1584360" y="2311560"/>
              <a:ext cx="2854440" cy="99720"/>
              <a:chOff x="1584360" y="2311560"/>
              <a:chExt cx="2854440" cy="99720"/>
            </a:xfrm>
          </p:grpSpPr>
          <p:sp>
            <p:nvSpPr>
              <p:cNvPr id="1362" name=""/>
              <p:cNvSpPr/>
              <p:nvPr/>
            </p:nvSpPr>
            <p:spPr>
              <a:xfrm>
                <a:off x="1630440" y="23576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584360" y="2311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4384800" y="2352600"/>
              <a:ext cx="110880" cy="244440"/>
              <a:chOff x="4384800" y="2352600"/>
              <a:chExt cx="110880" cy="244440"/>
            </a:xfrm>
          </p:grpSpPr>
          <p:sp>
            <p:nvSpPr>
              <p:cNvPr id="1365" name=""/>
              <p:cNvSpPr/>
              <p:nvPr/>
            </p:nvSpPr>
            <p:spPr>
              <a:xfrm>
                <a:off x="4438440" y="2352600"/>
                <a:ext cx="144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84800" y="2428560"/>
                <a:ext cx="11088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2809800" y="4062600"/>
              <a:ext cx="7336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47040" y="40878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2868480" y="4135680"/>
              <a:ext cx="100080" cy="99720"/>
              <a:chOff x="2868480" y="4135680"/>
              <a:chExt cx="100080" cy="997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914560" y="41814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868480" y="4135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3373560" y="4135680"/>
              <a:ext cx="99720" cy="99720"/>
              <a:chOff x="3373560" y="4135680"/>
              <a:chExt cx="99720" cy="99720"/>
            </a:xfrm>
          </p:grpSpPr>
          <p:sp>
            <p:nvSpPr>
              <p:cNvPr id="1373" name=""/>
              <p:cNvSpPr/>
              <p:nvPr/>
            </p:nvSpPr>
            <p:spPr>
              <a:xfrm>
                <a:off x="3419280" y="4181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373560" y="413568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3072600" y="2681280"/>
              <a:ext cx="1151640" cy="1413000"/>
              <a:chOff x="3072600" y="2681280"/>
              <a:chExt cx="1151640" cy="141300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4124160" y="2681280"/>
                <a:ext cx="100080" cy="100080"/>
                <a:chOff x="4124160" y="2681280"/>
                <a:chExt cx="100080" cy="1000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4170240" y="2727360"/>
                  <a:ext cx="1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124160" y="2681280"/>
                  <a:ext cx="100080" cy="10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 flipH="1">
                <a:off x="3132000" y="2732040"/>
                <a:ext cx="1036800" cy="1273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7444200">
                <a:off x="3077280" y="3939120"/>
                <a:ext cx="176040" cy="10512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7980840" y="4105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980840" y="3624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980840" y="3124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8416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496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5296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4492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38520" y="3332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270560" y="38210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104640" y="429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36560" y="28465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5FBA-93DE-436D-A154-2DDF70E7541C}" type="slidenum">
              <a:t>35</a:t>
            </a:fld>
          </a:p>
        </p:txBody>
      </p:sp>
    </p:spTree>
  </p:cSld>
  <p:transition>
    <p:cover dir="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a single r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389880" y="2181240"/>
            <a:ext cx="8213760" cy="2327760"/>
            <a:chOff x="389880" y="2181240"/>
            <a:chExt cx="8213760" cy="2327760"/>
          </a:xfrm>
        </p:grpSpPr>
        <p:sp>
          <p:nvSpPr>
            <p:cNvPr id="1396" name=""/>
            <p:cNvSpPr/>
            <p:nvPr/>
          </p:nvSpPr>
          <p:spPr>
            <a:xfrm>
              <a:off x="2008080" y="2730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84080" y="26402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004840" y="4195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04840" y="3714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4840" y="3214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511440" y="3078360"/>
              <a:ext cx="735120" cy="2476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66680" y="310356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9880" y="2181240"/>
              <a:ext cx="1012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rotatio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‘cat’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ts child ‘pig’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519440" y="260820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61000" y="263376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0688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20720" y="40975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519440" y="3583080"/>
              <a:ext cx="73368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56320" y="360864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3056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49800" y="4097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4395960" y="3657600"/>
              <a:ext cx="298440" cy="416160"/>
              <a:chOff x="4395960" y="3657600"/>
              <a:chExt cx="298440" cy="416160"/>
            </a:xfrm>
          </p:grpSpPr>
          <p:sp>
            <p:nvSpPr>
              <p:cNvPr id="1413" name=""/>
              <p:cNvSpPr/>
              <p:nvPr/>
            </p:nvSpPr>
            <p:spPr>
              <a:xfrm flipH="1">
                <a:off x="4483440" y="370368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592880" y="365760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395960" y="390204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5081760" y="3657600"/>
              <a:ext cx="290520" cy="416160"/>
              <a:chOff x="5081760" y="3657600"/>
              <a:chExt cx="290520" cy="416160"/>
            </a:xfrm>
          </p:grpSpPr>
          <p:sp>
            <p:nvSpPr>
              <p:cNvPr id="1417" name=""/>
              <p:cNvSpPr/>
              <p:nvPr/>
            </p:nvSpPr>
            <p:spPr>
              <a:xfrm>
                <a:off x="5127840" y="3703680"/>
                <a:ext cx="15732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08176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34400" y="3902040"/>
                <a:ext cx="137880" cy="17172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4102200" y="3170160"/>
              <a:ext cx="779400" cy="415800"/>
              <a:chOff x="4102200" y="3170160"/>
              <a:chExt cx="779400" cy="415800"/>
            </a:xfrm>
          </p:grpSpPr>
          <p:sp>
            <p:nvSpPr>
              <p:cNvPr id="1421" name=""/>
              <p:cNvSpPr/>
              <p:nvPr/>
            </p:nvSpPr>
            <p:spPr>
              <a:xfrm>
                <a:off x="414828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10220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07000" y="345888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4105440" y="4145040"/>
              <a:ext cx="99720" cy="100080"/>
              <a:chOff x="4105440" y="4145040"/>
              <a:chExt cx="99720" cy="100080"/>
            </a:xfrm>
          </p:grpSpPr>
          <p:sp>
            <p:nvSpPr>
              <p:cNvPr id="1425" name=""/>
              <p:cNvSpPr/>
              <p:nvPr/>
            </p:nvSpPr>
            <p:spPr>
              <a:xfrm>
                <a:off x="4151160" y="419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10544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4592520" y="4145040"/>
              <a:ext cx="101520" cy="100080"/>
              <a:chOff x="4592520" y="4145040"/>
              <a:chExt cx="101520" cy="100080"/>
            </a:xfrm>
          </p:grpSpPr>
          <p:sp>
            <p:nvSpPr>
              <p:cNvPr id="1428" name=""/>
              <p:cNvSpPr/>
              <p:nvPr/>
            </p:nvSpPr>
            <p:spPr>
              <a:xfrm>
                <a:off x="464004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592520" y="4145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5081760" y="4145040"/>
              <a:ext cx="99720" cy="100080"/>
              <a:chOff x="5081760" y="4145040"/>
              <a:chExt cx="99720" cy="100080"/>
            </a:xfrm>
          </p:grpSpPr>
          <p:sp>
            <p:nvSpPr>
              <p:cNvPr id="1431" name=""/>
              <p:cNvSpPr/>
              <p:nvPr/>
            </p:nvSpPr>
            <p:spPr>
              <a:xfrm>
                <a:off x="512748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8176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5570640" y="4145040"/>
              <a:ext cx="100080" cy="100080"/>
              <a:chOff x="5570640" y="4145040"/>
              <a:chExt cx="100080" cy="100080"/>
            </a:xfrm>
          </p:grpSpPr>
          <p:sp>
            <p:nvSpPr>
              <p:cNvPr id="1434" name=""/>
              <p:cNvSpPr/>
              <p:nvPr/>
            </p:nvSpPr>
            <p:spPr>
              <a:xfrm>
                <a:off x="561672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7064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6726240" y="358308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914880" y="360864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3736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501600" y="40975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6602400" y="3657600"/>
              <a:ext cx="298440" cy="416160"/>
              <a:chOff x="6602400" y="3657600"/>
              <a:chExt cx="298440" cy="416160"/>
            </a:xfrm>
          </p:grpSpPr>
          <p:sp>
            <p:nvSpPr>
              <p:cNvPr id="1441" name=""/>
              <p:cNvSpPr/>
              <p:nvPr/>
            </p:nvSpPr>
            <p:spPr>
              <a:xfrm flipH="1">
                <a:off x="6689880" y="370368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0076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602400" y="390204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6311880" y="4145040"/>
              <a:ext cx="100080" cy="100080"/>
              <a:chOff x="6311880" y="4145040"/>
              <a:chExt cx="100080" cy="100080"/>
            </a:xfrm>
          </p:grpSpPr>
          <p:sp>
            <p:nvSpPr>
              <p:cNvPr id="1445" name=""/>
              <p:cNvSpPr/>
              <p:nvPr/>
            </p:nvSpPr>
            <p:spPr>
              <a:xfrm>
                <a:off x="6357960" y="419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1188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6800760" y="4145040"/>
              <a:ext cx="100080" cy="100080"/>
              <a:chOff x="6800760" y="4145040"/>
              <a:chExt cx="100080" cy="100080"/>
            </a:xfrm>
          </p:grpSpPr>
          <p:sp>
            <p:nvSpPr>
              <p:cNvPr id="1448" name=""/>
              <p:cNvSpPr/>
              <p:nvPr/>
            </p:nvSpPr>
            <p:spPr>
              <a:xfrm>
                <a:off x="684684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0076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7288200" y="3657600"/>
              <a:ext cx="100080" cy="100080"/>
              <a:chOff x="7288200" y="3657600"/>
              <a:chExt cx="100080" cy="100080"/>
            </a:xfrm>
          </p:grpSpPr>
          <p:sp>
            <p:nvSpPr>
              <p:cNvPr id="1451" name=""/>
              <p:cNvSpPr/>
              <p:nvPr/>
            </p:nvSpPr>
            <p:spPr>
              <a:xfrm>
                <a:off x="7334280" y="370368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28820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1509840" y="2237040"/>
              <a:ext cx="2458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584360" y="2311560"/>
              <a:ext cx="3363840" cy="285480"/>
              <a:chOff x="1584360" y="2311560"/>
              <a:chExt cx="3363840" cy="285480"/>
            </a:xfrm>
          </p:grpSpPr>
          <p:sp>
            <p:nvSpPr>
              <p:cNvPr id="1455" name=""/>
              <p:cNvSpPr/>
              <p:nvPr/>
            </p:nvSpPr>
            <p:spPr>
              <a:xfrm>
                <a:off x="1600200" y="2362320"/>
                <a:ext cx="32940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84360" y="2311560"/>
                <a:ext cx="117360" cy="109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4836960" y="2352600"/>
                <a:ext cx="111240" cy="244440"/>
                <a:chOff x="4836960" y="2352600"/>
                <a:chExt cx="111240" cy="24444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4890960" y="2352600"/>
                  <a:ext cx="1800" cy="82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836960" y="2428560"/>
                  <a:ext cx="111240" cy="168480"/>
                </a:xfrm>
                <a:custGeom>
                  <a:avLst/>
                  <a:gdLst/>
                  <a:ahLst/>
                  <a:rect l="l" t="t" r="r" b="b"/>
                  <a:pathLst>
                    <a:path w="70" h="106">
                      <a:moveTo>
                        <a:pt x="0" y="0"/>
                      </a:moveTo>
                      <a:lnTo>
                        <a:pt x="34" y="106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0" name=""/>
            <p:cNvSpPr/>
            <p:nvPr/>
          </p:nvSpPr>
          <p:spPr>
            <a:xfrm>
              <a:off x="2556000" y="4062600"/>
              <a:ext cx="7333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792880" y="40878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614680" y="4135680"/>
              <a:ext cx="100080" cy="99720"/>
              <a:chOff x="2614680" y="4135680"/>
              <a:chExt cx="100080" cy="99720"/>
            </a:xfrm>
          </p:grpSpPr>
          <p:sp>
            <p:nvSpPr>
              <p:cNvPr id="1463" name=""/>
              <p:cNvSpPr/>
              <p:nvPr/>
            </p:nvSpPr>
            <p:spPr>
              <a:xfrm>
                <a:off x="2660760" y="41814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614680" y="4135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3119400" y="4135680"/>
              <a:ext cx="100080" cy="99720"/>
              <a:chOff x="3119400" y="4135680"/>
              <a:chExt cx="100080" cy="99720"/>
            </a:xfrm>
          </p:grpSpPr>
          <p:sp>
            <p:nvSpPr>
              <p:cNvPr id="1466" name=""/>
              <p:cNvSpPr/>
              <p:nvPr/>
            </p:nvSpPr>
            <p:spPr>
              <a:xfrm>
                <a:off x="3165480" y="41814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119400" y="4135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846520" y="3149640"/>
              <a:ext cx="823680" cy="954000"/>
              <a:chOff x="2846520" y="3149640"/>
              <a:chExt cx="823680" cy="95400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3570120" y="3149640"/>
                <a:ext cx="100080" cy="100080"/>
                <a:chOff x="3570120" y="3149640"/>
                <a:chExt cx="100080" cy="1000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3616200" y="3195720"/>
                  <a:ext cx="1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570120" y="3149640"/>
                  <a:ext cx="100080" cy="10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 flipH="1">
                <a:off x="2916360" y="3200400"/>
                <a:ext cx="698400" cy="80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7444200">
                <a:off x="2851200" y="3948480"/>
                <a:ext cx="17640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7980840" y="4105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80840" y="3624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80840" y="3124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33368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4168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9880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3660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88000" y="28530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016760" y="38210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50840" y="429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798360" y="33181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5110200" y="2681280"/>
              <a:ext cx="2066040" cy="888120"/>
              <a:chOff x="5110200" y="2681280"/>
              <a:chExt cx="2066040" cy="888120"/>
            </a:xfrm>
          </p:grpSpPr>
          <p:sp>
            <p:nvSpPr>
              <p:cNvPr id="1486" name=""/>
              <p:cNvSpPr/>
              <p:nvPr/>
            </p:nvSpPr>
            <p:spPr>
              <a:xfrm>
                <a:off x="5156280" y="2727360"/>
                <a:ext cx="1936800" cy="77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10200" y="2681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138800">
                <a:off x="6987960" y="3438720"/>
                <a:ext cx="17604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3890880" y="2675160"/>
              <a:ext cx="787320" cy="415800"/>
              <a:chOff x="3890880" y="2675160"/>
              <a:chExt cx="787320" cy="415800"/>
            </a:xfrm>
          </p:grpSpPr>
          <p:sp>
            <p:nvSpPr>
              <p:cNvPr id="1490" name=""/>
              <p:cNvSpPr/>
              <p:nvPr/>
            </p:nvSpPr>
            <p:spPr>
              <a:xfrm flipH="1">
                <a:off x="4035240" y="2720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78120" y="2675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890880" y="296388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2DE8-5180-489E-A45D-F17797FC69CE}" type="slidenum">
              <a:t>36</a:t>
            </a:fld>
          </a:p>
        </p:txBody>
      </p:sp>
    </p:spTree>
  </p:cSld>
  <p:transition>
    <p:cover dir="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ernatively, using a double r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318600" y="2181240"/>
            <a:ext cx="8285040" cy="2327760"/>
            <a:chOff x="318600" y="2181240"/>
            <a:chExt cx="8285040" cy="2327760"/>
          </a:xfrm>
        </p:grpSpPr>
        <p:sp>
          <p:nvSpPr>
            <p:cNvPr id="1496" name=""/>
            <p:cNvSpPr/>
            <p:nvPr/>
          </p:nvSpPr>
          <p:spPr>
            <a:xfrm>
              <a:off x="2008080" y="27306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84080" y="26402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04840" y="4195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004840" y="37148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04840" y="32148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492360" y="3583080"/>
              <a:ext cx="735120" cy="2476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47600" y="360864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18600" y="2181240"/>
              <a:ext cx="1056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fter rotation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f ‘cat’, it’s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ild ‘pig’ an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t’s grandchil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‘fox’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04080" y="3095640"/>
              <a:ext cx="73476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45280" y="312120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51484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28680" y="409752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067280" y="2608200"/>
              <a:ext cx="7333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04160" y="263376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99564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14880" y="4097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5756760" y="3170160"/>
              <a:ext cx="421920" cy="893880"/>
              <a:chOff x="5756760" y="3170160"/>
              <a:chExt cx="421920" cy="893880"/>
            </a:xfrm>
          </p:grpSpPr>
          <p:sp>
            <p:nvSpPr>
              <p:cNvPr id="1513" name=""/>
              <p:cNvSpPr/>
              <p:nvPr/>
            </p:nvSpPr>
            <p:spPr>
              <a:xfrm flipH="1">
                <a:off x="5866920" y="3216240"/>
                <a:ext cx="257400" cy="78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078600" y="31701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478400">
                <a:off x="5776920" y="389700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3807000" y="2683080"/>
              <a:ext cx="434880" cy="871560"/>
              <a:chOff x="3807000" y="2683080"/>
              <a:chExt cx="434880" cy="871560"/>
            </a:xfrm>
          </p:grpSpPr>
          <p:sp>
            <p:nvSpPr>
              <p:cNvPr id="1517" name=""/>
              <p:cNvSpPr/>
              <p:nvPr/>
            </p:nvSpPr>
            <p:spPr>
              <a:xfrm flipH="1">
                <a:off x="3850920" y="2729160"/>
                <a:ext cx="336600" cy="771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140360" y="268308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807000" y="3382920"/>
                <a:ext cx="14112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6566040" y="3170160"/>
              <a:ext cx="779400" cy="415800"/>
              <a:chOff x="6566040" y="3170160"/>
              <a:chExt cx="779400" cy="415800"/>
            </a:xfrm>
          </p:grpSpPr>
          <p:sp>
            <p:nvSpPr>
              <p:cNvPr id="1521" name=""/>
              <p:cNvSpPr/>
              <p:nvPr/>
            </p:nvSpPr>
            <p:spPr>
              <a:xfrm>
                <a:off x="6612120" y="321588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566040" y="3170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170840" y="345888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4070520" y="4145040"/>
              <a:ext cx="99720" cy="100080"/>
              <a:chOff x="4070520" y="4145040"/>
              <a:chExt cx="99720" cy="100080"/>
            </a:xfrm>
          </p:grpSpPr>
          <p:sp>
            <p:nvSpPr>
              <p:cNvPr id="1525" name=""/>
              <p:cNvSpPr/>
              <p:nvPr/>
            </p:nvSpPr>
            <p:spPr>
              <a:xfrm>
                <a:off x="4116240" y="419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7052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4557600" y="4145040"/>
              <a:ext cx="101520" cy="100080"/>
              <a:chOff x="4557600" y="4145040"/>
              <a:chExt cx="101520" cy="100080"/>
            </a:xfrm>
          </p:grpSpPr>
          <p:sp>
            <p:nvSpPr>
              <p:cNvPr id="1528" name=""/>
              <p:cNvSpPr/>
              <p:nvPr/>
            </p:nvSpPr>
            <p:spPr>
              <a:xfrm>
                <a:off x="460512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557600" y="41450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5589720" y="4145040"/>
              <a:ext cx="99720" cy="100080"/>
              <a:chOff x="5589720" y="4145040"/>
              <a:chExt cx="99720" cy="100080"/>
            </a:xfrm>
          </p:grpSpPr>
          <p:sp>
            <p:nvSpPr>
              <p:cNvPr id="1531" name=""/>
              <p:cNvSpPr/>
              <p:nvPr/>
            </p:nvSpPr>
            <p:spPr>
              <a:xfrm>
                <a:off x="563544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58972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6078600" y="4145040"/>
              <a:ext cx="100080" cy="100080"/>
              <a:chOff x="6078600" y="4145040"/>
              <a:chExt cx="100080" cy="100080"/>
            </a:xfrm>
          </p:grpSpPr>
          <p:sp>
            <p:nvSpPr>
              <p:cNvPr id="1534" name=""/>
              <p:cNvSpPr/>
              <p:nvPr/>
            </p:nvSpPr>
            <p:spPr>
              <a:xfrm>
                <a:off x="612468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07860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6980400" y="358308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169040" y="360864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91160" y="40705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55400" y="40975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6856560" y="3657600"/>
              <a:ext cx="298440" cy="416160"/>
              <a:chOff x="6856560" y="3657600"/>
              <a:chExt cx="298440" cy="416160"/>
            </a:xfrm>
          </p:grpSpPr>
          <p:sp>
            <p:nvSpPr>
              <p:cNvPr id="1541" name=""/>
              <p:cNvSpPr/>
              <p:nvPr/>
            </p:nvSpPr>
            <p:spPr>
              <a:xfrm flipH="1">
                <a:off x="6944040" y="3703680"/>
                <a:ext cx="156960" cy="233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054920" y="36576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856560" y="3902040"/>
                <a:ext cx="141480" cy="17172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6566040" y="4145040"/>
              <a:ext cx="99720" cy="100080"/>
              <a:chOff x="6566040" y="4145040"/>
              <a:chExt cx="99720" cy="100080"/>
            </a:xfrm>
          </p:grpSpPr>
          <p:sp>
            <p:nvSpPr>
              <p:cNvPr id="1545" name=""/>
              <p:cNvSpPr/>
              <p:nvPr/>
            </p:nvSpPr>
            <p:spPr>
              <a:xfrm>
                <a:off x="6611760" y="41911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566040" y="4145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7054920" y="4145040"/>
              <a:ext cx="100080" cy="100080"/>
              <a:chOff x="7054920" y="4145040"/>
              <a:chExt cx="100080" cy="100080"/>
            </a:xfrm>
          </p:grpSpPr>
          <p:sp>
            <p:nvSpPr>
              <p:cNvPr id="1548" name=""/>
              <p:cNvSpPr/>
              <p:nvPr/>
            </p:nvSpPr>
            <p:spPr>
              <a:xfrm>
                <a:off x="7101000" y="4191120"/>
                <a:ext cx="1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54920" y="4145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7542360" y="3657600"/>
              <a:ext cx="99720" cy="100080"/>
              <a:chOff x="7542360" y="3657600"/>
              <a:chExt cx="99720" cy="100080"/>
            </a:xfrm>
          </p:grpSpPr>
          <p:sp>
            <p:nvSpPr>
              <p:cNvPr id="1551" name=""/>
              <p:cNvSpPr/>
              <p:nvPr/>
            </p:nvSpPr>
            <p:spPr>
              <a:xfrm>
                <a:off x="7588080" y="3703680"/>
                <a:ext cx="1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542360" y="36576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1509840" y="2237040"/>
              <a:ext cx="2458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1584360" y="2311560"/>
              <a:ext cx="2854440" cy="99720"/>
              <a:chOff x="1584360" y="2311560"/>
              <a:chExt cx="2854440" cy="9972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30440" y="23576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584360" y="23115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384800" y="2352600"/>
              <a:ext cx="110880" cy="244440"/>
              <a:chOff x="4384800" y="2352600"/>
              <a:chExt cx="110880" cy="244440"/>
            </a:xfrm>
          </p:grpSpPr>
          <p:sp>
            <p:nvSpPr>
              <p:cNvPr id="1558" name=""/>
              <p:cNvSpPr/>
              <p:nvPr/>
            </p:nvSpPr>
            <p:spPr>
              <a:xfrm>
                <a:off x="4438440" y="2352600"/>
                <a:ext cx="144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84800" y="2428560"/>
                <a:ext cx="11088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>
              <a:off x="3046320" y="4062600"/>
              <a:ext cx="73368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83560" y="408780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2" name=""/>
            <p:cNvGrpSpPr/>
            <p:nvPr/>
          </p:nvGrpSpPr>
          <p:grpSpPr>
            <a:xfrm>
              <a:off x="3105000" y="4135680"/>
              <a:ext cx="100080" cy="99720"/>
              <a:chOff x="3105000" y="4135680"/>
              <a:chExt cx="100080" cy="99720"/>
            </a:xfrm>
          </p:grpSpPr>
          <p:sp>
            <p:nvSpPr>
              <p:cNvPr id="1563" name=""/>
              <p:cNvSpPr/>
              <p:nvPr/>
            </p:nvSpPr>
            <p:spPr>
              <a:xfrm>
                <a:off x="3151080" y="41814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105000" y="4135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3610080" y="4135680"/>
              <a:ext cx="100080" cy="99720"/>
              <a:chOff x="3610080" y="4135680"/>
              <a:chExt cx="100080" cy="99720"/>
            </a:xfrm>
          </p:grpSpPr>
          <p:sp>
            <p:nvSpPr>
              <p:cNvPr id="1566" name=""/>
              <p:cNvSpPr/>
              <p:nvPr/>
            </p:nvSpPr>
            <p:spPr>
              <a:xfrm>
                <a:off x="3656160" y="41814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610080" y="4135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7980840" y="4105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980840" y="3624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980840" y="312444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29876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4964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52960" y="4326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84440" y="284652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38520" y="333216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270560" y="38210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1160" y="429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79640" y="382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367080" y="3660840"/>
              <a:ext cx="298440" cy="415440"/>
              <a:chOff x="3367080" y="3660840"/>
              <a:chExt cx="298440" cy="415440"/>
            </a:xfrm>
          </p:grpSpPr>
          <p:sp>
            <p:nvSpPr>
              <p:cNvPr id="1580" name=""/>
              <p:cNvSpPr/>
              <p:nvPr/>
            </p:nvSpPr>
            <p:spPr>
              <a:xfrm flipH="1">
                <a:off x="3454560" y="3706560"/>
                <a:ext cx="15696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64000" y="366084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67080" y="390492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4052880" y="3660840"/>
              <a:ext cx="290520" cy="415440"/>
              <a:chOff x="4052880" y="3660840"/>
              <a:chExt cx="290520" cy="415440"/>
            </a:xfrm>
          </p:grpSpPr>
          <p:sp>
            <p:nvSpPr>
              <p:cNvPr id="1584" name=""/>
              <p:cNvSpPr/>
              <p:nvPr/>
            </p:nvSpPr>
            <p:spPr>
              <a:xfrm>
                <a:off x="4098960" y="3706560"/>
                <a:ext cx="157320" cy="23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052880" y="3660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205520" y="390492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4613400" y="2671920"/>
              <a:ext cx="1755720" cy="431280"/>
              <a:chOff x="4613400" y="2671920"/>
              <a:chExt cx="1755720" cy="431280"/>
            </a:xfrm>
          </p:grpSpPr>
          <p:sp>
            <p:nvSpPr>
              <p:cNvPr id="1588" name=""/>
              <p:cNvSpPr/>
              <p:nvPr/>
            </p:nvSpPr>
            <p:spPr>
              <a:xfrm>
                <a:off x="4659480" y="2717640"/>
                <a:ext cx="1549440" cy="331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613400" y="26719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193080" y="2998800"/>
                <a:ext cx="176040" cy="10440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E792-CE66-4A09-BBFF-51AFE7AAD6C0}" type="slidenum">
              <a:t>37</a:t>
            </a:fld>
          </a:p>
        </p:txBody>
      </p:sp>
    </p:spTree>
  </p:cSld>
  <p:transition>
    <p:cover dir="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ursive BST dele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delete the node containing the elem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rom the 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null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nswer null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not null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no left child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1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no right child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2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3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wise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two children)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3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 to the leftmost element 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ght subtre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3.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 to the result of dele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ement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FB14-C490-47AC-B1B2-130F4E789BC8}" type="slidenum">
              <a:t>38</a:t>
            </a:fld>
          </a:p>
        </p:txBody>
      </p:sp>
    </p:spTree>
  </p:cSld>
  <p:transition>
    <p:cover dir="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25748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less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left child to the result of dele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rom 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3.1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 to the result of dele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rom 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T whose topmost nod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4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491D-CBD1-4D29-88D8-D2D581215E20}" type="slidenum">
              <a:t>39</a:t>
            </a:fld>
          </a:p>
        </p:txBody>
      </p:sp>
    </p:spTree>
  </p:cSld>
  <p:transition>
    <p:cover dir="u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eight </a:t>
            </a: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v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. depth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s of height and depth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ight of a (sub)tree is always the same as its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ight and depth of a node are complemen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node is the number of links to 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roo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node is the number of links to 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lea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464B-E96E-4E77-A7C4-EB453CBD5DD4}" type="slidenum">
              <a:t>4</a:t>
            </a:fld>
          </a:p>
        </p:txBody>
      </p:sp>
    </p:spTree>
  </p:cSld>
  <p:transition>
    <p:cover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BST deletion algorithm, the subtree whose topmost nod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ay become height unbalanced after the node is deleted from eith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s left or right subtrees, or when the leftmost node is deleted fro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s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we must check after steps 2.2.1, 2.3.1 and 2.1.3.2. to see if the tree must be restructured to restore the height-balanced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for insertion, we perform either a single (two nodes) or a double (three nodes) rotation to restore the height-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15CB-217E-41D1-B815-B5C3706D9B92}" type="slidenum">
              <a:t>40</a:t>
            </a:fld>
          </a:p>
        </p:txBody>
      </p:sp>
    </p:spTree>
  </p:cSld>
  <p:transition>
    <p:cover dir="u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, initiall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balance factor is positi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600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89040" y="382752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25836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635280" y="334800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39812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09760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86080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0" name=""/>
            <p:cNvGrpSpPr/>
            <p:nvPr/>
          </p:nvGrpSpPr>
          <p:grpSpPr>
            <a:xfrm>
              <a:off x="3998880" y="2933640"/>
              <a:ext cx="1276200" cy="416160"/>
              <a:chOff x="3998880" y="2933640"/>
              <a:chExt cx="1276200" cy="416160"/>
            </a:xfrm>
          </p:grpSpPr>
          <p:sp>
            <p:nvSpPr>
              <p:cNvPr id="1611" name=""/>
              <p:cNvSpPr/>
              <p:nvPr/>
            </p:nvSpPr>
            <p:spPr>
              <a:xfrm flipH="1">
                <a:off x="4154040" y="2979720"/>
                <a:ext cx="106668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173560" y="29336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98880" y="324504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124000" y="3902040"/>
              <a:ext cx="539640" cy="409680"/>
              <a:chOff x="2124000" y="3902040"/>
              <a:chExt cx="539640" cy="409680"/>
            </a:xfrm>
          </p:grpSpPr>
          <p:sp>
            <p:nvSpPr>
              <p:cNvPr id="1615" name=""/>
              <p:cNvSpPr/>
              <p:nvPr/>
            </p:nvSpPr>
            <p:spPr>
              <a:xfrm flipH="1">
                <a:off x="225108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56356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12400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3052800" y="3902040"/>
              <a:ext cx="536400" cy="409680"/>
              <a:chOff x="3052800" y="3902040"/>
              <a:chExt cx="536400" cy="409680"/>
            </a:xfrm>
          </p:grpSpPr>
          <p:sp>
            <p:nvSpPr>
              <p:cNvPr id="1619" name=""/>
              <p:cNvSpPr/>
              <p:nvPr/>
            </p:nvSpPr>
            <p:spPr>
              <a:xfrm>
                <a:off x="309852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05280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1928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2791800" y="3422520"/>
              <a:ext cx="987840" cy="437400"/>
              <a:chOff x="2791800" y="3422520"/>
              <a:chExt cx="987840" cy="437400"/>
            </a:xfrm>
          </p:grpSpPr>
          <p:sp>
            <p:nvSpPr>
              <p:cNvPr id="1623" name=""/>
              <p:cNvSpPr/>
              <p:nvPr/>
            </p:nvSpPr>
            <p:spPr>
              <a:xfrm flipH="1">
                <a:off x="2878920" y="34686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7956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852600">
                <a:off x="2806560" y="36982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24360" y="3606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85084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41800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5691240" y="2933640"/>
              <a:ext cx="488880" cy="893160"/>
              <a:chOff x="5691240" y="2933640"/>
              <a:chExt cx="488880" cy="893160"/>
            </a:xfrm>
          </p:grpSpPr>
          <p:sp>
            <p:nvSpPr>
              <p:cNvPr id="1637" name=""/>
              <p:cNvSpPr/>
              <p:nvPr/>
            </p:nvSpPr>
            <p:spPr>
              <a:xfrm>
                <a:off x="5737320" y="297972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691240" y="2933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542000">
                <a:off x="5987520" y="36540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4230720" y="3429000"/>
              <a:ext cx="488880" cy="893160"/>
              <a:chOff x="4230720" y="3429000"/>
              <a:chExt cx="488880" cy="893160"/>
            </a:xfrm>
          </p:grpSpPr>
          <p:sp>
            <p:nvSpPr>
              <p:cNvPr id="1646" name=""/>
              <p:cNvSpPr/>
              <p:nvPr/>
            </p:nvSpPr>
            <p:spPr>
              <a:xfrm>
                <a:off x="4276800" y="347508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23072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1542000">
                <a:off x="4527000" y="41493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1FF3-DF16-42C1-BAF6-0CB9E1609A1A}" type="slidenum">
              <a:t>41</a:t>
            </a:fld>
          </a:p>
        </p:txBody>
      </p:sp>
    </p:spTree>
  </p:cSld>
  <p:transition>
    <p:cover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652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489040" y="382752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25836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35280" y="334800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39812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09760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6080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3998880" y="2933640"/>
              <a:ext cx="1276200" cy="416160"/>
              <a:chOff x="3998880" y="2933640"/>
              <a:chExt cx="1276200" cy="416160"/>
            </a:xfrm>
          </p:grpSpPr>
          <p:sp>
            <p:nvSpPr>
              <p:cNvPr id="1664" name=""/>
              <p:cNvSpPr/>
              <p:nvPr/>
            </p:nvSpPr>
            <p:spPr>
              <a:xfrm flipH="1">
                <a:off x="4154040" y="2979720"/>
                <a:ext cx="106668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173560" y="29336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998880" y="324504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2124000" y="3902040"/>
              <a:ext cx="539640" cy="409680"/>
              <a:chOff x="2124000" y="3902040"/>
              <a:chExt cx="539640" cy="409680"/>
            </a:xfrm>
          </p:grpSpPr>
          <p:sp>
            <p:nvSpPr>
              <p:cNvPr id="1668" name=""/>
              <p:cNvSpPr/>
              <p:nvPr/>
            </p:nvSpPr>
            <p:spPr>
              <a:xfrm flipH="1">
                <a:off x="225108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56356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12400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3052800" y="3902040"/>
              <a:ext cx="536400" cy="409680"/>
              <a:chOff x="3052800" y="3902040"/>
              <a:chExt cx="536400" cy="409680"/>
            </a:xfrm>
          </p:grpSpPr>
          <p:sp>
            <p:nvSpPr>
              <p:cNvPr id="1672" name=""/>
              <p:cNvSpPr/>
              <p:nvPr/>
            </p:nvSpPr>
            <p:spPr>
              <a:xfrm>
                <a:off x="309852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05280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41928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791800" y="3422520"/>
              <a:ext cx="987840" cy="437400"/>
              <a:chOff x="2791800" y="3422520"/>
              <a:chExt cx="987840" cy="437400"/>
            </a:xfrm>
          </p:grpSpPr>
          <p:sp>
            <p:nvSpPr>
              <p:cNvPr id="1676" name=""/>
              <p:cNvSpPr/>
              <p:nvPr/>
            </p:nvSpPr>
            <p:spPr>
              <a:xfrm flipH="1">
                <a:off x="2878920" y="34686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67956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852600">
                <a:off x="2806560" y="36982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4360" y="3606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85084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41800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8" name=""/>
            <p:cNvGrpSpPr/>
            <p:nvPr/>
          </p:nvGrpSpPr>
          <p:grpSpPr>
            <a:xfrm>
              <a:off x="5691240" y="2933640"/>
              <a:ext cx="559080" cy="1379160"/>
              <a:chOff x="5691240" y="2933640"/>
              <a:chExt cx="559080" cy="1379160"/>
            </a:xfrm>
          </p:grpSpPr>
          <p:sp>
            <p:nvSpPr>
              <p:cNvPr id="1689" name=""/>
              <p:cNvSpPr/>
              <p:nvPr/>
            </p:nvSpPr>
            <p:spPr>
              <a:xfrm>
                <a:off x="5737320" y="2979720"/>
                <a:ext cx="419040" cy="131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91240" y="2933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1551600">
                <a:off x="6058080" y="4140000"/>
                <a:ext cx="169560" cy="14256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4230720" y="3429000"/>
              <a:ext cx="488880" cy="893160"/>
              <a:chOff x="4230720" y="3429000"/>
              <a:chExt cx="488880" cy="893160"/>
            </a:xfrm>
          </p:grpSpPr>
          <p:sp>
            <p:nvSpPr>
              <p:cNvPr id="1698" name=""/>
              <p:cNvSpPr/>
              <p:nvPr/>
            </p:nvSpPr>
            <p:spPr>
              <a:xfrm>
                <a:off x="4276800" y="347508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3072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542000">
                <a:off x="4527000" y="41493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0316-E3BB-4012-8713-E8FBD7342F8A}" type="slidenum">
              <a:t>42</a:t>
            </a:fld>
          </a:p>
        </p:txBody>
      </p:sp>
    </p:spTree>
  </p:cSld>
  <p:transition>
    <p:cover dir="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sing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1116000" y="2884320"/>
            <a:ext cx="6722280" cy="2705040"/>
            <a:chOff x="1116000" y="2884320"/>
            <a:chExt cx="6722280" cy="2705040"/>
          </a:xfrm>
        </p:grpSpPr>
        <p:sp>
          <p:nvSpPr>
            <p:cNvPr id="1704" name=""/>
            <p:cNvSpPr/>
            <p:nvPr/>
          </p:nvSpPr>
          <p:spPr>
            <a:xfrm>
              <a:off x="1116000" y="34671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489040" y="382896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258360" y="3718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89360" y="3338640"/>
              <a:ext cx="7351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52200" y="326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814720" y="372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2124000" y="3903840"/>
              <a:ext cx="539640" cy="408960"/>
              <a:chOff x="2124000" y="3903840"/>
              <a:chExt cx="539640" cy="408960"/>
            </a:xfrm>
          </p:grpSpPr>
          <p:sp>
            <p:nvSpPr>
              <p:cNvPr id="1714" name=""/>
              <p:cNvSpPr/>
              <p:nvPr/>
            </p:nvSpPr>
            <p:spPr>
              <a:xfrm flipH="1">
                <a:off x="2251080" y="394956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563560" y="3903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124000" y="417024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7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134960" y="3576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839680" y="4078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09720" y="40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056200" y="3814920"/>
              <a:ext cx="7351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7" name=""/>
            <p:cNvGrpSpPr/>
            <p:nvPr/>
          </p:nvGrpSpPr>
          <p:grpSpPr>
            <a:xfrm>
              <a:off x="4691160" y="3889440"/>
              <a:ext cx="539640" cy="409680"/>
              <a:chOff x="4691160" y="3889440"/>
              <a:chExt cx="539640" cy="40968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4818240" y="39355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130720" y="38894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691160" y="41562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4390560" y="3408480"/>
              <a:ext cx="987840" cy="437400"/>
              <a:chOff x="4390560" y="3408480"/>
              <a:chExt cx="987840" cy="437400"/>
            </a:xfrm>
          </p:grpSpPr>
          <p:sp>
            <p:nvSpPr>
              <p:cNvPr id="1732" name=""/>
              <p:cNvSpPr/>
              <p:nvPr/>
            </p:nvSpPr>
            <p:spPr>
              <a:xfrm>
                <a:off x="4444920" y="34545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4390560" y="34084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20747400">
                <a:off x="5196600" y="36842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3058920" y="3892680"/>
              <a:ext cx="539640" cy="408960"/>
              <a:chOff x="3058920" y="3892680"/>
              <a:chExt cx="539640" cy="408960"/>
            </a:xfrm>
          </p:grpSpPr>
          <p:sp>
            <p:nvSpPr>
              <p:cNvPr id="1740" name=""/>
              <p:cNvSpPr/>
              <p:nvPr/>
            </p:nvSpPr>
            <p:spPr>
              <a:xfrm>
                <a:off x="3112920" y="393840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3058920" y="3892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3430080" y="415908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3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5616360" y="3895560"/>
              <a:ext cx="539640" cy="409680"/>
              <a:chOff x="5616360" y="3895560"/>
              <a:chExt cx="539640" cy="409680"/>
            </a:xfrm>
          </p:grpSpPr>
          <p:sp>
            <p:nvSpPr>
              <p:cNvPr id="1746" name=""/>
              <p:cNvSpPr/>
              <p:nvPr/>
            </p:nvSpPr>
            <p:spPr>
              <a:xfrm>
                <a:off x="5670360" y="394164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5616360" y="38955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5987520" y="416232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2972880" y="3419640"/>
              <a:ext cx="987840" cy="437400"/>
              <a:chOff x="2972880" y="3419640"/>
              <a:chExt cx="987840" cy="437400"/>
            </a:xfrm>
          </p:grpSpPr>
          <p:sp>
            <p:nvSpPr>
              <p:cNvPr id="1750" name=""/>
              <p:cNvSpPr/>
              <p:nvPr/>
            </p:nvSpPr>
            <p:spPr>
              <a:xfrm flipH="1">
                <a:off x="3060000" y="346572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860640" y="3419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852600">
                <a:off x="2987640" y="369540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FC0B-BFE9-4C74-9089-99380735A9A0}" type="slidenum">
              <a:t>43</a:t>
            </a:fld>
          </a:p>
        </p:txBody>
      </p:sp>
    </p:spTree>
  </p:cSld>
  <p:transition>
    <p:cover dir="u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, initiall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balance factor is zer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756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784680" y="3827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5364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994120" y="334800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5696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23396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9716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3419640" y="3902040"/>
              <a:ext cx="539640" cy="409680"/>
              <a:chOff x="3419640" y="3902040"/>
              <a:chExt cx="539640" cy="409680"/>
            </a:xfrm>
          </p:grpSpPr>
          <p:sp>
            <p:nvSpPr>
              <p:cNvPr id="1767" name=""/>
              <p:cNvSpPr/>
              <p:nvPr/>
            </p:nvSpPr>
            <p:spPr>
              <a:xfrm flipH="1">
                <a:off x="354672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85920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1964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4348080" y="3902040"/>
              <a:ext cx="536400" cy="409680"/>
              <a:chOff x="4348080" y="3902040"/>
              <a:chExt cx="536400" cy="409680"/>
            </a:xfrm>
          </p:grpSpPr>
          <p:sp>
            <p:nvSpPr>
              <p:cNvPr id="1771" name=""/>
              <p:cNvSpPr/>
              <p:nvPr/>
            </p:nvSpPr>
            <p:spPr>
              <a:xfrm>
                <a:off x="439380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34808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71456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2180880" y="3422520"/>
              <a:ext cx="987840" cy="437400"/>
              <a:chOff x="2180880" y="3422520"/>
              <a:chExt cx="987840" cy="437400"/>
            </a:xfrm>
          </p:grpSpPr>
          <p:sp>
            <p:nvSpPr>
              <p:cNvPr id="1775" name=""/>
              <p:cNvSpPr/>
              <p:nvPr/>
            </p:nvSpPr>
            <p:spPr>
              <a:xfrm flipH="1">
                <a:off x="2268000" y="34686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6864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852600">
                <a:off x="2195640" y="36982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9145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3603600" y="3429000"/>
              <a:ext cx="536400" cy="409680"/>
              <a:chOff x="3603600" y="3429000"/>
              <a:chExt cx="536400" cy="409680"/>
            </a:xfrm>
          </p:grpSpPr>
          <p:sp>
            <p:nvSpPr>
              <p:cNvPr id="1786" name=""/>
              <p:cNvSpPr/>
              <p:nvPr/>
            </p:nvSpPr>
            <p:spPr>
              <a:xfrm>
                <a:off x="3649320" y="34750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603600" y="34290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970080" y="36957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33429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14612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644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4826160" y="2933640"/>
              <a:ext cx="1326960" cy="906480"/>
              <a:chOff x="4826160" y="2933640"/>
              <a:chExt cx="1326960" cy="906480"/>
            </a:xfrm>
          </p:grpSpPr>
          <p:sp>
            <p:nvSpPr>
              <p:cNvPr id="1794" name=""/>
              <p:cNvSpPr/>
              <p:nvPr/>
            </p:nvSpPr>
            <p:spPr>
              <a:xfrm>
                <a:off x="4871880" y="2979720"/>
                <a:ext cx="121284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826160" y="29336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983200" y="36972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3404880" y="2924280"/>
              <a:ext cx="987840" cy="437400"/>
              <a:chOff x="3404880" y="2924280"/>
              <a:chExt cx="987840" cy="437400"/>
            </a:xfrm>
          </p:grpSpPr>
          <p:sp>
            <p:nvSpPr>
              <p:cNvPr id="1798" name=""/>
              <p:cNvSpPr/>
              <p:nvPr/>
            </p:nvSpPr>
            <p:spPr>
              <a:xfrm flipH="1">
                <a:off x="3492000" y="29703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2640" y="2924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852600">
                <a:off x="3419640" y="32000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1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8192-182C-4643-B833-861CA43896B6}" type="slidenum">
              <a:t>44</a:t>
            </a:fld>
          </a:p>
        </p:txBody>
      </p:sp>
    </p:spTree>
  </p:cSld>
  <p:transition>
    <p:cover dir="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808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784680" y="3827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5364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994120" y="334800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75696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23396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99716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3419640" y="3902040"/>
              <a:ext cx="539640" cy="409680"/>
              <a:chOff x="3419640" y="3902040"/>
              <a:chExt cx="539640" cy="409680"/>
            </a:xfrm>
          </p:grpSpPr>
          <p:sp>
            <p:nvSpPr>
              <p:cNvPr id="1819" name=""/>
              <p:cNvSpPr/>
              <p:nvPr/>
            </p:nvSpPr>
            <p:spPr>
              <a:xfrm flipH="1">
                <a:off x="354672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85920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41964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4348080" y="3902040"/>
              <a:ext cx="536400" cy="409680"/>
              <a:chOff x="4348080" y="3902040"/>
              <a:chExt cx="536400" cy="409680"/>
            </a:xfrm>
          </p:grpSpPr>
          <p:sp>
            <p:nvSpPr>
              <p:cNvPr id="1823" name=""/>
              <p:cNvSpPr/>
              <p:nvPr/>
            </p:nvSpPr>
            <p:spPr>
              <a:xfrm>
                <a:off x="439380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4808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71456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2180880" y="3422520"/>
              <a:ext cx="987840" cy="437400"/>
              <a:chOff x="2180880" y="3422520"/>
              <a:chExt cx="987840" cy="437400"/>
            </a:xfrm>
          </p:grpSpPr>
          <p:sp>
            <p:nvSpPr>
              <p:cNvPr id="1827" name=""/>
              <p:cNvSpPr/>
              <p:nvPr/>
            </p:nvSpPr>
            <p:spPr>
              <a:xfrm flipH="1">
                <a:off x="2268000" y="34686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06864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852600">
                <a:off x="2195640" y="36982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9145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7" name=""/>
            <p:cNvGrpSpPr/>
            <p:nvPr/>
          </p:nvGrpSpPr>
          <p:grpSpPr>
            <a:xfrm>
              <a:off x="3603600" y="3429000"/>
              <a:ext cx="536400" cy="409680"/>
              <a:chOff x="3603600" y="3429000"/>
              <a:chExt cx="536400" cy="409680"/>
            </a:xfrm>
          </p:grpSpPr>
          <p:sp>
            <p:nvSpPr>
              <p:cNvPr id="1838" name=""/>
              <p:cNvSpPr/>
              <p:nvPr/>
            </p:nvSpPr>
            <p:spPr>
              <a:xfrm>
                <a:off x="3649320" y="34750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603600" y="34290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970080" y="36957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33429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14612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4644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4" name=""/>
            <p:cNvGrpSpPr/>
            <p:nvPr/>
          </p:nvGrpSpPr>
          <p:grpSpPr>
            <a:xfrm>
              <a:off x="4826160" y="2933640"/>
              <a:ext cx="1301040" cy="1377360"/>
              <a:chOff x="4826160" y="2933640"/>
              <a:chExt cx="1301040" cy="1377360"/>
            </a:xfrm>
          </p:grpSpPr>
          <p:sp>
            <p:nvSpPr>
              <p:cNvPr id="1845" name=""/>
              <p:cNvSpPr/>
              <p:nvPr/>
            </p:nvSpPr>
            <p:spPr>
              <a:xfrm>
                <a:off x="4871880" y="2979720"/>
                <a:ext cx="1212840" cy="131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6160" y="29336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385800">
                <a:off x="5950080" y="4159080"/>
                <a:ext cx="16956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3404880" y="2924280"/>
              <a:ext cx="987840" cy="437400"/>
              <a:chOff x="3404880" y="2924280"/>
              <a:chExt cx="987840" cy="437400"/>
            </a:xfrm>
          </p:grpSpPr>
          <p:sp>
            <p:nvSpPr>
              <p:cNvPr id="1849" name=""/>
              <p:cNvSpPr/>
              <p:nvPr/>
            </p:nvSpPr>
            <p:spPr>
              <a:xfrm flipH="1">
                <a:off x="3492000" y="29703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292640" y="2924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852600">
                <a:off x="3419640" y="32000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928F-0F3B-4DD1-BED0-B6571D33EC02}" type="slidenum">
              <a:t>45</a:t>
            </a:fld>
          </a:p>
        </p:txBody>
      </p:sp>
    </p:spTree>
  </p:cSld>
  <p:transition>
    <p:cover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doub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1116000" y="2743200"/>
            <a:ext cx="6722280" cy="2846160"/>
            <a:chOff x="1116000" y="2743200"/>
            <a:chExt cx="6722280" cy="2846160"/>
          </a:xfrm>
        </p:grpSpPr>
        <p:sp>
          <p:nvSpPr>
            <p:cNvPr id="1860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84680" y="2854440"/>
              <a:ext cx="73476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553640" y="2743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19280" y="335268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82120" y="32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7600" y="3817800"/>
              <a:ext cx="734760" cy="2476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860800" y="37274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2124000" y="3429000"/>
              <a:ext cx="539640" cy="409680"/>
              <a:chOff x="2124000" y="3429000"/>
              <a:chExt cx="539640" cy="409680"/>
            </a:xfrm>
          </p:grpSpPr>
          <p:sp>
            <p:nvSpPr>
              <p:cNvPr id="1871" name=""/>
              <p:cNvSpPr/>
              <p:nvPr/>
            </p:nvSpPr>
            <p:spPr>
              <a:xfrm flipH="1">
                <a:off x="2250360" y="347508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56356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124000" y="369576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161928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843280" y="35784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35320" y="30844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09720" y="406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2936520" y="2938320"/>
              <a:ext cx="987840" cy="437400"/>
              <a:chOff x="2936520" y="2938320"/>
              <a:chExt cx="987840" cy="437400"/>
            </a:xfrm>
          </p:grpSpPr>
          <p:sp>
            <p:nvSpPr>
              <p:cNvPr id="1884" name=""/>
              <p:cNvSpPr/>
              <p:nvPr/>
            </p:nvSpPr>
            <p:spPr>
              <a:xfrm flipH="1">
                <a:off x="3023640" y="298440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824280" y="29383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852600">
                <a:off x="2951280" y="32140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3097080" y="3429000"/>
              <a:ext cx="488880" cy="893160"/>
              <a:chOff x="3097080" y="3429000"/>
              <a:chExt cx="488880" cy="893160"/>
            </a:xfrm>
          </p:grpSpPr>
          <p:sp>
            <p:nvSpPr>
              <p:cNvPr id="1890" name=""/>
              <p:cNvSpPr/>
              <p:nvPr/>
            </p:nvSpPr>
            <p:spPr>
              <a:xfrm>
                <a:off x="3143160" y="3475080"/>
                <a:ext cx="34740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097080" y="34290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542000">
                <a:off x="3393360" y="41493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4716360" y="3902040"/>
              <a:ext cx="539640" cy="409680"/>
              <a:chOff x="4716360" y="3902040"/>
              <a:chExt cx="539640" cy="409680"/>
            </a:xfrm>
          </p:grpSpPr>
          <p:sp>
            <p:nvSpPr>
              <p:cNvPr id="1894" name=""/>
              <p:cNvSpPr/>
              <p:nvPr/>
            </p:nvSpPr>
            <p:spPr>
              <a:xfrm flipH="1">
                <a:off x="4842720" y="394812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15592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71636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5687640" y="3902040"/>
              <a:ext cx="539640" cy="409680"/>
              <a:chOff x="5687640" y="3902040"/>
              <a:chExt cx="539640" cy="409680"/>
            </a:xfrm>
          </p:grpSpPr>
          <p:sp>
            <p:nvSpPr>
              <p:cNvPr id="1898" name=""/>
              <p:cNvSpPr/>
              <p:nvPr/>
            </p:nvSpPr>
            <p:spPr>
              <a:xfrm>
                <a:off x="5742000" y="3948120"/>
                <a:ext cx="35892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568764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605880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4381560" y="2943360"/>
              <a:ext cx="1089720" cy="876240"/>
              <a:chOff x="4381560" y="2943360"/>
              <a:chExt cx="1089720" cy="876240"/>
            </a:xfrm>
          </p:grpSpPr>
          <p:sp>
            <p:nvSpPr>
              <p:cNvPr id="1902" name=""/>
              <p:cNvSpPr/>
              <p:nvPr/>
            </p:nvSpPr>
            <p:spPr>
              <a:xfrm>
                <a:off x="4435560" y="2989440"/>
                <a:ext cx="1000080" cy="799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4381560" y="29433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 rot="21460800">
                <a:off x="5301000" y="3673440"/>
                <a:ext cx="166680" cy="14256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5B1A-322F-4A5E-9C5F-C7D1CC996FF2}" type="slidenum">
              <a:t>46</a:t>
            </a:fld>
          </a:p>
        </p:txBody>
      </p:sp>
    </p:spTree>
  </p:cSld>
  <p:transition>
    <p:cover dir="u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, initiall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balance factor is negati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912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84680" y="3827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5364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94120" y="334800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5696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23396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99716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2" name=""/>
            <p:cNvGrpSpPr/>
            <p:nvPr/>
          </p:nvGrpSpPr>
          <p:grpSpPr>
            <a:xfrm>
              <a:off x="3419640" y="3902040"/>
              <a:ext cx="539640" cy="409680"/>
              <a:chOff x="3419640" y="3902040"/>
              <a:chExt cx="539640" cy="409680"/>
            </a:xfrm>
          </p:grpSpPr>
          <p:sp>
            <p:nvSpPr>
              <p:cNvPr id="1923" name=""/>
              <p:cNvSpPr/>
              <p:nvPr/>
            </p:nvSpPr>
            <p:spPr>
              <a:xfrm flipH="1">
                <a:off x="354672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85920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41964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4348080" y="3902040"/>
              <a:ext cx="536400" cy="409680"/>
              <a:chOff x="4348080" y="3902040"/>
              <a:chExt cx="536400" cy="409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439380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34808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1456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2176560" y="3422520"/>
              <a:ext cx="992160" cy="879480"/>
              <a:chOff x="2176560" y="3422520"/>
              <a:chExt cx="992160" cy="879480"/>
            </a:xfrm>
          </p:grpSpPr>
          <p:sp>
            <p:nvSpPr>
              <p:cNvPr id="1931" name=""/>
              <p:cNvSpPr/>
              <p:nvPr/>
            </p:nvSpPr>
            <p:spPr>
              <a:xfrm flipH="1">
                <a:off x="2195280" y="3468600"/>
                <a:ext cx="919080" cy="824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06864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176560" y="41590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29145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603600" y="3429000"/>
              <a:ext cx="536400" cy="409680"/>
              <a:chOff x="3603600" y="3429000"/>
              <a:chExt cx="536400" cy="409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3649320" y="34750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603600" y="34290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70080" y="36957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3339720" y="36068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14612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54644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5508720" y="3841200"/>
              <a:ext cx="1224000" cy="174780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384120 h 1747800"/>
                <a:gd name="textAreaBottom" fmla="*/ 1363680 h 17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8" name=""/>
            <p:cNvGrpSpPr/>
            <p:nvPr/>
          </p:nvGrpSpPr>
          <p:grpSpPr>
            <a:xfrm>
              <a:off x="4826160" y="2933640"/>
              <a:ext cx="1326960" cy="906480"/>
              <a:chOff x="4826160" y="2933640"/>
              <a:chExt cx="1326960" cy="906480"/>
            </a:xfrm>
          </p:grpSpPr>
          <p:sp>
            <p:nvSpPr>
              <p:cNvPr id="1949" name=""/>
              <p:cNvSpPr/>
              <p:nvPr/>
            </p:nvSpPr>
            <p:spPr>
              <a:xfrm>
                <a:off x="4871880" y="2979720"/>
                <a:ext cx="1212840" cy="80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26160" y="29336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983200" y="36972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404880" y="2924280"/>
              <a:ext cx="987840" cy="437400"/>
              <a:chOff x="3404880" y="2924280"/>
              <a:chExt cx="987840" cy="437400"/>
            </a:xfrm>
          </p:grpSpPr>
          <p:sp>
            <p:nvSpPr>
              <p:cNvPr id="1953" name=""/>
              <p:cNvSpPr/>
              <p:nvPr/>
            </p:nvSpPr>
            <p:spPr>
              <a:xfrm flipH="1">
                <a:off x="3492000" y="29703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292640" y="2924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852600">
                <a:off x="3419640" y="32000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0982-1CB0-41D5-8131-BA1240473CF5}" type="slidenum">
              <a:t>47</a:t>
            </a:fld>
          </a:p>
        </p:txBody>
      </p:sp>
    </p:spTree>
  </p:cSld>
  <p:transition>
    <p:cover dir="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1116000" y="2768760"/>
            <a:ext cx="6722280" cy="2820600"/>
            <a:chOff x="1116000" y="2768760"/>
            <a:chExt cx="6722280" cy="2820600"/>
          </a:xfrm>
        </p:grpSpPr>
        <p:sp>
          <p:nvSpPr>
            <p:cNvPr id="1964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128600" y="34765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84680" y="3827520"/>
              <a:ext cx="73476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553640" y="3716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994120" y="3348000"/>
              <a:ext cx="73476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756960" y="327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233960" y="2859120"/>
              <a:ext cx="73476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97160" y="27687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3419640" y="3902040"/>
              <a:ext cx="539640" cy="409680"/>
              <a:chOff x="3419640" y="3902040"/>
              <a:chExt cx="539640" cy="409680"/>
            </a:xfrm>
          </p:grpSpPr>
          <p:sp>
            <p:nvSpPr>
              <p:cNvPr id="1975" name=""/>
              <p:cNvSpPr/>
              <p:nvPr/>
            </p:nvSpPr>
            <p:spPr>
              <a:xfrm flipH="1">
                <a:off x="3546720" y="39481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859200" y="39020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419640" y="41688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4348080" y="3902040"/>
              <a:ext cx="536400" cy="409680"/>
              <a:chOff x="4348080" y="3902040"/>
              <a:chExt cx="536400" cy="409680"/>
            </a:xfrm>
          </p:grpSpPr>
          <p:sp>
            <p:nvSpPr>
              <p:cNvPr id="1979" name=""/>
              <p:cNvSpPr/>
              <p:nvPr/>
            </p:nvSpPr>
            <p:spPr>
              <a:xfrm>
                <a:off x="4393800" y="394812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48080" y="39020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714560" y="41688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2" name=""/>
            <p:cNvGrpSpPr/>
            <p:nvPr/>
          </p:nvGrpSpPr>
          <p:grpSpPr>
            <a:xfrm>
              <a:off x="2176560" y="3422520"/>
              <a:ext cx="992160" cy="879480"/>
              <a:chOff x="2176560" y="3422520"/>
              <a:chExt cx="992160" cy="879480"/>
            </a:xfrm>
          </p:grpSpPr>
          <p:sp>
            <p:nvSpPr>
              <p:cNvPr id="1983" name=""/>
              <p:cNvSpPr/>
              <p:nvPr/>
            </p:nvSpPr>
            <p:spPr>
              <a:xfrm flipH="1">
                <a:off x="2195280" y="3468600"/>
                <a:ext cx="919080" cy="824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068640" y="3422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176560" y="41590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29145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3603600" y="3429000"/>
              <a:ext cx="536400" cy="409680"/>
              <a:chOff x="3603600" y="3429000"/>
              <a:chExt cx="536400" cy="409680"/>
            </a:xfrm>
          </p:grpSpPr>
          <p:sp>
            <p:nvSpPr>
              <p:cNvPr id="1993" name=""/>
              <p:cNvSpPr/>
              <p:nvPr/>
            </p:nvSpPr>
            <p:spPr>
              <a:xfrm>
                <a:off x="3649320" y="347508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603600" y="342900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970080" y="369576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3339720" y="360684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146120" y="40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546440" y="310212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9" name=""/>
            <p:cNvGrpSpPr/>
            <p:nvPr/>
          </p:nvGrpSpPr>
          <p:grpSpPr>
            <a:xfrm>
              <a:off x="4826160" y="2933640"/>
              <a:ext cx="1307160" cy="1373040"/>
              <a:chOff x="4826160" y="2933640"/>
              <a:chExt cx="1307160" cy="1373040"/>
            </a:xfrm>
          </p:grpSpPr>
          <p:sp>
            <p:nvSpPr>
              <p:cNvPr id="2000" name=""/>
              <p:cNvSpPr/>
              <p:nvPr/>
            </p:nvSpPr>
            <p:spPr>
              <a:xfrm>
                <a:off x="4871880" y="2979720"/>
                <a:ext cx="1212840" cy="1312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826160" y="293364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204600">
                <a:off x="5959080" y="415872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3404880" y="2924280"/>
              <a:ext cx="987840" cy="437400"/>
              <a:chOff x="3404880" y="2924280"/>
              <a:chExt cx="987840" cy="437400"/>
            </a:xfrm>
          </p:grpSpPr>
          <p:sp>
            <p:nvSpPr>
              <p:cNvPr id="2004" name=""/>
              <p:cNvSpPr/>
              <p:nvPr/>
            </p:nvSpPr>
            <p:spPr>
              <a:xfrm flipH="1">
                <a:off x="3492000" y="29703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292640" y="29242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852600">
                <a:off x="3419640" y="32000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B1D5-2414-4838-A568-C97E36ACDE44}" type="slidenum">
              <a:t>48</a:t>
            </a:fld>
          </a:p>
        </p:txBody>
      </p:sp>
    </p:spTree>
  </p:cSld>
  <p:transition>
    <p:cover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doub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5" name=""/>
          <p:cNvGrpSpPr/>
          <p:nvPr/>
        </p:nvGrpSpPr>
        <p:grpSpPr>
          <a:xfrm>
            <a:off x="1116000" y="2884320"/>
            <a:ext cx="6722280" cy="2705040"/>
            <a:chOff x="1116000" y="2884320"/>
            <a:chExt cx="6722280" cy="2705040"/>
          </a:xfrm>
        </p:grpSpPr>
        <p:sp>
          <p:nvSpPr>
            <p:cNvPr id="2016" name=""/>
            <p:cNvSpPr/>
            <p:nvPr/>
          </p:nvSpPr>
          <p:spPr>
            <a:xfrm>
              <a:off x="1116000" y="34671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116000" y="44164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128600" y="29876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128600" y="3946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489040" y="3828960"/>
              <a:ext cx="735120" cy="24624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258360" y="3718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789360" y="3338640"/>
              <a:ext cx="7351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52200" y="326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814720" y="372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2124000" y="3903840"/>
              <a:ext cx="539640" cy="408960"/>
              <a:chOff x="2124000" y="3903840"/>
              <a:chExt cx="539640" cy="408960"/>
            </a:xfrm>
          </p:grpSpPr>
          <p:sp>
            <p:nvSpPr>
              <p:cNvPr id="2026" name=""/>
              <p:cNvSpPr/>
              <p:nvPr/>
            </p:nvSpPr>
            <p:spPr>
              <a:xfrm flipH="1">
                <a:off x="2251080" y="394956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563560" y="3903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124000" y="417024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7104600" y="385596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104600" y="3370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104600" y="2884320"/>
              <a:ext cx="7336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+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91640" y="4325760"/>
              <a:ext cx="49608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291636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134960" y="3576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839680" y="4078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409720" y="407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35556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056200" y="3814920"/>
              <a:ext cx="735120" cy="245880"/>
            </a:xfrm>
            <a:prstGeom prst="rect">
              <a:avLst/>
            </a:prstGeom>
            <a:solidFill>
              <a:srgbClr val="ff99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4691160" y="3889440"/>
              <a:ext cx="539640" cy="409680"/>
              <a:chOff x="4691160" y="3889440"/>
              <a:chExt cx="539640" cy="409680"/>
            </a:xfrm>
          </p:grpSpPr>
          <p:sp>
            <p:nvSpPr>
              <p:cNvPr id="2040" name=""/>
              <p:cNvSpPr/>
              <p:nvPr/>
            </p:nvSpPr>
            <p:spPr>
              <a:xfrm flipH="1">
                <a:off x="4818240" y="393552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130720" y="38894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691160" y="415620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4390560" y="3408480"/>
              <a:ext cx="987840" cy="437400"/>
              <a:chOff x="4390560" y="3408480"/>
              <a:chExt cx="987840" cy="437400"/>
            </a:xfrm>
          </p:grpSpPr>
          <p:sp>
            <p:nvSpPr>
              <p:cNvPr id="2044" name=""/>
              <p:cNvSpPr/>
              <p:nvPr/>
            </p:nvSpPr>
            <p:spPr>
              <a:xfrm>
                <a:off x="4444920" y="345456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4390560" y="340848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rot="20747400">
                <a:off x="5196600" y="368424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7" name=""/>
            <p:cNvSpPr/>
            <p:nvPr/>
          </p:nvSpPr>
          <p:spPr>
            <a:xfrm flipV="1">
              <a:off x="550872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02100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161928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8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3058920" y="3892680"/>
              <a:ext cx="539640" cy="408960"/>
              <a:chOff x="3058920" y="3892680"/>
              <a:chExt cx="539640" cy="408960"/>
            </a:xfrm>
          </p:grpSpPr>
          <p:sp>
            <p:nvSpPr>
              <p:cNvPr id="2052" name=""/>
              <p:cNvSpPr/>
              <p:nvPr/>
            </p:nvSpPr>
            <p:spPr>
              <a:xfrm>
                <a:off x="3112920" y="3938400"/>
                <a:ext cx="358560" cy="26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>
                <a:off x="3058920" y="38926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3430080" y="4159080"/>
                <a:ext cx="168120" cy="14256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5" name=""/>
            <p:cNvSpPr/>
            <p:nvPr/>
          </p:nvSpPr>
          <p:spPr>
            <a:xfrm flipV="1">
              <a:off x="4211640" y="4330080"/>
              <a:ext cx="1224000" cy="1258920"/>
            </a:xfrm>
            <a:custGeom>
              <a:avLst/>
              <a:gdLst>
                <a:gd name="textAreaLeft" fmla="*/ 268920 w 1224000"/>
                <a:gd name="textAreaRight" fmla="*/ 955080 w 1224000"/>
                <a:gd name="textAreaTop" fmla="*/ 276840 h 1258920"/>
                <a:gd name="textAreaBottom" fmla="*/ 9820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695480" y="4941720"/>
              <a:ext cx="255240" cy="27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5616360" y="3895560"/>
              <a:ext cx="539640" cy="409680"/>
              <a:chOff x="5616360" y="3895560"/>
              <a:chExt cx="539640" cy="409680"/>
            </a:xfrm>
          </p:grpSpPr>
          <p:sp>
            <p:nvSpPr>
              <p:cNvPr id="2058" name=""/>
              <p:cNvSpPr/>
              <p:nvPr/>
            </p:nvSpPr>
            <p:spPr>
              <a:xfrm>
                <a:off x="5670360" y="394164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H="1">
                <a:off x="5616360" y="38955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H="1">
                <a:off x="5987520" y="416232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2972880" y="3419640"/>
              <a:ext cx="987840" cy="437400"/>
              <a:chOff x="2972880" y="3419640"/>
              <a:chExt cx="987840" cy="437400"/>
            </a:xfrm>
          </p:grpSpPr>
          <p:sp>
            <p:nvSpPr>
              <p:cNvPr id="2062" name=""/>
              <p:cNvSpPr/>
              <p:nvPr/>
            </p:nvSpPr>
            <p:spPr>
              <a:xfrm flipH="1">
                <a:off x="3060000" y="3465720"/>
                <a:ext cx="846360" cy="320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860640" y="3419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852600">
                <a:off x="2987640" y="369540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9E23-09F3-4E0F-8368-5329EAC2EB9C}" type="slidenum">
              <a:t>49</a:t>
            </a:fld>
          </a:p>
        </p:txBody>
      </p:sp>
    </p:spTree>
  </p:cSld>
  <p:transition>
    <p:cover dir="u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eight-balanced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height-balanc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 the heights of its subtrees differ by at most one. (If it has only one subtree, that subtree must have height 0, i.e., it must be a single n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height-balanc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 all of its nodes are height-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ode’s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balance fact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difference between the heights of its left subtree and its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a node is height-balanced if its balance factor 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 0 or 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B7E8-79B9-4A04-9568-AFEAFF58BDDA}" type="slidenum">
              <a:t>5</a:t>
            </a:fld>
          </a:p>
        </p:txBody>
      </p:sp>
    </p:spTree>
  </p:cSld>
  <p:transition>
    <p:cover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returning to the dele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no longer height balanced because of a deletion from its right subtree, we restore balance by perfo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ts left child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left child has a balance factor of 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uble left ro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s left child, and its left child’s right child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left child has a balance factor of 0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nsider dele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left subtree, we get the mirror of the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6EF4-FBCD-409B-A165-6F23DE9D341C}" type="slidenum">
              <a:t>50</a:t>
            </a:fld>
          </a:p>
        </p:txBody>
      </p:sp>
    </p:spTree>
  </p:cSld>
  <p:transition>
    <p:cover dir="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ursive AVL-tree dele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delete the node containing the elemen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rom the 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ull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null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null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has no left child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1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has no right child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therwise 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has two children)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 to the leftmost element in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ght subtre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the result of delet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ement from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9A2D-B039-4DA2-9637-5707D665ADB8}" type="slidenum">
              <a:t>51</a:t>
            </a:fld>
          </a:p>
        </p:txBody>
      </p:sp>
    </p:spTree>
  </p:cSld>
  <p:transition>
    <p:cover dir="u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left child has a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sing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.3.4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left child has a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tor of 0 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doub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less than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 to the result of delet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rom t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lef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right child has a balance fact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sing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right child has a balance fact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f 0 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o the double righ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D583-2801-4EBB-AC8F-3FF20AD5A3AE}" type="slidenum">
              <a:t>52</a:t>
            </a:fld>
          </a:p>
        </p:txBody>
      </p:sp>
    </p:spTree>
  </p:cSld>
  <p:transition>
    <p:cover dir="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257480"/>
                <a:tab algn="l" pos="1886040"/>
                <a:tab algn="l" pos="269568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element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 to the result of delet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rom t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L-tree whose topmost node is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s right chil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.2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left child has a balance fact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sing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.3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not height-balanced and its left child has a balance fact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f 0 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3.1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double left rotation of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4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D2B7-D043-47CC-9FAB-DE75455572EF}" type="slidenum">
              <a:t>53</a:t>
            </a:fld>
          </a:p>
        </p:txBody>
      </p:sp>
    </p:spTree>
  </p:cSld>
  <p:transition>
    <p:cover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 Java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Comparable elem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node contain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AVL tree whose topmo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 = AVLTreeNode.delete(elem, root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delete (Comparable elem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VLTreeNode top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node contain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AVL tree whose topmo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turn the modified AVL tre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=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9BD6-D0E3-46CF-9E21-4BF8CAAB9136}" type="slidenum">
              <a:t>54</a:t>
            </a:fld>
          </a:p>
        </p:txBody>
      </p:sp>
    </p:spTree>
  </p:cSld>
  <p:transition>
    <p:cover dir="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 = elem.compareTo(top.elemen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mp == 0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left =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.righ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right =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.lef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// 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wo child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element = getLeftmost(top.righ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right = delete(top.element, top.right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top.isHeightBalanced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left.balanceFactor() == +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singleLef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doubleLef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mp &lt; 0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B9ED-DAF0-48C3-8DC0-008A9E07A81D}" type="slidenum">
              <a:t>55</a:t>
            </a:fld>
          </a:p>
        </p:txBody>
      </p:sp>
    </p:spTree>
  </p:cSld>
  <p:transition>
    <p:cover dir="u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mp &lt; 0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left = delete(elem, top.lef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top.isHeightBalanced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right.balanceFactor() == -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singleRigh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doubleRigh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/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 &gt; 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right = delete(elem, top.righ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top.isHeightBalanced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.left.balanceFactor() == +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singleLef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doubleLeftRotation(to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.height = Math.max(height(top.left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(top.right)) + 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956F-4126-41D1-8DEB-CF346B34CF17}" type="slidenum">
              <a:t>56</a:t>
            </a:fld>
          </a:p>
        </p:txBody>
      </p:sp>
    </p:spTree>
  </p:cSld>
  <p:transition>
    <p:cover dir="u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 deletion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eftm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ame a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, and returns the element in the leftmost node of a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125"/>
              </a:spcBef>
              <a:buNone/>
              <a:tabLst>
                <a:tab algn="l" pos="0"/>
                <a:tab algn="l" pos="714240"/>
                <a:tab algn="l" pos="1076400"/>
                <a:tab algn="l" pos="1438200"/>
                <a:tab algn="l" pos="1790640"/>
                <a:tab algn="l" pos="2152800"/>
                <a:tab algn="l" pos="251460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mparable getLeftmost (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he element in the leftmost node of the (nonempty) subtre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se topmost node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LTreeNode cur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curr.left !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 = curr.lef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urr.elemen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B440-191B-4CD1-9604-E3CEC8DA219A}" type="slidenum">
              <a:t>57</a:t>
            </a:fld>
          </a:p>
        </p:txBody>
      </p:sp>
    </p:spTree>
  </p:cSld>
  <p:transition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nalysi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zing the efficiency of the AVL-tree search algorithm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AVL-tre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ict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alanced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imum no. of comparisons = floor(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AVL-tree is (only) height balanc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ee of heigh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have one subtree of heigh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nd one of heigh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e the number of nodes in this tree, then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+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+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03C4-BBCB-461A-8F7F-A7BAD46863CC}" type="slidenum">
              <a:t>58</a:t>
            </a:fld>
          </a:p>
        </p:txBody>
      </p:sp>
    </p:spTree>
  </p:cSld>
  <p:transition>
    <p:cover dir="u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nalysi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roximate solution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+ 1.33)/1.4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1.44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– 1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search requires at most h + 1 comparison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≈ 1.44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– 0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best or worst case, time complexity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insertion and deletion also require at most this many comparisons (since the rebalancing requires no comparisons), they are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1BA3-5661-47EE-9B8A-0119E5F34274}" type="slidenum">
              <a:t>59</a:t>
            </a:fld>
          </a:p>
        </p:txBody>
      </p:sp>
    </p:spTree>
  </p:cSld>
  <p:transition>
    <p:cover dir="u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Examples of height-balanced 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4000" y="1484280"/>
            <a:ext cx="7040160" cy="1762560"/>
            <a:chOff x="684000" y="1484280"/>
            <a:chExt cx="7040160" cy="1762560"/>
          </a:xfrm>
        </p:grpSpPr>
        <p:sp>
          <p:nvSpPr>
            <p:cNvPr id="52" name=""/>
            <p:cNvSpPr/>
            <p:nvPr/>
          </p:nvSpPr>
          <p:spPr>
            <a:xfrm>
              <a:off x="1128960" y="246852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28960" y="197964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28960" y="293868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35680" y="282744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21440" y="285120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2360" y="234000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63360" y="236232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73400" y="234000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08840" y="236232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70480" y="282744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10240" y="285120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0080" y="2827440"/>
              <a:ext cx="73512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2080" y="285120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7160" y="1851120"/>
              <a:ext cx="735120" cy="2476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49200" y="187164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37000" y="1925640"/>
              <a:ext cx="1276200" cy="416160"/>
              <a:chOff x="2637000" y="1925640"/>
              <a:chExt cx="1276200" cy="416160"/>
            </a:xfrm>
          </p:grpSpPr>
          <p:sp>
            <p:nvSpPr>
              <p:cNvPr id="68" name=""/>
              <p:cNvSpPr/>
              <p:nvPr/>
            </p:nvSpPr>
            <p:spPr>
              <a:xfrm flipH="1">
                <a:off x="2792160" y="1971720"/>
                <a:ext cx="106668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11680" y="192564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37000" y="223704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93" y="0"/>
                    </a:moveTo>
                    <a:lnTo>
                      <a:pt x="0" y="63"/>
                    </a:lnTo>
                    <a:lnTo>
                      <a:pt x="114" y="6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00560" y="1925640"/>
              <a:ext cx="1266840" cy="416160"/>
              <a:chOff x="4300560" y="1925640"/>
              <a:chExt cx="1266840" cy="416160"/>
            </a:xfrm>
          </p:grpSpPr>
          <p:sp>
            <p:nvSpPr>
              <p:cNvPr id="72" name=""/>
              <p:cNvSpPr/>
              <p:nvPr/>
            </p:nvSpPr>
            <p:spPr>
              <a:xfrm>
                <a:off x="4346640" y="1971720"/>
                <a:ext cx="1067040" cy="31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00560" y="19256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89560" y="2237040"/>
                <a:ext cx="177840" cy="104760"/>
              </a:xfrm>
              <a:custGeom>
                <a:avLst/>
                <a:gdLst/>
                <a:ahLst/>
                <a:rect l="l" t="t" r="r" b="b"/>
                <a:pathLst>
                  <a:path w="112" h="66">
                    <a:moveTo>
                      <a:pt x="0" y="66"/>
                    </a:moveTo>
                    <a:lnTo>
                      <a:pt x="112" y="63"/>
                    </a:lnTo>
                    <a:lnTo>
                      <a:pt x="22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837320" y="2414520"/>
              <a:ext cx="539640" cy="409680"/>
              <a:chOff x="4837320" y="2414520"/>
              <a:chExt cx="539640" cy="40968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964400" y="2460600"/>
                <a:ext cx="3585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76880" y="2414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37320" y="2681280"/>
                <a:ext cx="168120" cy="142920"/>
              </a:xfrm>
              <a:custGeom>
                <a:avLst/>
                <a:gdLst/>
                <a:ahLst/>
                <a:rect l="l" t="t" r="r" b="b"/>
                <a:pathLst>
                  <a:path w="106" h="90">
                    <a:moveTo>
                      <a:pt x="64" y="0"/>
                    </a:moveTo>
                    <a:lnTo>
                      <a:pt x="0" y="90"/>
                    </a:lnTo>
                    <a:lnTo>
                      <a:pt x="106" y="55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766120" y="2414520"/>
              <a:ext cx="536400" cy="409680"/>
              <a:chOff x="5766120" y="2414520"/>
              <a:chExt cx="536400" cy="409680"/>
            </a:xfrm>
          </p:grpSpPr>
          <p:sp>
            <p:nvSpPr>
              <p:cNvPr id="80" name=""/>
              <p:cNvSpPr/>
              <p:nvPr/>
            </p:nvSpPr>
            <p:spPr>
              <a:xfrm>
                <a:off x="5811840" y="246060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66120" y="241452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132600" y="268128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0" y="55"/>
                    </a:moveTo>
                    <a:lnTo>
                      <a:pt x="107" y="90"/>
                    </a:lnTo>
                    <a:lnTo>
                      <a:pt x="42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73240" y="1484280"/>
              <a:ext cx="246240" cy="24624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908360" y="2414520"/>
              <a:ext cx="539640" cy="409680"/>
              <a:chOff x="1908360" y="2414520"/>
              <a:chExt cx="539640" cy="40968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2033280" y="2460600"/>
                <a:ext cx="360360" cy="27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47920" y="2414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8360" y="26812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63" y="0"/>
                    </a:moveTo>
                    <a:lnTo>
                      <a:pt x="0" y="90"/>
                    </a:lnTo>
                    <a:lnTo>
                      <a:pt x="105" y="55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84000" y="1500120"/>
              <a:ext cx="2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247760" y="1559160"/>
              <a:ext cx="2854440" cy="99720"/>
              <a:chOff x="1247760" y="1559160"/>
              <a:chExt cx="2854440" cy="99720"/>
            </a:xfrm>
          </p:grpSpPr>
          <p:sp>
            <p:nvSpPr>
              <p:cNvPr id="90" name=""/>
              <p:cNvSpPr/>
              <p:nvPr/>
            </p:nvSpPr>
            <p:spPr>
              <a:xfrm>
                <a:off x="1293840" y="1605240"/>
                <a:ext cx="2808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47760" y="155916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48200" y="1605240"/>
              <a:ext cx="111240" cy="244440"/>
              <a:chOff x="4048200" y="1605240"/>
              <a:chExt cx="111240" cy="244440"/>
            </a:xfrm>
          </p:grpSpPr>
          <p:sp>
            <p:nvSpPr>
              <p:cNvPr id="93" name=""/>
              <p:cNvSpPr/>
              <p:nvPr/>
            </p:nvSpPr>
            <p:spPr>
              <a:xfrm>
                <a:off x="4102200" y="1605240"/>
                <a:ext cx="1800" cy="8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48200" y="1681200"/>
                <a:ext cx="111240" cy="16848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010560" y="2901960"/>
              <a:ext cx="99720" cy="100080"/>
              <a:chOff x="6010560" y="2901960"/>
              <a:chExt cx="99720" cy="100080"/>
            </a:xfrm>
          </p:grpSpPr>
          <p:sp>
            <p:nvSpPr>
              <p:cNvPr id="96" name=""/>
              <p:cNvSpPr/>
              <p:nvPr/>
            </p:nvSpPr>
            <p:spPr>
              <a:xfrm>
                <a:off x="6056640" y="294804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10560" y="290196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497640" y="2901960"/>
              <a:ext cx="100080" cy="100080"/>
              <a:chOff x="6497640" y="2901960"/>
              <a:chExt cx="100080" cy="100080"/>
            </a:xfrm>
          </p:grpSpPr>
          <p:sp>
            <p:nvSpPr>
              <p:cNvPr id="99" name=""/>
              <p:cNvSpPr/>
              <p:nvPr/>
            </p:nvSpPr>
            <p:spPr>
              <a:xfrm>
                <a:off x="6543720" y="294804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7640" y="29019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545000" y="2901960"/>
              <a:ext cx="100080" cy="100080"/>
              <a:chOff x="4545000" y="2901960"/>
              <a:chExt cx="100080" cy="100080"/>
            </a:xfrm>
          </p:grpSpPr>
          <p:sp>
            <p:nvSpPr>
              <p:cNvPr id="102" name=""/>
              <p:cNvSpPr/>
              <p:nvPr/>
            </p:nvSpPr>
            <p:spPr>
              <a:xfrm>
                <a:off x="4591080" y="294804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45000" y="29019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032440" y="2901960"/>
              <a:ext cx="101520" cy="100080"/>
              <a:chOff x="5032440" y="2901960"/>
              <a:chExt cx="101520" cy="100080"/>
            </a:xfrm>
          </p:grpSpPr>
          <p:sp>
            <p:nvSpPr>
              <p:cNvPr id="105" name=""/>
              <p:cNvSpPr/>
              <p:nvPr/>
            </p:nvSpPr>
            <p:spPr>
              <a:xfrm>
                <a:off x="5080320" y="294804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32440" y="2901960"/>
                <a:ext cx="1015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36960" y="2890800"/>
              <a:ext cx="100080" cy="100080"/>
              <a:chOff x="2136960" y="2890800"/>
              <a:chExt cx="100080" cy="1000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83040" y="2936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36960" y="289080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835360" y="2414520"/>
              <a:ext cx="100080" cy="100080"/>
              <a:chOff x="2835360" y="2414520"/>
              <a:chExt cx="100080" cy="100080"/>
            </a:xfrm>
          </p:grpSpPr>
          <p:sp>
            <p:nvSpPr>
              <p:cNvPr id="111" name=""/>
              <p:cNvSpPr/>
              <p:nvPr/>
            </p:nvSpPr>
            <p:spPr>
              <a:xfrm>
                <a:off x="2881440" y="2460600"/>
                <a:ext cx="1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35360" y="2414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614600" y="2901960"/>
              <a:ext cx="100080" cy="100080"/>
              <a:chOff x="1614600" y="2901960"/>
              <a:chExt cx="100080" cy="100080"/>
            </a:xfrm>
          </p:grpSpPr>
          <p:sp>
            <p:nvSpPr>
              <p:cNvPr id="114" name=""/>
              <p:cNvSpPr/>
              <p:nvPr/>
            </p:nvSpPr>
            <p:spPr>
              <a:xfrm>
                <a:off x="1660680" y="2948040"/>
                <a:ext cx="1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4600" y="290196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847520" y="306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240" y="306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13320" y="306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0960" y="2592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68600" y="25923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520" y="212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04600" y="284796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04600" y="23623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04600" y="18766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3280" y="3660840"/>
            <a:ext cx="7591680" cy="2327400"/>
            <a:chOff x="683280" y="3660840"/>
            <a:chExt cx="7591680" cy="2327400"/>
          </a:xfrm>
        </p:grpSpPr>
        <p:sp>
          <p:nvSpPr>
            <p:cNvPr id="126" name=""/>
            <p:cNvSpPr/>
            <p:nvPr/>
          </p:nvSpPr>
          <p:spPr>
            <a:xfrm>
              <a:off x="1679760" y="4209840"/>
              <a:ext cx="648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55400" y="41194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56750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76520" y="51940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6940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1320" y="408600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76560" y="4111200"/>
              <a:ext cx="22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284720" y="4160520"/>
              <a:ext cx="1755720" cy="431280"/>
              <a:chOff x="4284720" y="4160520"/>
              <a:chExt cx="1755720" cy="431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330800" y="4206240"/>
                <a:ext cx="1549440" cy="331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84720" y="41605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4400" y="4487400"/>
                <a:ext cx="176040" cy="10440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83280" y="3660840"/>
              <a:ext cx="22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75400" y="4574880"/>
              <a:ext cx="73512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16960" y="460044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6520" y="554976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0360" y="5576760"/>
              <a:ext cx="29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99080" y="5062320"/>
              <a:ext cx="73368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5960" y="5087520"/>
              <a:ext cx="25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0200" y="554976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9440" y="5576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062680" y="4649400"/>
              <a:ext cx="787320" cy="415800"/>
              <a:chOff x="5062680" y="4649400"/>
              <a:chExt cx="787320" cy="4158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5207040" y="469512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49920" y="46494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62680" y="4938120"/>
                <a:ext cx="177840" cy="127080"/>
              </a:xfrm>
              <a:custGeom>
                <a:avLst/>
                <a:gdLst/>
                <a:ahLst/>
                <a:rect l="l" t="t" r="r" b="b"/>
                <a:pathLst>
                  <a:path w="112" h="80">
                    <a:moveTo>
                      <a:pt x="81" y="0"/>
                    </a:moveTo>
                    <a:lnTo>
                      <a:pt x="0" y="80"/>
                    </a:lnTo>
                    <a:lnTo>
                      <a:pt x="112" y="6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575240" y="5136840"/>
              <a:ext cx="298440" cy="415080"/>
              <a:chOff x="4575240" y="5136840"/>
              <a:chExt cx="298440" cy="4150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4662720" y="5182560"/>
                <a:ext cx="15696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72160" y="513684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5240" y="538056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261040" y="5136840"/>
              <a:ext cx="290520" cy="415080"/>
              <a:chOff x="5261040" y="5136840"/>
              <a:chExt cx="290520" cy="415080"/>
            </a:xfrm>
          </p:grpSpPr>
          <p:sp>
            <p:nvSpPr>
              <p:cNvPr id="155" name=""/>
              <p:cNvSpPr/>
              <p:nvPr/>
            </p:nvSpPr>
            <p:spPr>
              <a:xfrm>
                <a:off x="5307120" y="5182560"/>
                <a:ext cx="15732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61040" y="5136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13680" y="538056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237360" y="4649400"/>
              <a:ext cx="779400" cy="415800"/>
              <a:chOff x="6237360" y="4649400"/>
              <a:chExt cx="779400" cy="415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283440" y="4695120"/>
                <a:ext cx="588960" cy="29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37360" y="464940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42160" y="4938120"/>
                <a:ext cx="174600" cy="127080"/>
              </a:xfrm>
              <a:custGeom>
                <a:avLst/>
                <a:gdLst/>
                <a:ahLst/>
                <a:rect l="l" t="t" r="r" b="b"/>
                <a:pathLst>
                  <a:path w="110" h="80">
                    <a:moveTo>
                      <a:pt x="0" y="62"/>
                    </a:moveTo>
                    <a:lnTo>
                      <a:pt x="110" y="80"/>
                    </a:lnTo>
                    <a:lnTo>
                      <a:pt x="30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284720" y="5624280"/>
              <a:ext cx="100080" cy="99720"/>
              <a:chOff x="4284720" y="5624280"/>
              <a:chExt cx="100080" cy="9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4330800" y="56700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84720" y="5624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72160" y="5624280"/>
              <a:ext cx="101520" cy="99720"/>
              <a:chOff x="4772160" y="5624280"/>
              <a:chExt cx="101520" cy="9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4819680" y="56700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72160" y="5624280"/>
                <a:ext cx="1015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261040" y="5624280"/>
              <a:ext cx="100080" cy="99720"/>
              <a:chOff x="5261040" y="5624280"/>
              <a:chExt cx="100080" cy="9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07120" y="5670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61040" y="5624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749920" y="5624280"/>
              <a:ext cx="100080" cy="99720"/>
              <a:chOff x="5749920" y="5624280"/>
              <a:chExt cx="100080" cy="99720"/>
            </a:xfrm>
          </p:grpSpPr>
          <p:sp>
            <p:nvSpPr>
              <p:cNvPr id="172" name=""/>
              <p:cNvSpPr/>
              <p:nvPr/>
            </p:nvSpPr>
            <p:spPr>
              <a:xfrm>
                <a:off x="5796000" y="56700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9920" y="5624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651720" y="5062320"/>
              <a:ext cx="73512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0360" y="508752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2840" y="5549760"/>
              <a:ext cx="73512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27080" y="5576760"/>
              <a:ext cx="20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527880" y="5136840"/>
              <a:ext cx="298440" cy="415080"/>
              <a:chOff x="6527880" y="5136840"/>
              <a:chExt cx="298440" cy="4150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6615360" y="5182560"/>
                <a:ext cx="15696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26240" y="5136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27880" y="5380560"/>
                <a:ext cx="141480" cy="171360"/>
              </a:xfrm>
              <a:custGeom>
                <a:avLst/>
                <a:gdLst/>
                <a:ahLst/>
                <a:rect l="l" t="t" r="r" b="b"/>
                <a:pathLst>
                  <a:path w="89" h="108">
                    <a:moveTo>
                      <a:pt x="31" y="0"/>
                    </a:moveTo>
                    <a:lnTo>
                      <a:pt x="0" y="108"/>
                    </a:lnTo>
                    <a:lnTo>
                      <a:pt x="89" y="3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237360" y="5624280"/>
              <a:ext cx="100080" cy="99720"/>
              <a:chOff x="6237360" y="5624280"/>
              <a:chExt cx="100080" cy="99720"/>
            </a:xfrm>
          </p:grpSpPr>
          <p:sp>
            <p:nvSpPr>
              <p:cNvPr id="183" name=""/>
              <p:cNvSpPr/>
              <p:nvPr/>
            </p:nvSpPr>
            <p:spPr>
              <a:xfrm>
                <a:off x="6283440" y="5670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37360" y="5624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26240" y="5624280"/>
              <a:ext cx="100080" cy="99720"/>
              <a:chOff x="6726240" y="5624280"/>
              <a:chExt cx="100080" cy="99720"/>
            </a:xfrm>
          </p:grpSpPr>
          <p:sp>
            <p:nvSpPr>
              <p:cNvPr id="186" name=""/>
              <p:cNvSpPr/>
              <p:nvPr/>
            </p:nvSpPr>
            <p:spPr>
              <a:xfrm>
                <a:off x="6772320" y="567000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26240" y="56242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213680" y="5136840"/>
              <a:ext cx="100080" cy="99720"/>
              <a:chOff x="7213680" y="5136840"/>
              <a:chExt cx="100080" cy="99720"/>
            </a:xfrm>
          </p:grpSpPr>
          <p:sp>
            <p:nvSpPr>
              <p:cNvPr id="189" name=""/>
              <p:cNvSpPr/>
              <p:nvPr/>
            </p:nvSpPr>
            <p:spPr>
              <a:xfrm>
                <a:off x="7259760" y="51825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13680" y="513684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81160" y="3715920"/>
              <a:ext cx="246240" cy="24588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256040" y="3790800"/>
              <a:ext cx="2853720" cy="99720"/>
              <a:chOff x="1256040" y="3790800"/>
              <a:chExt cx="2853720" cy="9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1301760" y="3836880"/>
                <a:ext cx="28080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56040" y="3790800"/>
                <a:ext cx="9972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056120" y="3831840"/>
              <a:ext cx="111240" cy="243720"/>
              <a:chOff x="4056120" y="3831840"/>
              <a:chExt cx="111240" cy="243720"/>
            </a:xfrm>
          </p:grpSpPr>
          <p:sp>
            <p:nvSpPr>
              <p:cNvPr id="196" name=""/>
              <p:cNvSpPr/>
              <p:nvPr/>
            </p:nvSpPr>
            <p:spPr>
              <a:xfrm>
                <a:off x="4110120" y="3831840"/>
                <a:ext cx="1800" cy="8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56120" y="3907440"/>
                <a:ext cx="111240" cy="168120"/>
              </a:xfrm>
              <a:custGeom>
                <a:avLst/>
                <a:gdLst/>
                <a:ahLst/>
                <a:rect l="l" t="t" r="r" b="b"/>
                <a:pathLst>
                  <a:path w="70" h="106">
                    <a:moveTo>
                      <a:pt x="0" y="0"/>
                    </a:moveTo>
                    <a:lnTo>
                      <a:pt x="34" y="106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2968920" y="5552640"/>
              <a:ext cx="734760" cy="2473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15520" y="557964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81480" y="5065560"/>
              <a:ext cx="733320" cy="245520"/>
            </a:xfrm>
            <a:prstGeom prst="rect">
              <a:avLst/>
            </a:prstGeom>
            <a:solidFill>
              <a:srgbClr val="ffcc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18360" y="509076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43440" y="5140080"/>
              <a:ext cx="290520" cy="415080"/>
              <a:chOff x="3043440" y="5140080"/>
              <a:chExt cx="290520" cy="415080"/>
            </a:xfrm>
          </p:grpSpPr>
          <p:sp>
            <p:nvSpPr>
              <p:cNvPr id="203" name=""/>
              <p:cNvSpPr/>
              <p:nvPr/>
            </p:nvSpPr>
            <p:spPr>
              <a:xfrm>
                <a:off x="3089520" y="5185800"/>
                <a:ext cx="157320" cy="23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43440" y="514008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96080" y="5383800"/>
                <a:ext cx="137880" cy="17136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0" y="38"/>
                    </a:moveTo>
                    <a:lnTo>
                      <a:pt x="87" y="108"/>
                    </a:lnTo>
                    <a:lnTo>
                      <a:pt x="5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40160" y="5138640"/>
              <a:ext cx="100080" cy="99360"/>
              <a:chOff x="2540160" y="5138640"/>
              <a:chExt cx="100080" cy="99360"/>
            </a:xfrm>
          </p:grpSpPr>
          <p:sp>
            <p:nvSpPr>
              <p:cNvPr id="207" name=""/>
              <p:cNvSpPr/>
              <p:nvPr/>
            </p:nvSpPr>
            <p:spPr>
              <a:xfrm>
                <a:off x="2586240" y="518436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40160" y="5138640"/>
                <a:ext cx="100080" cy="99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3440" y="5627520"/>
              <a:ext cx="100080" cy="99720"/>
              <a:chOff x="3043440" y="5627520"/>
              <a:chExt cx="100080" cy="99720"/>
            </a:xfrm>
          </p:grpSpPr>
          <p:sp>
            <p:nvSpPr>
              <p:cNvPr id="210" name=""/>
              <p:cNvSpPr/>
              <p:nvPr/>
            </p:nvSpPr>
            <p:spPr>
              <a:xfrm>
                <a:off x="3089520" y="56732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3440" y="56275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32320" y="5627520"/>
              <a:ext cx="100080" cy="99720"/>
              <a:chOff x="3532320" y="5627520"/>
              <a:chExt cx="100080" cy="99720"/>
            </a:xfrm>
          </p:grpSpPr>
          <p:sp>
            <p:nvSpPr>
              <p:cNvPr id="213" name=""/>
              <p:cNvSpPr/>
              <p:nvPr/>
            </p:nvSpPr>
            <p:spPr>
              <a:xfrm>
                <a:off x="3578400" y="5673240"/>
                <a:ext cx="1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32320" y="5627520"/>
                <a:ext cx="100080" cy="99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891880" y="4160520"/>
              <a:ext cx="1004040" cy="930960"/>
              <a:chOff x="2891880" y="4160520"/>
              <a:chExt cx="1004040" cy="9309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795840" y="4160520"/>
                <a:ext cx="100080" cy="99720"/>
                <a:chOff x="3795840" y="4160520"/>
                <a:chExt cx="100080" cy="99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841920" y="4206240"/>
                  <a:ext cx="1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4160520"/>
                  <a:ext cx="100080" cy="99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H="1">
                <a:off x="2928960" y="4210920"/>
                <a:ext cx="911520" cy="801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7444200">
                <a:off x="2896200" y="4937040"/>
                <a:ext cx="175680" cy="104760"/>
              </a:xfrm>
              <a:custGeom>
                <a:avLst/>
                <a:gdLst/>
                <a:ahLst/>
                <a:rect l="l" t="t" r="r" b="b"/>
                <a:pathLst>
                  <a:path w="111" h="66">
                    <a:moveTo>
                      <a:pt x="0" y="66"/>
                    </a:moveTo>
                    <a:lnTo>
                      <a:pt x="111" y="56"/>
                    </a:lnTo>
                    <a:lnTo>
                      <a:pt x="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7652520" y="558468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52520" y="51037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52520" y="4603320"/>
              <a:ext cx="619560" cy="1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ight =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520" y="580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2960" y="580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20960" y="580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4280" y="580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6240" y="530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0200" y="481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2240" y="53002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76320" y="530028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8240" y="4325760"/>
              <a:ext cx="15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6433-4973-44BA-B919-5E04BC0B66B0}" type="slidenum">
              <a:t>6</a:t>
            </a:fld>
          </a:p>
        </p:txBody>
      </p:sp>
    </p:spTree>
  </p:cSld>
  <p:transition>
    <p:cover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AVL-trees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AVL-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BST that is height-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d after the mathematicians G.M. Adel’son Vel’skii and Y.M. Landis, who invented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a node is inserted (deleted) the AVL-tree insertion (deletion) algorithm restructures the tree as required to maintain height-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5E92-6A5C-4723-8C5D-5BB79E310742}" type="slidenum">
              <a:t>7</a:t>
            </a:fld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lass representing AVL-tree hea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ro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mpty AVL 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VLT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(see belo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2E59-68BA-46CB-A465-8CCF9D16730A}" type="slidenum">
              <a:t>8</a:t>
            </a:fld>
          </a:p>
        </p:txBody>
      </p:sp>
    </p:spTree>
  </p:cSld>
  <p:transition>
    <p:cover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L-trees (continued)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lass representing AVL tree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able 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left, 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e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LTreeNode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arable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righ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VLTree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(see belo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578F-5F55-4454-B029-1BFA5084DD7F}" type="slidenum">
              <a:t>9</a:t>
            </a:fld>
          </a:p>
        </p:txBody>
      </p:sp>
    </p:spTree>
  </p:cSld>
  <p:transition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/>
  <dc:description/>
  <dc:language>en-US</dc:language>
  <cp:lastModifiedBy>David Watt</cp:lastModifiedBy>
  <cp:lastPrinted>2000-10-30T14:19:39Z</cp:lastPrinted>
  <dcterms:modified xsi:type="dcterms:W3CDTF">2004-04-02T13:47:26Z</dcterms:modified>
  <cp:revision>176</cp:revision>
  <dc:subject/>
  <dc:title>CM2002: Algorithms and Data Structures</dc:title>
</cp:coreProperties>
</file>