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746875" cy="99139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1F1E0B-235A-431D-985D-E7554FA9CA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61E56A-995E-421A-B9C4-9BA83F8D49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98AD95-7435-4E7E-8117-E264FE86E2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B0C857-8204-477A-ACA5-420613DE3E8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15D4C2-70CD-453D-8A9A-9F1F0B43615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001433-8F91-43B4-8DD0-692802135D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C2E491-0DE9-4ADC-A4C5-8B07FEC0A3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8A01C7-0B32-41B4-A8C0-CEF4536EDC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F5CE26-1F85-4B3F-BA0B-9B985E6D58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FD89F3-CBF5-49A1-92E2-816028FAA8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29D8A3-B694-4F54-A50C-909DF94C33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B6B032-39BC-4005-9630-886A95A211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800"/>
              </a:spcBef>
              <a:buClr>
                <a:srgbClr val="3399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18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18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18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18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85440" y="6248520"/>
            <a:ext cx="5334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ff"/>
                </a:solidFill>
                <a:latin typeface="Times New Roman"/>
              </a:rPr>
              <a:t>7-</a:t>
            </a:r>
            <a:fld id="{7F49D8AA-2585-4938-A8F5-CC6EAD482279}" type="slidenum">
              <a:rPr b="0" lang="en-US" sz="1400" spc="-1" strike="noStrike">
                <a:solidFill>
                  <a:srgbClr val="3333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7</a:t>
            </a:r>
            <a:br>
              <a:rPr sz="4800"/>
            </a:b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Queue ADTs</a:t>
            </a:r>
            <a:endParaRPr b="1" lang="en-US" sz="48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eue concep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eue applic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queue ADT: requirements, contrac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ementations of queues: using arrays, linked lis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eues in the Java class libra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5800" y="6248520"/>
            <a:ext cx="32004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©</a:t>
            </a: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 2001, D.A. Watt and D.F. Brow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0" y="609480"/>
            <a:ext cx="9144000" cy="1676520"/>
            <a:chOff x="0" y="609480"/>
            <a:chExt cx="9144000" cy="1676520"/>
          </a:xfrm>
        </p:grpSpPr>
        <p:sp>
          <p:nvSpPr>
            <p:cNvPr id="44" name=""/>
            <p:cNvSpPr/>
            <p:nvPr/>
          </p:nvSpPr>
          <p:spPr>
            <a:xfrm>
              <a:off x="0" y="609480"/>
              <a:ext cx="9144000" cy="0"/>
            </a:xfrm>
            <a:prstGeom prst="line">
              <a:avLst/>
            </a:prstGeom>
            <a:ln w="7632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0" y="2286000"/>
              <a:ext cx="9144000" cy="0"/>
            </a:xfrm>
            <a:prstGeom prst="line">
              <a:avLst/>
            </a:prstGeom>
            <a:ln w="7632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AE734E-A36A-4B97-A836-EA13C37D2219}" type="slidenum">
              <a:t>1</a:t>
            </a:fld>
          </a:p>
        </p:txBody>
      </p:sp>
    </p:spTree>
  </p:cSld>
  <p:transition>
    <p:cover dir="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838080" y="4508640"/>
            <a:ext cx="7467840" cy="609480"/>
            <a:chOff x="838080" y="4508640"/>
            <a:chExt cx="7467840" cy="609480"/>
          </a:xfrm>
        </p:grpSpPr>
        <p:sp>
          <p:nvSpPr>
            <p:cNvPr id="79" name=""/>
            <p:cNvSpPr/>
            <p:nvPr/>
          </p:nvSpPr>
          <p:spPr>
            <a:xfrm>
              <a:off x="838080" y="4764240"/>
              <a:ext cx="1067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Invariant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133720" y="4508640"/>
              <a:ext cx="761760" cy="3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657600" y="4508640"/>
              <a:ext cx="762120" cy="3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fro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943600" y="4508640"/>
              <a:ext cx="7621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rear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–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391520" y="4508640"/>
              <a:ext cx="91440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maxlen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–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657600" y="4737240"/>
              <a:ext cx="762120" cy="314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l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133720" y="4737240"/>
              <a:ext cx="761760" cy="314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43600" y="4737240"/>
              <a:ext cx="762120" cy="314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l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67480" y="4737240"/>
              <a:ext cx="762120" cy="314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705720" y="4737240"/>
              <a:ext cx="761760" cy="314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181480" y="4737240"/>
              <a:ext cx="762120" cy="314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895480" y="4737240"/>
              <a:ext cx="762120" cy="314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19720" y="4737240"/>
              <a:ext cx="761760" cy="314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l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934320" y="4660920"/>
              <a:ext cx="380880" cy="457200"/>
            </a:xfrm>
            <a:custGeom>
              <a:avLst/>
              <a:gdLst/>
              <a:ahLst/>
              <a:rect l="l" t="t" r="r" b="b"/>
              <a:pathLst>
                <a:path w="240" h="288">
                  <a:moveTo>
                    <a:pt x="0" y="288"/>
                  </a:moveTo>
                  <a:lnTo>
                    <a:pt x="144" y="0"/>
                  </a:lnTo>
                  <a:lnTo>
                    <a:pt x="240" y="0"/>
                  </a:lnTo>
                  <a:lnTo>
                    <a:pt x="96" y="288"/>
                  </a:lnTo>
                  <a:lnTo>
                    <a:pt x="0" y="288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410080" y="4660920"/>
              <a:ext cx="381240" cy="457200"/>
            </a:xfrm>
            <a:custGeom>
              <a:avLst/>
              <a:gdLst/>
              <a:ahLst/>
              <a:rect l="l" t="t" r="r" b="b"/>
              <a:pathLst>
                <a:path w="240" h="288">
                  <a:moveTo>
                    <a:pt x="0" y="288"/>
                  </a:moveTo>
                  <a:lnTo>
                    <a:pt x="144" y="0"/>
                  </a:lnTo>
                  <a:lnTo>
                    <a:pt x="240" y="0"/>
                  </a:lnTo>
                  <a:lnTo>
                    <a:pt x="96" y="288"/>
                  </a:lnTo>
                  <a:lnTo>
                    <a:pt x="0" y="288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048120" y="4660920"/>
              <a:ext cx="380880" cy="457200"/>
            </a:xfrm>
            <a:custGeom>
              <a:avLst/>
              <a:gdLst/>
              <a:ahLst/>
              <a:rect l="l" t="t" r="r" b="b"/>
              <a:pathLst>
                <a:path w="240" h="288">
                  <a:moveTo>
                    <a:pt x="0" y="288"/>
                  </a:moveTo>
                  <a:lnTo>
                    <a:pt x="144" y="0"/>
                  </a:lnTo>
                  <a:lnTo>
                    <a:pt x="240" y="0"/>
                  </a:lnTo>
                  <a:lnTo>
                    <a:pt x="96" y="288"/>
                  </a:lnTo>
                  <a:lnTo>
                    <a:pt x="0" y="288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Times New Roman"/>
              </a:rPr>
              <a:t>Implementation of queues using arrays </a:t>
            </a:r>
            <a:r>
              <a:rPr b="1" i="1" lang="en-US" sz="3600" spc="-1" strike="noStrike">
                <a:solidFill>
                  <a:srgbClr val="339966"/>
                </a:solidFill>
                <a:latin typeface="Times New Roman"/>
              </a:rPr>
              <a:t>(1)</a:t>
            </a: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ider representing 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und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eue (length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xle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3399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variabl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ngt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containing the current leng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3399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o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3399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 arra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em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length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xle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containing the queued element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em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o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1]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838080" y="5346720"/>
            <a:ext cx="7467840" cy="749520"/>
            <a:chOff x="838080" y="5346720"/>
            <a:chExt cx="7467840" cy="749520"/>
          </a:xfrm>
        </p:grpSpPr>
        <p:sp>
          <p:nvSpPr>
            <p:cNvPr id="98" name=""/>
            <p:cNvSpPr/>
            <p:nvPr/>
          </p:nvSpPr>
          <p:spPr>
            <a:xfrm>
              <a:off x="838080" y="5486040"/>
              <a:ext cx="1067040" cy="61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Empty queue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46720"/>
              <a:ext cx="76176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391520" y="5346720"/>
              <a:ext cx="91440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maxlen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–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267080" y="5346720"/>
              <a:ext cx="10670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front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rea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657600" y="5641920"/>
              <a:ext cx="762120" cy="313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895480" y="5641920"/>
              <a:ext cx="762120" cy="313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133720" y="5641920"/>
              <a:ext cx="761760" cy="313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181480" y="5641920"/>
              <a:ext cx="762120" cy="313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943600" y="5641920"/>
              <a:ext cx="762120" cy="313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467480" y="5641920"/>
              <a:ext cx="762120" cy="313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705720" y="5641920"/>
              <a:ext cx="761760" cy="313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419720" y="5641920"/>
              <a:ext cx="761760" cy="313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124080" y="5574960"/>
              <a:ext cx="381240" cy="456840"/>
            </a:xfrm>
            <a:custGeom>
              <a:avLst/>
              <a:gdLst/>
              <a:ahLst/>
              <a:rect l="l" t="t" r="r" b="b"/>
              <a:pathLst>
                <a:path w="240" h="288">
                  <a:moveTo>
                    <a:pt x="0" y="288"/>
                  </a:moveTo>
                  <a:lnTo>
                    <a:pt x="144" y="0"/>
                  </a:lnTo>
                  <a:lnTo>
                    <a:pt x="240" y="0"/>
                  </a:lnTo>
                  <a:lnTo>
                    <a:pt x="96" y="288"/>
                  </a:lnTo>
                  <a:lnTo>
                    <a:pt x="0" y="288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095880" y="5574960"/>
              <a:ext cx="381240" cy="456840"/>
            </a:xfrm>
            <a:custGeom>
              <a:avLst/>
              <a:gdLst/>
              <a:ahLst/>
              <a:rect l="l" t="t" r="r" b="b"/>
              <a:pathLst>
                <a:path w="240" h="288">
                  <a:moveTo>
                    <a:pt x="0" y="288"/>
                  </a:moveTo>
                  <a:lnTo>
                    <a:pt x="144" y="0"/>
                  </a:lnTo>
                  <a:lnTo>
                    <a:pt x="240" y="0"/>
                  </a:lnTo>
                  <a:lnTo>
                    <a:pt x="96" y="288"/>
                  </a:lnTo>
                  <a:lnTo>
                    <a:pt x="0" y="288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2133720" y="4038480"/>
            <a:ext cx="6248160" cy="304920"/>
            <a:chOff x="2133720" y="4038480"/>
            <a:chExt cx="6248160" cy="304920"/>
          </a:xfrm>
        </p:grpSpPr>
        <p:sp>
          <p:nvSpPr>
            <p:cNvPr id="113" name=""/>
            <p:cNvSpPr/>
            <p:nvPr/>
          </p:nvSpPr>
          <p:spPr>
            <a:xfrm>
              <a:off x="6934320" y="4038480"/>
              <a:ext cx="1447560" cy="304920"/>
            </a:xfrm>
            <a:prstGeom prst="wedgeRectCallout">
              <a:avLst>
                <a:gd name="adj1" fmla="val -53069"/>
                <a:gd name="adj2" fmla="val 208333"/>
              </a:avLst>
            </a:prstGeom>
            <a:noFill/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8000"/>
                  </a:solidFill>
                  <a:latin typeface="Times New Roman"/>
                </a:rPr>
                <a:t>unoccupi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133720" y="4038480"/>
              <a:ext cx="1447560" cy="304920"/>
            </a:xfrm>
            <a:prstGeom prst="wedgeRectCallout">
              <a:avLst>
                <a:gd name="adj1" fmla="val -4824"/>
                <a:gd name="adj2" fmla="val 204166"/>
              </a:avLst>
            </a:prstGeom>
            <a:noFill/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8000"/>
                  </a:solidFill>
                  <a:latin typeface="Times New Roman"/>
                </a:rPr>
                <a:t>unoccupi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733920" y="4038480"/>
            <a:ext cx="3047760" cy="304920"/>
            <a:chOff x="3733920" y="4038480"/>
            <a:chExt cx="3047760" cy="304920"/>
          </a:xfrm>
        </p:grpSpPr>
        <p:sp>
          <p:nvSpPr>
            <p:cNvPr id="116" name=""/>
            <p:cNvSpPr/>
            <p:nvPr/>
          </p:nvSpPr>
          <p:spPr>
            <a:xfrm>
              <a:off x="5334120" y="4038480"/>
              <a:ext cx="1447560" cy="304920"/>
            </a:xfrm>
            <a:prstGeom prst="wedgeRectCallout">
              <a:avLst>
                <a:gd name="adj1" fmla="val 16226"/>
                <a:gd name="adj2" fmla="val 200000"/>
              </a:avLst>
            </a:prstGeom>
            <a:noFill/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8000"/>
                  </a:solidFill>
                  <a:latin typeface="Times New Roman"/>
                </a:rPr>
                <a:t>rear ele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733920" y="4038480"/>
              <a:ext cx="1447560" cy="304920"/>
            </a:xfrm>
            <a:prstGeom prst="wedgeRectCallout">
              <a:avLst>
                <a:gd name="adj1" fmla="val -30263"/>
                <a:gd name="adj2" fmla="val 204166"/>
              </a:avLst>
            </a:prstGeom>
            <a:noFill/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8000"/>
                  </a:solidFill>
                  <a:latin typeface="Times New Roman"/>
                </a:rPr>
                <a:t>front ele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7999C6-A003-490F-AC89-8D93757D63D1}" type="slidenum">
              <a:t>10</a:t>
            </a:fld>
          </a:p>
        </p:txBody>
      </p:sp>
    </p:spTree>
  </p:cSld>
  <p:transition>
    <p:cover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Times New Roman"/>
              </a:rPr>
              <a:t>Implementation using arrays </a:t>
            </a:r>
            <a:r>
              <a:rPr b="1" i="1" lang="en-US" sz="3600" spc="-1" strike="noStrike">
                <a:solidFill>
                  <a:srgbClr val="339966"/>
                </a:solidFill>
                <a:latin typeface="Times New Roman"/>
              </a:rPr>
              <a:t>(2)</a:t>
            </a: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imation (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xle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6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990720" y="2057400"/>
            <a:ext cx="5638680" cy="1981080"/>
            <a:chOff x="990720" y="2057400"/>
            <a:chExt cx="5638680" cy="1981080"/>
          </a:xfrm>
        </p:grpSpPr>
        <p:sp>
          <p:nvSpPr>
            <p:cNvPr id="122" name=""/>
            <p:cNvSpPr/>
            <p:nvPr/>
          </p:nvSpPr>
          <p:spPr>
            <a:xfrm>
              <a:off x="990720" y="2057400"/>
              <a:ext cx="5638680" cy="19810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068120" y="2133360"/>
              <a:ext cx="54846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Initially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085480" y="262080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760400" y="2895480"/>
              <a:ext cx="326520" cy="32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752480" y="2895480"/>
              <a:ext cx="791640" cy="360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917080" y="262080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552760" y="2895480"/>
              <a:ext cx="326520" cy="32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544480" y="2895480"/>
              <a:ext cx="792000" cy="360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709440" y="262080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344760" y="2895480"/>
              <a:ext cx="326520" cy="32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336840" y="2895480"/>
              <a:ext cx="791640" cy="360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501440" y="262080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136760" y="2895480"/>
              <a:ext cx="326880" cy="32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128840" y="2895480"/>
              <a:ext cx="792000" cy="360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293800" y="262080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929120" y="2895480"/>
              <a:ext cx="326520" cy="32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921200" y="2895480"/>
              <a:ext cx="791640" cy="360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085800" y="262080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721120" y="2895480"/>
              <a:ext cx="326880" cy="32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713200" y="2895480"/>
              <a:ext cx="792000" cy="360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752480" y="3504960"/>
              <a:ext cx="791640" cy="36000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066680" y="3504960"/>
              <a:ext cx="6220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fro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352680" y="3504960"/>
              <a:ext cx="791640" cy="36000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666880" y="3504960"/>
              <a:ext cx="6220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rea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066680" y="2895480"/>
              <a:ext cx="6220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elem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303880" y="3504960"/>
              <a:ext cx="791640" cy="36000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465440" y="3504960"/>
              <a:ext cx="774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leng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990720" y="2057400"/>
            <a:ext cx="5638680" cy="1981080"/>
            <a:chOff x="990720" y="2057400"/>
            <a:chExt cx="5638680" cy="1981080"/>
          </a:xfrm>
        </p:grpSpPr>
        <p:sp>
          <p:nvSpPr>
            <p:cNvPr id="150" name=""/>
            <p:cNvSpPr/>
            <p:nvPr/>
          </p:nvSpPr>
          <p:spPr>
            <a:xfrm>
              <a:off x="990720" y="2057400"/>
              <a:ext cx="5638680" cy="19810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85480" y="262080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760400" y="2895480"/>
              <a:ext cx="32652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52480" y="2895480"/>
              <a:ext cx="791640" cy="36036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Hom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917080" y="262080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552760" y="2895480"/>
              <a:ext cx="32652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544480" y="2895480"/>
              <a:ext cx="792000" cy="36036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arg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709440" y="262080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344760" y="2895480"/>
              <a:ext cx="32652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336840" y="2895480"/>
              <a:ext cx="791640" cy="36036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ar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501440" y="262080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136760" y="2895480"/>
              <a:ext cx="32688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128840" y="2895480"/>
              <a:ext cx="792000" cy="36036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Lis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293800" y="262080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929120" y="2895480"/>
              <a:ext cx="32652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921200" y="2895480"/>
              <a:ext cx="791640" cy="36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085800" y="262080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721120" y="2895480"/>
              <a:ext cx="32688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13200" y="2895480"/>
              <a:ext cx="792000" cy="36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752480" y="3505320"/>
              <a:ext cx="791640" cy="36036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066680" y="3505320"/>
              <a:ext cx="6220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fro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352680" y="3505320"/>
              <a:ext cx="791640" cy="36036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666880" y="3505320"/>
              <a:ext cx="6220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rea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066680" y="2895480"/>
              <a:ext cx="6220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elem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303880" y="3505320"/>
              <a:ext cx="791640" cy="36036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465440" y="3505320"/>
              <a:ext cx="774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leng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066680" y="2133720"/>
              <a:ext cx="54846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fter adding Homer, Marge, Bart, Lisa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990720" y="2057400"/>
            <a:ext cx="5638680" cy="1981080"/>
            <a:chOff x="990720" y="2057400"/>
            <a:chExt cx="5638680" cy="1981080"/>
          </a:xfrm>
        </p:grpSpPr>
        <p:sp>
          <p:nvSpPr>
            <p:cNvPr id="178" name=""/>
            <p:cNvSpPr/>
            <p:nvPr/>
          </p:nvSpPr>
          <p:spPr>
            <a:xfrm>
              <a:off x="990720" y="2057400"/>
              <a:ext cx="5638680" cy="19810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085480" y="262080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760400" y="2895480"/>
              <a:ext cx="32652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752480" y="2895480"/>
              <a:ext cx="791640" cy="36036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Hom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917080" y="262080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552760" y="2895480"/>
              <a:ext cx="32652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544480" y="2895480"/>
              <a:ext cx="792000" cy="36036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arg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709440" y="262080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4760" y="2895480"/>
              <a:ext cx="32652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336840" y="2895480"/>
              <a:ext cx="791640" cy="36036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ar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501440" y="262080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136760" y="2895480"/>
              <a:ext cx="32688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128840" y="2895480"/>
              <a:ext cx="792000" cy="36036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Lis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293800" y="262080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929120" y="2895480"/>
              <a:ext cx="32652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921200" y="2895480"/>
              <a:ext cx="791640" cy="36036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Maggi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085800" y="262080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21120" y="2895480"/>
              <a:ext cx="32688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713200" y="2895480"/>
              <a:ext cx="792000" cy="36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752480" y="3504960"/>
              <a:ext cx="791640" cy="36036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066680" y="3504960"/>
              <a:ext cx="6220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fro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352680" y="3504960"/>
              <a:ext cx="791640" cy="36036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666880" y="3504960"/>
              <a:ext cx="6220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rea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066680" y="2895480"/>
              <a:ext cx="6220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elem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303880" y="3504960"/>
              <a:ext cx="791640" cy="36036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465440" y="3504960"/>
              <a:ext cx="774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leng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065240" y="2133360"/>
              <a:ext cx="54842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fter adding Maggie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990720" y="2057400"/>
            <a:ext cx="5638680" cy="1981080"/>
            <a:chOff x="990720" y="2057400"/>
            <a:chExt cx="5638680" cy="1981080"/>
          </a:xfrm>
        </p:grpSpPr>
        <p:sp>
          <p:nvSpPr>
            <p:cNvPr id="206" name=""/>
            <p:cNvSpPr/>
            <p:nvPr/>
          </p:nvSpPr>
          <p:spPr>
            <a:xfrm>
              <a:off x="990720" y="2057400"/>
              <a:ext cx="5638680" cy="19810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085480" y="262080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760400" y="2895480"/>
              <a:ext cx="326520" cy="32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752480" y="2895480"/>
              <a:ext cx="791640" cy="360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917080" y="262080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552760" y="2895480"/>
              <a:ext cx="326520" cy="32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544480" y="2895480"/>
              <a:ext cx="792000" cy="36000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arg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709440" y="262080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44760" y="2895480"/>
              <a:ext cx="326520" cy="32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336840" y="2895480"/>
              <a:ext cx="791640" cy="36000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ar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501440" y="262080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136760" y="2895480"/>
              <a:ext cx="326880" cy="32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128840" y="2895480"/>
              <a:ext cx="792000" cy="36000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Lis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293800" y="262080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929120" y="2895480"/>
              <a:ext cx="326520" cy="32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921200" y="2895480"/>
              <a:ext cx="791640" cy="36000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Maggi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085800" y="262080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721120" y="2895480"/>
              <a:ext cx="326880" cy="32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713200" y="2895480"/>
              <a:ext cx="792000" cy="360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752480" y="3504960"/>
              <a:ext cx="791640" cy="36000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066680" y="3504960"/>
              <a:ext cx="6220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fro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352680" y="3504960"/>
              <a:ext cx="791640" cy="36000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66880" y="3504960"/>
              <a:ext cx="6220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rea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066680" y="2895480"/>
              <a:ext cx="6220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elem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303880" y="3504960"/>
              <a:ext cx="791640" cy="36000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465440" y="3504960"/>
              <a:ext cx="774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leng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065240" y="2133360"/>
              <a:ext cx="54842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fter removing the front element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3" name=""/>
          <p:cNvGrpSpPr/>
          <p:nvPr/>
        </p:nvGrpSpPr>
        <p:grpSpPr>
          <a:xfrm>
            <a:off x="990720" y="2057400"/>
            <a:ext cx="5638680" cy="1981080"/>
            <a:chOff x="990720" y="2057400"/>
            <a:chExt cx="5638680" cy="1981080"/>
          </a:xfrm>
        </p:grpSpPr>
        <p:sp>
          <p:nvSpPr>
            <p:cNvPr id="234" name=""/>
            <p:cNvSpPr/>
            <p:nvPr/>
          </p:nvSpPr>
          <p:spPr>
            <a:xfrm>
              <a:off x="990720" y="2057400"/>
              <a:ext cx="5638680" cy="19810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085480" y="262080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760400" y="2895480"/>
              <a:ext cx="32652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752480" y="2895480"/>
              <a:ext cx="791640" cy="36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917080" y="262080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552760" y="2895480"/>
              <a:ext cx="32652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544480" y="2895480"/>
              <a:ext cx="792000" cy="36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709440" y="262080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344760" y="2895480"/>
              <a:ext cx="32652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336840" y="2895480"/>
              <a:ext cx="791640" cy="36036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ar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501440" y="262080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136760" y="2895480"/>
              <a:ext cx="32688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128840" y="2895480"/>
              <a:ext cx="792000" cy="36036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Lis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293800" y="262080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929120" y="2895480"/>
              <a:ext cx="32652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921200" y="2895480"/>
              <a:ext cx="791640" cy="36036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Maggi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085800" y="262080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721120" y="2895480"/>
              <a:ext cx="32688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713200" y="2895480"/>
              <a:ext cx="792000" cy="36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752480" y="3505320"/>
              <a:ext cx="791640" cy="36036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066680" y="3505320"/>
              <a:ext cx="6220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fro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352680" y="3505320"/>
              <a:ext cx="791640" cy="36036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666880" y="3505320"/>
              <a:ext cx="6220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rea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066680" y="2895480"/>
              <a:ext cx="6220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elem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303880" y="3505320"/>
              <a:ext cx="791640" cy="36036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465440" y="3505320"/>
              <a:ext cx="774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leng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065240" y="2133720"/>
              <a:ext cx="54842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fter removing the front element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1" name=""/>
          <p:cNvGrpSpPr/>
          <p:nvPr/>
        </p:nvGrpSpPr>
        <p:grpSpPr>
          <a:xfrm>
            <a:off x="990720" y="2057400"/>
            <a:ext cx="5638680" cy="1981080"/>
            <a:chOff x="990720" y="2057400"/>
            <a:chExt cx="5638680" cy="1981080"/>
          </a:xfrm>
        </p:grpSpPr>
        <p:sp>
          <p:nvSpPr>
            <p:cNvPr id="262" name=""/>
            <p:cNvSpPr/>
            <p:nvPr/>
          </p:nvSpPr>
          <p:spPr>
            <a:xfrm>
              <a:off x="990720" y="2057400"/>
              <a:ext cx="5638680" cy="19810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085480" y="262080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760400" y="2895480"/>
              <a:ext cx="32652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752480" y="2895480"/>
              <a:ext cx="791640" cy="36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917080" y="262080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552760" y="2895480"/>
              <a:ext cx="32652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544480" y="2895480"/>
              <a:ext cx="792000" cy="36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709440" y="262080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344760" y="2895480"/>
              <a:ext cx="32652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336840" y="2895480"/>
              <a:ext cx="791640" cy="36036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ar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501440" y="262080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136760" y="2895480"/>
              <a:ext cx="32688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128840" y="2895480"/>
              <a:ext cx="792000" cy="36036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Lis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293800" y="262080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929120" y="2895480"/>
              <a:ext cx="32652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921200" y="2895480"/>
              <a:ext cx="791640" cy="36036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Maggi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085800" y="262080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721120" y="2895480"/>
              <a:ext cx="32688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713200" y="2895480"/>
              <a:ext cx="792000" cy="36036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Ralp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752480" y="3504960"/>
              <a:ext cx="791640" cy="36036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3504960"/>
              <a:ext cx="6220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fro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352680" y="3504960"/>
              <a:ext cx="791640" cy="36036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666880" y="3504960"/>
              <a:ext cx="6220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rea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066680" y="2895480"/>
              <a:ext cx="6220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elem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303880" y="3504960"/>
              <a:ext cx="791640" cy="36036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465440" y="3504960"/>
              <a:ext cx="774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leng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065240" y="2133360"/>
              <a:ext cx="54842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fter adding Ralph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B3DFB6-A9D4-4F92-A369-CFFEF402F8BA}" type="slidenum">
              <a:t>11</a:t>
            </a:fld>
          </a:p>
        </p:txBody>
      </p:sp>
    </p:spTree>
  </p:cSld>
  <p:transition>
    <p:cover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Times New Roman"/>
              </a:rPr>
              <a:t>Implementation using arrays </a:t>
            </a:r>
            <a:r>
              <a:rPr b="1" i="1" lang="en-US" sz="3600" spc="-1" strike="noStrike">
                <a:solidFill>
                  <a:srgbClr val="339966"/>
                </a:solidFill>
                <a:latin typeface="Times New Roman"/>
              </a:rPr>
              <a:t>(3)</a:t>
            </a: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we must shift elements along the array, operation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ddLa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moveFir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have time complexit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 can avoid this if we use a “cyclic array” instead of an ordinary arr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A2124D-74C5-4512-8F47-FC02672C5B45}" type="slidenum">
              <a:t>12</a:t>
            </a:fld>
          </a:p>
        </p:txBody>
      </p:sp>
    </p:spTree>
  </p:cSld>
  <p:transition>
    <p:cover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Times New Roman"/>
              </a:rPr>
              <a:t>Cyclic arrays</a:t>
            </a: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yclic arra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leng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every component has both a successor and a predecessor. In particula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3399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uccessor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1] i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3399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edecessor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0] i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1]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ternative ways of visualizing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cyclic array (length 8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5" name=""/>
          <p:cNvGrpSpPr/>
          <p:nvPr/>
        </p:nvGrpSpPr>
        <p:grpSpPr>
          <a:xfrm>
            <a:off x="5257440" y="3276720"/>
            <a:ext cx="2096280" cy="2286000"/>
            <a:chOff x="5257440" y="3276720"/>
            <a:chExt cx="2096280" cy="2286000"/>
          </a:xfrm>
        </p:grpSpPr>
        <p:sp>
          <p:nvSpPr>
            <p:cNvPr id="296" name=""/>
            <p:cNvSpPr/>
            <p:nvPr/>
          </p:nvSpPr>
          <p:spPr>
            <a:xfrm>
              <a:off x="5295960" y="3429000"/>
              <a:ext cx="1981080" cy="198108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 flipV="1">
              <a:off x="5600520" y="3733920"/>
              <a:ext cx="137160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295960" y="4419720"/>
              <a:ext cx="1981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286320" y="3429000"/>
              <a:ext cx="0" cy="19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600520" y="3733920"/>
              <a:ext cx="137160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600520" y="3733920"/>
              <a:ext cx="1371600" cy="13716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665400" y="327672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7238520" y="380988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238520" y="464832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667200" y="528804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5790960" y="525780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57440" y="467820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257440" y="380988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790960" y="327672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0" name=""/>
          <p:cNvGrpSpPr/>
          <p:nvPr/>
        </p:nvGrpSpPr>
        <p:grpSpPr>
          <a:xfrm>
            <a:off x="1143000" y="5562720"/>
            <a:ext cx="6553080" cy="532800"/>
            <a:chOff x="1143000" y="5562720"/>
            <a:chExt cx="6553080" cy="532800"/>
          </a:xfrm>
        </p:grpSpPr>
        <p:grpSp>
          <p:nvGrpSpPr>
            <p:cNvPr id="311" name=""/>
            <p:cNvGrpSpPr/>
            <p:nvPr/>
          </p:nvGrpSpPr>
          <p:grpSpPr>
            <a:xfrm>
              <a:off x="1143000" y="5942880"/>
              <a:ext cx="456480" cy="151560"/>
              <a:chOff x="1143000" y="5942880"/>
              <a:chExt cx="456480" cy="151560"/>
            </a:xfrm>
          </p:grpSpPr>
          <p:sp>
            <p:nvSpPr>
              <p:cNvPr id="312" name=""/>
              <p:cNvSpPr/>
              <p:nvPr/>
            </p:nvSpPr>
            <p:spPr>
              <a:xfrm flipH="1">
                <a:off x="1143000" y="5943600"/>
                <a:ext cx="456480" cy="150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flipH="1" flipV="1">
                <a:off x="1143000" y="5942520"/>
                <a:ext cx="456480" cy="151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4" name=""/>
            <p:cNvGrpSpPr/>
            <p:nvPr/>
          </p:nvGrpSpPr>
          <p:grpSpPr>
            <a:xfrm>
              <a:off x="7239240" y="5942880"/>
              <a:ext cx="456480" cy="151560"/>
              <a:chOff x="7239240" y="5942880"/>
              <a:chExt cx="456480" cy="151560"/>
            </a:xfrm>
          </p:grpSpPr>
          <p:sp>
            <p:nvSpPr>
              <p:cNvPr id="315" name=""/>
              <p:cNvSpPr/>
              <p:nvPr/>
            </p:nvSpPr>
            <p:spPr>
              <a:xfrm>
                <a:off x="7239240" y="5943600"/>
                <a:ext cx="456480" cy="150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flipV="1">
                <a:off x="7239240" y="5942520"/>
                <a:ext cx="456480" cy="151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7" name=""/>
            <p:cNvSpPr/>
            <p:nvPr/>
          </p:nvSpPr>
          <p:spPr>
            <a:xfrm flipH="1">
              <a:off x="1371240" y="5638680"/>
              <a:ext cx="6095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7696080" y="57150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600200" y="5562720"/>
              <a:ext cx="228600" cy="2746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362320" y="5562720"/>
              <a:ext cx="228600" cy="2746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3124080" y="5562720"/>
              <a:ext cx="228600" cy="2746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86200" y="5562720"/>
              <a:ext cx="228600" cy="2746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4648320" y="5562720"/>
              <a:ext cx="228600" cy="2746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410080" y="5562720"/>
              <a:ext cx="228600" cy="2746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172200" y="5562720"/>
              <a:ext cx="228600" cy="2746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934320" y="5562720"/>
              <a:ext cx="228600" cy="2746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143000" y="57150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8" name=""/>
            <p:cNvGrpSpPr/>
            <p:nvPr/>
          </p:nvGrpSpPr>
          <p:grpSpPr>
            <a:xfrm>
              <a:off x="1143000" y="5638320"/>
              <a:ext cx="456480" cy="151920"/>
              <a:chOff x="1143000" y="5638320"/>
              <a:chExt cx="456480" cy="151920"/>
            </a:xfrm>
          </p:grpSpPr>
          <p:sp>
            <p:nvSpPr>
              <p:cNvPr id="329" name=""/>
              <p:cNvSpPr/>
              <p:nvPr/>
            </p:nvSpPr>
            <p:spPr>
              <a:xfrm flipH="1">
                <a:off x="1143000" y="5638680"/>
                <a:ext cx="456480" cy="151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 flipH="1" flipV="1">
                <a:off x="1143000" y="5637960"/>
                <a:ext cx="456480" cy="151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1" name=""/>
            <p:cNvGrpSpPr/>
            <p:nvPr/>
          </p:nvGrpSpPr>
          <p:grpSpPr>
            <a:xfrm>
              <a:off x="7239240" y="5638320"/>
              <a:ext cx="456480" cy="151920"/>
              <a:chOff x="7239240" y="5638320"/>
              <a:chExt cx="456480" cy="151920"/>
            </a:xfrm>
          </p:grpSpPr>
          <p:sp>
            <p:nvSpPr>
              <p:cNvPr id="332" name=""/>
              <p:cNvSpPr/>
              <p:nvPr/>
            </p:nvSpPr>
            <p:spPr>
              <a:xfrm>
                <a:off x="7239240" y="5638680"/>
                <a:ext cx="456480" cy="151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 flipV="1">
                <a:off x="7239240" y="5637960"/>
                <a:ext cx="456480" cy="151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4" name=""/>
            <p:cNvSpPr/>
            <p:nvPr/>
          </p:nvSpPr>
          <p:spPr>
            <a:xfrm flipH="1">
              <a:off x="1371240" y="5790960"/>
              <a:ext cx="6095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1371600" y="5790960"/>
              <a:ext cx="762120" cy="30456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133720" y="5790960"/>
              <a:ext cx="761760" cy="30456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895480" y="5790960"/>
              <a:ext cx="762120" cy="30456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657600" y="5790960"/>
              <a:ext cx="762120" cy="30456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4419720" y="5790960"/>
              <a:ext cx="761760" cy="30456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5181480" y="5790960"/>
              <a:ext cx="762120" cy="30456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5943600" y="5790960"/>
              <a:ext cx="762120" cy="30456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705720" y="5790960"/>
              <a:ext cx="761760" cy="30456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1371600" y="5943600"/>
              <a:ext cx="60958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083819-A775-4021-8552-5E68C0851EE5}" type="slidenum">
              <a:t>13</a:t>
            </a:fld>
          </a:p>
        </p:txBody>
      </p:sp>
    </p:spTree>
  </p:cSld>
  <p:transition>
    <p:cover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Times New Roman"/>
              </a:rPr>
              <a:t>Implementation of queues using cyclic arrays </a:t>
            </a:r>
            <a:r>
              <a:rPr b="1" i="1" lang="en-US" sz="3600" spc="-1" strike="noStrike">
                <a:solidFill>
                  <a:srgbClr val="339966"/>
                </a:solidFill>
                <a:latin typeface="Times New Roman"/>
              </a:rPr>
              <a:t>(1)</a:t>
            </a: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1143000"/>
                <a:tab algn="l" pos="1905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resenting 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und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eue (length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xle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339966"/>
              </a:buClr>
              <a:buFont typeface="Wingdings" charset="2"/>
              <a:buChar char=""/>
              <a:tabLst>
                <a:tab algn="l" pos="1143000"/>
                <a:tab algn="l" pos="1905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variabl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ngt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containing the current leng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339966"/>
              </a:buClr>
              <a:buFont typeface="Wingdings" charset="2"/>
              <a:buChar char=""/>
              <a:tabLst>
                <a:tab algn="l" pos="1143000"/>
                <a:tab algn="l" pos="1905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o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339966"/>
              </a:buClr>
              <a:buFont typeface="Wingdings" charset="2"/>
              <a:buChar char=""/>
              <a:tabLst>
                <a:tab algn="l" pos="1143000"/>
                <a:tab algn="l" pos="1905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ycli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rra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em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length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xle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containing the queued elements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ith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em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o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1]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em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o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xle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1] 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em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0…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1]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838080" y="3962520"/>
            <a:ext cx="7467840" cy="609480"/>
            <a:chOff x="838080" y="3962520"/>
            <a:chExt cx="7467840" cy="609480"/>
          </a:xfrm>
        </p:grpSpPr>
        <p:sp>
          <p:nvSpPr>
            <p:cNvPr id="348" name=""/>
            <p:cNvSpPr/>
            <p:nvPr/>
          </p:nvSpPr>
          <p:spPr>
            <a:xfrm>
              <a:off x="838080" y="4218120"/>
              <a:ext cx="1067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Invariant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133720" y="3962520"/>
              <a:ext cx="761760" cy="3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657600" y="3962520"/>
              <a:ext cx="762120" cy="3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fro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5943600" y="3962520"/>
              <a:ext cx="7621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rear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–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391520" y="3962520"/>
              <a:ext cx="91440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maxlen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–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657600" y="4191120"/>
              <a:ext cx="762120" cy="314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l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2133720" y="4191120"/>
              <a:ext cx="761760" cy="314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5943600" y="4191120"/>
              <a:ext cx="762120" cy="314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l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467480" y="4191120"/>
              <a:ext cx="762120" cy="314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705720" y="4191120"/>
              <a:ext cx="761760" cy="314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181480" y="4191120"/>
              <a:ext cx="762120" cy="314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895480" y="4191120"/>
              <a:ext cx="762120" cy="314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4419720" y="4191120"/>
              <a:ext cx="761760" cy="314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l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6934320" y="4114800"/>
              <a:ext cx="380880" cy="457200"/>
            </a:xfrm>
            <a:custGeom>
              <a:avLst/>
              <a:gdLst/>
              <a:ahLst/>
              <a:rect l="l" t="t" r="r" b="b"/>
              <a:pathLst>
                <a:path w="240" h="288">
                  <a:moveTo>
                    <a:pt x="0" y="288"/>
                  </a:moveTo>
                  <a:lnTo>
                    <a:pt x="144" y="0"/>
                  </a:lnTo>
                  <a:lnTo>
                    <a:pt x="240" y="0"/>
                  </a:lnTo>
                  <a:lnTo>
                    <a:pt x="96" y="288"/>
                  </a:lnTo>
                  <a:lnTo>
                    <a:pt x="0" y="288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5410080" y="4114800"/>
              <a:ext cx="381240" cy="457200"/>
            </a:xfrm>
            <a:custGeom>
              <a:avLst/>
              <a:gdLst/>
              <a:ahLst/>
              <a:rect l="l" t="t" r="r" b="b"/>
              <a:pathLst>
                <a:path w="240" h="288">
                  <a:moveTo>
                    <a:pt x="0" y="288"/>
                  </a:moveTo>
                  <a:lnTo>
                    <a:pt x="144" y="0"/>
                  </a:lnTo>
                  <a:lnTo>
                    <a:pt x="240" y="0"/>
                  </a:lnTo>
                  <a:lnTo>
                    <a:pt x="96" y="288"/>
                  </a:lnTo>
                  <a:lnTo>
                    <a:pt x="0" y="288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048120" y="4114800"/>
              <a:ext cx="380880" cy="457200"/>
            </a:xfrm>
            <a:custGeom>
              <a:avLst/>
              <a:gdLst/>
              <a:ahLst/>
              <a:rect l="l" t="t" r="r" b="b"/>
              <a:pathLst>
                <a:path w="240" h="288">
                  <a:moveTo>
                    <a:pt x="0" y="288"/>
                  </a:moveTo>
                  <a:lnTo>
                    <a:pt x="144" y="0"/>
                  </a:lnTo>
                  <a:lnTo>
                    <a:pt x="240" y="0"/>
                  </a:lnTo>
                  <a:lnTo>
                    <a:pt x="96" y="288"/>
                  </a:lnTo>
                  <a:lnTo>
                    <a:pt x="0" y="288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"/>
          <p:cNvGrpSpPr/>
          <p:nvPr/>
        </p:nvGrpSpPr>
        <p:grpSpPr>
          <a:xfrm>
            <a:off x="1523880" y="4629240"/>
            <a:ext cx="6782040" cy="628560"/>
            <a:chOff x="1523880" y="4629240"/>
            <a:chExt cx="6782040" cy="628560"/>
          </a:xfrm>
        </p:grpSpPr>
        <p:sp>
          <p:nvSpPr>
            <p:cNvPr id="365" name=""/>
            <p:cNvSpPr/>
            <p:nvPr/>
          </p:nvSpPr>
          <p:spPr>
            <a:xfrm>
              <a:off x="1523880" y="4876920"/>
              <a:ext cx="304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r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3657600" y="4867560"/>
              <a:ext cx="762120" cy="314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l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2895480" y="4867560"/>
              <a:ext cx="762120" cy="314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2133720" y="4867560"/>
              <a:ext cx="761760" cy="314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l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3124080" y="4800600"/>
              <a:ext cx="381240" cy="457200"/>
            </a:xfrm>
            <a:custGeom>
              <a:avLst/>
              <a:gdLst/>
              <a:ahLst/>
              <a:rect l="l" t="t" r="r" b="b"/>
              <a:pathLst>
                <a:path w="240" h="288">
                  <a:moveTo>
                    <a:pt x="0" y="288"/>
                  </a:moveTo>
                  <a:lnTo>
                    <a:pt x="144" y="0"/>
                  </a:lnTo>
                  <a:lnTo>
                    <a:pt x="240" y="0"/>
                  </a:lnTo>
                  <a:lnTo>
                    <a:pt x="96" y="288"/>
                  </a:lnTo>
                  <a:lnTo>
                    <a:pt x="0" y="288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7467480" y="4867560"/>
              <a:ext cx="762120" cy="314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l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6705720" y="4867560"/>
              <a:ext cx="761760" cy="314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943600" y="4867560"/>
              <a:ext cx="762120" cy="314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l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6934320" y="4800600"/>
              <a:ext cx="380880" cy="457200"/>
            </a:xfrm>
            <a:custGeom>
              <a:avLst/>
              <a:gdLst/>
              <a:ahLst/>
              <a:rect l="l" t="t" r="r" b="b"/>
              <a:pathLst>
                <a:path w="240" h="288">
                  <a:moveTo>
                    <a:pt x="0" y="288"/>
                  </a:moveTo>
                  <a:lnTo>
                    <a:pt x="144" y="0"/>
                  </a:lnTo>
                  <a:lnTo>
                    <a:pt x="240" y="0"/>
                  </a:lnTo>
                  <a:lnTo>
                    <a:pt x="96" y="288"/>
                  </a:lnTo>
                  <a:lnTo>
                    <a:pt x="0" y="288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5181480" y="4867560"/>
              <a:ext cx="762120" cy="314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4419720" y="4867560"/>
              <a:ext cx="761760" cy="314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410080" y="4800600"/>
              <a:ext cx="381240" cy="457200"/>
            </a:xfrm>
            <a:custGeom>
              <a:avLst/>
              <a:gdLst/>
              <a:ahLst/>
              <a:rect l="l" t="t" r="r" b="b"/>
              <a:pathLst>
                <a:path w="240" h="288">
                  <a:moveTo>
                    <a:pt x="0" y="288"/>
                  </a:moveTo>
                  <a:lnTo>
                    <a:pt x="144" y="0"/>
                  </a:lnTo>
                  <a:lnTo>
                    <a:pt x="240" y="0"/>
                  </a:lnTo>
                  <a:lnTo>
                    <a:pt x="96" y="288"/>
                  </a:lnTo>
                  <a:lnTo>
                    <a:pt x="0" y="288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133720" y="4629240"/>
              <a:ext cx="761760" cy="3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391520" y="4629240"/>
              <a:ext cx="91440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maxlen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–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943600" y="4638960"/>
              <a:ext cx="762120" cy="3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fro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657600" y="4648320"/>
              <a:ext cx="7621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rear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–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838080" y="5486400"/>
            <a:ext cx="7467840" cy="749520"/>
            <a:chOff x="838080" y="5486400"/>
            <a:chExt cx="7467840" cy="749520"/>
          </a:xfrm>
        </p:grpSpPr>
        <p:sp>
          <p:nvSpPr>
            <p:cNvPr id="382" name=""/>
            <p:cNvSpPr/>
            <p:nvPr/>
          </p:nvSpPr>
          <p:spPr>
            <a:xfrm>
              <a:off x="838080" y="5625720"/>
              <a:ext cx="1067040" cy="61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Empty queue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133720" y="5486400"/>
              <a:ext cx="76176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7391520" y="5486400"/>
              <a:ext cx="91440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maxlen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–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267080" y="5486400"/>
              <a:ext cx="10670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front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rea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3657600" y="5781600"/>
              <a:ext cx="762120" cy="313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895480" y="5781600"/>
              <a:ext cx="762120" cy="313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133720" y="5781600"/>
              <a:ext cx="761760" cy="313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181480" y="5781600"/>
              <a:ext cx="762120" cy="313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943600" y="5781600"/>
              <a:ext cx="762120" cy="313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7467480" y="5781600"/>
              <a:ext cx="762120" cy="313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705720" y="5781600"/>
              <a:ext cx="761760" cy="313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19720" y="5781600"/>
              <a:ext cx="761760" cy="313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124080" y="5714640"/>
              <a:ext cx="381240" cy="456840"/>
            </a:xfrm>
            <a:custGeom>
              <a:avLst/>
              <a:gdLst/>
              <a:ahLst/>
              <a:rect l="l" t="t" r="r" b="b"/>
              <a:pathLst>
                <a:path w="240" h="288">
                  <a:moveTo>
                    <a:pt x="0" y="288"/>
                  </a:moveTo>
                  <a:lnTo>
                    <a:pt x="144" y="0"/>
                  </a:lnTo>
                  <a:lnTo>
                    <a:pt x="240" y="0"/>
                  </a:lnTo>
                  <a:lnTo>
                    <a:pt x="96" y="288"/>
                  </a:lnTo>
                  <a:lnTo>
                    <a:pt x="0" y="288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6095880" y="5714640"/>
              <a:ext cx="381240" cy="456840"/>
            </a:xfrm>
            <a:custGeom>
              <a:avLst/>
              <a:gdLst/>
              <a:ahLst/>
              <a:rect l="l" t="t" r="r" b="b"/>
              <a:pathLst>
                <a:path w="240" h="288">
                  <a:moveTo>
                    <a:pt x="0" y="288"/>
                  </a:moveTo>
                  <a:lnTo>
                    <a:pt x="144" y="0"/>
                  </a:lnTo>
                  <a:lnTo>
                    <a:pt x="240" y="0"/>
                  </a:lnTo>
                  <a:lnTo>
                    <a:pt x="96" y="288"/>
                  </a:lnTo>
                  <a:lnTo>
                    <a:pt x="0" y="288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6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0B8637-D27B-462E-8EEC-977E8A1D7EAF}" type="slidenum">
              <a:t>14</a:t>
            </a:fld>
          </a:p>
        </p:txBody>
      </p:sp>
    </p:spTree>
  </p:cSld>
  <p:transition>
    <p:cover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Times New Roman"/>
              </a:rPr>
              <a:t>Implementation using cyclic arrays </a:t>
            </a:r>
            <a:r>
              <a:rPr b="1" i="1" lang="en-US" sz="3600" spc="-1" strike="noStrike">
                <a:solidFill>
                  <a:srgbClr val="339966"/>
                </a:solidFill>
                <a:latin typeface="Times New Roman"/>
              </a:rPr>
              <a:t>(2)</a:t>
            </a: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1143000"/>
                <a:tab algn="l" pos="1905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imation (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xle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6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9" name=""/>
          <p:cNvGrpSpPr/>
          <p:nvPr/>
        </p:nvGrpSpPr>
        <p:grpSpPr>
          <a:xfrm>
            <a:off x="1143000" y="2057400"/>
            <a:ext cx="5638680" cy="1981080"/>
            <a:chOff x="1143000" y="2057400"/>
            <a:chExt cx="5638680" cy="1981080"/>
          </a:xfrm>
        </p:grpSpPr>
        <p:sp>
          <p:nvSpPr>
            <p:cNvPr id="400" name=""/>
            <p:cNvSpPr/>
            <p:nvPr/>
          </p:nvSpPr>
          <p:spPr>
            <a:xfrm>
              <a:off x="1143000" y="2057400"/>
              <a:ext cx="5638680" cy="19810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220400" y="2133360"/>
              <a:ext cx="54846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Initially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237760" y="262080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1912680" y="2895480"/>
              <a:ext cx="326520" cy="32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1904760" y="2895480"/>
              <a:ext cx="791640" cy="360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3069360" y="262080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705040" y="2895480"/>
              <a:ext cx="326520" cy="32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696760" y="2895480"/>
              <a:ext cx="792000" cy="360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3861720" y="262080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3497040" y="2895480"/>
              <a:ext cx="326520" cy="32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3489120" y="2895480"/>
              <a:ext cx="791640" cy="360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4653720" y="262080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289040" y="2895480"/>
              <a:ext cx="326880" cy="32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4281120" y="2895480"/>
              <a:ext cx="792000" cy="360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446080" y="262080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081400" y="2895480"/>
              <a:ext cx="326520" cy="32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073480" y="2895480"/>
              <a:ext cx="791640" cy="360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6238080" y="262080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5873400" y="2895480"/>
              <a:ext cx="326880" cy="32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5865480" y="2895480"/>
              <a:ext cx="792000" cy="360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904760" y="3504960"/>
              <a:ext cx="791640" cy="36000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218960" y="3504960"/>
              <a:ext cx="6220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fro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3504960" y="3504960"/>
              <a:ext cx="791640" cy="36000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819160" y="3504960"/>
              <a:ext cx="6220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rea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1218960" y="2895480"/>
              <a:ext cx="6220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elem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456160" y="3504960"/>
              <a:ext cx="791640" cy="36000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4617720" y="3504960"/>
              <a:ext cx="774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leng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7" name=""/>
          <p:cNvGrpSpPr/>
          <p:nvPr/>
        </p:nvGrpSpPr>
        <p:grpSpPr>
          <a:xfrm>
            <a:off x="1143000" y="2057400"/>
            <a:ext cx="5638680" cy="1981080"/>
            <a:chOff x="1143000" y="2057400"/>
            <a:chExt cx="5638680" cy="1981080"/>
          </a:xfrm>
        </p:grpSpPr>
        <p:sp>
          <p:nvSpPr>
            <p:cNvPr id="428" name=""/>
            <p:cNvSpPr/>
            <p:nvPr/>
          </p:nvSpPr>
          <p:spPr>
            <a:xfrm>
              <a:off x="1143000" y="2057400"/>
              <a:ext cx="5638680" cy="19810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237760" y="262080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1912680" y="2895480"/>
              <a:ext cx="32652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904760" y="2895480"/>
              <a:ext cx="791640" cy="36036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Hom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3069360" y="262080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2705040" y="2895480"/>
              <a:ext cx="32652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696760" y="2895480"/>
              <a:ext cx="792000" cy="36036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arg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861720" y="262080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497040" y="2895480"/>
              <a:ext cx="32652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489120" y="2895480"/>
              <a:ext cx="791640" cy="36036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ar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4653720" y="262080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289040" y="2895480"/>
              <a:ext cx="32688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281120" y="2895480"/>
              <a:ext cx="792000" cy="36036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Lis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5446080" y="262080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5081400" y="2895480"/>
              <a:ext cx="32652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5073480" y="2895480"/>
              <a:ext cx="791640" cy="36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6238080" y="262080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5873400" y="2895480"/>
              <a:ext cx="32688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5865480" y="2895480"/>
              <a:ext cx="792000" cy="36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1904760" y="3505320"/>
              <a:ext cx="791640" cy="36036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1218960" y="3505320"/>
              <a:ext cx="6220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fro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3504960" y="3505320"/>
              <a:ext cx="791640" cy="36036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2819160" y="3505320"/>
              <a:ext cx="6220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rea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1218960" y="2895480"/>
              <a:ext cx="6220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elem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456160" y="3505320"/>
              <a:ext cx="791640" cy="36036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4617720" y="3505320"/>
              <a:ext cx="774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leng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1218960" y="2133720"/>
              <a:ext cx="54846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fter adding Homer, Marge, Bart, Lisa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5" name=""/>
          <p:cNvGrpSpPr/>
          <p:nvPr/>
        </p:nvGrpSpPr>
        <p:grpSpPr>
          <a:xfrm>
            <a:off x="1143000" y="2057400"/>
            <a:ext cx="5638680" cy="1981080"/>
            <a:chOff x="1143000" y="2057400"/>
            <a:chExt cx="5638680" cy="1981080"/>
          </a:xfrm>
        </p:grpSpPr>
        <p:sp>
          <p:nvSpPr>
            <p:cNvPr id="456" name=""/>
            <p:cNvSpPr/>
            <p:nvPr/>
          </p:nvSpPr>
          <p:spPr>
            <a:xfrm>
              <a:off x="1143000" y="2057400"/>
              <a:ext cx="5638680" cy="19810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2237760" y="262080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1912680" y="2895480"/>
              <a:ext cx="32652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904760" y="2895480"/>
              <a:ext cx="791640" cy="36036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Hom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069360" y="262080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2705040" y="2895480"/>
              <a:ext cx="32652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2696760" y="2895480"/>
              <a:ext cx="792000" cy="36036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arg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3861720" y="262080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497040" y="2895480"/>
              <a:ext cx="32652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3489120" y="2895480"/>
              <a:ext cx="791640" cy="36036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ar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653720" y="262080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4289040" y="2895480"/>
              <a:ext cx="32688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4281120" y="2895480"/>
              <a:ext cx="792000" cy="36036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Lis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446080" y="262080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5081400" y="2895480"/>
              <a:ext cx="32652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5073480" y="2895480"/>
              <a:ext cx="791640" cy="36036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Maggi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6238080" y="262080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5873400" y="2895480"/>
              <a:ext cx="32688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865480" y="2895480"/>
              <a:ext cx="792000" cy="36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1904760" y="3504960"/>
              <a:ext cx="791640" cy="36036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1218960" y="3504960"/>
              <a:ext cx="6220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fro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504960" y="3504960"/>
              <a:ext cx="791640" cy="36036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2819160" y="3504960"/>
              <a:ext cx="6220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rea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1218960" y="2895480"/>
              <a:ext cx="6220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elem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5456160" y="3504960"/>
              <a:ext cx="791640" cy="36036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617720" y="3504960"/>
              <a:ext cx="774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leng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1217520" y="2133360"/>
              <a:ext cx="54842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fter adding Maggie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3" name=""/>
          <p:cNvGrpSpPr/>
          <p:nvPr/>
        </p:nvGrpSpPr>
        <p:grpSpPr>
          <a:xfrm>
            <a:off x="1143000" y="2057400"/>
            <a:ext cx="5638680" cy="1981080"/>
            <a:chOff x="1143000" y="2057400"/>
            <a:chExt cx="5638680" cy="1981080"/>
          </a:xfrm>
        </p:grpSpPr>
        <p:sp>
          <p:nvSpPr>
            <p:cNvPr id="484" name=""/>
            <p:cNvSpPr/>
            <p:nvPr/>
          </p:nvSpPr>
          <p:spPr>
            <a:xfrm>
              <a:off x="1143000" y="2057400"/>
              <a:ext cx="5638680" cy="19810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7760" y="262080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1912680" y="2895480"/>
              <a:ext cx="326520" cy="32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1904760" y="2895480"/>
              <a:ext cx="791640" cy="360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3069360" y="262080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2705040" y="2895480"/>
              <a:ext cx="326520" cy="32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2696760" y="2895480"/>
              <a:ext cx="792000" cy="36000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arg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3861720" y="262080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497040" y="2895480"/>
              <a:ext cx="326520" cy="32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3489120" y="2895480"/>
              <a:ext cx="791640" cy="36000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ar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653720" y="262080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4289040" y="2895480"/>
              <a:ext cx="326880" cy="32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281120" y="2895480"/>
              <a:ext cx="792000" cy="36000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Lis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5446080" y="262080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5081400" y="2895480"/>
              <a:ext cx="326520" cy="32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5073480" y="2895480"/>
              <a:ext cx="791640" cy="36000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Maggi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6238080" y="262080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5873400" y="2895480"/>
              <a:ext cx="326880" cy="32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5865480" y="2895480"/>
              <a:ext cx="792000" cy="360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1904760" y="3504960"/>
              <a:ext cx="791640" cy="36000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1218960" y="3504960"/>
              <a:ext cx="6220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fro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3504960" y="3504960"/>
              <a:ext cx="791640" cy="36000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2819160" y="3504960"/>
              <a:ext cx="6220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rea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1218960" y="2895480"/>
              <a:ext cx="6220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elem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5456160" y="3504960"/>
              <a:ext cx="791640" cy="36000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4617720" y="3504960"/>
              <a:ext cx="774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leng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1217520" y="2133360"/>
              <a:ext cx="54842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fter removing the front element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1" name=""/>
          <p:cNvGrpSpPr/>
          <p:nvPr/>
        </p:nvGrpSpPr>
        <p:grpSpPr>
          <a:xfrm>
            <a:off x="1143000" y="2057400"/>
            <a:ext cx="5638680" cy="1981080"/>
            <a:chOff x="1143000" y="2057400"/>
            <a:chExt cx="5638680" cy="1981080"/>
          </a:xfrm>
        </p:grpSpPr>
        <p:sp>
          <p:nvSpPr>
            <p:cNvPr id="512" name=""/>
            <p:cNvSpPr/>
            <p:nvPr/>
          </p:nvSpPr>
          <p:spPr>
            <a:xfrm>
              <a:off x="1143000" y="2057400"/>
              <a:ext cx="5638680" cy="19810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2237760" y="262080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1912680" y="2895480"/>
              <a:ext cx="32652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1904760" y="2895480"/>
              <a:ext cx="791640" cy="36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3069360" y="262080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2705040" y="2895480"/>
              <a:ext cx="32652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2696760" y="2895480"/>
              <a:ext cx="792000" cy="36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3861720" y="262080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497040" y="2895480"/>
              <a:ext cx="32652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3489120" y="2895480"/>
              <a:ext cx="791640" cy="36036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ar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4653720" y="262080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4289040" y="2895480"/>
              <a:ext cx="32688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4281120" y="2895480"/>
              <a:ext cx="792000" cy="36036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Lis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5446080" y="262080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081400" y="2895480"/>
              <a:ext cx="32652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5073480" y="2895480"/>
              <a:ext cx="791640" cy="36036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Maggi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238080" y="262080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873400" y="2895480"/>
              <a:ext cx="32688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5865480" y="2895480"/>
              <a:ext cx="792000" cy="36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904760" y="3505320"/>
              <a:ext cx="791640" cy="36036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1218960" y="3505320"/>
              <a:ext cx="6220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fro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3504960" y="3505320"/>
              <a:ext cx="791640" cy="36036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2819160" y="3505320"/>
              <a:ext cx="6220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rea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1218960" y="2895480"/>
              <a:ext cx="6220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elem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5456160" y="3505320"/>
              <a:ext cx="791640" cy="36036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617720" y="3505320"/>
              <a:ext cx="774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leng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1217520" y="2133720"/>
              <a:ext cx="54842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fter removing the front element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9" name=""/>
          <p:cNvGrpSpPr/>
          <p:nvPr/>
        </p:nvGrpSpPr>
        <p:grpSpPr>
          <a:xfrm>
            <a:off x="1143000" y="2057400"/>
            <a:ext cx="5638680" cy="1981080"/>
            <a:chOff x="1143000" y="2057400"/>
            <a:chExt cx="5638680" cy="1981080"/>
          </a:xfrm>
        </p:grpSpPr>
        <p:sp>
          <p:nvSpPr>
            <p:cNvPr id="540" name=""/>
            <p:cNvSpPr/>
            <p:nvPr/>
          </p:nvSpPr>
          <p:spPr>
            <a:xfrm>
              <a:off x="1143000" y="2057400"/>
              <a:ext cx="5638680" cy="19810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237760" y="262080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1912680" y="2895480"/>
              <a:ext cx="32652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1904760" y="2895480"/>
              <a:ext cx="791640" cy="36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3069360" y="262080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705040" y="2895480"/>
              <a:ext cx="32652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96760" y="2895480"/>
              <a:ext cx="792000" cy="36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861720" y="262080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497040" y="2895480"/>
              <a:ext cx="32652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489120" y="2895480"/>
              <a:ext cx="791640" cy="36036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ar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53720" y="262080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4289040" y="2895480"/>
              <a:ext cx="32688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281120" y="2895480"/>
              <a:ext cx="792000" cy="36036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Lis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446080" y="262080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5081400" y="2895480"/>
              <a:ext cx="32652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5073480" y="2895480"/>
              <a:ext cx="791640" cy="36036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Maggi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238080" y="262080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5873400" y="2895480"/>
              <a:ext cx="32688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865480" y="2895480"/>
              <a:ext cx="792000" cy="36036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Ralp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1904760" y="3504960"/>
              <a:ext cx="791640" cy="36036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1218960" y="3504960"/>
              <a:ext cx="6220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fro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3504960" y="3504960"/>
              <a:ext cx="791640" cy="36036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2819160" y="3504960"/>
              <a:ext cx="6220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rea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218960" y="2895480"/>
              <a:ext cx="6220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elem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456160" y="3504960"/>
              <a:ext cx="791640" cy="36036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4617720" y="3504960"/>
              <a:ext cx="774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leng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217520" y="2133360"/>
              <a:ext cx="54842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fter adding Ralph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7" name=""/>
          <p:cNvGrpSpPr/>
          <p:nvPr/>
        </p:nvGrpSpPr>
        <p:grpSpPr>
          <a:xfrm>
            <a:off x="1143000" y="2057400"/>
            <a:ext cx="5638680" cy="1981080"/>
            <a:chOff x="1143000" y="2057400"/>
            <a:chExt cx="5638680" cy="1981080"/>
          </a:xfrm>
        </p:grpSpPr>
        <p:sp>
          <p:nvSpPr>
            <p:cNvPr id="568" name=""/>
            <p:cNvSpPr/>
            <p:nvPr/>
          </p:nvSpPr>
          <p:spPr>
            <a:xfrm>
              <a:off x="1143000" y="2057400"/>
              <a:ext cx="5638680" cy="19810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2237760" y="262080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1912680" y="2895480"/>
              <a:ext cx="326520" cy="32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1904760" y="2895480"/>
              <a:ext cx="791640" cy="36000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ls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069360" y="262080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2705040" y="2895480"/>
              <a:ext cx="326520" cy="32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696760" y="2895480"/>
              <a:ext cx="792000" cy="360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3861720" y="262080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3497040" y="2895480"/>
              <a:ext cx="326520" cy="32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3489120" y="2895480"/>
              <a:ext cx="791640" cy="36000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ar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4653720" y="262080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4289040" y="2895480"/>
              <a:ext cx="326880" cy="32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281120" y="2895480"/>
              <a:ext cx="792000" cy="36000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Lis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5446080" y="262080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081400" y="2895480"/>
              <a:ext cx="326520" cy="32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073480" y="2895480"/>
              <a:ext cx="791640" cy="36000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Maggi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6238080" y="262080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5873400" y="2895480"/>
              <a:ext cx="326880" cy="32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5865480" y="2895480"/>
              <a:ext cx="792000" cy="36000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Ralp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4760" y="3504960"/>
              <a:ext cx="791640" cy="36000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1218960" y="3504960"/>
              <a:ext cx="6220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fro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3504960" y="3504960"/>
              <a:ext cx="791640" cy="36000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2819160" y="3504960"/>
              <a:ext cx="6220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rea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1218960" y="2895480"/>
              <a:ext cx="6220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elem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5456160" y="3504960"/>
              <a:ext cx="791640" cy="36000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617720" y="3504960"/>
              <a:ext cx="774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leng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1217520" y="2133360"/>
              <a:ext cx="54842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fter adding Nelson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5" name=""/>
          <p:cNvGrpSpPr/>
          <p:nvPr/>
        </p:nvGrpSpPr>
        <p:grpSpPr>
          <a:xfrm>
            <a:off x="1143000" y="2057400"/>
            <a:ext cx="5638680" cy="1981080"/>
            <a:chOff x="1143000" y="2057400"/>
            <a:chExt cx="5638680" cy="1981080"/>
          </a:xfrm>
        </p:grpSpPr>
        <p:sp>
          <p:nvSpPr>
            <p:cNvPr id="596" name=""/>
            <p:cNvSpPr/>
            <p:nvPr/>
          </p:nvSpPr>
          <p:spPr>
            <a:xfrm>
              <a:off x="1143000" y="2057400"/>
              <a:ext cx="5638680" cy="19810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2237760" y="262080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1912680" y="2895480"/>
              <a:ext cx="32652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1904760" y="2895480"/>
              <a:ext cx="791640" cy="36036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ls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3069360" y="262080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2705040" y="2895480"/>
              <a:ext cx="32652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2696760" y="2895480"/>
              <a:ext cx="792000" cy="36036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arti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3861720" y="262080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3497040" y="2895480"/>
              <a:ext cx="32652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3489120" y="2895480"/>
              <a:ext cx="791640" cy="36036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ar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4653720" y="262080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4289040" y="2895480"/>
              <a:ext cx="32688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4281120" y="2895480"/>
              <a:ext cx="792000" cy="36036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Lis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5446080" y="262080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5081400" y="2895480"/>
              <a:ext cx="32652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073480" y="2895480"/>
              <a:ext cx="791640" cy="36036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Maggi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6238080" y="262080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5873400" y="2895480"/>
              <a:ext cx="32688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865480" y="2895480"/>
              <a:ext cx="792000" cy="36036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Ralp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904760" y="3505320"/>
              <a:ext cx="791640" cy="36036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1218960" y="3505320"/>
              <a:ext cx="6220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fro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3504960" y="3505320"/>
              <a:ext cx="791640" cy="36036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2819160" y="3505320"/>
              <a:ext cx="6220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rea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1218960" y="2895480"/>
              <a:ext cx="6220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elem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456160" y="3505320"/>
              <a:ext cx="791640" cy="36036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4617720" y="3505320"/>
              <a:ext cx="774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leng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217520" y="2133720"/>
              <a:ext cx="54842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fter adding Martin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3" name=""/>
          <p:cNvGrpSpPr/>
          <p:nvPr/>
        </p:nvGrpSpPr>
        <p:grpSpPr>
          <a:xfrm>
            <a:off x="1143000" y="2057400"/>
            <a:ext cx="5638680" cy="1981080"/>
            <a:chOff x="1143000" y="2057400"/>
            <a:chExt cx="5638680" cy="1981080"/>
          </a:xfrm>
        </p:grpSpPr>
        <p:sp>
          <p:nvSpPr>
            <p:cNvPr id="624" name=""/>
            <p:cNvSpPr/>
            <p:nvPr/>
          </p:nvSpPr>
          <p:spPr>
            <a:xfrm>
              <a:off x="1143000" y="2057400"/>
              <a:ext cx="5638680" cy="19810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2237760" y="262080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1912680" y="2895480"/>
              <a:ext cx="32652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1904760" y="2895480"/>
              <a:ext cx="791640" cy="36036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ls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3069360" y="262080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2705040" y="2895480"/>
              <a:ext cx="32652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2696760" y="2895480"/>
              <a:ext cx="792000" cy="36036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arti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3861720" y="262080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497040" y="2895480"/>
              <a:ext cx="32652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3489120" y="2895480"/>
              <a:ext cx="791640" cy="36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4653720" y="262080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4289040" y="2895480"/>
              <a:ext cx="32688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4281120" y="2895480"/>
              <a:ext cx="792000" cy="36036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Lis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5446080" y="262080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5081400" y="2895480"/>
              <a:ext cx="32652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5073480" y="2895480"/>
              <a:ext cx="791640" cy="36036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Maggi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6238080" y="262080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5873400" y="2895480"/>
              <a:ext cx="32688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5865480" y="2895480"/>
              <a:ext cx="792000" cy="36036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Ralp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904760" y="3504960"/>
              <a:ext cx="791640" cy="36036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1218960" y="3504960"/>
              <a:ext cx="6220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fro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3504960" y="3504960"/>
              <a:ext cx="791640" cy="36036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2819160" y="3504960"/>
              <a:ext cx="6220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rea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218960" y="2895480"/>
              <a:ext cx="6220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elem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456160" y="3504960"/>
              <a:ext cx="791640" cy="36036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4617720" y="3504960"/>
              <a:ext cx="774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leng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217520" y="2133360"/>
              <a:ext cx="54842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fter removing the front element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1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7BCD50-9D31-4E89-BF87-CE18E9C22329}" type="slidenum">
              <a:t>15</a:t>
            </a:fld>
          </a:p>
        </p:txBody>
      </p:sp>
    </p:spTree>
  </p:cSld>
  <p:transition>
    <p:cover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Times New Roman"/>
              </a:rPr>
              <a:t>Implementation using cyclic arrays </a:t>
            </a:r>
            <a:r>
              <a:rPr b="1" i="1" lang="en-US" sz="3600" spc="-1" strike="noStrike">
                <a:solidFill>
                  <a:srgbClr val="339966"/>
                </a:solidFill>
                <a:latin typeface="Times New Roman"/>
              </a:rPr>
              <a:t>(3)</a:t>
            </a: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va implement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las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rrayQueu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mplement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Queue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vat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bject[] elems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vat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front, rear, length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/////////////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tructo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//////////////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rrayQueue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maxLength) {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lems 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ew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bject[maxLength]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ront = rear = length = 0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6A5A3A-DE6E-4EED-B9FC-F084BEB8AAA8}" type="slidenum">
              <a:t>16</a:t>
            </a:fld>
          </a:p>
        </p:txBody>
      </p:sp>
    </p:spTree>
  </p:cSld>
  <p:transition>
    <p:cover dir="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Times New Roman"/>
              </a:rPr>
              <a:t>Implementation using cyclic arrays </a:t>
            </a:r>
            <a:r>
              <a:rPr b="1" i="1" lang="en-US" sz="3600" spc="-1" strike="noStrike">
                <a:solidFill>
                  <a:srgbClr val="339966"/>
                </a:solidFill>
                <a:latin typeface="Times New Roman"/>
              </a:rPr>
              <a:t>(4)</a:t>
            </a: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va implementa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ontinued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/////////////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or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//////////////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oolean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sEmpty () {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length == 0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ize () {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ngth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bject getFirst () {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length == 0)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row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elems[front]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B6BCF5-1CD2-4D1E-96B2-EA7731BDAE50}" type="slidenum">
              <a:t>17</a:t>
            </a:fld>
          </a:p>
        </p:txBody>
      </p:sp>
    </p:spTree>
  </p:cSld>
  <p:transition>
    <p:cover dir="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Times New Roman"/>
              </a:rPr>
              <a:t>Implementation using cyclic arrays </a:t>
            </a:r>
            <a:r>
              <a:rPr b="1" i="1" lang="en-US" sz="3600" spc="-1" strike="noStrike">
                <a:solidFill>
                  <a:srgbClr val="339966"/>
                </a:solidFill>
                <a:latin typeface="Times New Roman"/>
              </a:rPr>
              <a:t>(5)</a:t>
            </a: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va implementa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ontinued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/////////////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former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//////////////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oi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clear () {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o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 = 0; i &lt; elems.length; i++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lems[i] 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ull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ront = rear = length = 0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oi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ddLast (Object elem) {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length == elems.length)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row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lems[rear++] = elem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rear == elems.length)  rear = 0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ength++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AEAF52-7D1E-4EB5-8061-145F1C4C0CF0}" type="slidenum">
              <a:t>18</a:t>
            </a:fld>
          </a:p>
        </p:txBody>
      </p:sp>
    </p:spTree>
  </p:cSld>
  <p:transition>
    <p:cover dir="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Times New Roman"/>
              </a:rPr>
              <a:t>Implementation using cyclic arrays </a:t>
            </a:r>
            <a:r>
              <a:rPr b="1" i="1" lang="en-US" sz="3600" spc="-1" strike="noStrike">
                <a:solidFill>
                  <a:srgbClr val="339966"/>
                </a:solidFill>
                <a:latin typeface="Times New Roman"/>
              </a:rPr>
              <a:t>(6)</a:t>
            </a: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va implementa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ontinued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bject removeFirst () {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length == 0)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row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bject frontElem = elems[front]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lems[front++] 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ull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;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front == elems.length)  front = 0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frontElem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alys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901"/>
              </a:spcBef>
              <a:buClr>
                <a:srgbClr val="339966"/>
              </a:buClr>
              <a:buFont typeface="Wingdings" charset="2"/>
              <a:buChar char=""/>
              <a:tabLst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st operations have time complexit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901"/>
              </a:spcBef>
              <a:buClr>
                <a:srgbClr val="339966"/>
              </a:buClr>
              <a:buFont typeface="Wingdings" charset="2"/>
              <a:buChar char=""/>
              <a:tabLst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ratio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lea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as time complexit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xle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E57363-AA70-4A6E-A915-856E7969E7BB}" type="slidenum">
              <a:t>19</a:t>
            </a:fld>
          </a:p>
        </p:txBody>
      </p:sp>
    </p:spTree>
  </p:cSld>
  <p:transition>
    <p:cover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Times New Roman"/>
              </a:rPr>
              <a:t>Queue concepts </a:t>
            </a:r>
            <a:r>
              <a:rPr b="1" i="1" lang="en-US" sz="3600" spc="-1" strike="noStrike">
                <a:solidFill>
                  <a:srgbClr val="339966"/>
                </a:solidFill>
                <a:latin typeface="Times New Roman"/>
              </a:rPr>
              <a:t>(1)</a:t>
            </a: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eu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a first-in-first-out sequence of elements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ements can added only at one end (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the queue) and removed only at the other end (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o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the queu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eng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a queue is the number of elements it contai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queue has length zer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8F385A-D15D-43FF-9B51-7D6B3DD5F279}" type="slidenum">
              <a:t>2</a:t>
            </a:fld>
          </a:p>
        </p:txBody>
      </p:sp>
    </p:spTree>
  </p:cSld>
  <p:transition>
    <p:cover dir="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Times New Roman"/>
              </a:rPr>
              <a:t>Implementation of queues using SLLs </a:t>
            </a:r>
            <a:r>
              <a:rPr b="1" i="1" lang="en-US" sz="3600" spc="-1" strike="noStrike">
                <a:solidFill>
                  <a:srgbClr val="339966"/>
                </a:solidFill>
                <a:latin typeface="Times New Roman"/>
              </a:rPr>
              <a:t>(1)</a:t>
            </a: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resent an (unbounded) queue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3399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 SLL, whose first node contains the front element, and whose header contains links to the first node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o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and last node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3399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variabl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ngt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optional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6" name=""/>
          <p:cNvGrpSpPr/>
          <p:nvPr/>
        </p:nvGrpSpPr>
        <p:grpSpPr>
          <a:xfrm>
            <a:off x="609480" y="3352680"/>
            <a:ext cx="7620120" cy="610200"/>
            <a:chOff x="609480" y="3352680"/>
            <a:chExt cx="7620120" cy="610200"/>
          </a:xfrm>
        </p:grpSpPr>
        <p:sp>
          <p:nvSpPr>
            <p:cNvPr id="667" name=""/>
            <p:cNvSpPr/>
            <p:nvPr/>
          </p:nvSpPr>
          <p:spPr>
            <a:xfrm>
              <a:off x="609480" y="3504960"/>
              <a:ext cx="13352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Invariant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666880" y="3367080"/>
              <a:ext cx="304920" cy="30456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3657600" y="3367080"/>
              <a:ext cx="914400" cy="2746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l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257800" y="3367080"/>
              <a:ext cx="914400" cy="2746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l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315200" y="3367080"/>
              <a:ext cx="914400" cy="2746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l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2819520" y="3519360"/>
              <a:ext cx="838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6019920" y="3504960"/>
              <a:ext cx="457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4419720" y="3504960"/>
              <a:ext cx="838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8077320" y="351936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858000" y="3504960"/>
              <a:ext cx="457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6477120" y="3504960"/>
              <a:ext cx="38088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2666880" y="3657600"/>
              <a:ext cx="304920" cy="30456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2819520" y="3581280"/>
              <a:ext cx="4495680" cy="228600"/>
            </a:xfrm>
            <a:custGeom>
              <a:avLst/>
              <a:gdLst/>
              <a:ahLst/>
              <a:rect l="l" t="t" r="r" b="b"/>
              <a:pathLst>
                <a:path w="2832" h="144">
                  <a:moveTo>
                    <a:pt x="0" y="144"/>
                  </a:moveTo>
                  <a:lnTo>
                    <a:pt x="0" y="144"/>
                  </a:lnTo>
                  <a:lnTo>
                    <a:pt x="2448" y="144"/>
                  </a:lnTo>
                  <a:lnTo>
                    <a:pt x="2832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1981080" y="3352680"/>
              <a:ext cx="6098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Times New Roman"/>
                </a:rPr>
                <a:t>fro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1981080" y="3657600"/>
              <a:ext cx="6098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Times New Roman"/>
                </a:rPr>
                <a:t>rea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2" name=""/>
          <p:cNvGrpSpPr/>
          <p:nvPr/>
        </p:nvGrpSpPr>
        <p:grpSpPr>
          <a:xfrm>
            <a:off x="609480" y="4267080"/>
            <a:ext cx="2362320" cy="610200"/>
            <a:chOff x="609480" y="4267080"/>
            <a:chExt cx="2362320" cy="610200"/>
          </a:xfrm>
        </p:grpSpPr>
        <p:sp>
          <p:nvSpPr>
            <p:cNvPr id="683" name=""/>
            <p:cNvSpPr/>
            <p:nvPr/>
          </p:nvSpPr>
          <p:spPr>
            <a:xfrm>
              <a:off x="609480" y="4267080"/>
              <a:ext cx="1335240" cy="61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Empty queue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2666880" y="4302000"/>
              <a:ext cx="304920" cy="30456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819520" y="445428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666880" y="4571640"/>
              <a:ext cx="304920" cy="3049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819520" y="472428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1981080" y="4267080"/>
              <a:ext cx="6098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Times New Roman"/>
                </a:rPr>
                <a:t>fro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1981080" y="4571640"/>
              <a:ext cx="6098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Times New Roman"/>
                </a:rPr>
                <a:t>rea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0" name=""/>
          <p:cNvGrpSpPr/>
          <p:nvPr/>
        </p:nvGrpSpPr>
        <p:grpSpPr>
          <a:xfrm>
            <a:off x="609480" y="5257800"/>
            <a:ext cx="8153640" cy="619560"/>
            <a:chOff x="609480" y="5257800"/>
            <a:chExt cx="8153640" cy="619560"/>
          </a:xfrm>
        </p:grpSpPr>
        <p:sp>
          <p:nvSpPr>
            <p:cNvPr id="691" name=""/>
            <p:cNvSpPr/>
            <p:nvPr/>
          </p:nvSpPr>
          <p:spPr>
            <a:xfrm>
              <a:off x="609480" y="5419800"/>
              <a:ext cx="13716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Illustration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2666880" y="5267160"/>
              <a:ext cx="304920" cy="3049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819520" y="5419800"/>
              <a:ext cx="838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1981080" y="5267160"/>
              <a:ext cx="6098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Times New Roman"/>
                </a:rPr>
                <a:t>fro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1981080" y="5572080"/>
              <a:ext cx="6098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Times New Roman"/>
                </a:rPr>
                <a:t>rea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657600" y="5257800"/>
              <a:ext cx="99072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Hom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4495680" y="5419800"/>
              <a:ext cx="5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5029200" y="5267160"/>
              <a:ext cx="99072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Marg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5867280" y="5429160"/>
              <a:ext cx="5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6400800" y="5276880"/>
              <a:ext cx="99072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Bar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7238880" y="5438880"/>
              <a:ext cx="5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7772400" y="5286240"/>
              <a:ext cx="99072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Lis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8610480" y="541980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2666880" y="5572080"/>
              <a:ext cx="304920" cy="3049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819520" y="5495760"/>
              <a:ext cx="4952880" cy="228600"/>
            </a:xfrm>
            <a:custGeom>
              <a:avLst/>
              <a:gdLst/>
              <a:ahLst/>
              <a:rect l="l" t="t" r="r" b="b"/>
              <a:pathLst>
                <a:path w="3120" h="144">
                  <a:moveTo>
                    <a:pt x="0" y="144"/>
                  </a:moveTo>
                  <a:lnTo>
                    <a:pt x="2880" y="144"/>
                  </a:lnTo>
                  <a:lnTo>
                    <a:pt x="312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6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DCFBD1-FC08-4BBE-A9D4-412568881D3E}" type="slidenum">
              <a:t>20</a:t>
            </a:fld>
          </a:p>
        </p:txBody>
      </p:sp>
    </p:spTree>
  </p:cSld>
  <p:transition>
    <p:cover dir="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Times New Roman"/>
              </a:rPr>
              <a:t>Implementation using SLLs </a:t>
            </a:r>
            <a:r>
              <a:rPr b="1" i="1" lang="en-US" sz="3600" spc="-1" strike="noStrike">
                <a:solidFill>
                  <a:srgbClr val="339966"/>
                </a:solidFill>
                <a:latin typeface="Times New Roman"/>
              </a:rPr>
              <a:t>(2)</a:t>
            </a: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va implement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las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inkedQueu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mplement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Queue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vat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LLNode front, rear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/////////////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tructo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//////////////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inkedQueue () {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ront = rear 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ull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/////////////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or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//////////////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oolean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sEmpty () {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front =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ull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6E8897-64B1-4EA7-A9B5-67FCC0F9695B}" type="slidenum">
              <a:t>21</a:t>
            </a:fld>
          </a:p>
        </p:txBody>
      </p:sp>
    </p:spTree>
  </p:cSld>
  <p:transition>
    <p:cover dir="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Times New Roman"/>
              </a:rPr>
              <a:t>Implementation using SLLs </a:t>
            </a:r>
            <a:r>
              <a:rPr b="1" i="1" lang="en-US" sz="3600" spc="-1" strike="noStrike">
                <a:solidFill>
                  <a:srgbClr val="339966"/>
                </a:solidFill>
                <a:latin typeface="Times New Roman"/>
              </a:rPr>
              <a:t>(3)</a:t>
            </a: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va implementa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ontinued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ize () {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ngth = 0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o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SLLNode curr = front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urr !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ull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; curr = curr.succ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ength++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ngth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bject getFirst () {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front =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ull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row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front.element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D0EB3D-470F-4E14-B46D-0C227B96564C}" type="slidenum">
              <a:t>22</a:t>
            </a:fld>
          </a:p>
        </p:txBody>
      </p:sp>
    </p:spTree>
  </p:cSld>
  <p:transition>
    <p:cover dir="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Times New Roman"/>
              </a:rPr>
              <a:t>Implementation using SLLs </a:t>
            </a:r>
            <a:r>
              <a:rPr b="1" i="1" lang="en-US" sz="3600" spc="-1" strike="noStrike">
                <a:solidFill>
                  <a:srgbClr val="339966"/>
                </a:solidFill>
                <a:latin typeface="Times New Roman"/>
              </a:rPr>
              <a:t>(4)</a:t>
            </a: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va implementa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ontinued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/////////////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former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//////////////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oi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clear () {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ront = rear 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ull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oi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ddLast (Object elem) {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LLNode newest 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ew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LLNode(elem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ull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rear !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ull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 rear.succ = newest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ls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front = newest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ar = newest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0A339F-C941-4D82-B0DA-21624ADF192E}" type="slidenum">
              <a:t>23</a:t>
            </a:fld>
          </a:p>
        </p:txBody>
      </p:sp>
    </p:spTree>
  </p:cSld>
  <p:transition>
    <p:cover dir="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Times New Roman"/>
              </a:rPr>
              <a:t>Implementation using SLLs </a:t>
            </a:r>
            <a:r>
              <a:rPr b="1" i="1" lang="en-US" sz="3600" spc="-1" strike="noStrike">
                <a:solidFill>
                  <a:srgbClr val="339966"/>
                </a:solidFill>
                <a:latin typeface="Times New Roman"/>
              </a:rPr>
              <a:t>(5)</a:t>
            </a: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va implementa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ontinued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bject removeFirst () {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front =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ull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row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bject frontElem = front.element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ront = front.succ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front =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ull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 rear 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ull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frontElem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alys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901"/>
              </a:spcBef>
              <a:buClr>
                <a:srgbClr val="339966"/>
              </a:buClr>
              <a:buFont typeface="Wingdings" charset="2"/>
              <a:buChar char=""/>
              <a:tabLst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st operations have time complexit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), but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iz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901"/>
              </a:spcBef>
              <a:buClr>
                <a:srgbClr val="339966"/>
              </a:buClr>
              <a:buFont typeface="Wingdings" charset="2"/>
              <a:buChar char=""/>
              <a:tabLst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ever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iz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o would b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) if we used a variabl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ngt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1800"/>
              </a:spcBef>
              <a:buNone/>
              <a:tabLst>
                <a:tab algn="l" pos="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A99B2E-B08E-4666-B641-3A6BD0EC6B29}" type="slidenum">
              <a:t>24</a:t>
            </a:fld>
          </a:p>
        </p:txBody>
      </p:sp>
    </p:spTree>
  </p:cSld>
  <p:transition>
    <p:cover dir="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Times New Roman"/>
              </a:rPr>
              <a:t>Queues in the Java class library</a:t>
            </a: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76212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va provides n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Queu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terface or class as su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76212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ever,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java.util.LinkedLi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lass provides all the abov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Queu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per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76212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llustr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76212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mpor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java.util.LinkedLis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76212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kedList queue 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ew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inkedList(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queue.addLast("Homer"); queue.addLast("Marge"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queue.addLast("Bart");  queue.addLast("Lisa"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queue.addLast("Maggie"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ystem.out.println(queue.removeFirst(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76212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6ADBD2-A2B1-4393-8F12-417BDD2BFDD4}" type="slidenum">
              <a:t>25</a:t>
            </a:fld>
          </a:p>
        </p:txBody>
      </p:sp>
    </p:spTree>
  </p:cSld>
  <p:transition>
    <p:cover dir="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Times New Roman"/>
              </a:rPr>
              <a:t>Example: demerging again </a:t>
            </a:r>
            <a:r>
              <a:rPr b="1" i="1" lang="en-US" sz="3600" spc="-1" strike="noStrike">
                <a:solidFill>
                  <a:srgbClr val="339966"/>
                </a:solidFill>
                <a:latin typeface="Times New Roman"/>
              </a:rPr>
              <a:t>(1)</a:t>
            </a: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ation of the demerging algorith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ic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oi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reSortPersons (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ufferedReader input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ufferedWriter output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row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OException {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kedList femaleQueue =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  <a:ea typeface="Times New Roman"/>
              </a:rPr>
              <a:t>new</a:t>
            </a:r>
            <a:r>
              <a:rPr b="0" lang="en-US" sz="2000" spc="-1" strike="noStrike">
                <a:solidFill>
                  <a:srgbClr val="3333cc"/>
                </a:solidFill>
                <a:latin typeface="Courier New"/>
                <a:ea typeface="Times New Roman"/>
              </a:rPr>
              <a:t> LinkedList(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kedList maleQueue =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  <a:ea typeface="Times New Roman"/>
              </a:rPr>
              <a:t>new</a:t>
            </a:r>
            <a:r>
              <a:rPr b="0" lang="en-US" sz="2000" spc="-1" strike="noStrike">
                <a:solidFill>
                  <a:srgbClr val="3333cc"/>
                </a:solidFill>
                <a:latin typeface="Courier New"/>
                <a:ea typeface="Times New Roman"/>
              </a:rPr>
              <a:t> LinkedList(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o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;;) {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p = readPerson(input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p =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ull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reak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;  //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d of inpu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p.female)  </a:t>
            </a:r>
            <a:r>
              <a:rPr b="0" lang="en-US" sz="2000" spc="-1" strike="noStrike">
                <a:solidFill>
                  <a:srgbClr val="3333cc"/>
                </a:solidFill>
                <a:latin typeface="Courier New"/>
                <a:ea typeface="Times New Roman"/>
              </a:rPr>
              <a:t>femaleQueue.addLast(p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ls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3333cc"/>
                </a:solidFill>
                <a:latin typeface="Courier New"/>
                <a:ea typeface="Times New Roman"/>
              </a:rPr>
              <a:t>maleQueue.addLast(p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827749-0FCD-4F5B-8EDE-B86CE202B923}" type="slidenum">
              <a:t>26</a:t>
            </a:fld>
          </a:p>
        </p:txBody>
      </p:sp>
    </p:spTree>
  </p:cSld>
  <p:transition>
    <p:cover dir="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Times New Roman"/>
              </a:rPr>
              <a:t>Example: demerging again </a:t>
            </a:r>
            <a:r>
              <a:rPr b="1" i="1" lang="en-US" sz="3600" spc="-1" strike="noStrike">
                <a:solidFill>
                  <a:srgbClr val="339966"/>
                </a:solidFill>
                <a:latin typeface="Times New Roman"/>
              </a:rPr>
              <a:t>(2)</a:t>
            </a: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a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ontinued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! </a:t>
            </a:r>
            <a:r>
              <a:rPr b="0" lang="en-US" sz="2000" spc="-1" strike="noStrike">
                <a:solidFill>
                  <a:srgbClr val="3333cc"/>
                </a:solidFill>
                <a:latin typeface="Courier New"/>
                <a:ea typeface="Times New Roman"/>
              </a:rPr>
              <a:t>femaleQueue.isEmpty(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{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f =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Person)</a:t>
            </a:r>
            <a:r>
              <a:rPr b="0" lang="en-US" sz="2000" spc="-1" strike="noStrike">
                <a:solidFill>
                  <a:srgbClr val="3333cc"/>
                </a:solidFill>
                <a:latin typeface="Courier New"/>
                <a:ea typeface="Times New Roman"/>
              </a:rPr>
              <a:t>femaleQueue.removeFirst(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ritePerson(output, f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! </a:t>
            </a:r>
            <a:r>
              <a:rPr b="0" lang="en-US" sz="2000" spc="-1" strike="noStrike">
                <a:solidFill>
                  <a:srgbClr val="3333cc"/>
                </a:solidFill>
                <a:latin typeface="Courier New"/>
                <a:ea typeface="Times New Roman"/>
              </a:rPr>
              <a:t>maleQueue.isEmpty(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{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m =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Person)</a:t>
            </a:r>
            <a:r>
              <a:rPr b="0" lang="en-US" sz="2000" spc="-1" strike="noStrike">
                <a:solidFill>
                  <a:srgbClr val="3333cc"/>
                </a:solidFill>
                <a:latin typeface="Courier New"/>
                <a:ea typeface="Times New Roman"/>
              </a:rPr>
              <a:t>maleQueue.removeFirst(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ritePerson(output, m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D0E8B2-9F71-40DB-917A-5A095EC04937}" type="slidenum">
              <a:t>27</a:t>
            </a:fld>
          </a:p>
        </p:txBody>
      </p:sp>
    </p:spTree>
  </p:cSld>
  <p:transition>
    <p:cover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Times New Roman"/>
              </a:rPr>
              <a:t>Queue concepts </a:t>
            </a:r>
            <a:r>
              <a:rPr b="1" i="1" lang="en-US" sz="3600" spc="-1" strike="noStrike">
                <a:solidFill>
                  <a:srgbClr val="339966"/>
                </a:solidFill>
                <a:latin typeface="Times New Roman"/>
              </a:rPr>
              <a:t>(2)</a:t>
            </a: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llustration (queue of persons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762120" y="2057400"/>
            <a:ext cx="7696080" cy="4191120"/>
            <a:chOff x="762120" y="2057400"/>
            <a:chExt cx="7696080" cy="4191120"/>
          </a:xfrm>
        </p:grpSpPr>
        <p:sp>
          <p:nvSpPr>
            <p:cNvPr id="52" name=""/>
            <p:cNvSpPr/>
            <p:nvPr/>
          </p:nvSpPr>
          <p:spPr>
            <a:xfrm>
              <a:off x="762120" y="2057400"/>
              <a:ext cx="7696080" cy="4191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3" name="marge_shocked" descr=""/>
            <p:cNvPicPr/>
            <p:nvPr/>
          </p:nvPicPr>
          <p:blipFill>
            <a:blip r:embed="rId1"/>
            <a:stretch/>
          </p:blipFill>
          <p:spPr>
            <a:xfrm>
              <a:off x="4952880" y="2133720"/>
              <a:ext cx="1069920" cy="4076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homerpoint" descr=""/>
            <p:cNvPicPr/>
            <p:nvPr/>
          </p:nvPicPr>
          <p:blipFill>
            <a:blip r:embed="rId2"/>
            <a:stretch/>
          </p:blipFill>
          <p:spPr>
            <a:xfrm>
              <a:off x="6019920" y="2819520"/>
              <a:ext cx="1577880" cy="342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bartmad" descr=""/>
            <p:cNvPicPr/>
            <p:nvPr/>
          </p:nvPicPr>
          <p:blipFill>
            <a:blip r:embed="rId3"/>
            <a:stretch/>
          </p:blipFill>
          <p:spPr>
            <a:xfrm>
              <a:off x="3429000" y="3810240"/>
              <a:ext cx="1565280" cy="240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lisapurse" descr=""/>
            <p:cNvPicPr/>
            <p:nvPr/>
          </p:nvPicPr>
          <p:blipFill>
            <a:blip r:embed="rId4"/>
            <a:stretch/>
          </p:blipFill>
          <p:spPr>
            <a:xfrm>
              <a:off x="1797120" y="3962520"/>
              <a:ext cx="1650960" cy="224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" name="maggie2" descr=""/>
            <p:cNvPicPr/>
            <p:nvPr/>
          </p:nvPicPr>
          <p:blipFill>
            <a:blip r:embed="rId5"/>
            <a:stretch/>
          </p:blipFill>
          <p:spPr>
            <a:xfrm>
              <a:off x="838080" y="4724640"/>
              <a:ext cx="1035000" cy="146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7467480" y="2133720"/>
              <a:ext cx="990720" cy="731880"/>
            </a:xfrm>
            <a:prstGeom prst="rect">
              <a:avLst/>
            </a:prstGeom>
            <a:solidFill>
              <a:srgbClr val="ff99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BUS STO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6AE760-4D05-492E-81D9-9C4127571843}" type="slidenum">
              <a:t>3</a:t>
            </a:fld>
          </a:p>
        </p:txBody>
      </p:sp>
    </p:spTree>
  </p:cSld>
  <p:transition>
    <p:cover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Times New Roman"/>
              </a:rPr>
              <a:t>Queue applications</a:t>
            </a: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t 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3399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ntains a queue of print job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k dri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3399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ntains a queue of disk input/output reques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heduler (e.g., in an operating syste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3399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ntains a queue of processes awaiting a slice of machine tim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3DC15B-A897-4529-8140-997132AB0BC6}" type="slidenum">
              <a:t>4</a:t>
            </a:fld>
          </a:p>
        </p:txBody>
      </p:sp>
    </p:spTree>
  </p:cSld>
  <p:transition>
    <p:cover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Times New Roman"/>
              </a:rPr>
              <a:t>Example: demerging </a:t>
            </a:r>
            <a:r>
              <a:rPr b="1" i="1" lang="en-US" sz="3600" spc="-1" strike="noStrike">
                <a:solidFill>
                  <a:srgbClr val="339966"/>
                </a:solidFill>
                <a:latin typeface="Times New Roman"/>
              </a:rPr>
              <a:t>(1)</a:t>
            </a: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ider a file of person records, each of which contains a person’s name, gender, date-of-birth, etc. The records are sorted by date-of-birth. We are required to rearrange the records such that females precede males but they remain sorted by date-of-birth within each gender grou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d idea: use a sorting algorithm.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me complexity is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og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at be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idea: use a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erging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lgorithm.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me complexity is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9911ED-8832-4AD3-A36C-EDD5F3A3F4BE}" type="slidenum">
              <a:t>5</a:t>
            </a:fld>
          </a:p>
        </p:txBody>
      </p:sp>
    </p:spTree>
  </p:cSld>
  <p:transition>
    <p:cover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Times New Roman"/>
              </a:rPr>
              <a:t>Example: demerging </a:t>
            </a:r>
            <a:r>
              <a:rPr b="1" i="1" lang="en-US" sz="3600" spc="-1" strike="noStrike">
                <a:solidFill>
                  <a:srgbClr val="339966"/>
                </a:solidFill>
                <a:latin typeface="Times New Roman"/>
              </a:rPr>
              <a:t>(2)</a:t>
            </a: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76212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erging algorith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76212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rearrange a file of person records such that females precede males but their order is otherwise unchanged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76212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queu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mal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l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mpty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til the input file is empty, repeat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1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e the next person read in from the file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2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female, ad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the rear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mal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3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male, ad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the rear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l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ti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mal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empty, repeat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1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out the person removed from the front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mal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ti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l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empty, repeat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1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out the person removed from the front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l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rmin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9F8237-D9F9-4143-AA6A-DF4C060C43D8}" type="slidenum">
              <a:t>6</a:t>
            </a:fld>
          </a:p>
        </p:txBody>
      </p:sp>
    </p:spTree>
  </p:cSld>
  <p:transition>
    <p:cover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Times New Roman"/>
              </a:rPr>
              <a:t>Queue ADT: requirements</a:t>
            </a: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remen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380880">
              <a:spcBef>
                <a:spcPts val="901"/>
              </a:spcBef>
              <a:buClr>
                <a:srgbClr val="339966"/>
              </a:buClr>
              <a:buFont typeface="Times New Roman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must be possible to make a queue empt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380880">
              <a:spcBef>
                <a:spcPts val="901"/>
              </a:spcBef>
              <a:buClr>
                <a:srgbClr val="339966"/>
              </a:buClr>
              <a:buFont typeface="Times New Roman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must be possible to test whether a queue is empt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380880">
              <a:spcBef>
                <a:spcPts val="901"/>
              </a:spcBef>
              <a:buClr>
                <a:srgbClr val="339966"/>
              </a:buClr>
              <a:buFont typeface="Times New Roman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must be possible to obtain the length of a queu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380880">
              <a:spcBef>
                <a:spcPts val="901"/>
              </a:spcBef>
              <a:buClr>
                <a:srgbClr val="339966"/>
              </a:buClr>
              <a:buFont typeface="Times New Roman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must be possible to add an element at the rear of a queu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380880">
              <a:spcBef>
                <a:spcPts val="901"/>
              </a:spcBef>
              <a:buClr>
                <a:srgbClr val="339966"/>
              </a:buClr>
              <a:buFont typeface="Times New Roman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must be possible to remove the front element from a queu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380880">
              <a:spcBef>
                <a:spcPts val="901"/>
              </a:spcBef>
              <a:buClr>
                <a:srgbClr val="339966"/>
              </a:buClr>
              <a:buFont typeface="Times New Roman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must be possible to access the front element in a queue without removing i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BE8466-16A8-4B3C-A7B9-726FE08932BD}" type="slidenum">
              <a:t>7</a:t>
            </a:fld>
          </a:p>
        </p:txBody>
      </p:sp>
    </p:spTree>
  </p:cSld>
  <p:transition>
    <p:cover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Times New Roman"/>
              </a:rPr>
              <a:t>Queue ADT: contract </a:t>
            </a:r>
            <a:r>
              <a:rPr b="1" i="1" lang="en-US" sz="3600" spc="-1" strike="noStrike">
                <a:solidFill>
                  <a:srgbClr val="339966"/>
                </a:solidFill>
                <a:latin typeface="Times New Roman"/>
              </a:rPr>
              <a:t>(1)</a:t>
            </a: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762120"/>
                <a:tab algn="l" pos="114300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sible contract, expressed as a Java interfa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762120"/>
                <a:tab algn="l" pos="114300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erfac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Queue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762120"/>
                <a:tab algn="l" pos="114300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Que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bject is a queue whose elements are objec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762120"/>
                <a:tab algn="l" pos="114300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/////////////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or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//////////////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762120"/>
                <a:tab algn="l" pos="114300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oolean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sEmpty (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true if and only if this queue is empt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762120"/>
                <a:tab algn="l" pos="114300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ize (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this queue’s length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762120"/>
                <a:tab algn="l" pos="114300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bject getFirst (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the element at the front of this queu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F7EAD1-95D6-46E6-8951-BE77BACC927C}" type="slidenum">
              <a:t>8</a:t>
            </a:fld>
          </a:p>
        </p:txBody>
      </p:sp>
    </p:spTree>
  </p:cSld>
  <p:transition>
    <p:cover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Times New Roman"/>
              </a:rPr>
              <a:t>Queue ADT: contract </a:t>
            </a:r>
            <a:r>
              <a:rPr b="1" i="1" lang="en-US" sz="3600" spc="-1" strike="noStrike">
                <a:solidFill>
                  <a:srgbClr val="339966"/>
                </a:solidFill>
                <a:latin typeface="Times New Roman"/>
              </a:rPr>
              <a:t>(2)</a:t>
            </a: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762120"/>
                <a:tab algn="l" pos="114300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sible contrac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ontinued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762120"/>
                <a:tab algn="l" pos="114300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/////////////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former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//////////////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762120"/>
                <a:tab algn="l" pos="114300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oi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clear (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is queue empt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762120"/>
                <a:tab algn="l" pos="114300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oi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ddLast (Object elem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le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s the rear element of this queu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762120"/>
                <a:tab algn="l" pos="114300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bject removeFirst (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move and return the front element of this queu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762120"/>
                <a:tab algn="l" pos="114300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6CBE99-332C-4CCC-AE74-B8FD64104D33}" type="slidenum">
              <a:t>9</a:t>
            </a:fld>
          </a:p>
        </p:txBody>
      </p:sp>
    </p:spTree>
  </p:cSld>
  <p:transition>
    <p:cover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02T12:16:58Z</dcterms:created>
  <dc:creator>Watt</dc:creator>
  <dc:description/>
  <dc:language>en-US</dc:language>
  <cp:lastModifiedBy>David A Watt</cp:lastModifiedBy>
  <cp:lastPrinted>2000-10-24T16:09:57Z</cp:lastPrinted>
  <dcterms:modified xsi:type="dcterms:W3CDTF">2002-01-03T16:50:28Z</dcterms:modified>
  <cp:revision>223</cp:revision>
  <dc:subject/>
  <dc:title>Formalizing the Dynamic Semantics of Java</dc:title>
</cp:coreProperties>
</file>