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2A7D-73CF-41B5-AA71-3B7E57C14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11ED-0DA2-4F6B-B518-825AB66CE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AC0C-D8B9-4D43-9F93-53F118D0B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C3EF-6AD9-4BC7-83C8-5FC0A8BD1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5579-D66B-438A-9CDD-F5A9B9765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9051-A4EF-4F9D-A32D-B65F1E4A5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D283-A924-415F-8AF9-C54C79AC3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34C6-DB2F-4620-8998-B4AD4B498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8A3B-90D4-4302-9D04-EA9BB0920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D7A9-CF75-4384-B22F-9DC121A28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44B6-1530-4156-BCF0-999FB66FF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D1FE-7832-4141-9E28-C8A353D86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6-</a:t>
            </a:r>
            <a:fld id="{11B6288C-DB9C-479B-9A73-BCEAE7401B39}" type="slidenum"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6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tack ADT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ck ADT: requirements,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stacks: using arrays, linked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2207-C058-46CE-8BF0-F5B730EEABDE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is stack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top element of this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Las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nd return the element at the top of this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49EC-B3DD-421E-B323-36DDC46FEAF9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tacks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ck (dep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current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dep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taining the stacked eleme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66680" y="3714840"/>
            <a:ext cx="7467840" cy="628920"/>
            <a:chOff x="1066680" y="3714840"/>
            <a:chExt cx="7467840" cy="628920"/>
          </a:xfrm>
        </p:grpSpPr>
        <p:sp>
          <p:nvSpPr>
            <p:cNvPr id="161" name=""/>
            <p:cNvSpPr/>
            <p:nvPr/>
          </p:nvSpPr>
          <p:spPr>
            <a:xfrm>
              <a:off x="1066680" y="4038480"/>
              <a:ext cx="133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7600" y="395280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95480" y="395280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5480" y="3714840"/>
              <a:ext cx="7621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7600" y="3714840"/>
              <a:ext cx="7621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81480" y="3952800"/>
              <a:ext cx="76212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05520" y="371484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ep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3600" y="39528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43600" y="3714840"/>
              <a:ext cx="7621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ep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67480" y="3952800"/>
              <a:ext cx="76212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714840"/>
              <a:ext cx="1143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dep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5720" y="3952800"/>
              <a:ext cx="7617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34320" y="380988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19720" y="3952800"/>
              <a:ext cx="761760" cy="31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380988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66680" y="4552920"/>
            <a:ext cx="7467840" cy="932400"/>
            <a:chOff x="1066680" y="4552920"/>
            <a:chExt cx="7467840" cy="932400"/>
          </a:xfrm>
        </p:grpSpPr>
        <p:sp>
          <p:nvSpPr>
            <p:cNvPr id="177" name=""/>
            <p:cNvSpPr/>
            <p:nvPr/>
          </p:nvSpPr>
          <p:spPr>
            <a:xfrm>
              <a:off x="1066680" y="4875120"/>
              <a:ext cx="1335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tack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4791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5480" y="4791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455292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4791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4791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480" y="4791240"/>
              <a:ext cx="76212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79124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791240"/>
              <a:ext cx="76176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8320" y="46483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457200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ep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46483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44" y="0"/>
                  </a:moveTo>
                  <a:lnTo>
                    <a:pt x="0" y="336"/>
                  </a:lnTo>
                  <a:lnTo>
                    <a:pt x="96" y="336"/>
                  </a:lnTo>
                  <a:lnTo>
                    <a:pt x="240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4552920"/>
              <a:ext cx="1143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xdep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066680" y="5381640"/>
            <a:ext cx="6400800" cy="791280"/>
            <a:chOff x="1066680" y="5381640"/>
            <a:chExt cx="6400800" cy="791280"/>
          </a:xfrm>
        </p:grpSpPr>
        <p:sp>
          <p:nvSpPr>
            <p:cNvPr id="191" name=""/>
            <p:cNvSpPr/>
            <p:nvPr/>
          </p:nvSpPr>
          <p:spPr>
            <a:xfrm>
              <a:off x="1066680" y="5562720"/>
              <a:ext cx="175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xdep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6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5638680"/>
              <a:ext cx="7621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152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by Di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7600" y="5638680"/>
              <a:ext cx="7621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152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r &amp; Pe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5638680"/>
              <a:ext cx="76176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152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b Ro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563868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563868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563868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600" y="53816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5480" y="5391000"/>
              <a:ext cx="762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9720" y="5400720"/>
              <a:ext cx="761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05520" y="539100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ept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5381640"/>
              <a:ext cx="762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5720" y="5391000"/>
              <a:ext cx="7617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429000" y="3270240"/>
            <a:ext cx="4572000" cy="304920"/>
            <a:chOff x="3429000" y="3270240"/>
            <a:chExt cx="4572000" cy="304920"/>
          </a:xfrm>
        </p:grpSpPr>
        <p:sp>
          <p:nvSpPr>
            <p:cNvPr id="205" name=""/>
            <p:cNvSpPr/>
            <p:nvPr/>
          </p:nvSpPr>
          <p:spPr>
            <a:xfrm>
              <a:off x="3429000" y="3270240"/>
              <a:ext cx="1905120" cy="304920"/>
            </a:xfrm>
            <a:prstGeom prst="wedgeRectCallout">
              <a:avLst>
                <a:gd name="adj1" fmla="val 49000"/>
                <a:gd name="adj2" fmla="val 2000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topmos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3270240"/>
              <a:ext cx="1295280" cy="304920"/>
            </a:xfrm>
            <a:prstGeom prst="wedgeRectCallout">
              <a:avLst>
                <a:gd name="adj1" fmla="val -60296"/>
                <a:gd name="adj2" fmla="val 20833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unoccup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25C1-E349-4E44-B794-88683DFE4224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Stac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] elem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p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rayStack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Depth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[maxDep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7A38-D1B6-4FEF-B3FC-703162FDBF71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epth == 0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epth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lems[depth-1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6D30-CE79-4896-A848-9456F6FB7D59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dep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th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epth == elems.length)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depth++]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60EE-7A99-4B9A-A8BE-FBF0005AB9A8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array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epth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topElem = elems[--depth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s[depth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move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EBCD-7C3A-4BF1-BD26-CF39E170E8D7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tacks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n (unbounded) stack by an SLL, such that the first node contains the topmost e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19320" y="3138480"/>
            <a:ext cx="7315200" cy="325800"/>
            <a:chOff x="1219320" y="3138480"/>
            <a:chExt cx="7315200" cy="325800"/>
          </a:xfrm>
        </p:grpSpPr>
        <p:sp>
          <p:nvSpPr>
            <p:cNvPr id="223" name=""/>
            <p:cNvSpPr/>
            <p:nvPr/>
          </p:nvSpPr>
          <p:spPr>
            <a:xfrm>
              <a:off x="1219320" y="3159000"/>
              <a:ext cx="133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aria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31384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1384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31384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0120" y="3138480"/>
              <a:ext cx="914400" cy="274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32907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9720" y="32907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81680" y="32907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1880" y="3290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080" y="329076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32907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219320" y="3921120"/>
            <a:ext cx="1752480" cy="610200"/>
            <a:chOff x="1219320" y="3921120"/>
            <a:chExt cx="1752480" cy="610200"/>
          </a:xfrm>
        </p:grpSpPr>
        <p:sp>
          <p:nvSpPr>
            <p:cNvPr id="235" name=""/>
            <p:cNvSpPr/>
            <p:nvPr/>
          </p:nvSpPr>
          <p:spPr>
            <a:xfrm>
              <a:off x="1219320" y="3921120"/>
              <a:ext cx="1334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ty stack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39211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19520" y="4073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19320" y="4683240"/>
            <a:ext cx="6553080" cy="457560"/>
            <a:chOff x="1219320" y="4683240"/>
            <a:chExt cx="6553080" cy="457560"/>
          </a:xfrm>
        </p:grpSpPr>
        <p:sp>
          <p:nvSpPr>
            <p:cNvPr id="239" name=""/>
            <p:cNvSpPr/>
            <p:nvPr/>
          </p:nvSpPr>
          <p:spPr>
            <a:xfrm>
              <a:off x="1219320" y="4759560"/>
              <a:ext cx="13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4683240"/>
              <a:ext cx="914400" cy="45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b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4911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4683240"/>
              <a:ext cx="914400" cy="45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lnSpc>
                  <a:spcPts val="18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r &amp; Pe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920" y="4911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4683240"/>
              <a:ext cx="914400" cy="457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1520">
                <a:lnSpc>
                  <a:spcPts val="18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by Di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4911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6880" y="475956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4911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971800" y="2590920"/>
            <a:ext cx="1905120" cy="304560"/>
          </a:xfrm>
          <a:prstGeom prst="wedgeRectCallout">
            <a:avLst>
              <a:gd name="adj1" fmla="val 8999"/>
              <a:gd name="adj2" fmla="val 16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topmo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4A6D-53AB-4CDF-9269-C9C30136E226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Stac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t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Stack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29CD-12C3-4E8A-93A0-3879A2C92A04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9109-0EB0-4481-869F-319FCC04A577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lear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dLast (Object ele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(elem, top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D0F1-AF8F-48F0-98B3-DC1B6AED6ABC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st-in-first-out sequence of element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can added and removed only at one e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ac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 stack is the number of elements it co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ck has dep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972B-C120-43F6-88B1-4EA2409EC66D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using SLL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remove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op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topElem = top.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p = top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p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perations have time complex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324A-BB5A-4E32-9BB2-FA847CCD46D3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provides 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or class as s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nked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provides all the abo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ava.util.Linked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 bookStack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edLis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Stack.addLast("Moby Dick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Stack.addLast("War &amp; Peace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Stack.addLast("Rob Roy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bookStack.removeLas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7421-E5C2-46EB-8247-14E517125CBC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text-file reversal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the text-file reversal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verse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Reader inpu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fferedWriter outpu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kedList lineStack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LinkedLi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 = input.readLin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line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inp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lineStack.addLast(lin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8D68-7C2F-485C-9C76-64A47A8A7F28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text-file reversal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!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lineStack.isEmpt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 =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lineStack.removeLas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(line + "\n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clos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5B67-DA44-4356-97E6-246FCCC0BBEB}" type="slidenum">
              <a:t>23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concep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stack of book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209680"/>
            <a:ext cx="1523880" cy="1996560"/>
            <a:chOff x="1143000" y="2209680"/>
            <a:chExt cx="1523880" cy="1996560"/>
          </a:xfrm>
        </p:grpSpPr>
        <p:grpSp>
          <p:nvGrpSpPr>
            <p:cNvPr id="52" name=""/>
            <p:cNvGrpSpPr/>
            <p:nvPr/>
          </p:nvGrpSpPr>
          <p:grpSpPr>
            <a:xfrm>
              <a:off x="1143000" y="3657600"/>
              <a:ext cx="1371600" cy="548640"/>
              <a:chOff x="1143000" y="3657600"/>
              <a:chExt cx="1371600" cy="548640"/>
            </a:xfrm>
          </p:grpSpPr>
          <p:sp>
            <p:nvSpPr>
              <p:cNvPr id="53" name=""/>
              <p:cNvSpPr/>
              <p:nvPr/>
            </p:nvSpPr>
            <p:spPr>
              <a:xfrm>
                <a:off x="1143000" y="38862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09680" y="36576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3000" y="3962520"/>
                <a:ext cx="11430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300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3000" y="39625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oby Di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143000" y="3429000"/>
              <a:ext cx="1371600" cy="548640"/>
              <a:chOff x="1143000" y="3429000"/>
              <a:chExt cx="1371600" cy="548640"/>
            </a:xfrm>
          </p:grpSpPr>
          <p:sp>
            <p:nvSpPr>
              <p:cNvPr id="59" name=""/>
              <p:cNvSpPr/>
              <p:nvPr/>
            </p:nvSpPr>
            <p:spPr>
              <a:xfrm>
                <a:off x="114300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09680" y="34290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3000" y="3733920"/>
                <a:ext cx="114300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3000" y="34290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3000" y="37339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ar &amp; Pe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143000" y="3200400"/>
              <a:ext cx="1371600" cy="548640"/>
              <a:chOff x="1143000" y="3200400"/>
              <a:chExt cx="1371600" cy="548640"/>
            </a:xfrm>
          </p:grpSpPr>
          <p:sp>
            <p:nvSpPr>
              <p:cNvPr id="65" name=""/>
              <p:cNvSpPr/>
              <p:nvPr/>
            </p:nvSpPr>
            <p:spPr>
              <a:xfrm>
                <a:off x="1143000" y="34290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32004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3000" y="3505320"/>
                <a:ext cx="1143000" cy="2286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3000" y="32004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3000" y="35053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ob Ro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143000" y="2209680"/>
              <a:ext cx="15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itiall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124080" y="2209680"/>
            <a:ext cx="1524240" cy="1996560"/>
            <a:chOff x="3124080" y="2209680"/>
            <a:chExt cx="1524240" cy="1996560"/>
          </a:xfrm>
        </p:grpSpPr>
        <p:grpSp>
          <p:nvGrpSpPr>
            <p:cNvPr id="72" name=""/>
            <p:cNvGrpSpPr/>
            <p:nvPr/>
          </p:nvGrpSpPr>
          <p:grpSpPr>
            <a:xfrm>
              <a:off x="3124080" y="3657600"/>
              <a:ext cx="1371600" cy="548640"/>
              <a:chOff x="3124080" y="3657600"/>
              <a:chExt cx="1371600" cy="548640"/>
            </a:xfrm>
          </p:grpSpPr>
          <p:sp>
            <p:nvSpPr>
              <p:cNvPr id="73" name=""/>
              <p:cNvSpPr/>
              <p:nvPr/>
            </p:nvSpPr>
            <p:spPr>
              <a:xfrm>
                <a:off x="3124080" y="38862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90760" y="36576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24080" y="3962520"/>
                <a:ext cx="11430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2408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24080" y="39625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oby Di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124080" y="3429000"/>
              <a:ext cx="1371600" cy="548640"/>
              <a:chOff x="3124080" y="3429000"/>
              <a:chExt cx="1371600" cy="548640"/>
            </a:xfrm>
          </p:grpSpPr>
          <p:sp>
            <p:nvSpPr>
              <p:cNvPr id="79" name=""/>
              <p:cNvSpPr/>
              <p:nvPr/>
            </p:nvSpPr>
            <p:spPr>
              <a:xfrm>
                <a:off x="312408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90760" y="34290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24080" y="3733920"/>
                <a:ext cx="114300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24080" y="34290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124080" y="37339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ar &amp; Pe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3124080" y="2209680"/>
              <a:ext cx="1524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fter remov-ing a book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05520" y="2209680"/>
            <a:ext cx="1523880" cy="1996560"/>
            <a:chOff x="5105520" y="2209680"/>
            <a:chExt cx="1523880" cy="1996560"/>
          </a:xfrm>
        </p:grpSpPr>
        <p:grpSp>
          <p:nvGrpSpPr>
            <p:cNvPr id="86" name=""/>
            <p:cNvGrpSpPr/>
            <p:nvPr/>
          </p:nvGrpSpPr>
          <p:grpSpPr>
            <a:xfrm>
              <a:off x="5105520" y="3657600"/>
              <a:ext cx="1371600" cy="548640"/>
              <a:chOff x="5105520" y="3657600"/>
              <a:chExt cx="1371600" cy="548640"/>
            </a:xfrm>
          </p:grpSpPr>
          <p:sp>
            <p:nvSpPr>
              <p:cNvPr id="87" name=""/>
              <p:cNvSpPr/>
              <p:nvPr/>
            </p:nvSpPr>
            <p:spPr>
              <a:xfrm>
                <a:off x="5105520" y="38862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72200" y="36576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105520" y="3962520"/>
                <a:ext cx="11430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0552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39625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oby Di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105520" y="3429000"/>
              <a:ext cx="1371600" cy="548640"/>
              <a:chOff x="5105520" y="3429000"/>
              <a:chExt cx="1371600" cy="548640"/>
            </a:xfrm>
          </p:grpSpPr>
          <p:sp>
            <p:nvSpPr>
              <p:cNvPr id="93" name=""/>
              <p:cNvSpPr/>
              <p:nvPr/>
            </p:nvSpPr>
            <p:spPr>
              <a:xfrm>
                <a:off x="510552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34290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05520" y="3733920"/>
                <a:ext cx="114300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05520" y="34290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05520" y="37339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ar &amp; Pe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105520" y="3200400"/>
              <a:ext cx="1371600" cy="548280"/>
              <a:chOff x="5105520" y="3200400"/>
              <a:chExt cx="1371600" cy="548280"/>
            </a:xfrm>
          </p:grpSpPr>
          <p:sp>
            <p:nvSpPr>
              <p:cNvPr id="99" name=""/>
              <p:cNvSpPr/>
              <p:nvPr/>
            </p:nvSpPr>
            <p:spPr>
              <a:xfrm>
                <a:off x="5105520" y="3429000"/>
                <a:ext cx="1371600" cy="30456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72200" y="3200400"/>
                <a:ext cx="228600" cy="53316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05520" y="3504960"/>
                <a:ext cx="1143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3200400"/>
                <a:ext cx="1371600" cy="30456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05520" y="350496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is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é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a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105520" y="220968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fter adding “Mis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é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ble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86600" y="2209680"/>
            <a:ext cx="1523880" cy="1996560"/>
            <a:chOff x="7086600" y="2209680"/>
            <a:chExt cx="1523880" cy="1996560"/>
          </a:xfrm>
        </p:grpSpPr>
        <p:grpSp>
          <p:nvGrpSpPr>
            <p:cNvPr id="106" name=""/>
            <p:cNvGrpSpPr/>
            <p:nvPr/>
          </p:nvGrpSpPr>
          <p:grpSpPr>
            <a:xfrm>
              <a:off x="7086600" y="3657600"/>
              <a:ext cx="1371600" cy="548640"/>
              <a:chOff x="7086600" y="3657600"/>
              <a:chExt cx="1371600" cy="548640"/>
            </a:xfrm>
          </p:grpSpPr>
          <p:sp>
            <p:nvSpPr>
              <p:cNvPr id="107" name=""/>
              <p:cNvSpPr/>
              <p:nvPr/>
            </p:nvSpPr>
            <p:spPr>
              <a:xfrm>
                <a:off x="7086600" y="38862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53280" y="36576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86600" y="3962520"/>
                <a:ext cx="11430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8660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86600" y="39625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oby Di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086600" y="3429000"/>
              <a:ext cx="1371600" cy="548640"/>
              <a:chOff x="7086600" y="3429000"/>
              <a:chExt cx="1371600" cy="54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086600" y="36576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53280" y="34290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86600" y="3733920"/>
                <a:ext cx="114300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6600" y="34290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86600" y="37339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War &amp; Pe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086600" y="3200400"/>
              <a:ext cx="1371600" cy="548280"/>
              <a:chOff x="7086600" y="3200400"/>
              <a:chExt cx="1371600" cy="548280"/>
            </a:xfrm>
          </p:grpSpPr>
          <p:sp>
            <p:nvSpPr>
              <p:cNvPr id="119" name=""/>
              <p:cNvSpPr/>
              <p:nvPr/>
            </p:nvSpPr>
            <p:spPr>
              <a:xfrm>
                <a:off x="7086600" y="3429000"/>
                <a:ext cx="1371600" cy="30456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53280" y="3200400"/>
                <a:ext cx="228600" cy="53316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86600" y="3504960"/>
                <a:ext cx="1143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086600" y="3200400"/>
                <a:ext cx="1371600" cy="30456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86600" y="350496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Mis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é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a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86600" y="2971800"/>
              <a:ext cx="1371600" cy="548640"/>
              <a:chOff x="7086600" y="2971800"/>
              <a:chExt cx="1371600" cy="548640"/>
            </a:xfrm>
          </p:grpSpPr>
          <p:sp>
            <p:nvSpPr>
              <p:cNvPr id="125" name=""/>
              <p:cNvSpPr/>
              <p:nvPr/>
            </p:nvSpPr>
            <p:spPr>
              <a:xfrm>
                <a:off x="7086600" y="32004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53280" y="2971800"/>
                <a:ext cx="228600" cy="533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192"/>
                    </a:moveTo>
                    <a:lnTo>
                      <a:pt x="0" y="336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6600" y="3276720"/>
                <a:ext cx="11430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86600" y="2971800"/>
                <a:ext cx="1371600" cy="304920"/>
              </a:xfrm>
              <a:custGeom>
                <a:avLst/>
                <a:gdLst/>
                <a:ahLst/>
                <a:rect l="l" t="t" r="r" b="b"/>
                <a:pathLst>
                  <a:path w="864" h="192">
                    <a:moveTo>
                      <a:pt x="0" y="192"/>
                    </a:moveTo>
                    <a:lnTo>
                      <a:pt x="720" y="192"/>
                    </a:lnTo>
                    <a:lnTo>
                      <a:pt x="864" y="0"/>
                    </a:lnTo>
                    <a:lnTo>
                      <a:pt x="192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86600" y="3276720"/>
                <a:ext cx="11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086600" y="220968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fter adding “2001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35CE-73EB-428C-8BFE-8F957511B499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applic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(e.g., the Java Virtual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a stack containing intermediate results during evaluation of complicated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ontaining arguments and return addresses for method calls and re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(e.g., a component of the Java 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a stack containing symbols encountered during par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3E7E-3491-4215-9D32-772800707A3D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text-file reversal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xt file is a sequence of (zero or more)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verse the order of these lines, we must store them in a first-in-last-out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-file reversal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utput the lin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verse or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p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top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empty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 line from the top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C7FD-4A2E-4892-902B-8A6E7D044A51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bracket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hras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bracke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left bracket, there is a later matching right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right bracket, there is an earlier matching left br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phrase between a pair of matching brackets is itself well-brack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and counter-examples (math express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 /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/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191120"/>
            <a:ext cx="1600200" cy="304560"/>
          </a:xfrm>
          <a:prstGeom prst="wedgeRectCallout">
            <a:avLst>
              <a:gd name="adj1" fmla="val -126587"/>
              <a:gd name="adj2" fmla="val 104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well-brack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572000"/>
            <a:ext cx="1600200" cy="304920"/>
          </a:xfrm>
          <a:prstGeom prst="wedgeRectCallout">
            <a:avLst>
              <a:gd name="adj1" fmla="val -156745"/>
              <a:gd name="adj2" fmla="val 2708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well-brack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5029200"/>
            <a:ext cx="1600200" cy="304920"/>
          </a:xfrm>
          <a:prstGeom prst="wedgeRectCallout">
            <a:avLst>
              <a:gd name="adj1" fmla="val -126587"/>
              <a:gd name="adj2" fmla="val 104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ll-brack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410080"/>
            <a:ext cx="1600200" cy="304920"/>
          </a:xfrm>
          <a:prstGeom prst="wedgeRectCallout">
            <a:avLst>
              <a:gd name="adj1" fmla="val -126587"/>
              <a:gd name="adj2" fmla="val 2708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ll-brack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91320"/>
            <a:ext cx="1600200" cy="304560"/>
          </a:xfrm>
          <a:prstGeom prst="wedgeRectCallout">
            <a:avLst>
              <a:gd name="adj1" fmla="val -156745"/>
              <a:gd name="adj2" fmla="val 354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ll-brack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2FB4-7B0F-490E-BCF9-1E3CE5098BDB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bracket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 matching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 wheth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r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well-bracke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p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ymbo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r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canning from left to right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eft brack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top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ight brack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mpty, terminate with fals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a bracket from the top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matched brackets, termin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fal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tru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ket-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mpty, or false otherw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04C4-C6CA-4F8E-B74E-7B8E16052107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ADT: requiremen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make a stack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d (‘push’) an element to the top of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move (‘pop’) the topmost element from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test whether a stack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possible to access the topmost element in a stack without remov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66D7-3421-4C3F-B600-F9FDCCA95EA1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ack ADT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, expressed as a Java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 stack whose elements ar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Empt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stack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getLast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element at the top of this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AA3D-4EDE-4E03-8378-BEC1C4715ADC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7:18:27Z</dcterms:modified>
  <cp:revision>197</cp:revision>
  <dc:subject/>
  <dc:title>Formalizing the Dynamic Semantics of Java</dc:title>
</cp:coreProperties>
</file>