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8D80-373D-487B-A532-17439406D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76D1-852D-4FC0-B7F3-1CD65295F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B88B-BC52-4AB9-9125-D482571E8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8155-58D1-4B1E-95CC-CF95ACD04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7715-4D4E-481D-AE7D-09691FF8E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9FE6-88A1-4B57-9555-358C646F4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856A-3C6F-4B1B-9E35-692FCA840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8EB9-EDC3-4AAF-82D9-DA7091978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6084-7303-474A-A363-3132BC779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B249-A173-48DB-A198-E7A83E585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ECD4-7061-4E55-B72F-AD1038757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C963-44FD-41C0-BA24-113AA90C4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1-</a:t>
            </a:r>
            <a:fld id="{23E2CEBD-7702-436B-B6E8-01159E636D4E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1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ap ADT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p ADT: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s of maps: using boolean arrays, entry arrays, linked lists, B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in the Java class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0065-5B1E-4BC2-BEDC-C9757D948435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put (Object key, Object val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entry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this map, replacing any exis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whose key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turn the value in that entry, or nu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was no such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tAll (Map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y this map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, add all entri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p, replacing any existing entries with the same ke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8A56-C22A-400A-8424-9583399B5AB4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mall-integer-key maps using key-indexed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keys are known to be sma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he range 0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, represent the map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contains a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nd only i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a entry of the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43000" y="3200400"/>
            <a:ext cx="5105520" cy="628560"/>
            <a:chOff x="1143000" y="3200400"/>
            <a:chExt cx="5105520" cy="628560"/>
          </a:xfrm>
        </p:grpSpPr>
        <p:sp>
          <p:nvSpPr>
            <p:cNvPr id="91" name=""/>
            <p:cNvSpPr/>
            <p:nvPr/>
          </p:nvSpPr>
          <p:spPr>
            <a:xfrm>
              <a:off x="2438280" y="32004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00400" y="32004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32004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344952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34383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u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34383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u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34383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u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34383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2880" y="3295800"/>
              <a:ext cx="38124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2520" y="32004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3438360"/>
              <a:ext cx="76176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u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3000" y="4038480"/>
            <a:ext cx="5105520" cy="628920"/>
            <a:chOff x="1143000" y="4038480"/>
            <a:chExt cx="5105520" cy="628920"/>
          </a:xfrm>
        </p:grpSpPr>
        <p:sp>
          <p:nvSpPr>
            <p:cNvPr id="103" name=""/>
            <p:cNvSpPr/>
            <p:nvPr/>
          </p:nvSpPr>
          <p:spPr>
            <a:xfrm>
              <a:off x="1143000" y="424800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m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40384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40384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40384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0400" y="42768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42768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6400" y="42768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42768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4133880"/>
              <a:ext cx="38124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403848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62520" y="42768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1675-0D63-4F40-B959-7BD88735DB42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key-indexed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752480"/>
            <a:ext cx="1219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tra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56732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3520" y="5005440"/>
            <a:ext cx="8001000" cy="628560"/>
            <a:chOff x="533520" y="5005440"/>
            <a:chExt cx="8001000" cy="628560"/>
          </a:xfrm>
        </p:grpSpPr>
        <p:sp>
          <p:nvSpPr>
            <p:cNvPr id="119" name=""/>
            <p:cNvSpPr/>
            <p:nvPr/>
          </p:nvSpPr>
          <p:spPr>
            <a:xfrm>
              <a:off x="1066680" y="5243400"/>
              <a:ext cx="5335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0200" y="5243400"/>
              <a:ext cx="5335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720" y="5243400"/>
              <a:ext cx="533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243400"/>
              <a:ext cx="533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5005440"/>
              <a:ext cx="5331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6680" y="5005440"/>
              <a:ext cx="5335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5005440"/>
              <a:ext cx="5335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5014800"/>
              <a:ext cx="5331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920" y="5243400"/>
              <a:ext cx="5331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5243400"/>
              <a:ext cx="5335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5243400"/>
              <a:ext cx="5335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4120" y="5243400"/>
              <a:ext cx="5331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5243400"/>
              <a:ext cx="5335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5005440"/>
              <a:ext cx="53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5005440"/>
              <a:ext cx="533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5005440"/>
              <a:ext cx="53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5014800"/>
              <a:ext cx="5331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5243400"/>
              <a:ext cx="5335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5005440"/>
              <a:ext cx="53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5014800"/>
              <a:ext cx="5335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00800" y="5243400"/>
              <a:ext cx="5335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0800" y="5014800"/>
              <a:ext cx="5335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4320" y="5243400"/>
              <a:ext cx="5331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5024520"/>
              <a:ext cx="533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5243400"/>
              <a:ext cx="5335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5014800"/>
              <a:ext cx="533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5243400"/>
              <a:ext cx="5335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1000" y="5005440"/>
              <a:ext cx="533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5243400"/>
              <a:ext cx="5335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51004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3657600" y="1828800"/>
          <a:ext cx="1828800" cy="2585880"/>
        </p:xfrm>
        <a:graphic>
          <a:graphicData uri="http://schemas.openxmlformats.org/drawingml/2006/table">
            <a:tbl>
              <a:tblPr/>
              <a:tblGrid>
                <a:gridCol w="83808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1DDF-5C9C-4415-A498-7621FCFE4EB3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key-indexed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057400"/>
          <a:ext cx="7467480" cy="2743200"/>
        </p:xfrm>
        <a:graphic>
          <a:graphicData uri="http://schemas.openxmlformats.org/drawingml/2006/table">
            <a:tbl>
              <a:tblPr/>
              <a:tblGrid>
                <a:gridCol w="1371600"/>
                <a:gridCol w="4114800"/>
                <a:gridCol w="1981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pect array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e array component 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 array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update all array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equal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9C43-D337-43E8-A186-0D23F36E89B8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maps using entry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(cardina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c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cardi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map entri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ing the array sorted by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43000" y="5010120"/>
            <a:ext cx="7391520" cy="628560"/>
            <a:chOff x="1143000" y="5010120"/>
            <a:chExt cx="7391520" cy="628560"/>
          </a:xfrm>
        </p:grpSpPr>
        <p:sp>
          <p:nvSpPr>
            <p:cNvPr id="158" name=""/>
            <p:cNvSpPr/>
            <p:nvPr/>
          </p:nvSpPr>
          <p:spPr>
            <a:xfrm>
              <a:off x="1143000" y="525780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m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52480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24808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50101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05520" y="524808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52480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91520" y="524808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52480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400" y="52480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51051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5029200"/>
              <a:ext cx="91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51051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91520" y="502920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4305240"/>
            <a:ext cx="7315200" cy="628560"/>
            <a:chOff x="1143000" y="4305240"/>
            <a:chExt cx="7315200" cy="628560"/>
          </a:xfrm>
        </p:grpSpPr>
        <p:sp>
          <p:nvSpPr>
            <p:cNvPr id="172" name=""/>
            <p:cNvSpPr/>
            <p:nvPr/>
          </p:nvSpPr>
          <p:spPr>
            <a:xfrm>
              <a:off x="2819520" y="430524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1280" y="43052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29200" y="430524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43052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455436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1280" y="45432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45432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45432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45432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1520" y="45432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400" y="45432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8000" y="4400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43400" y="45432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4400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15200" y="43243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981080" y="3581280"/>
            <a:ext cx="6096240" cy="609480"/>
            <a:chOff x="1981080" y="3581280"/>
            <a:chExt cx="6096240" cy="609480"/>
          </a:xfrm>
        </p:grpSpPr>
        <p:sp>
          <p:nvSpPr>
            <p:cNvPr id="188" name=""/>
            <p:cNvSpPr/>
            <p:nvPr/>
          </p:nvSpPr>
          <p:spPr>
            <a:xfrm>
              <a:off x="3809880" y="3581280"/>
              <a:ext cx="1447920" cy="609480"/>
            </a:xfrm>
            <a:prstGeom prst="wedgeRectCallout">
              <a:avLst>
                <a:gd name="adj1" fmla="val 44296"/>
                <a:gd name="adj2" fmla="val 115625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entry with greates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05720" y="3886200"/>
              <a:ext cx="1371600" cy="304560"/>
            </a:xfrm>
            <a:prstGeom prst="wedgeRectCallout">
              <a:avLst>
                <a:gd name="adj1" fmla="val -65277"/>
                <a:gd name="adj2" fmla="val 18541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unoccup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3581280"/>
              <a:ext cx="1203480" cy="609480"/>
            </a:xfrm>
            <a:prstGeom prst="wedgeRectCallout">
              <a:avLst>
                <a:gd name="adj1" fmla="val 45513"/>
                <a:gd name="adj2" fmla="val 117708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entry with leas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CB39-5638-41AE-B026-70A89CD759AA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entry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038480" y="1752480"/>
          <a:ext cx="1981440" cy="22669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143000" y="1752480"/>
            <a:ext cx="1600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tra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9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9112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00200" y="4572000"/>
            <a:ext cx="6858000" cy="609480"/>
            <a:chOff x="1600200" y="4572000"/>
            <a:chExt cx="6858000" cy="609480"/>
          </a:xfrm>
        </p:grpSpPr>
        <p:sp>
          <p:nvSpPr>
            <p:cNvPr id="197" name=""/>
            <p:cNvSpPr/>
            <p:nvPr/>
          </p:nvSpPr>
          <p:spPr>
            <a:xfrm>
              <a:off x="4648320" y="4572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440" y="45720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10440" y="4809960"/>
              <a:ext cx="761760" cy="371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4809960"/>
              <a:ext cx="762120" cy="371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2200" y="4809960"/>
              <a:ext cx="76212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458136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34320" y="4809960"/>
              <a:ext cx="76212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34320" y="458136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24440" y="45720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86200" y="4572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4809960"/>
              <a:ext cx="762120" cy="371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440" y="4809960"/>
              <a:ext cx="761760" cy="371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572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2320" y="4572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4809960"/>
              <a:ext cx="762120" cy="371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4809960"/>
              <a:ext cx="762120" cy="3715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6440" y="4809960"/>
              <a:ext cx="76176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96440" y="4581360"/>
              <a:ext cx="7617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06AA-0CE5-4207-8491-7A41DD4483F0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entry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2057400"/>
          <a:ext cx="7162560" cy="2743200"/>
        </p:xfrm>
        <a:graphic>
          <a:graphicData uri="http://schemas.openxmlformats.org/drawingml/2006/table">
            <a:tbl>
              <a:tblPr/>
              <a:tblGrid>
                <a:gridCol w="1371600"/>
                <a:gridCol w="3657600"/>
                <a:gridCol w="2133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nary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nary search, then array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nary search, then array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t of array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equal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A350-5295-4774-87BD-DCD585F73614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maps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map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cardi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SLL, containing one entry per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ing the SLL sorted by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4226040"/>
            <a:ext cx="7315200" cy="314640"/>
            <a:chOff x="1066680" y="4226040"/>
            <a:chExt cx="7315200" cy="314640"/>
          </a:xfrm>
        </p:grpSpPr>
        <p:sp>
          <p:nvSpPr>
            <p:cNvPr id="223" name=""/>
            <p:cNvSpPr/>
            <p:nvPr/>
          </p:nvSpPr>
          <p:spPr>
            <a:xfrm>
              <a:off x="1066680" y="423540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42260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22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152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422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152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67480" y="422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152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43783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43783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43783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9600" y="4378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0" y="43783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43783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066680" y="4876920"/>
            <a:ext cx="1752840" cy="305280"/>
            <a:chOff x="1066680" y="4876920"/>
            <a:chExt cx="1752840" cy="305280"/>
          </a:xfrm>
        </p:grpSpPr>
        <p:sp>
          <p:nvSpPr>
            <p:cNvPr id="235" name=""/>
            <p:cNvSpPr/>
            <p:nvPr/>
          </p:nvSpPr>
          <p:spPr>
            <a:xfrm>
              <a:off x="1066680" y="487692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m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14600" y="48769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6880" y="5029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200400" y="3276720"/>
            <a:ext cx="2819520" cy="609480"/>
            <a:chOff x="3200400" y="3276720"/>
            <a:chExt cx="2819520" cy="609480"/>
          </a:xfrm>
        </p:grpSpPr>
        <p:sp>
          <p:nvSpPr>
            <p:cNvPr id="240" name=""/>
            <p:cNvSpPr/>
            <p:nvPr/>
          </p:nvSpPr>
          <p:spPr>
            <a:xfrm>
              <a:off x="4572000" y="3276720"/>
              <a:ext cx="1447920" cy="609480"/>
            </a:xfrm>
            <a:prstGeom prst="wedgeRectCallout">
              <a:avLst>
                <a:gd name="adj1" fmla="val 12717"/>
                <a:gd name="adj2" fmla="val 113541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entry with greates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276720"/>
              <a:ext cx="1203480" cy="609480"/>
            </a:xfrm>
            <a:prstGeom prst="wedgeRectCallout">
              <a:avLst>
                <a:gd name="adj1" fmla="val 9629"/>
                <a:gd name="adj2" fmla="val 113541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entry with leas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CDE7-1031-4055-84C5-9DC76AF247AC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733920" y="1752480"/>
          <a:ext cx="1981080" cy="226692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752480"/>
            <a:ext cx="160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419112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14400" y="4724280"/>
            <a:ext cx="7620120" cy="314280"/>
            <a:chOff x="914400" y="4724280"/>
            <a:chExt cx="7620120" cy="314280"/>
          </a:xfrm>
        </p:grpSpPr>
        <p:sp>
          <p:nvSpPr>
            <p:cNvPr id="247" name=""/>
            <p:cNvSpPr/>
            <p:nvPr/>
          </p:nvSpPr>
          <p:spPr>
            <a:xfrm>
              <a:off x="7772400" y="47242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53080" y="47242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4120" y="472428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4800" y="47242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95480" y="47242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72428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4724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886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5320" y="4886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1880" y="4886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4280" y="488628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3600" y="4886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62920" y="4886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6680" y="488628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865D-FB7B-49BA-8291-1F6E858B0489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43000" y="2057400"/>
          <a:ext cx="7162920" cy="2743200"/>
        </p:xfrm>
        <a:graphic>
          <a:graphicData uri="http://schemas.openxmlformats.org/drawingml/2006/table">
            <a:tbl>
              <a:tblPr/>
              <a:tblGrid>
                <a:gridCol w="1371600"/>
                <a:gridCol w="3657600"/>
                <a:gridCol w="2133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linear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linear search, then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L linear search, then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t of SLL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equal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87D4-91DE-49F6-B978-D1CEC9A4D89B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entries, which have distinct keys, and whose order is in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consisting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generally, an entry may have several key fields and/or several value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we assume one key field and one valu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CACE-2827-43BC-8EAF-8F796DB4396B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maps using B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map by a BST whose elements are the e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nly the keys to order the e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6680" y="5019840"/>
            <a:ext cx="1752840" cy="305280"/>
            <a:chOff x="1066680" y="5019840"/>
            <a:chExt cx="1752840" cy="305280"/>
          </a:xfrm>
        </p:grpSpPr>
        <p:sp>
          <p:nvSpPr>
            <p:cNvPr id="269" name=""/>
            <p:cNvSpPr/>
            <p:nvPr/>
          </p:nvSpPr>
          <p:spPr>
            <a:xfrm>
              <a:off x="1066680" y="501984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ma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50198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6880" y="5172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66680" y="3084480"/>
            <a:ext cx="4191120" cy="1630440"/>
            <a:chOff x="1066680" y="3084480"/>
            <a:chExt cx="4191120" cy="1630440"/>
          </a:xfrm>
        </p:grpSpPr>
        <p:sp>
          <p:nvSpPr>
            <p:cNvPr id="273" name=""/>
            <p:cNvSpPr/>
            <p:nvPr/>
          </p:nvSpPr>
          <p:spPr>
            <a:xfrm>
              <a:off x="1066680" y="309420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30844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84560" y="3160800"/>
              <a:ext cx="207324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3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6880" y="32371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F8F9-F2FD-4AAF-B95D-EB43DEE76748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B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590920" y="4419720"/>
            <a:ext cx="3809880" cy="1752480"/>
            <a:chOff x="2590920" y="4419720"/>
            <a:chExt cx="3809880" cy="1752480"/>
          </a:xfrm>
        </p:grpSpPr>
        <p:sp>
          <p:nvSpPr>
            <p:cNvPr id="280" name=""/>
            <p:cNvSpPr/>
            <p:nvPr/>
          </p:nvSpPr>
          <p:spPr>
            <a:xfrm>
              <a:off x="5638680" y="5791320"/>
              <a:ext cx="76212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105520"/>
              <a:ext cx="76212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24280" y="5791320"/>
              <a:ext cx="76212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080" y="4419720"/>
              <a:ext cx="76212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880" y="5105520"/>
              <a:ext cx="76212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52680" y="5791320"/>
              <a:ext cx="762120" cy="380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90920" y="44197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733560" y="54104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24480" y="6096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4714920"/>
              <a:ext cx="60984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54104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45817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105160" y="54104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19076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5000" y="6096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0080" y="6096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0600" y="6096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6096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29000" y="6096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95680" y="5410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143000" y="1523880"/>
            <a:ext cx="160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962520"/>
            <a:ext cx="25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ould be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505320" y="1523880"/>
          <a:ext cx="1981080" cy="226692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1F8B-AC5B-43C5-92D7-ACAB8CF576CB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B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143000" y="2057400"/>
          <a:ext cx="7162920" cy="3957480"/>
        </p:xfrm>
        <a:graphic>
          <a:graphicData uri="http://schemas.openxmlformats.org/drawingml/2006/table">
            <a:tbl>
              <a:tblPr/>
              <a:tblGrid>
                <a:gridCol w="1371600"/>
                <a:gridCol w="3429000"/>
                <a:gridCol w="23623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T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T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T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T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rsal of one BST, searching for each key in the other B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2531-1A11-49C3-9A11-F52140920FE4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ummary of map implement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5800" y="1514520"/>
          <a:ext cx="7772400" cy="450540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371600"/>
                <a:gridCol w="1295280"/>
                <a:gridCol w="23623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-indexed array repr-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 array represent-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repr-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T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2095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AC10-DCD2-4409-BB43-D84CDA8629B4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s in the Java class librar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is simila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Tree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, representing each map by a search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Hash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, representing each map by a hash table (see 1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5515-3775-40C9-91AE-02D7156EFCAB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mobile phone directory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mobile phone equipped with a memory, keypad, and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mory contains a directory, in which each entry consists of a name and telephone number. All names must be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rectory handler remembers the name most recently entered on the keyp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rectory handler remembers the telephone number most recently entered on the keypad or retrieved from the dir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28DD-4FCA-4E4D-90B2-1A03594351C9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mobile phone directory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ut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rectoryHandl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p directo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currentName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?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currentNum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?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F364-47B5-4EB9-BE3C-30DD42E5196F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mobile phone directory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ut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okupCurrentNam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up the telephone number (if any) corresponding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urren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l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um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)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irectory.get(currentNam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.write(currentName + " 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(num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? num : "NOT FOUND")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um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Num = nu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79C0-E556-4852-B61F-66EBAF512690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mobile phone directory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ut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CurrentNameAndNumbe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 entry consisting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urren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um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)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irectory.get(currentNam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um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 that the user wishes to replace the exis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irectory.put(currentName, currentNum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.write(currentName + "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currentNum + " ADDED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0C0A-6273-44D0-A64B-510A4E668E73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mobile phone directory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ut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moveCurrentNam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entry corresponding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en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um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)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irectory.remove(currentNam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.write(currentName + "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(num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? "REMOVED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"NOT FOUND")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CC01-C610-4619-BF19-E7FD76EE0509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a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33720" y="2209680"/>
            <a:ext cx="2438280" cy="304920"/>
            <a:chOff x="2133720" y="2209680"/>
            <a:chExt cx="2438280" cy="304920"/>
          </a:xfrm>
        </p:grpSpPr>
        <p:sp>
          <p:nvSpPr>
            <p:cNvPr id="52" name=""/>
            <p:cNvSpPr/>
            <p:nvPr/>
          </p:nvSpPr>
          <p:spPr>
            <a:xfrm>
              <a:off x="3352680" y="2209680"/>
              <a:ext cx="1219320" cy="304920"/>
            </a:xfrm>
            <a:prstGeom prst="wedgeRectCallout">
              <a:avLst>
                <a:gd name="adj1" fmla="val -11717"/>
                <a:gd name="adj2" fmla="val 189064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value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2209680"/>
              <a:ext cx="1066680" cy="304920"/>
            </a:xfrm>
            <a:prstGeom prst="wedgeRectCallout">
              <a:avLst>
                <a:gd name="adj1" fmla="val 13986"/>
                <a:gd name="adj2" fmla="val 184898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key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6324480" y="2201760"/>
          <a:ext cx="2133720" cy="226692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5105520" y="22017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47163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F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324480" y="4659480"/>
          <a:ext cx="2133720" cy="128412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l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l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286000" y="2990880"/>
          <a:ext cx="2133720" cy="259380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066680" y="299088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om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29D7-56E4-4054-B22D-14179F66F485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ma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umber of entri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is written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F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p has cardinality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map for a given key, to obtain the corresponding value (if any)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up ‘X’ in ma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s 1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up ‘A’ in ma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s no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C4C6-8E35-4672-9D4A-C45C73B4D93D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14600" y="4876920"/>
          <a:ext cx="2286000" cy="96516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791320" y="4187880"/>
          <a:ext cx="2286000" cy="16034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ma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result contains all entries from 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xcept that where both maps contain entries with the same key, the result contains the entry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. E.g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3051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unt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87980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unt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4290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ult of overlayi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unt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unt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14600" y="3305160"/>
          <a:ext cx="2286000" cy="128448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E8CB-AE33-425A-A971-8D06EC3268DF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applic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“relation” is a collection of tu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“relation” has a key field, all tuples must have distinct ke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uples are in 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a “relation” is really a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 direct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ntry consists of a name, address, and telephon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entries may share the same name, but each entry must have a unique name–address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ries could be in any order. (They are typically sorted by name and address, to make lookup fast, but that is not essenti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a telephone directory is a map in which the key field is the name–address comb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3461-E528-4417-89EB-6680E0D2D139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ADT: requiremen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make a map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map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map contains an entry with a given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look up the value corresponding to a given key in a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a new entry to a map or to replace an existing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move an entry from a map, given its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two maps are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mpute the overlay of two m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376920">
              <a:spcBef>
                <a:spcPts val="499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raverse a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0D7B-DE26-43CD-B8B5-FEBE4C11E400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p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map whose keys and values ar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map i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cardinality of this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 (Object 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value in the entry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map, or null i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such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6473-5ECA-4B9E-AAEA-3703794371AE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Map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quals (Map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this map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 keySe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et of all keys in this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map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 (Object 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entry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any) from this map. Retur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n that entry, or null if there was no such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921E-44E7-4C40-8F38-5A88A4FA4536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4T10:10:55Z</dcterms:modified>
  <cp:revision>277</cp:revision>
  <dc:subject/>
  <dc:title>Formalizing the Dynamic Semantics of Java</dc:title>
</cp:coreProperties>
</file>