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833BE-8FC9-43A6-9D48-10F52570D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13E19-7361-429A-97C9-BF35B1397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09FCD-2EB9-45FA-A3CD-150EC3573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D5E7C-D9C7-4591-BA71-871F9E186A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DF0CF-78A0-4904-A86A-4FA378BFD3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ABCB6-2248-45AC-BAA0-E0200B830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7C799-7EC7-47C3-895C-A64C484CF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52C23-DD54-40D2-825A-5DBB222FA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1F8C0-F73C-4F24-937F-25F01F7D4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A9F34-2285-4988-8522-C9CDFEBF1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45A49-0598-4E65-BA4D-8A6010678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4B57C-A0A5-426D-9279-4D343E37E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00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9-</a:t>
            </a:r>
            <a:fld id="{B977AD7F-4955-4B82-AB53-B7C59C3A0731}" type="slidenum"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9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et ADTs</a:t>
            </a:r>
            <a:endParaRPr b="1" lang="en-US" sz="4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concep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ADT: requirements, contr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s of sets: using member arrays, linked lists, boolean arr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s in the Java class libr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624852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2001, D.A. Watt and D.F. Br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609480"/>
            <a:ext cx="9144000" cy="1676520"/>
            <a:chOff x="0" y="609480"/>
            <a:chExt cx="9144000" cy="1676520"/>
          </a:xfrm>
        </p:grpSpPr>
        <p:sp>
          <p:nvSpPr>
            <p:cNvPr id="44" name="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2286000"/>
              <a:ext cx="914400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EBD03-B758-431A-A493-E853ABCCBCA8}" type="slidenum">
              <a:t>1</a:t>
            </a:fld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prime number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e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integer that is divisible only by itself and 1. E.g.: 2, 7, 11, 13 are prime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tosthenes’ sieve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mpute the set of prime numbers less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2, 3, …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}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 3, …, whi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ea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member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all multiple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 with answ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5410080"/>
            <a:ext cx="5257800" cy="685800"/>
          </a:xfrm>
          <a:prstGeom prst="wedgeRectCallout">
            <a:avLst>
              <a:gd name="adj1" fmla="val -16847"/>
              <a:gd name="adj2" fmla="val -12870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6732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whi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ea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3505320"/>
            <a:ext cx="3200400" cy="990360"/>
          </a:xfrm>
          <a:prstGeom prst="wedgeRectCallout">
            <a:avLst>
              <a:gd name="adj1" fmla="val -79662"/>
              <a:gd name="adj2" fmla="val -1987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4827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 }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 ...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, repea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F957C-4B8E-45A6-BEDC-74E31DA3FE7E}" type="slidenum">
              <a:t>10</a:t>
            </a:fld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et ADT: requirement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8124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make a set emp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8124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test whether a set is emp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8124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obtain the cardinality of a s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8124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perform a membership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8124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add or remove a member of a s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8124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test whether two sets are equ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8124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test whether one set subsumes an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8124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compute the union, intersection, or difference of two se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8124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traverse a s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0989B-16A2-4993-B069-2E7B0932A721}" type="slidenum">
              <a:t>11</a:t>
            </a:fld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et ADT: contrac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ntra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is a set whose members are ob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sEmpty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rue if and only if this set is emp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ize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cardinality of this s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ntains (Object obj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rue if and only 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member of this s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E4E78-5F6F-4A07-8B1B-EC6F901D3FB3}" type="slidenum">
              <a:t>12</a:t>
            </a:fld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et ADT: contrac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ntra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quals (Set tha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rue if and only if this set is equal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ntainsAll (Set tha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rue if and only if this set subsum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E7186-39F4-40E6-AA41-4FA393ACDC86}" type="slidenum">
              <a:t>13</a:t>
            </a:fld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et ADT: contrac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ntra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lear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is set emp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d (Object obj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a member of this s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move (Object obj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is s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dAll (Set tha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is set the union of itself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B3CE1-ADE6-4CEA-AC73-73E0467CC9C2}" type="slidenum">
              <a:t>14</a:t>
            </a:fld>
          </a:p>
        </p:txBody>
      </p:sp>
    </p:spTree>
  </p:cSld>
  <p:transition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et ADT: contrac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ntra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moveAll (Set tha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is set the difference of itself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tainAll (Set tha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is set the intersection of itself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terator iterator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an iterator that will visit all members of this set, in n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ular or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C963C-A6A1-478C-89DC-2D545D073BDA}" type="slidenum">
              <a:t>15</a:t>
            </a:fld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of sets using member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un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t (cardinal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c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ria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taining the current cardi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rra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leng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ca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taining the set member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0…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ing the array sorted, and not storing duplic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43000" y="5657760"/>
            <a:ext cx="6248520" cy="915120"/>
            <a:chOff x="1143000" y="5657760"/>
            <a:chExt cx="6248520" cy="915120"/>
          </a:xfrm>
        </p:grpSpPr>
        <p:sp>
          <p:nvSpPr>
            <p:cNvPr id="105" name=""/>
            <p:cNvSpPr/>
            <p:nvPr/>
          </p:nvSpPr>
          <p:spPr>
            <a:xfrm>
              <a:off x="1143000" y="5657760"/>
              <a:ext cx="152388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llustration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axcar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6)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81280" y="5952960"/>
              <a:ext cx="762120" cy="314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43400" y="5952960"/>
              <a:ext cx="762120" cy="314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05520" y="5952960"/>
              <a:ext cx="761760" cy="31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67280" y="5952960"/>
              <a:ext cx="762120" cy="31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19520" y="5952960"/>
              <a:ext cx="761760" cy="314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19520" y="5715000"/>
              <a:ext cx="7617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81280" y="571500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43400" y="571500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67280" y="5724360"/>
              <a:ext cx="76212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05520" y="5715000"/>
              <a:ext cx="7617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29400" y="5952960"/>
              <a:ext cx="762120" cy="31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29400" y="571500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143000" y="4876920"/>
            <a:ext cx="7315200" cy="628560"/>
            <a:chOff x="1143000" y="4876920"/>
            <a:chExt cx="7315200" cy="628560"/>
          </a:xfrm>
        </p:grpSpPr>
        <p:sp>
          <p:nvSpPr>
            <p:cNvPr id="119" name=""/>
            <p:cNvSpPr/>
            <p:nvPr/>
          </p:nvSpPr>
          <p:spPr>
            <a:xfrm>
              <a:off x="1143000" y="5124600"/>
              <a:ext cx="133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pty se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1280" y="511488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19520" y="5114880"/>
              <a:ext cx="7617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81280" y="487692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05520" y="5114880"/>
              <a:ext cx="7617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67280" y="511488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91520" y="5114880"/>
              <a:ext cx="7617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29400" y="511488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43400" y="511488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497196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144" y="0"/>
                  </a:moveTo>
                  <a:lnTo>
                    <a:pt x="0" y="336"/>
                  </a:lnTo>
                  <a:lnTo>
                    <a:pt x="96" y="336"/>
                  </a:lnTo>
                  <a:lnTo>
                    <a:pt x="240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43200" y="4896000"/>
              <a:ext cx="914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58000" y="497196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144" y="0"/>
                  </a:moveTo>
                  <a:lnTo>
                    <a:pt x="0" y="336"/>
                  </a:lnTo>
                  <a:lnTo>
                    <a:pt x="96" y="336"/>
                  </a:lnTo>
                  <a:lnTo>
                    <a:pt x="240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15200" y="4896000"/>
              <a:ext cx="114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axcar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143000" y="4172040"/>
            <a:ext cx="7315200" cy="628560"/>
            <a:chOff x="1143000" y="4172040"/>
            <a:chExt cx="7315200" cy="628560"/>
          </a:xfrm>
        </p:grpSpPr>
        <p:sp>
          <p:nvSpPr>
            <p:cNvPr id="133" name=""/>
            <p:cNvSpPr/>
            <p:nvPr/>
          </p:nvSpPr>
          <p:spPr>
            <a:xfrm>
              <a:off x="2819520" y="4172040"/>
              <a:ext cx="7617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81280" y="417204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29200" y="4172040"/>
              <a:ext cx="914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67280" y="417204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43000" y="4421160"/>
              <a:ext cx="133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varian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81280" y="441000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19520" y="4410000"/>
              <a:ext cx="76176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05520" y="4410000"/>
              <a:ext cx="76176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67280" y="441000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91520" y="4410000"/>
              <a:ext cx="7617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29400" y="441000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58000" y="426708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144" y="0"/>
                  </a:moveTo>
                  <a:lnTo>
                    <a:pt x="0" y="336"/>
                  </a:lnTo>
                  <a:lnTo>
                    <a:pt x="96" y="336"/>
                  </a:lnTo>
                  <a:lnTo>
                    <a:pt x="240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441000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0" y="426708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144" y="0"/>
                  </a:moveTo>
                  <a:lnTo>
                    <a:pt x="0" y="336"/>
                  </a:lnTo>
                  <a:lnTo>
                    <a:pt x="96" y="336"/>
                  </a:lnTo>
                  <a:lnTo>
                    <a:pt x="240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15200" y="4191120"/>
              <a:ext cx="114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axcar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676520" y="3714840"/>
            <a:ext cx="6476760" cy="399960"/>
            <a:chOff x="1676520" y="3714840"/>
            <a:chExt cx="6476760" cy="399960"/>
          </a:xfrm>
        </p:grpSpPr>
        <p:sp>
          <p:nvSpPr>
            <p:cNvPr id="149" name=""/>
            <p:cNvSpPr/>
            <p:nvPr/>
          </p:nvSpPr>
          <p:spPr>
            <a:xfrm>
              <a:off x="3581280" y="3733920"/>
              <a:ext cx="1936800" cy="363240"/>
            </a:xfrm>
            <a:prstGeom prst="wedgeRectCallout">
              <a:avLst>
                <a:gd name="adj1" fmla="val 41476"/>
                <a:gd name="adj2" fmla="val 157861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greatest me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81680" y="3727440"/>
              <a:ext cx="1371600" cy="387360"/>
            </a:xfrm>
            <a:prstGeom prst="wedgeRectCallout">
              <a:avLst>
                <a:gd name="adj1" fmla="val -68981"/>
                <a:gd name="adj2" fmla="val 150000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unoccupi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76520" y="3714840"/>
              <a:ext cx="1533240" cy="371520"/>
            </a:xfrm>
            <a:prstGeom prst="wedgeRectCallout">
              <a:avLst>
                <a:gd name="adj1" fmla="val 39856"/>
                <a:gd name="adj2" fmla="val 158546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least me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463AA-E995-4E53-8A26-F5D21F60DAA0}" type="slidenum">
              <a:t>16</a:t>
            </a:fld>
          </a:p>
        </p:txBody>
      </p:sp>
    </p:spTree>
  </p:cSld>
  <p:transition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member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algorithms and time complex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990720" y="2057400"/>
          <a:ext cx="7467480" cy="4114800"/>
        </p:xfrm>
        <a:graphic>
          <a:graphicData uri="http://schemas.openxmlformats.org/drawingml/2006/table">
            <a:tbl>
              <a:tblPr/>
              <a:tblGrid>
                <a:gridCol w="1904760"/>
                <a:gridCol w="3353040"/>
                <a:gridCol w="22096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complex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ta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ary 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o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ary search + inser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ary search + del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rwise compa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tains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f pairwise compa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ay me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nt of array me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ain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nt of array me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C9513-47CC-4CF7-8D83-57844C0CECEB}" type="slidenum">
              <a:t>17</a:t>
            </a:fld>
          </a:p>
        </p:txBody>
      </p:sp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of sets using SLL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an (unbounded) set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ria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taining the current cardi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SLL, containing one member per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ing the SLL sorted, and not storing duplic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066680" y="4032360"/>
            <a:ext cx="7391520" cy="320400"/>
            <a:chOff x="1066680" y="4032360"/>
            <a:chExt cx="7391520" cy="320400"/>
          </a:xfrm>
        </p:grpSpPr>
        <p:sp>
          <p:nvSpPr>
            <p:cNvPr id="160" name=""/>
            <p:cNvSpPr/>
            <p:nvPr/>
          </p:nvSpPr>
          <p:spPr>
            <a:xfrm>
              <a:off x="5105520" y="4038480"/>
              <a:ext cx="99036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05320" y="4038480"/>
              <a:ext cx="99036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67480" y="4038480"/>
              <a:ext cx="9907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66680" y="4041720"/>
              <a:ext cx="133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varian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4600" y="403236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66880" y="418464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43600" y="418464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3400" y="4184640"/>
              <a:ext cx="7621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05920" y="4184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34320" y="4184640"/>
              <a:ext cx="5331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53080" y="418464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066680" y="4724280"/>
            <a:ext cx="1752840" cy="305280"/>
            <a:chOff x="1066680" y="4724280"/>
            <a:chExt cx="1752840" cy="305280"/>
          </a:xfrm>
        </p:grpSpPr>
        <p:sp>
          <p:nvSpPr>
            <p:cNvPr id="172" name=""/>
            <p:cNvSpPr/>
            <p:nvPr/>
          </p:nvSpPr>
          <p:spPr>
            <a:xfrm>
              <a:off x="1066680" y="4724280"/>
              <a:ext cx="133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pty se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4600" y="472428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66880" y="48765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066680" y="5359320"/>
            <a:ext cx="6096240" cy="346320"/>
            <a:chOff x="1066680" y="5359320"/>
            <a:chExt cx="6096240" cy="346320"/>
          </a:xfrm>
        </p:grpSpPr>
        <p:sp>
          <p:nvSpPr>
            <p:cNvPr id="176" name=""/>
            <p:cNvSpPr/>
            <p:nvPr/>
          </p:nvSpPr>
          <p:spPr>
            <a:xfrm>
              <a:off x="1066680" y="5359320"/>
              <a:ext cx="1371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14600" y="540036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05320" y="54003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76920" y="54003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M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66880" y="555300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67080" y="555300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8680" y="555300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48520" y="54003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10280" y="55530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971800" y="3505320"/>
            <a:ext cx="5486400" cy="339480"/>
            <a:chOff x="2971800" y="3505320"/>
            <a:chExt cx="5486400" cy="339480"/>
          </a:xfrm>
        </p:grpSpPr>
        <p:sp>
          <p:nvSpPr>
            <p:cNvPr id="186" name=""/>
            <p:cNvSpPr/>
            <p:nvPr/>
          </p:nvSpPr>
          <p:spPr>
            <a:xfrm>
              <a:off x="2971800" y="3505320"/>
              <a:ext cx="1523880" cy="339480"/>
            </a:xfrm>
            <a:prstGeom prst="wedgeRectCallout">
              <a:avLst>
                <a:gd name="adj1" fmla="val 8750"/>
                <a:gd name="adj2" fmla="val 121962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least me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29400" y="3505320"/>
              <a:ext cx="1828800" cy="339480"/>
            </a:xfrm>
            <a:prstGeom prst="wedgeRectCallout">
              <a:avLst>
                <a:gd name="adj1" fmla="val 13541"/>
                <a:gd name="adj2" fmla="val 125699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greatest me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581280" y="6172200"/>
            <a:ext cx="3505320" cy="304920"/>
          </a:xfrm>
          <a:prstGeom prst="wedgeRectCallout">
            <a:avLst>
              <a:gd name="adj1" fmla="val -20106"/>
              <a:gd name="adj2" fmla="val -15625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represents the set {CA, US, MX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14A33-F7F4-4D26-9273-57EE2827A2C5}" type="slidenum">
              <a:t>18</a:t>
            </a:fld>
          </a:p>
        </p:txBody>
      </p:sp>
    </p:spTree>
  </p:cSld>
  <p:transition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SLL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algorithms and time complex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990720" y="2057400"/>
          <a:ext cx="7467480" cy="4114800"/>
        </p:xfrm>
        <a:graphic>
          <a:graphicData uri="http://schemas.openxmlformats.org/drawingml/2006/table">
            <a:tbl>
              <a:tblPr/>
              <a:tblGrid>
                <a:gridCol w="1904760"/>
                <a:gridCol w="3353040"/>
                <a:gridCol w="22096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complex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ta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L linear 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L linear search + inser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L linear search + del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rwise compa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tains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f pairwise compa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L me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nt of SLL me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ain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nt of SLL me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950CA-CE63-44C8-B956-38A5B4D8773E}" type="slidenum">
              <a:t>19</a:t>
            </a:fld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et concep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ollection of distinc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alues or objects), whose order is insignific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tion for sets: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. The empty set is { 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notation is used here, bu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pported by Ja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890CF-E5C4-4866-ADA5-0FBC7C0ECE5C}" type="slidenum">
              <a:t>2</a:t>
            </a:fld>
          </a:p>
        </p:txBody>
      </p:sp>
    </p:spTree>
  </p:cSld>
  <p:transition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of small-integer sets using boolean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members are known to be sma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 the range 0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, represent the set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oolean arra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leng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ch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is true if and only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member of the s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143000" y="3200400"/>
            <a:ext cx="5105520" cy="628200"/>
            <a:chOff x="1143000" y="3200400"/>
            <a:chExt cx="5105520" cy="628200"/>
          </a:xfrm>
        </p:grpSpPr>
        <p:sp>
          <p:nvSpPr>
            <p:cNvPr id="197" name=""/>
            <p:cNvSpPr/>
            <p:nvPr/>
          </p:nvSpPr>
          <p:spPr>
            <a:xfrm>
              <a:off x="2438280" y="3200400"/>
              <a:ext cx="76212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00400" y="3200400"/>
              <a:ext cx="76212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86400" y="3200400"/>
              <a:ext cx="762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43000" y="3449520"/>
              <a:ext cx="133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varian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00400" y="3438360"/>
              <a:ext cx="762120" cy="31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oo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38280" y="3438360"/>
              <a:ext cx="762120" cy="31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oo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86400" y="3438360"/>
              <a:ext cx="762120" cy="31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oo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24280" y="3438360"/>
              <a:ext cx="762120" cy="31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52880" y="3295440"/>
              <a:ext cx="381240" cy="53316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144" y="0"/>
                  </a:moveTo>
                  <a:lnTo>
                    <a:pt x="0" y="336"/>
                  </a:lnTo>
                  <a:lnTo>
                    <a:pt x="96" y="336"/>
                  </a:lnTo>
                  <a:lnTo>
                    <a:pt x="240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2520" y="3200400"/>
              <a:ext cx="76176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62520" y="3438360"/>
              <a:ext cx="761760" cy="31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oo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143000" y="4038480"/>
            <a:ext cx="5105520" cy="628560"/>
            <a:chOff x="1143000" y="4038480"/>
            <a:chExt cx="5105520" cy="628560"/>
          </a:xfrm>
        </p:grpSpPr>
        <p:sp>
          <p:nvSpPr>
            <p:cNvPr id="209" name=""/>
            <p:cNvSpPr/>
            <p:nvPr/>
          </p:nvSpPr>
          <p:spPr>
            <a:xfrm>
              <a:off x="1143000" y="4248000"/>
              <a:ext cx="133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pty se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38280" y="403848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00400" y="403848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86400" y="403848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00400" y="427680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8280" y="427680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86400" y="427680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27680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52880" y="4133880"/>
              <a:ext cx="381240" cy="53316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144" y="0"/>
                  </a:moveTo>
                  <a:lnTo>
                    <a:pt x="0" y="336"/>
                  </a:lnTo>
                  <a:lnTo>
                    <a:pt x="96" y="336"/>
                  </a:lnTo>
                  <a:lnTo>
                    <a:pt x="240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62520" y="4038480"/>
              <a:ext cx="7617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62520" y="4276800"/>
              <a:ext cx="76176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143000" y="4876920"/>
            <a:ext cx="7391520" cy="629280"/>
            <a:chOff x="1143000" y="4876920"/>
            <a:chExt cx="7391520" cy="629280"/>
          </a:xfrm>
        </p:grpSpPr>
        <p:sp>
          <p:nvSpPr>
            <p:cNvPr id="221" name=""/>
            <p:cNvSpPr/>
            <p:nvPr/>
          </p:nvSpPr>
          <p:spPr>
            <a:xfrm>
              <a:off x="1143000" y="4896000"/>
              <a:ext cx="12952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llustration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8)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00400" y="511488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62520" y="5114880"/>
              <a:ext cx="76176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24280" y="511488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86400" y="511488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38280" y="511488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38280" y="487692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00400" y="487692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62520" y="4876920"/>
              <a:ext cx="7617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86400" y="488628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48520" y="5114880"/>
              <a:ext cx="76176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48520" y="4876920"/>
              <a:ext cx="7617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488628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10280" y="511488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10280" y="488628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72400" y="511488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72400" y="487692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3352680" y="6095880"/>
            <a:ext cx="3124440" cy="381240"/>
          </a:xfrm>
          <a:prstGeom prst="wedgeRectCallout">
            <a:avLst>
              <a:gd name="adj1" fmla="val 18087"/>
              <a:gd name="adj2" fmla="val -18500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represents the set {2, 3, 5, 7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0A00E-A23E-44EF-8F1A-3051AB0FEDCE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boolean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algorithms and time complex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90720" y="2057400"/>
          <a:ext cx="7467480" cy="4114800"/>
        </p:xfrm>
        <a:graphic>
          <a:graphicData uri="http://schemas.openxmlformats.org/drawingml/2006/table">
            <a:tbl>
              <a:tblPr/>
              <a:tblGrid>
                <a:gridCol w="1904760"/>
                <a:gridCol w="3581640"/>
                <a:gridCol w="19810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complex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ta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 array compon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 array component to 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 array component to 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rwise equality 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tains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rwise implication 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rwise disjun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rwise negation + conjun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ain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rwise conjun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1E7BF-ABE6-4A9B-B367-64AEE9C3E6DA}" type="slidenum">
              <a:t>21</a:t>
            </a:fld>
          </a:p>
        </p:txBody>
      </p:sp>
    </p:spTree>
  </p:cSld>
  <p:transition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ummary of set implementation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990720" y="1676520"/>
          <a:ext cx="7162560" cy="4357440"/>
        </p:xfrm>
        <a:graphic>
          <a:graphicData uri="http://schemas.openxmlformats.org/drawingml/2006/table">
            <a:tbl>
              <a:tblPr/>
              <a:tblGrid>
                <a:gridCol w="1904760"/>
                <a:gridCol w="1752480"/>
                <a:gridCol w="167652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ber array repres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L repres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olean array repres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ta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o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tains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ain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6AB05-932C-42C1-BBC1-A8F41C56694E}" type="slidenum">
              <a:t>22</a:t>
            </a:fld>
          </a:p>
        </p:txBody>
      </p:sp>
    </p:spTree>
  </p:cSld>
  <p:transition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ummary of set implementation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sentation is suitable only for small or static s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t is one in which members are never (or at least infrequently) added or remo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sentation is suitable only for small s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lean-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sentation is suitable only for dense sets of small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t is one where most potential members are actually pres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general applications, we need a more efficient set representation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rch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ee 10)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ee 1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D0610-5FAC-40D3-89F7-B6C301415ADA}" type="slidenum">
              <a:t>23</a:t>
            </a:fld>
          </a:p>
        </p:txBody>
      </p:sp>
    </p:spTree>
  </p:cSld>
  <p:transition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ets in the Java class library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util.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 is similar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util.Tree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implement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util.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, representing each set by a search tree (see 1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util.Hash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implement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util.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, representing each set by a hash table (see 1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4D329-FD5E-406B-89FE-EBC731285F5C}" type="slidenum">
              <a:t>24</a:t>
            </a:fld>
          </a:p>
        </p:txBody>
      </p:sp>
    </p:spTree>
  </p:cSld>
  <p:transition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information retrieval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a very simple information retrieval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query is a set of key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document in the document base is viewed as a set of words. The order of words in a document is of no signific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esponse to a query, the system identifies each document that contains all or some of the key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135CD-1EFD-4080-8419-BA24C3818FAB}" type="slidenum">
              <a:t>25</a:t>
            </a:fld>
          </a:p>
        </p:txBody>
      </p:sp>
    </p:spTree>
  </p:cSld>
  <p:transition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information retrieval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 of 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NE=0, SOME=1, ALL=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core (String nam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 keywords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a score reflecting whether the document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 all, some, or none of the words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eywor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 docwords = readAllWords(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docwords.containsAll(keyword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LL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disjoint(docWords, keywords)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N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O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0B19A-163C-40DB-AC3B-0CFBEBA2AAA6}" type="slidenum">
              <a:t>26</a:t>
            </a:fld>
          </a:p>
        </p:txBody>
      </p:sp>
    </p:spTree>
  </p:cSld>
  <p:transition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information retrieval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 of 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isjoint 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 docwords, Set keywords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rue if and only if the se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cwo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eywo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no common wor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terator iter =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keywords.iterator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iter.hasNext()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keyword = (String) iter.next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docwords.contains(word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4D2B7-E229-461F-901C-AAD12A756523}" type="slidenum">
              <a:t>27</a:t>
            </a:fld>
          </a:p>
        </p:txBody>
      </p:sp>
    </p:spTree>
  </p:cSld>
  <p:transition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information retrieval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 of 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t readAllWords (String name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set of all words occurring in the docume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fferedReader doc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ufferedRead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putStreamRead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ileInputStream(name))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 words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 TreeSe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;;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word = readWord(doc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word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docu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words.add(word.toLowerCase()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c.close();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ord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4191120"/>
            <a:ext cx="1905120" cy="609480"/>
          </a:xfrm>
          <a:prstGeom prst="wedgeRectCallout">
            <a:avLst>
              <a:gd name="adj1" fmla="val -118333"/>
              <a:gd name="adj2" fmla="val -3958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0" lang="en-GB" sz="1800" spc="-1" strike="noStrike">
                <a:solidFill>
                  <a:srgbClr val="3333cc"/>
                </a:solidFill>
                <a:latin typeface="Courier New"/>
              </a:rPr>
              <a:t> HashSe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9325F-0731-4D11-85FA-5FA050E2C242}" type="slidenum">
              <a:t>28</a:t>
            </a:fld>
          </a:p>
        </p:txBody>
      </p:sp>
    </p:spTree>
  </p:cSld>
  <p:transition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information retrieval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5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 of 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ring readWord 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fferedReader doc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OException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nd return the next word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kipping any preced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space or punctuation. Return null if no word remains to b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3C5CE-6E5D-45B8-B579-0A8FA345C82B}" type="slidenum">
              <a:t>29</a:t>
            </a:fld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et concep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se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{0, 2, 4, 6, 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{‘.’, ‘!’, ‘?’, ‘:’, ‘;’, ‘,’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{AT, BE, DE, DK, ES, FI, FR, GR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IE, IT, LU, NL, PT, SE, UK}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FT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{CA, MX, US}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, CA, CZ, DE, DK, ES, FR, GR, HU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IS, IT, LU, NL, NO, PL, PT, TR, UK, U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1981080"/>
            <a:ext cx="1905120" cy="304920"/>
          </a:xfrm>
          <a:prstGeom prst="wedgeRectCallout">
            <a:avLst>
              <a:gd name="adj1" fmla="val -159500"/>
              <a:gd name="adj2" fmla="val 34898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a set of inte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2514600"/>
            <a:ext cx="1905120" cy="304920"/>
          </a:xfrm>
          <a:prstGeom prst="wedgeRectCallout">
            <a:avLst>
              <a:gd name="adj1" fmla="val -107500"/>
              <a:gd name="adj2" fmla="val 22398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a set of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81680" y="5181480"/>
            <a:ext cx="1752840" cy="304920"/>
          </a:xfrm>
          <a:prstGeom prst="wedgeRectCallout">
            <a:avLst>
              <a:gd name="adj1" fmla="val -93657"/>
              <a:gd name="adj2" fmla="val -14427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sets of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C80DB-5974-4A67-9B13-706CFAF4496B}" type="slidenum">
              <a:t>3</a:t>
            </a:fld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et concep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din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number of member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This is written #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{red, white, red}  =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2590920"/>
            <a:ext cx="2133720" cy="609480"/>
          </a:xfrm>
          <a:prstGeom prst="wedgeRectCallout">
            <a:avLst>
              <a:gd name="adj1" fmla="val -133481"/>
              <a:gd name="adj2" fmla="val 11199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Duplicate members are not coun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35268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has cardinality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test wheth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member of 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This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bership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ritt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5334120"/>
            <a:ext cx="2133720" cy="609480"/>
          </a:xfrm>
          <a:prstGeom prst="wedgeRectCallout">
            <a:avLst>
              <a:gd name="adj1" fmla="val -195981"/>
              <a:gd name="adj2" fmla="val 19532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SE is </a:t>
            </a:r>
            <a:r>
              <a:rPr b="1" lang="en-GB" sz="2000" spc="-1" strike="noStrike">
                <a:solidFill>
                  <a:srgbClr val="008000"/>
                </a:solidFill>
                <a:latin typeface="Times New Roman"/>
              </a:rPr>
              <a:t>not</a:t>
            </a: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 a member of </a:t>
            </a:r>
            <a:r>
              <a:rPr b="0" i="1" lang="en-GB" sz="2000" spc="-1" strike="noStrike">
                <a:solidFill>
                  <a:srgbClr val="008000"/>
                </a:solidFill>
                <a:latin typeface="Times New Roman"/>
              </a:rPr>
              <a:t>NATO</a:t>
            </a: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49E6A-163A-4DBA-8A79-61F683384E8A}" type="slidenum">
              <a:t>4</a:t>
            </a:fld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et concep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ets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they contain exactly the same members.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FT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US, CA, MX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FT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CA, U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0800" y="2133720"/>
            <a:ext cx="2133720" cy="609480"/>
          </a:xfrm>
          <a:prstGeom prst="wedgeRectCallout">
            <a:avLst>
              <a:gd name="adj1" fmla="val -120087"/>
              <a:gd name="adj2" fmla="val 23958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Order of members does not mat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2895480"/>
            <a:ext cx="3048120" cy="381240"/>
          </a:xfrm>
          <a:prstGeom prst="wedgeRectCallout">
            <a:avLst>
              <a:gd name="adj1" fmla="val -91773"/>
              <a:gd name="adj2" fmla="val -2208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These two sets are </a:t>
            </a:r>
            <a:r>
              <a:rPr b="1" lang="en-GB" sz="2000" spc="-1" strike="noStrike">
                <a:solidFill>
                  <a:srgbClr val="008000"/>
                </a:solidFill>
                <a:latin typeface="Times New Roman"/>
              </a:rPr>
              <a:t>not</a:t>
            </a: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 equ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85800" y="3352680"/>
            <a:ext cx="8077320" cy="2819520"/>
            <a:chOff x="685800" y="3352680"/>
            <a:chExt cx="8077320" cy="2819520"/>
          </a:xfrm>
        </p:grpSpPr>
        <p:sp>
          <p:nvSpPr>
            <p:cNvPr id="66" name=""/>
            <p:cNvSpPr/>
            <p:nvPr/>
          </p:nvSpPr>
          <p:spPr>
            <a:xfrm>
              <a:off x="685800" y="3352680"/>
              <a:ext cx="807732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18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bsum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is a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perse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) s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every member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lso a member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This is writte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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E.g.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901"/>
                </a:spcBef>
                <a:tabLst>
                  <a:tab algn="l" pos="0"/>
                  <a:tab algn="l" pos="7621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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{CA, US}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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361960" y="4724280"/>
              <a:ext cx="2286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5334120" y="4648320"/>
            <a:ext cx="3200400" cy="380880"/>
          </a:xfrm>
          <a:prstGeom prst="wedgeRectCallout">
            <a:avLst>
              <a:gd name="adj1" fmla="val -112402"/>
              <a:gd name="adj2" fmla="val -875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8000"/>
                </a:solidFill>
                <a:latin typeface="Times New Roman"/>
              </a:rPr>
              <a:t>NATO</a:t>
            </a: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 does </a:t>
            </a:r>
            <a:r>
              <a:rPr b="1" lang="en-GB" sz="2000" spc="-1" strike="noStrike">
                <a:solidFill>
                  <a:srgbClr val="008000"/>
                </a:solidFill>
                <a:latin typeface="Times New Roman"/>
              </a:rPr>
              <a:t>not</a:t>
            </a: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 subsume </a:t>
            </a:r>
            <a:r>
              <a:rPr b="0" i="1" lang="en-GB" sz="2000" spc="-1" strike="noStrike">
                <a:solidFill>
                  <a:srgbClr val="008000"/>
                </a:solidFill>
                <a:latin typeface="Times New Roman"/>
              </a:rPr>
              <a:t>EU</a:t>
            </a: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DE0F6-8D49-47D3-96AA-194BD6B7B443}" type="slidenum">
              <a:t>5</a:t>
            </a:fld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et concep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5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30481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se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containing just those values that are member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both. This is writt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30481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DK, NO, SE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FI, IS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{DK, FI, IS, NO, SE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DK, NO, SE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IS, NO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{DK, IS, NO, S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EA576-1EC3-4E3C-A2F4-5A69269E823F}" type="slidenum">
              <a:t>6</a:t>
            </a:fld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et concep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6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30481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se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containing just those values that are members of bo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is is writt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30481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F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{CA, US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F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30481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ets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they have no common member, I.e., if their intersection is empty.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30481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F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disjoi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j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3F541-42BF-41B8-8712-6AAF1EE0CF5E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et concep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7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se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containing just those values that are member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t no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is is writt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, CZ, HU, IS, NO, PL, TR, US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{AT, FI, IE, S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1DAD9-5513-423E-ACB2-5D9F630A08F6}" type="slidenum">
              <a:t>8</a:t>
            </a:fld>
          </a:p>
        </p:txBody>
      </p:sp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et application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lling check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333440"/>
                <a:tab algn="l" pos="20955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lling checker’s dictionary is a set of wor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333440"/>
                <a:tab algn="l" pos="20955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lling checker highlights any words in the document that are not in the diction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333440"/>
                <a:tab algn="l" pos="20955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lling checker might allow the user to add words to the diction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al database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333440"/>
                <a:tab algn="l" pos="20955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lation is essentially a set of tu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333440"/>
                <a:tab algn="l" pos="20955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tuple is distin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333440"/>
                <a:tab algn="l" pos="20955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uples are in no particular or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BBFA6-9D00-4A87-BFDE-CE88D2AED715}" type="slidenum">
              <a:t>9</a:t>
            </a:fld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12:16:58Z</dcterms:created>
  <dc:creator>Watt</dc:creator>
  <dc:description/>
  <dc:language>en-US</dc:language>
  <cp:lastModifiedBy>David A Watt</cp:lastModifiedBy>
  <cp:lastPrinted>2000-10-24T16:09:57Z</cp:lastPrinted>
  <dcterms:modified xsi:type="dcterms:W3CDTF">2002-01-04T09:54:42Z</dcterms:modified>
  <cp:revision>281</cp:revision>
  <dc:subject/>
  <dc:title>Formalizing the Dynamic Semantics of Java</dc:title>
</cp:coreProperties>
</file>