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9928225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C8178-AD33-4618-8DDF-A70198A24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BDD2-5EC0-4910-8884-FECB0FD4A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13DE4-A82F-4A01-B651-3FE7EE319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E017-163E-44AE-BD81-4DF66FC8C4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F4854-65F3-4B73-A0B5-0F25A7F546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1D6B-34FB-4911-B885-7B9F2AD8D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19D62-28D8-48A2-BB78-589FEBEE5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87EE-64E9-4444-9471-A2849AE1E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31720"/>
            <a:ext cx="77724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FDC5-4625-42F6-9716-9AF425863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320A-1BD2-4856-8E52-BC7C8D338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B5F9-F358-48B4-A862-EC5B980CA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5128-FE78-44F9-980D-357BE7075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© 2004, D.A. Watt and D.F.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4-</a:t>
            </a:r>
            <a:fld id="{8B40336A-B4BC-477D-96B2-11A165569C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609480"/>
            <a:ext cx="7772400" cy="16765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</a:rPr>
              <a:t>14</a:t>
            </a:r>
            <a:br>
              <a:rPr sz="3200"/>
            </a:br>
            <a:r>
              <a:rPr b="1" lang="en-GB" sz="3200" spc="-1" strike="noStrike">
                <a:solidFill>
                  <a:srgbClr val="008000"/>
                </a:solidFill>
                <a:latin typeface="Times New Roman"/>
              </a:rPr>
              <a:t>Tree AD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2590920"/>
            <a:ext cx="777240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conce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ications of 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ADT – requirements, cont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ed implementation of 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ecialized tree A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se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8492A-E804-41C0-8091-0233B5FCC0D7}" type="slidenum">
              <a:t>1</a:t>
            </a:fld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Example: file hierarchi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98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////////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//////////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ileHierarchy (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a new, empty file hierarch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Tre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inkedUnorderedTree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////////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 hierarchy operatio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//////////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 (String localNam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Node folder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new document, nam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al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nsid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l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i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 hierarchy, or throw an exception if the name is already us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used(localName, folder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llegalArgumentException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scriptor desc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escriptor(localNam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Descriptor.DEFAULT_PERMS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ile(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Tree.addChild(folder, descr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BF95-F749-4BA6-97B7-647A73D7CB29}" type="slidenum">
              <a:t>10</a:t>
            </a:fld>
          </a:p>
        </p:txBody>
      </p:sp>
    </p:spTree>
  </p:cSld>
  <p:transition>
    <p:cover dir="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Example: file hierarchi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ist find (String targetName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a list of the complete path-names of all documents nam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target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is file hierarch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 pathname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inkedList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All(targetName, fileTree.root(), pathname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athname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le hierarchy operations, omitted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B3BC4-2D64-45B0-AC69-FD5ADAD78E67}" type="slidenum">
              <a:t>11</a:t>
            </a:fld>
          </a:p>
        </p:txBody>
      </p:sp>
    </p:spTree>
  </p:cSld>
  <p:transition>
    <p:cover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Example: file hierarchi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////////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xiliary method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//////////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used (String nam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Node folder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 if and only 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the name of a document or fold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l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is file hierarch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erator children = fileTree.children(folder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children.hasNext()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Node child = (Tree.Node) children.next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scriptor childDescr =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escriptor) child.getElement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name.equals(childDescr.name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CF85-FB61-4969-8DEB-389CD689FC94}" type="slidenum">
              <a:t>12</a:t>
            </a:fld>
          </a:p>
        </p:txBody>
      </p:sp>
    </p:spTree>
  </p:cSld>
  <p:transition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Example: file hierarchi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78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indAll (String targetNam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Node folder, List pathnames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thna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complete pathnames of all documents nam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target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folder, and all of its sub-folders, in this fi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erarch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erator children = fileTree.children(folder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children.hasNext()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Node child = (Tree.Node) children.next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scriptor childDescr =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escriptor) child.getElement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childDescr.isFold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All(targetName, child, pathname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targetName.equals(childDescr.name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thnames.add(pathName(child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3EB0-ACD2-401C-9D71-9119A8A7EBCF}" type="slidenum">
              <a:t>13</a:t>
            </a:fld>
          </a:p>
        </p:txBody>
      </p:sp>
    </p:spTree>
  </p:cSld>
  <p:transition>
    <p:cover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Example: file hierarchi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ring pathName (Tree.Node node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he full pathname of the file a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is file hierarch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node == fileTree.root(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OOTPATHNAM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scriptor descr =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escriptor) node.getElement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athName(fileTree.parent(node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DELIMITER + descr.nam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//////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ner class for document/folder descriptors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////////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abo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9D543-F5D3-4570-9D88-E555618BEDB6}" type="slidenum">
              <a:t>14</a:t>
            </a:fld>
          </a:p>
        </p:txBody>
      </p:sp>
    </p:spTree>
  </p:cSld>
  <p:transition>
    <p:cover dir="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ree ADT: requirement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access the root of a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access all ancestors of any node in a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access all descendants of any node in a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add a new node to a tree, either as the root node or as the child of an existing n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remove a given node from a tree, together will all its descenda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traverse a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45E0-4522-44FA-A222-1B486A89CBAD}" type="slidenum">
              <a:t>15</a:t>
            </a:fld>
          </a:p>
        </p:txBody>
      </p:sp>
    </p:spTree>
  </p:cSld>
  <p:transition>
    <p:cover dir="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ree ADT: contract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e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a tree whose elem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rbitrary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392A0-7B75-4055-8E0E-1E22180A8816}" type="slidenum">
              <a:t>16</a:t>
            </a:fld>
          </a:p>
        </p:txBody>
      </p:sp>
    </p:spTree>
  </p:cSld>
  <p:transition>
    <p:cover dir="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ree ADT: contract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ee.Node root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root node of this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ee.Node parent (Tree.Node nod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paren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 tree, or 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root n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hildCount (Tree.Node nod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number of children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7926-6472-4433-8146-70FC4F040692}" type="slidenum">
              <a:t>17</a:t>
            </a:fld>
          </a:p>
        </p:txBody>
      </p:sp>
    </p:spTree>
  </p:cSld>
  <p:transition>
    <p:cover dir="u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ree ADT: contract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keRoot (Object elem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is tree consist of just a root n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ing elem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ee.Node addChild 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ee.Node node, Object elem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 new node contain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a child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 tree, and return the new node.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node has no children of its 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move (Tree.Node nod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is tree, together with all i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enda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0FE6-C5F1-425E-A2EA-507577D935AF}" type="slidenum">
              <a:t>18</a:t>
            </a:fld>
          </a:p>
        </p:txBody>
      </p:sp>
    </p:spTree>
  </p:cSld>
  <p:transition>
    <p:cover dir="u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ree ADT: contract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terator children (Tree.Node nod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n iterator that will visit all the childre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A50BD-CFFF-459E-8A3C-83269F42303B}" type="slidenum">
              <a:t>19</a:t>
            </a:fld>
          </a:p>
        </p:txBody>
      </p:sp>
    </p:spTree>
  </p:cSld>
  <p:transition>
    <p:cover dir="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ree concept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hierarchical collection of elements, and is a generalization of the binary trees we studied previou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ree consists of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has an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has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ran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ding to a number of other nodes (its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ree has a unique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roo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node, apart from the root node, is the child of exactly one other node (its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2224-D010-4B74-BADB-1DFE8ADBC85F}" type="slidenum">
              <a:t>2</a:t>
            </a:fld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ree ADT: contract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er interface for tree nod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ee.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a node of a tree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a single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getElement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element contained in this n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Element (Object elem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element contained in this node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4C35-85BD-4099-8D64-6E0768609DF2}" type="slidenum">
              <a:t>20</a:t>
            </a:fld>
          </a:p>
        </p:txBody>
      </p:sp>
    </p:spTree>
  </p:cSld>
  <p:transition>
    <p:cover dir="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inked implementation of tree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many possible implementations of the tree A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 will we consider a linked implementation based on S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an distinguish between two different kinds of tree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an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unorder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ree, each parent has a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s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children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an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order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ree, each parent has a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have previously seen an implementation of a set using an unsorted S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will be adequate here, since the number of children per parent tends to be quite sm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0C58-F34A-4953-BF22-313EB1E2232C}" type="slidenum">
              <a:t>21</a:t>
            </a:fld>
          </a:p>
        </p:txBody>
      </p:sp>
    </p:spTree>
  </p:cSld>
  <p:transition>
    <p:cover dir="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Implementation of unordered tree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39640" y="2655720"/>
            <a:ext cx="8280360" cy="2934000"/>
            <a:chOff x="539640" y="2655720"/>
            <a:chExt cx="8280360" cy="2934000"/>
          </a:xfrm>
        </p:grpSpPr>
        <p:sp>
          <p:nvSpPr>
            <p:cNvPr id="202" name=""/>
            <p:cNvSpPr/>
            <p:nvPr/>
          </p:nvSpPr>
          <p:spPr>
            <a:xfrm>
              <a:off x="539640" y="2655720"/>
              <a:ext cx="246240" cy="2444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28520" y="309564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34880" y="313524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Arch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4160" y="2774880"/>
              <a:ext cx="505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4160" y="272880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70080" y="3638520"/>
              <a:ext cx="4925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117520" y="3279600"/>
              <a:ext cx="100080" cy="100080"/>
              <a:chOff x="2117520" y="3279600"/>
              <a:chExt cx="100080" cy="100080"/>
            </a:xfrm>
          </p:grpSpPr>
          <p:sp>
            <p:nvSpPr>
              <p:cNvPr id="209" name=""/>
              <p:cNvSpPr/>
              <p:nvPr/>
            </p:nvSpPr>
            <p:spPr>
              <a:xfrm>
                <a:off x="2163600" y="332568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17520" y="32796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055520" y="3279600"/>
              <a:ext cx="109440" cy="522000"/>
              <a:chOff x="1055520" y="3279600"/>
              <a:chExt cx="109440" cy="522000"/>
            </a:xfrm>
          </p:grpSpPr>
          <p:sp>
            <p:nvSpPr>
              <p:cNvPr id="212" name=""/>
              <p:cNvSpPr/>
              <p:nvPr/>
            </p:nvSpPr>
            <p:spPr>
              <a:xfrm flipH="1">
                <a:off x="1110960" y="331992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1064520" y="327348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400000">
                <a:off x="1036800" y="367344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2666880" y="381456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73240" y="385452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Fran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765600" y="3998880"/>
              <a:ext cx="522000" cy="109440"/>
              <a:chOff x="3765600" y="3998880"/>
              <a:chExt cx="522000" cy="109440"/>
            </a:xfrm>
          </p:grpSpPr>
          <p:sp>
            <p:nvSpPr>
              <p:cNvPr id="218" name=""/>
              <p:cNvSpPr/>
              <p:nvPr/>
            </p:nvSpPr>
            <p:spPr>
              <a:xfrm>
                <a:off x="3805920" y="4051440"/>
                <a:ext cx="339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765600" y="400536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141080" y="399888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flipV="1">
              <a:off x="3808440" y="3638520"/>
              <a:ext cx="1440" cy="26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3768840" y="3851280"/>
              <a:ext cx="8712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2693880" y="3998880"/>
              <a:ext cx="109440" cy="522000"/>
              <a:chOff x="2693880" y="3998880"/>
              <a:chExt cx="109440" cy="522000"/>
            </a:xfrm>
          </p:grpSpPr>
          <p:sp>
            <p:nvSpPr>
              <p:cNvPr id="224" name=""/>
              <p:cNvSpPr/>
              <p:nvPr/>
            </p:nvSpPr>
            <p:spPr>
              <a:xfrm flipH="1">
                <a:off x="2749320" y="403920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2702880" y="399276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5400000">
                <a:off x="2675160" y="439272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028520" y="381456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34880" y="385452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Georg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127240" y="3998880"/>
              <a:ext cx="522000" cy="109440"/>
              <a:chOff x="2127240" y="3998880"/>
              <a:chExt cx="522000" cy="109440"/>
            </a:xfrm>
          </p:grpSpPr>
          <p:sp>
            <p:nvSpPr>
              <p:cNvPr id="230" name=""/>
              <p:cNvSpPr/>
              <p:nvPr/>
            </p:nvSpPr>
            <p:spPr>
              <a:xfrm>
                <a:off x="2167560" y="4051440"/>
                <a:ext cx="339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27240" y="400536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02720" y="399888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117520" y="3422520"/>
              <a:ext cx="109440" cy="522000"/>
              <a:chOff x="2117520" y="3422520"/>
              <a:chExt cx="109440" cy="52200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2170080" y="356508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2130120" y="385056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2098800" y="344088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1065240" y="3998880"/>
              <a:ext cx="109440" cy="522000"/>
              <a:chOff x="1065240" y="3998880"/>
              <a:chExt cx="109440" cy="522000"/>
            </a:xfrm>
          </p:grpSpPr>
          <p:sp>
            <p:nvSpPr>
              <p:cNvPr id="238" name=""/>
              <p:cNvSpPr/>
              <p:nvPr/>
            </p:nvSpPr>
            <p:spPr>
              <a:xfrm flipH="1">
                <a:off x="1120680" y="403920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5400000">
                <a:off x="1074240" y="399276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5400000">
                <a:off x="1046520" y="439272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028520" y="453528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34880" y="457524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Fr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117520" y="4143240"/>
              <a:ext cx="109440" cy="522000"/>
              <a:chOff x="2117520" y="4143240"/>
              <a:chExt cx="109440" cy="52200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2170080" y="428580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6200000">
                <a:off x="2130120" y="457128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200000">
                <a:off x="2098800" y="416160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4303800" y="381456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10160" y="385452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Coli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402160" y="3998880"/>
              <a:ext cx="522000" cy="109440"/>
              <a:chOff x="5402160" y="3998880"/>
              <a:chExt cx="522000" cy="109440"/>
            </a:xfrm>
          </p:grpSpPr>
          <p:sp>
            <p:nvSpPr>
              <p:cNvPr id="250" name=""/>
              <p:cNvSpPr/>
              <p:nvPr/>
            </p:nvSpPr>
            <p:spPr>
              <a:xfrm>
                <a:off x="5442480" y="4051440"/>
                <a:ext cx="339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02160" y="400536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77640" y="399888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V="1">
              <a:off x="5445000" y="3638520"/>
              <a:ext cx="1800" cy="26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5405400" y="3851280"/>
              <a:ext cx="8712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0360" y="381456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6720" y="385452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Jo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7081920" y="3638520"/>
              <a:ext cx="144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7042320" y="3851280"/>
              <a:ext cx="8712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74800" y="453528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81160" y="457524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73520" y="4719600"/>
              <a:ext cx="522000" cy="109440"/>
              <a:chOff x="3773520" y="4719600"/>
              <a:chExt cx="522000" cy="109440"/>
            </a:xfrm>
          </p:grpSpPr>
          <p:sp>
            <p:nvSpPr>
              <p:cNvPr id="262" name=""/>
              <p:cNvSpPr/>
              <p:nvPr/>
            </p:nvSpPr>
            <p:spPr>
              <a:xfrm>
                <a:off x="3813840" y="4772160"/>
                <a:ext cx="339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73520" y="472608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49000" y="471960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701800" y="4719600"/>
              <a:ext cx="109440" cy="522000"/>
              <a:chOff x="2701800" y="4719600"/>
              <a:chExt cx="109440" cy="522000"/>
            </a:xfrm>
          </p:grpSpPr>
          <p:sp>
            <p:nvSpPr>
              <p:cNvPr id="266" name=""/>
              <p:cNvSpPr/>
              <p:nvPr/>
            </p:nvSpPr>
            <p:spPr>
              <a:xfrm flipH="1">
                <a:off x="2757240" y="475992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5400000">
                <a:off x="2710800" y="471348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5400000">
                <a:off x="2683080" y="511344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2679840" y="5256000"/>
              <a:ext cx="122364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86200" y="529596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Susi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778200" y="5440320"/>
              <a:ext cx="522000" cy="109440"/>
              <a:chOff x="3778200" y="5440320"/>
              <a:chExt cx="522000" cy="109440"/>
            </a:xfrm>
          </p:grpSpPr>
          <p:sp>
            <p:nvSpPr>
              <p:cNvPr id="272" name=""/>
              <p:cNvSpPr/>
              <p:nvPr/>
            </p:nvSpPr>
            <p:spPr>
              <a:xfrm>
                <a:off x="3818520" y="5492880"/>
                <a:ext cx="339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78200" y="544680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53680" y="544032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768840" y="4863960"/>
              <a:ext cx="109440" cy="522000"/>
              <a:chOff x="3768840" y="4863960"/>
              <a:chExt cx="109440" cy="522000"/>
            </a:xfrm>
          </p:grpSpPr>
          <p:sp>
            <p:nvSpPr>
              <p:cNvPr id="276" name=""/>
              <p:cNvSpPr/>
              <p:nvPr/>
            </p:nvSpPr>
            <p:spPr>
              <a:xfrm flipV="1">
                <a:off x="3821400" y="500652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6200000">
                <a:off x="3781440" y="529200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6200000">
                <a:off x="3750120" y="488232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4316400" y="525600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22760" y="529596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Jef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13160" y="453708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19520" y="457668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Maggi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5411880" y="4721040"/>
              <a:ext cx="521640" cy="109440"/>
              <a:chOff x="5411880" y="4721040"/>
              <a:chExt cx="521640" cy="109440"/>
            </a:xfrm>
          </p:grpSpPr>
          <p:sp>
            <p:nvSpPr>
              <p:cNvPr id="284" name=""/>
              <p:cNvSpPr/>
              <p:nvPr/>
            </p:nvSpPr>
            <p:spPr>
              <a:xfrm>
                <a:off x="5452200" y="4773600"/>
                <a:ext cx="339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11880" y="472752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87360" y="472104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5952960" y="454176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59320" y="4581360"/>
              <a:ext cx="64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An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5979960" y="4726080"/>
              <a:ext cx="109440" cy="521640"/>
              <a:chOff x="5979960" y="4726080"/>
              <a:chExt cx="109440" cy="521640"/>
            </a:xfrm>
          </p:grpSpPr>
          <p:sp>
            <p:nvSpPr>
              <p:cNvPr id="290" name=""/>
              <p:cNvSpPr/>
              <p:nvPr/>
            </p:nvSpPr>
            <p:spPr>
              <a:xfrm flipH="1">
                <a:off x="6035400" y="476640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5400000">
                <a:off x="5988960" y="471996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5961600" y="511992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959440" y="526104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65800" y="530064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Emm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7058160" y="5445000"/>
              <a:ext cx="521640" cy="109440"/>
              <a:chOff x="7058160" y="5445000"/>
              <a:chExt cx="521640" cy="109440"/>
            </a:xfrm>
          </p:grpSpPr>
          <p:sp>
            <p:nvSpPr>
              <p:cNvPr id="296" name=""/>
              <p:cNvSpPr/>
              <p:nvPr/>
            </p:nvSpPr>
            <p:spPr>
              <a:xfrm>
                <a:off x="7098480" y="5497560"/>
                <a:ext cx="339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058160" y="545148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433640" y="544500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7596000" y="525780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02720" y="529740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J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055520" y="4719600"/>
              <a:ext cx="100080" cy="100080"/>
              <a:chOff x="1055520" y="4719600"/>
              <a:chExt cx="100080" cy="100080"/>
            </a:xfrm>
          </p:grpSpPr>
          <p:sp>
            <p:nvSpPr>
              <p:cNvPr id="302" name=""/>
              <p:cNvSpPr/>
              <p:nvPr/>
            </p:nvSpPr>
            <p:spPr>
              <a:xfrm>
                <a:off x="1101600" y="476568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055520" y="47196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122560" y="4719600"/>
              <a:ext cx="100080" cy="100080"/>
              <a:chOff x="2122560" y="4719600"/>
              <a:chExt cx="100080" cy="100080"/>
            </a:xfrm>
          </p:grpSpPr>
          <p:sp>
            <p:nvSpPr>
              <p:cNvPr id="305" name=""/>
              <p:cNvSpPr/>
              <p:nvPr/>
            </p:nvSpPr>
            <p:spPr>
              <a:xfrm>
                <a:off x="2168640" y="476568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22560" y="47196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4340160" y="4719600"/>
              <a:ext cx="100080" cy="100080"/>
              <a:chOff x="4340160" y="4719600"/>
              <a:chExt cx="100080" cy="100080"/>
            </a:xfrm>
          </p:grpSpPr>
          <p:sp>
            <p:nvSpPr>
              <p:cNvPr id="308" name=""/>
              <p:cNvSpPr/>
              <p:nvPr/>
            </p:nvSpPr>
            <p:spPr>
              <a:xfrm>
                <a:off x="4386240" y="476568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40160" y="47196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5405400" y="5448240"/>
              <a:ext cx="100080" cy="100080"/>
              <a:chOff x="5405400" y="5448240"/>
              <a:chExt cx="100080" cy="100080"/>
            </a:xfrm>
          </p:grpSpPr>
          <p:sp>
            <p:nvSpPr>
              <p:cNvPr id="311" name=""/>
              <p:cNvSpPr/>
              <p:nvPr/>
            </p:nvSpPr>
            <p:spPr>
              <a:xfrm>
                <a:off x="5451480" y="54943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05400" y="54482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349880" y="5438880"/>
              <a:ext cx="99720" cy="99720"/>
              <a:chOff x="4349880" y="5438880"/>
              <a:chExt cx="99720" cy="99720"/>
            </a:xfrm>
          </p:grpSpPr>
          <p:sp>
            <p:nvSpPr>
              <p:cNvPr id="314" name=""/>
              <p:cNvSpPr/>
              <p:nvPr/>
            </p:nvSpPr>
            <p:spPr>
              <a:xfrm>
                <a:off x="4395600" y="5484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349880" y="5438880"/>
                <a:ext cx="997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712960" y="5438880"/>
              <a:ext cx="100080" cy="99720"/>
              <a:chOff x="2712960" y="5438880"/>
              <a:chExt cx="100080" cy="99720"/>
            </a:xfrm>
          </p:grpSpPr>
          <p:sp>
            <p:nvSpPr>
              <p:cNvPr id="317" name=""/>
              <p:cNvSpPr/>
              <p:nvPr/>
            </p:nvSpPr>
            <p:spPr>
              <a:xfrm>
                <a:off x="2759040" y="548460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712960" y="54388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995800" y="5448240"/>
              <a:ext cx="100080" cy="100080"/>
              <a:chOff x="5995800" y="5448240"/>
              <a:chExt cx="100080" cy="100080"/>
            </a:xfrm>
          </p:grpSpPr>
          <p:sp>
            <p:nvSpPr>
              <p:cNvPr id="320" name=""/>
              <p:cNvSpPr/>
              <p:nvPr/>
            </p:nvSpPr>
            <p:spPr>
              <a:xfrm>
                <a:off x="6041880" y="54943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995800" y="54482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628040" y="5438880"/>
              <a:ext cx="99720" cy="99720"/>
              <a:chOff x="7628040" y="5438880"/>
              <a:chExt cx="99720" cy="99720"/>
            </a:xfrm>
          </p:grpSpPr>
          <p:sp>
            <p:nvSpPr>
              <p:cNvPr id="323" name=""/>
              <p:cNvSpPr/>
              <p:nvPr/>
            </p:nvSpPr>
            <p:spPr>
              <a:xfrm>
                <a:off x="7673760" y="5484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628040" y="5438880"/>
                <a:ext cx="997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8690040" y="5438880"/>
              <a:ext cx="100080" cy="99720"/>
              <a:chOff x="8690040" y="5438880"/>
              <a:chExt cx="100080" cy="99720"/>
            </a:xfrm>
          </p:grpSpPr>
          <p:sp>
            <p:nvSpPr>
              <p:cNvPr id="326" name=""/>
              <p:cNvSpPr/>
              <p:nvPr/>
            </p:nvSpPr>
            <p:spPr>
              <a:xfrm>
                <a:off x="8736120" y="548460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690040" y="54388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7041960" y="4728960"/>
              <a:ext cx="100080" cy="100080"/>
              <a:chOff x="7041960" y="4728960"/>
              <a:chExt cx="100080" cy="100080"/>
            </a:xfrm>
          </p:grpSpPr>
          <p:sp>
            <p:nvSpPr>
              <p:cNvPr id="329" name=""/>
              <p:cNvSpPr/>
              <p:nvPr/>
            </p:nvSpPr>
            <p:spPr>
              <a:xfrm>
                <a:off x="7088040" y="477504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041960" y="472896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032600" y="3998880"/>
              <a:ext cx="100080" cy="100080"/>
              <a:chOff x="7032600" y="3998880"/>
              <a:chExt cx="100080" cy="100080"/>
            </a:xfrm>
          </p:grpSpPr>
          <p:sp>
            <p:nvSpPr>
              <p:cNvPr id="332" name=""/>
              <p:cNvSpPr/>
              <p:nvPr/>
            </p:nvSpPr>
            <p:spPr>
              <a:xfrm>
                <a:off x="7078680" y="404496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032600" y="39988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972040" y="3998880"/>
              <a:ext cx="100080" cy="100080"/>
              <a:chOff x="5972040" y="3998880"/>
              <a:chExt cx="100080" cy="100080"/>
            </a:xfrm>
          </p:grpSpPr>
          <p:sp>
            <p:nvSpPr>
              <p:cNvPr id="335" name=""/>
              <p:cNvSpPr/>
              <p:nvPr/>
            </p:nvSpPr>
            <p:spPr>
              <a:xfrm>
                <a:off x="6018120" y="404496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972040" y="39988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4330800" y="3998880"/>
              <a:ext cx="99720" cy="100080"/>
              <a:chOff x="4330800" y="3998880"/>
              <a:chExt cx="99720" cy="100080"/>
            </a:xfrm>
          </p:grpSpPr>
          <p:sp>
            <p:nvSpPr>
              <p:cNvPr id="338" name=""/>
              <p:cNvSpPr/>
              <p:nvPr/>
            </p:nvSpPr>
            <p:spPr>
              <a:xfrm>
                <a:off x="4376520" y="40449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330800" y="399888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048440" y="4863960"/>
              <a:ext cx="109440" cy="522000"/>
              <a:chOff x="7048440" y="4863960"/>
              <a:chExt cx="109440" cy="522000"/>
            </a:xfrm>
          </p:grpSpPr>
          <p:sp>
            <p:nvSpPr>
              <p:cNvPr id="341" name=""/>
              <p:cNvSpPr/>
              <p:nvPr/>
            </p:nvSpPr>
            <p:spPr>
              <a:xfrm flipV="1">
                <a:off x="7101000" y="500652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6200000">
                <a:off x="7061040" y="529200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6200000">
                <a:off x="7029720" y="488232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3816360" y="4356000"/>
              <a:ext cx="32796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451480" y="4355640"/>
              <a:ext cx="1440" cy="26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6200000">
              <a:off x="5411880" y="4568760"/>
              <a:ext cx="8712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7097760" y="4354200"/>
              <a:ext cx="1440" cy="21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7057800" y="4566600"/>
              <a:ext cx="874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3763800" y="4152960"/>
              <a:ext cx="109440" cy="522000"/>
              <a:chOff x="3763800" y="4152960"/>
              <a:chExt cx="109440" cy="522000"/>
            </a:xfrm>
          </p:grpSpPr>
          <p:sp>
            <p:nvSpPr>
              <p:cNvPr id="350" name=""/>
              <p:cNvSpPr/>
              <p:nvPr/>
            </p:nvSpPr>
            <p:spPr>
              <a:xfrm flipV="1">
                <a:off x="3816360" y="429552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6200000">
                <a:off x="3776400" y="458100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6200000">
                <a:off x="3745080" y="417132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3822840" y="5079960"/>
              <a:ext cx="1616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449680" y="5070240"/>
              <a:ext cx="1800" cy="21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5410080" y="5283000"/>
              <a:ext cx="87480" cy="9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95960" y="5079960"/>
              <a:ext cx="1656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740800" y="5070240"/>
              <a:ext cx="1440" cy="21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8700840" y="5282640"/>
              <a:ext cx="874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1117080" y="2774880"/>
              <a:ext cx="1800" cy="16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2123640" y="3128760"/>
              <a:ext cx="874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1043640" y="2959920"/>
              <a:ext cx="146160" cy="10944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0" y="69"/>
                  </a:moveTo>
                  <a:lnTo>
                    <a:pt x="105" y="35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716360" y="1700280"/>
            <a:ext cx="3600720" cy="1581840"/>
            <a:chOff x="4716360" y="1700280"/>
            <a:chExt cx="3600720" cy="1581840"/>
          </a:xfrm>
        </p:grpSpPr>
        <p:sp>
          <p:nvSpPr>
            <p:cNvPr id="363" name=""/>
            <p:cNvSpPr/>
            <p:nvPr/>
          </p:nvSpPr>
          <p:spPr>
            <a:xfrm>
              <a:off x="5292720" y="2349360"/>
              <a:ext cx="1224000" cy="328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6391440" y="2533680"/>
              <a:ext cx="521640" cy="109440"/>
              <a:chOff x="6391440" y="2533680"/>
              <a:chExt cx="521640" cy="109440"/>
            </a:xfrm>
          </p:grpSpPr>
          <p:sp>
            <p:nvSpPr>
              <p:cNvPr id="365" name=""/>
              <p:cNvSpPr/>
              <p:nvPr/>
            </p:nvSpPr>
            <p:spPr>
              <a:xfrm>
                <a:off x="6431760" y="2586240"/>
                <a:ext cx="339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91440" y="254016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766920" y="253368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319720" y="2533680"/>
              <a:ext cx="109440" cy="522000"/>
              <a:chOff x="5319720" y="2533680"/>
              <a:chExt cx="109440" cy="522000"/>
            </a:xfrm>
          </p:grpSpPr>
          <p:sp>
            <p:nvSpPr>
              <p:cNvPr id="369" name=""/>
              <p:cNvSpPr/>
              <p:nvPr/>
            </p:nvSpPr>
            <p:spPr>
              <a:xfrm flipH="1">
                <a:off x="5375160" y="257400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5400000">
                <a:off x="5328720" y="252756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5400000">
                <a:off x="5301000" y="2927520"/>
                <a:ext cx="14652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381720" y="1967400"/>
              <a:ext cx="109440" cy="521640"/>
              <a:chOff x="6381720" y="1967400"/>
              <a:chExt cx="109440" cy="521640"/>
            </a:xfrm>
          </p:grpSpPr>
          <p:sp>
            <p:nvSpPr>
              <p:cNvPr id="373" name=""/>
              <p:cNvSpPr/>
              <p:nvPr/>
            </p:nvSpPr>
            <p:spPr>
              <a:xfrm flipV="1">
                <a:off x="6434280" y="2109600"/>
                <a:ext cx="1440" cy="33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200000">
                <a:off x="6394320" y="2395080"/>
                <a:ext cx="8784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200000">
                <a:off x="6363360" y="198576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0" y="69"/>
                    </a:moveTo>
                    <a:lnTo>
                      <a:pt x="105" y="3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4716360" y="3068640"/>
              <a:ext cx="136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link to first chi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48360" y="2492280"/>
              <a:ext cx="13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link to next sib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24360" y="1700280"/>
              <a:ext cx="13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link to pa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B1EC-FAA9-48EA-9694-F7C9680FE5F1}" type="slidenum">
              <a:t>22</a:t>
            </a:fld>
          </a:p>
        </p:txBody>
      </p:sp>
    </p:spTree>
  </p:cSld>
  <p:transition>
    <p:cover dir="u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Implementation of unordered trees (cont’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ary of algorithms (whe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maximum number of children per par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116000" y="2565360"/>
          <a:ext cx="6769080" cy="1787400"/>
        </p:xfrm>
        <a:graphic>
          <a:graphicData uri="http://schemas.openxmlformats.org/drawingml/2006/table">
            <a:tbl>
              <a:tblPr/>
              <a:tblGrid>
                <a:gridCol w="1735200"/>
                <a:gridCol w="3160800"/>
                <a:gridCol w="18730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low link (trivi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L insertion before first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L del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684360" y="4476600"/>
            <a:ext cx="777240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could me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f tree consists of a root node with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, though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 grow in proportion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FFE0-0C21-4854-AD97-EF54D3AB0090}" type="slidenum">
              <a:t>23</a:t>
            </a:fld>
          </a:p>
        </p:txBody>
      </p:sp>
    </p:spTree>
  </p:cSld>
  <p:transition>
    <p:cover dir="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Implementation of ordered tree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implement an ordered tree, we must preserve the order in which the children are added. So add each new child at the end of the S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ary of algorithms (whe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maximum number of children per par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116000" y="3699000"/>
          <a:ext cx="6769080" cy="1746000"/>
        </p:xfrm>
        <a:graphic>
          <a:graphicData uri="http://schemas.openxmlformats.org/drawingml/2006/table">
            <a:tbl>
              <a:tblPr/>
              <a:tblGrid>
                <a:gridCol w="1735200"/>
                <a:gridCol w="3160800"/>
                <a:gridCol w="18730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low link (trivi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L insertion after last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L del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684360" y="555768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could me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f tree consists of a root node with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B294B-1F41-49D4-8F5F-AC4902CF7FF7}" type="slidenum">
              <a:t>24</a:t>
            </a:fld>
          </a:p>
        </p:txBody>
      </p:sp>
    </p:spTree>
  </p:cSld>
  <p:transition>
    <p:cover dir="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Specialized tree ADT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r tree ADT is very general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allows nodes to contain arbitrary elements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allows each node to have an arbitrary number of 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ten, a particular application will require a more specialized 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is case, we can design and implement a specialized tree A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8D34-805B-421B-A0D6-293E1BCB4016}" type="slidenum">
              <a:t>25</a:t>
            </a:fld>
          </a:p>
        </p:txBody>
      </p:sp>
    </p:spTree>
  </p:cSld>
  <p:transition>
    <p:cover dir="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rithmetic expression tree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rithmetic expression is conventionally represented by a string of symb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 – 3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 3.1416 × 5.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 (0.3 + 0.4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/ 2 + 1 /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it is difficult to develop algorithms to interpret expressions in this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, we must take care to interpret expression (d) as (1/2) + (1/3) and not 1/(2 + 1)/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8290-A032-4123-83C2-76FEB60A38DC}" type="slidenum">
              <a:t>26</a:t>
            </a:fld>
          </a:p>
        </p:txBody>
      </p:sp>
    </p:spTree>
  </p:cSld>
  <p:transition>
    <p:cover dir="u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rithmetic expression tre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uch better to use a tree repres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, each leaf node contains a numeral (such as 2 or 3.1416), and each non-leaf node contains an operato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+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or /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the tree makes it clear what the operands of each operator are: we don’t need any brac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write recursive algorithms to traverse the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we can evaluate a tree by recursively evaluating an operator’s children and then applying the operator to the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0F0F-7079-4479-B9AE-FA386CB52759}" type="slidenum">
              <a:t>27</a:t>
            </a:fld>
          </a:p>
        </p:txBody>
      </p:sp>
    </p:spTree>
  </p:cSld>
  <p:transition>
    <p:cover dir="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rithmetic expression tre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54920" y="2610000"/>
            <a:ext cx="1044360" cy="1586520"/>
            <a:chOff x="754920" y="2610000"/>
            <a:chExt cx="1044360" cy="1586520"/>
          </a:xfrm>
        </p:grpSpPr>
        <p:grpSp>
          <p:nvGrpSpPr>
            <p:cNvPr id="395" name=""/>
            <p:cNvGrpSpPr/>
            <p:nvPr/>
          </p:nvGrpSpPr>
          <p:grpSpPr>
            <a:xfrm>
              <a:off x="754920" y="2610000"/>
              <a:ext cx="1044360" cy="1251360"/>
              <a:chOff x="754920" y="2610000"/>
              <a:chExt cx="1044360" cy="1251360"/>
            </a:xfrm>
          </p:grpSpPr>
          <p:sp>
            <p:nvSpPr>
              <p:cNvPr id="396" name=""/>
              <p:cNvSpPr/>
              <p:nvPr/>
            </p:nvSpPr>
            <p:spPr>
              <a:xfrm>
                <a:off x="754920" y="361764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258200" y="26100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320" y="36176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880560" y="2896920"/>
                <a:ext cx="431640" cy="72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312560" y="2896920"/>
                <a:ext cx="432000" cy="72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898920" y="3952800"/>
              <a:ext cx="784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(a) 10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123640" y="2610000"/>
            <a:ext cx="1788480" cy="2547000"/>
            <a:chOff x="2123640" y="2610000"/>
            <a:chExt cx="1788480" cy="2547000"/>
          </a:xfrm>
        </p:grpSpPr>
        <p:grpSp>
          <p:nvGrpSpPr>
            <p:cNvPr id="403" name=""/>
            <p:cNvGrpSpPr/>
            <p:nvPr/>
          </p:nvGrpSpPr>
          <p:grpSpPr>
            <a:xfrm>
              <a:off x="2123640" y="2610000"/>
              <a:ext cx="1788480" cy="2239920"/>
              <a:chOff x="2123640" y="2610000"/>
              <a:chExt cx="1788480" cy="2239920"/>
            </a:xfrm>
          </p:grpSpPr>
          <p:sp>
            <p:nvSpPr>
              <p:cNvPr id="404" name=""/>
              <p:cNvSpPr/>
              <p:nvPr/>
            </p:nvSpPr>
            <p:spPr>
              <a:xfrm>
                <a:off x="3038040" y="2610000"/>
                <a:ext cx="115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×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656880" y="4583160"/>
                <a:ext cx="25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081240" y="2854080"/>
                <a:ext cx="647640" cy="172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2649240" y="2854080"/>
                <a:ext cx="432000" cy="72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2123640" y="3598920"/>
                <a:ext cx="1222560" cy="1251000"/>
                <a:chOff x="2123640" y="3598920"/>
                <a:chExt cx="1222560" cy="12510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2123640" y="460620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569680" y="3598920"/>
                  <a:ext cx="1152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×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784600" y="4606200"/>
                  <a:ext cx="561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3.14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>
                  <a:off x="2198520" y="3885840"/>
                  <a:ext cx="431640" cy="720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630520" y="3885840"/>
                  <a:ext cx="431640" cy="720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4" name=""/>
            <p:cNvSpPr/>
            <p:nvPr/>
          </p:nvSpPr>
          <p:spPr>
            <a:xfrm>
              <a:off x="2267280" y="4913280"/>
              <a:ext cx="163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(b) 2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 3.1416 × 5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271400" y="2592360"/>
            <a:ext cx="1728000" cy="2564640"/>
            <a:chOff x="4271400" y="2592360"/>
            <a:chExt cx="1728000" cy="2564640"/>
          </a:xfrm>
        </p:grpSpPr>
        <p:grpSp>
          <p:nvGrpSpPr>
            <p:cNvPr id="416" name=""/>
            <p:cNvGrpSpPr/>
            <p:nvPr/>
          </p:nvGrpSpPr>
          <p:grpSpPr>
            <a:xfrm>
              <a:off x="4271400" y="2592360"/>
              <a:ext cx="1728000" cy="2240640"/>
              <a:chOff x="4271400" y="2592360"/>
              <a:chExt cx="1728000" cy="224064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899960" y="2592360"/>
                <a:ext cx="115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×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271400" y="45795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4323960" y="2836800"/>
                <a:ext cx="647640" cy="172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971960" y="2836800"/>
                <a:ext cx="432000" cy="72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743800" y="4589280"/>
                <a:ext cx="25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.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68320" y="3581280"/>
                <a:ext cx="115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880160" y="4589280"/>
                <a:ext cx="25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.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23040" y="3868560"/>
                <a:ext cx="431640" cy="72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4991040" y="3868560"/>
                <a:ext cx="432000" cy="72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4419000" y="4913280"/>
              <a:ext cx="145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(c) 2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 (0.3 + 0.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214320" y="2565360"/>
            <a:ext cx="2145960" cy="2548800"/>
            <a:chOff x="6214320" y="2565360"/>
            <a:chExt cx="2145960" cy="2548800"/>
          </a:xfrm>
        </p:grpSpPr>
        <p:grpSp>
          <p:nvGrpSpPr>
            <p:cNvPr id="428" name=""/>
            <p:cNvGrpSpPr/>
            <p:nvPr/>
          </p:nvGrpSpPr>
          <p:grpSpPr>
            <a:xfrm>
              <a:off x="6214320" y="2565360"/>
              <a:ext cx="2145960" cy="2259720"/>
              <a:chOff x="6214320" y="2565360"/>
              <a:chExt cx="2145960" cy="2259720"/>
            </a:xfrm>
          </p:grpSpPr>
          <p:sp>
            <p:nvSpPr>
              <p:cNvPr id="429" name=""/>
              <p:cNvSpPr/>
              <p:nvPr/>
            </p:nvSpPr>
            <p:spPr>
              <a:xfrm>
                <a:off x="6214320" y="45813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689520" y="3573360"/>
                <a:ext cx="57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104960" y="45813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6289560" y="3860640"/>
                <a:ext cx="432000" cy="72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721560" y="3860640"/>
                <a:ext cx="431640" cy="72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367040" y="45813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42240" y="3573360"/>
                <a:ext cx="57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57320" y="45813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7441920" y="3860640"/>
                <a:ext cx="431640" cy="72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873920" y="3860640"/>
                <a:ext cx="431640" cy="72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264080" y="2565360"/>
                <a:ext cx="115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739920" y="2852640"/>
                <a:ext cx="576360" cy="72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316640" y="2852640"/>
                <a:ext cx="576360" cy="72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6717240" y="4870440"/>
              <a:ext cx="1224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(d) 1 / 2 + 1 /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CE17-1F70-44D7-B22F-EDF14F5DC271}" type="slidenum">
              <a:t>28</a:t>
            </a:fld>
          </a:p>
        </p:txBody>
      </p:sp>
    </p:spTree>
  </p:cSld>
  <p:transition>
    <p:cover dir="u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rithmetic expression tre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 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xpress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res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describes an arithmetic expre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valuate (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result of evaluating this expression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33BFE-8A55-439B-8596-7E31293D5BB1}" type="slidenum">
              <a:t>29</a:t>
            </a:fld>
          </a:p>
        </p:txBody>
      </p:sp>
    </p:spTree>
  </p:cSld>
  <p:transition>
    <p:cover dir="u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plications of tree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ees occur frequently in real lif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organiz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tre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cords the structure of a hierarchical organization, such as the divisional structure within a business or univer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548000" y="3587760"/>
            <a:ext cx="6514200" cy="2431800"/>
            <a:chOff x="1548000" y="3587760"/>
            <a:chExt cx="6514200" cy="2431800"/>
          </a:xfrm>
        </p:grpSpPr>
        <p:sp>
          <p:nvSpPr>
            <p:cNvPr id="47" name=""/>
            <p:cNvSpPr/>
            <p:nvPr/>
          </p:nvSpPr>
          <p:spPr>
            <a:xfrm>
              <a:off x="4160160" y="3587760"/>
              <a:ext cx="85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48000" y="4524480"/>
              <a:ext cx="99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82800" y="452448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edic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69560" y="452448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ci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46600" y="4524480"/>
              <a:ext cx="82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du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65120" y="4524480"/>
              <a:ext cx="631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ocial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ci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729480" y="452448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uman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63640" y="5532480"/>
              <a:ext cx="86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hemis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68480" y="5532480"/>
              <a:ext cx="62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hys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26360" y="5532480"/>
              <a:ext cx="65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3440" y="5532480"/>
              <a:ext cx="5860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the-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t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92000" y="5532480"/>
              <a:ext cx="8128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mpu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ci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43280" y="5532480"/>
              <a:ext cx="88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52000" y="553248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is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2000" y="3875040"/>
              <a:ext cx="2592360" cy="6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3875040"/>
              <a:ext cx="1584360" cy="6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72000" y="3875040"/>
              <a:ext cx="576360" cy="6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140000" y="3875040"/>
              <a:ext cx="431640" cy="6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203280" y="3875040"/>
              <a:ext cx="1368360" cy="6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050560" y="3875040"/>
              <a:ext cx="2521080" cy="6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203280" y="4811760"/>
              <a:ext cx="86364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195280" y="4811760"/>
              <a:ext cx="187164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67280" y="4811760"/>
              <a:ext cx="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67280" y="4811760"/>
              <a:ext cx="165708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67280" y="4811760"/>
              <a:ext cx="79200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36000" y="4811760"/>
              <a:ext cx="50472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6876720" y="4811760"/>
              <a:ext cx="35892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BF40-9D2A-4308-958B-DC814E2548DF}" type="slidenum">
              <a:t>3</a:t>
            </a:fld>
          </a:p>
        </p:txBody>
      </p:sp>
    </p:spTree>
  </p:cSld>
  <p:transition>
    <p:cover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rithmetic expression tre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ume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xpress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er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describes an arithmetic express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ing simply of a numeric lit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teral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valuate () {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result of evaluating this expression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teralValue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3F2B-CC7E-4018-A8A2-F38A8B656D03}" type="slidenum">
              <a:t>30</a:t>
            </a:fld>
          </a:p>
        </p:txBody>
      </p:sp>
    </p:spTree>
  </p:cSld>
  <p:transition>
    <p:cover dir="u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rithmetic expression tre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u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xpress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describes an arithmetic expression consis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sum of two operands, which are themselves expressions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xpression leftOperand, rightOpera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valuate () {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ftOperand.evaluate() +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ightOperand.evaluate(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iffere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xpress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describes an arithmetic express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ing of the difference of two operands, which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mselves express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6E1C-4898-4F13-B6D1-645C43C28A2E}" type="slidenum">
              <a:t>31</a:t>
            </a:fld>
          </a:p>
        </p:txBody>
      </p:sp>
    </p:spTree>
  </p:cSld>
  <p:transition>
    <p:cover dir="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rithmetic expression tre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odu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xpress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describes an arithmetic express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ing of the product of two operands, which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mselves express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Quotie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xpress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oti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describes an arithmetic express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ing of the quotient of two operands, which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mselves express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4DF5-B10F-4828-8463-A8D7AFC96F7B}" type="slidenum">
              <a:t>32</a:t>
            </a:fld>
          </a:p>
        </p:txBody>
      </p:sp>
    </p:spTree>
  </p:cSld>
  <p:transition>
    <p:cover dir="u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study: XML document object model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eXtensible Markup Language) is a tree-structured notation for describ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XML document can be stored as a marked-up text file with tags to specify the structure (similar to HTM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rrespondin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OM) provides a programming language interface to create, parse, transform, and save XML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OM has been implemented by several programming languages including Java, JavaScript, and VBScri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E141-4F0C-48B9-9E33-1ABFEA3FCC81}" type="slidenum">
              <a:t>33</a:t>
            </a:fld>
          </a:p>
        </p:txBody>
      </p:sp>
    </p:spTree>
  </p:cSld>
  <p:transition>
    <p:cover dir="u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XML document object model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Java, an XML document is represented by an implementation of th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rg.w3c.dom.Docu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mplementation supplied with Java 2 SE v1.4 i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rg.apache.crimson.tree.XmlDocu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document consists of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rg.w3c.dom.No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bjects of various ki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the main types of nodes are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o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rg.w3c.dom.Documen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rg.w3c.dom.Elemen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rg.w3c.dom.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E52D-CEB7-4A0D-AE1B-1716E2D1DA9E}" type="slidenum">
              <a:t>34</a:t>
            </a:fld>
          </a:p>
        </p:txBody>
      </p:sp>
    </p:spTree>
  </p:cSld>
  <p:transition>
    <p:cover dir="u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XML document object model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presents the entire document. It contains the root element node that stores the document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structural node that consists of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g name: a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ributes: a collection of (string, value) pair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ildren: other element or text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leaf node containing a text value (str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3A0F7-1897-4106-86E1-480A4347B0AB}" type="slidenum">
              <a:t>35</a:t>
            </a:fld>
          </a:p>
        </p:txBody>
      </p:sp>
    </p:spTree>
  </p:cSld>
  <p:transition>
    <p:cover dir="u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XML document object model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represents a node in an XML doc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List getChildNodes 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 list containing the children of this n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 getFirstChild 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first child of this n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 getLastChild 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last child of this n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 getNextSibling 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next sibling of this n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 getParentNode 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parent node of this n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CB3B-D808-408D-A522-F23D29E3CF8D}" type="slidenum">
              <a:t>36</a:t>
            </a:fld>
          </a:p>
        </p:txBody>
      </p:sp>
    </p:spTree>
  </p:cSld>
  <p:transition>
    <p:cover dir="u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XML document object model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 appendChild (Node newChild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nod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Chi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end of the list of child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is node. Returns the new node add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 insertBefore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 newChild, Node refChild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nod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Chi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fore the existing nod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fChi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st of children of this node. Returns the new node add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 removeChild (Node oldChild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the nod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ldChi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list of child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is node. Returns the node rem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A6AA-FF7B-4B98-B569-FA07348128BE}" type="slidenum">
              <a:t>37</a:t>
            </a:fld>
          </a:p>
        </p:txBody>
      </p:sp>
    </p:spTree>
  </p:cSld>
  <p:transition>
    <p:cover dir="u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XML document object model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 replaceChild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 newChild, Node oldChild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s the existing nod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ldChi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 new n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newChi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list of children of this node. Returns the replac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methods omitted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28DFF-9285-4E34-AB7B-79A442607153}" type="slidenum">
              <a:t>38</a:t>
            </a:fld>
          </a:p>
        </p:txBody>
      </p:sp>
    </p:spTree>
  </p:cSld>
  <p:transition>
    <p:cover dir="u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XML document object model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cume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cumen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represents an entire an XML doc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y method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lement createElement (String tagName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 new element node with the given tag n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xt createTextNode (String data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 new text node containing the given textual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methods omitted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1F250-6A54-4A6C-BBC7-29578690FC60}" type="slidenum">
              <a:t>39</a:t>
            </a:fld>
          </a:p>
        </p:txBody>
      </p:sp>
    </p:spTree>
  </p:cSld>
  <p:transition>
    <p:cover dir="u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plications of tre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taxonom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classification of organisms or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477080" y="2276640"/>
            <a:ext cx="6480720" cy="3196080"/>
            <a:chOff x="1477080" y="2276640"/>
            <a:chExt cx="6480720" cy="3196080"/>
          </a:xfrm>
        </p:grpSpPr>
        <p:sp>
          <p:nvSpPr>
            <p:cNvPr id="77" name=""/>
            <p:cNvSpPr/>
            <p:nvPr/>
          </p:nvSpPr>
          <p:spPr>
            <a:xfrm>
              <a:off x="4273560" y="22766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nim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77080" y="32130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5360" y="3213000"/>
              <a:ext cx="55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s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97920" y="321300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rachni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60000" y="3213000"/>
              <a:ext cx="89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ertebr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81280" y="321300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00080" y="3213000"/>
              <a:ext cx="65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pon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19280" y="4221000"/>
              <a:ext cx="86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00000" y="42210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eet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36800" y="422100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l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66000" y="4221000"/>
              <a:ext cx="30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28240" y="422100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mphibia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72240" y="422100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pt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43640" y="422100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72000" y="2563920"/>
              <a:ext cx="302436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0" y="2563920"/>
              <a:ext cx="187164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2563920"/>
              <a:ext cx="72072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067280" y="2563920"/>
              <a:ext cx="50472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987280" y="2563920"/>
              <a:ext cx="158436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835280" y="2563920"/>
              <a:ext cx="273672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87640" y="3500280"/>
              <a:ext cx="86364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050920" y="3500280"/>
              <a:ext cx="93672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87640" y="3500280"/>
              <a:ext cx="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22880" y="3500280"/>
              <a:ext cx="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427640" y="3500280"/>
              <a:ext cx="79200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19640" y="3500280"/>
              <a:ext cx="79236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19640" y="3500280"/>
              <a:ext cx="136836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9240" y="4221000"/>
              <a:ext cx="786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mm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19640" y="3500280"/>
              <a:ext cx="201636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1560" y="52290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nak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92400" y="522900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iza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19240" y="522900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rocod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86520" y="4508280"/>
              <a:ext cx="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291280" y="4508280"/>
              <a:ext cx="79200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83280" y="4508280"/>
              <a:ext cx="79236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99595-91D2-4CAD-8DD5-52AE9655D435}" type="slidenum">
              <a:t>4</a:t>
            </a:fld>
          </a:p>
        </p:txBody>
      </p:sp>
    </p:spTree>
  </p:cSld>
  <p:transition>
    <p:cover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XML document object model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leme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en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represents an element node i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XML doc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getAttribute (String name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value of the attribute with the given name in this elem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the empty string if no attribute with this name exis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getTagName 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tag name of this el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List getElementsByTagName (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tagName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s a list of all the descendant elements with the given tag 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order in which they are encountered in a preorder traversal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elem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0A90-89DA-4BC1-BB5C-7640C66F724C}" type="slidenum">
              <a:t>40</a:t>
            </a:fld>
          </a:p>
        </p:txBody>
      </p:sp>
    </p:spTree>
  </p:cSld>
  <p:transition>
    <p:cover dir="u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XML document object model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Attribute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name, String value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the value of the attribute with the given name in this el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places any previous value of this attrib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oid removeAttribute (String name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s the attribute with the given name in this ele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attribute has a default value, a new attribute with the defaul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is also cre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methods omitted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9172-C52F-4034-AF58-E35D8A4BB8CB}" type="slidenum">
              <a:t>41</a:t>
            </a:fld>
          </a:p>
        </p:txBody>
      </p:sp>
    </p:spTree>
  </p:cSld>
  <p:transition>
    <p:cover dir="u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Example XML document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xml version="1.0" encoding="UTF-8"?&g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sum precision="double"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quotient precision="double"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numeral&gt;1&lt;/numeral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numeral&gt;2&lt;/numeral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/quoti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quotient precision="double"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numeral&gt;1&lt;/numeral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numeral&gt;3&lt;/numeral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/quoti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su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708360" y="4941720"/>
            <a:ext cx="1152720" cy="274680"/>
          </a:xfrm>
          <a:prstGeom prst="wedgeRectCallout">
            <a:avLst>
              <a:gd name="adj1" fmla="val -109347"/>
              <a:gd name="adj2" fmla="val -28638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xt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32720" y="1916280"/>
            <a:ext cx="1439640" cy="274680"/>
          </a:xfrm>
          <a:prstGeom prst="wedgeRectCallout">
            <a:avLst>
              <a:gd name="adj1" fmla="val -211296"/>
              <a:gd name="adj2" fmla="val 13245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332000" y="2421000"/>
            <a:ext cx="6480000" cy="1211400"/>
            <a:chOff x="1332000" y="2421000"/>
            <a:chExt cx="6480000" cy="1211400"/>
          </a:xfrm>
        </p:grpSpPr>
        <p:sp>
          <p:nvSpPr>
            <p:cNvPr id="475" name=""/>
            <p:cNvSpPr/>
            <p:nvPr/>
          </p:nvSpPr>
          <p:spPr>
            <a:xfrm>
              <a:off x="6372360" y="3357720"/>
              <a:ext cx="1439640" cy="274680"/>
            </a:xfrm>
            <a:prstGeom prst="wedgeRectCallout">
              <a:avLst>
                <a:gd name="adj1" fmla="val -113921"/>
                <a:gd name="adj2" fmla="val -27643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lement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32000" y="2421000"/>
              <a:ext cx="4103640" cy="107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F6CD0-3885-45DF-B855-096E9144F8CD}" type="slidenum">
              <a:t>42</a:t>
            </a:fld>
          </a:p>
        </p:txBody>
      </p:sp>
    </p:spTree>
  </p:cSld>
  <p:transition>
    <p:cover dir="u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Using the XML DOM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org.w3c.dom.*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javax.xml.parsers.*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org.apache.crimson.tree.XmlDocu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Expression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main (String[] args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eate a new (empty) XML document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cumentBuilderFactory dbf =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cumentBuilderFactory.newInstance(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cumentBuilder db = dbf.newDocumentBuilder(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mlDocument doc =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XmlDocument) db.newDocum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7B80F-787B-482E-AEE5-EF96E51E7037}" type="slidenum">
              <a:t>43</a:t>
            </a:fld>
          </a:p>
        </p:txBody>
      </p:sp>
    </p:spTree>
  </p:cSld>
  <p:transition>
    <p:cover dir="u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Using the XML DOM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eate the sub-expression 1 / 2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ement n1 = doc.createElement("numeral"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1.appendChild(doc.createTextNode("1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ement n2 = doc.createElement("numeral"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2.appendChild(doc.createTextNode("2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ement quot1 = doc.createElement("quotient"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uot1.setAttribute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precision", "double")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uot1.appendChild(n1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uot1.appendChild(n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eate the sub-expression 1 / 3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uot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imilar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B172-DC1D-4E54-BBF6-08C85D266A7A}" type="slidenum">
              <a:t>44</a:t>
            </a:fld>
          </a:p>
        </p:txBody>
      </p:sp>
    </p:spTree>
  </p:cSld>
  <p:transition>
    <p:cover dir="u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Using the XML DOM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eate the expression “(1/2) + (1/3)”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ement root = doc.createElement("sum"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oot.appendChild(quot1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oot.appendChild(quot2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oot.setAttribute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precision", "double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d the root element as the content of the document.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c.appendChild(roo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int the document on the standard output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c.write(System.ou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A79E-4310-446C-BF8C-1BC8DBAC1632}" type="slidenum">
              <a:t>45</a:t>
            </a:fld>
          </a:p>
        </p:txBody>
      </p:sp>
    </p:spTree>
  </p:cSld>
  <p:transition>
    <p:cover dir="u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plications of tre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fami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tre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cords human par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child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strict definition limits us to one parent per child, but we could model a complete family history by a pair of trees, one for mother–child relationships, and another for father–child relations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908360" y="3141720"/>
            <a:ext cx="5543640" cy="3196080"/>
            <a:chOff x="1908360" y="3141720"/>
            <a:chExt cx="5543640" cy="3196080"/>
          </a:xfrm>
        </p:grpSpPr>
        <p:sp>
          <p:nvSpPr>
            <p:cNvPr id="115" name=""/>
            <p:cNvSpPr/>
            <p:nvPr/>
          </p:nvSpPr>
          <p:spPr>
            <a:xfrm>
              <a:off x="4336920" y="31417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rc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8360" y="407808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eor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65520" y="4078080"/>
              <a:ext cx="47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a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03280" y="4078080"/>
              <a:ext cx="45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l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79840" y="40780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79640" y="508608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00000" y="5086080"/>
              <a:ext cx="49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18640" y="508608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gg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9640" y="508608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n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57200" y="6094080"/>
              <a:ext cx="30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e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0" y="3429000"/>
              <a:ext cx="273672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924000" y="3429000"/>
              <a:ext cx="64764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195280" y="3429000"/>
              <a:ext cx="237636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52720" y="4365360"/>
              <a:ext cx="86364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16000" y="4365360"/>
              <a:ext cx="93636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70080" y="4365360"/>
              <a:ext cx="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97440" y="6094080"/>
              <a:ext cx="52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m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09400" y="6094080"/>
              <a:ext cx="28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68360" y="60940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s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484360" y="5373360"/>
              <a:ext cx="43200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16360" y="5373360"/>
              <a:ext cx="43164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52720" y="4365360"/>
              <a:ext cx="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284360" y="5373360"/>
              <a:ext cx="43164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16360" y="5373360"/>
              <a:ext cx="43200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429000"/>
              <a:ext cx="64764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5D5A-5A25-4D5B-A7BF-17C4748553D4}" type="slidenum">
              <a:t>5</a:t>
            </a:fld>
          </a:p>
        </p:txBody>
      </p:sp>
    </p:spTree>
  </p:cSld>
  <p:transition>
    <p:cover dir="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Example: file hierarchie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ierarc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llection of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doc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r plain files) and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fol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r directori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older can contain documents and other folders, to any dep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model a file hierarchy by a tree in which documents are modeled by leaf nodes and (nonempty) folders are modeled by parent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9ADC-8A67-44CF-BC8F-A078E4E8D4E4}" type="slidenum">
              <a:t>6</a:t>
            </a:fld>
          </a:p>
        </p:txBody>
      </p:sp>
    </p:spTree>
  </p:cSld>
  <p:transition>
    <p:cover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Example: file hierarchi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58920" y="2247840"/>
            <a:ext cx="6697080" cy="2980800"/>
            <a:chOff x="1258920" y="2247840"/>
            <a:chExt cx="6697080" cy="2980800"/>
          </a:xfrm>
        </p:grpSpPr>
        <p:sp>
          <p:nvSpPr>
            <p:cNvPr id="145" name=""/>
            <p:cNvSpPr/>
            <p:nvPr/>
          </p:nvSpPr>
          <p:spPr>
            <a:xfrm>
              <a:off x="1258920" y="291312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d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2920" y="291312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24360" y="291312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l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97520" y="291312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et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92360" y="392112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82840" y="392112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gre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60800" y="392112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s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43600" y="392112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140000" y="2247840"/>
              <a:ext cx="431640" cy="6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700000" y="2247840"/>
              <a:ext cx="1871640" cy="6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08480" y="3184560"/>
              <a:ext cx="71928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416480" y="3184560"/>
              <a:ext cx="79200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51320" y="4192560"/>
              <a:ext cx="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29120" y="390528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ot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67760" y="390528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assw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20040" y="4984920"/>
              <a:ext cx="85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li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08480" y="3184560"/>
              <a:ext cx="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247840"/>
              <a:ext cx="504720" cy="6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21520" y="291312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t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45800" y="29131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us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55720" y="3184560"/>
              <a:ext cx="72072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865160" y="3184560"/>
              <a:ext cx="79056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55720" y="3184560"/>
              <a:ext cx="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2247840"/>
              <a:ext cx="1871640" cy="6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476000" y="2247840"/>
              <a:ext cx="3095640" cy="6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2247840"/>
              <a:ext cx="3095640" cy="6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91A5-41D6-4E26-874A-6140B8BB2D18}" type="slidenum">
              <a:t>7</a:t>
            </a:fld>
          </a:p>
        </p:txBody>
      </p:sp>
    </p:spTree>
  </p:cSld>
  <p:transition>
    <p:cover dir="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Example: file hierarchi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0640" indent="-3506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represent a document or folder by a descrip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06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escrip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06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script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describes a document or folde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ring nam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sFolder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ermission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ile file;  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 for a f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06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EFAULT_PERMS = 0x0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06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escriptor (String name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sFolder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ermissions, File file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name = name;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isFolder = isFolde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permissions = permissions;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file = fil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06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4A2E8-6A42-4C3D-82E8-59A1BA9C28E9}" type="slidenum">
              <a:t>8</a:t>
            </a:fld>
          </a:p>
        </p:txBody>
      </p:sp>
    </p:spTree>
  </p:cSld>
  <p:transition>
    <p:cover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Example: file hierarchi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 complete file hierarchy using a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ileHierarch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Hierarch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describes a hierarchical collection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s and folders, in which a folder may contain any number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s and other folders. Within a given folder, all documents 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lders have different nam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file hierarchy is represented by a tree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ileTre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hose elemen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scrip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ree fileTre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ring DELIMITER = "/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ring ROOTPATHNAME = "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5570-572F-4566-947D-318909684D16}" type="slidenum">
              <a:t>9</a:t>
            </a:fld>
          </a:p>
        </p:txBody>
      </p:sp>
    </p:spTree>
  </p:cSld>
  <p:transition>
    <p:cover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2:16:58Z</dcterms:created>
  <dc:creator/>
  <dc:description/>
  <dc:language>en-US</dc:language>
  <cp:lastModifiedBy>David Watt</cp:lastModifiedBy>
  <cp:lastPrinted>2000-10-30T14:19:39Z</cp:lastPrinted>
  <dcterms:modified xsi:type="dcterms:W3CDTF">2004-04-02T13:46:25Z</dcterms:modified>
  <cp:revision>153</cp:revision>
  <dc:subject/>
  <dc:title>CM2002: Algorithms and Data Structures</dc:title>
</cp:coreProperties>
</file>