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6F1-15D2-44E9-9F4F-4A7157C4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2FD-E322-4071-A9CB-3494706C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F7F-529C-4B47-BCCF-2B1DA12D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7A2-85B1-4BE0-9A77-B7FF8064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5EB-6195-45C6-90C9-92B13E45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5BB-3446-4AE6-95B4-912AB56D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A3D-8576-4853-8058-86859869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D45-24B9-4BEE-A613-756E7B4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754-E861-49A3-889B-7E8F2AD5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C63-4F6D-42A1-B907-2AD7D072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22E-588D-44D6-8A6D-91BE51D5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EA9-9633-4D7C-AC0C-88DDA763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12-</a:t>
            </a:r>
            <a:fld id="{70909C90-1923-4CA3-A5DA-31E354AA2BB1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12</a:t>
            </a:r>
            <a:br>
              <a:rPr sz="4800"/>
            </a:b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Hash-Table Data Structures</a:t>
            </a:r>
            <a:endParaRPr b="1" lang="en-US" sz="48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-table princi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-bucket and open-bucket hash t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, insertion, de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-tabl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s of sets and maps using hash t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2001, D.A. Watt and D.F.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5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EAE-5740-429D-ABA9-B01E39BC2DF8}" type="slidenum">
              <a:t>1</a:t>
            </a:fld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osed-bucket hash tab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-bucket hash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bucket may be occupied by several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ckets are completely sepa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st implementation: each bucket is 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ollowing illustrations, keys are names of chemical elements. 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2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(initial let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‘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757-B602-42D8-AD22-F7C9FA1F9946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osed-bucket hash tab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3648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(with no collis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2238480"/>
          <a:ext cx="1981080" cy="290520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581280" y="3529080"/>
            <a:ext cx="182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s re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791320" y="1295280"/>
            <a:ext cx="1981080" cy="5486400"/>
            <a:chOff x="5791320" y="1295280"/>
            <a:chExt cx="1981080" cy="5486400"/>
          </a:xfrm>
        </p:grpSpPr>
        <p:sp>
          <p:nvSpPr>
            <p:cNvPr id="113" name=""/>
            <p:cNvSpPr/>
            <p:nvPr/>
          </p:nvSpPr>
          <p:spPr>
            <a:xfrm>
              <a:off x="7010280" y="5884560"/>
              <a:ext cx="762120" cy="330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10280" y="2836440"/>
              <a:ext cx="762120" cy="330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5275080"/>
              <a:ext cx="762120" cy="330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4339800"/>
              <a:ext cx="762120" cy="330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0280" y="3730320"/>
              <a:ext cx="762120" cy="330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280" y="1322280"/>
              <a:ext cx="762120" cy="322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5880" y="12952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8520" y="144756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91320" y="12952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5880" y="159984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1320" y="159984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5880" y="19047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1320" y="190476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5880" y="22096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1320" y="22096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48520" y="2361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5880" y="251424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251424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8520" y="26668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28191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281916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5880" y="31240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91320" y="31240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520" y="32763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5880" y="342864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1320" y="342864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8520" y="3581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37335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373356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5880" y="40384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1320" y="40384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8520" y="4190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434304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1320" y="434304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5880" y="46479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464796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8520" y="4800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5880" y="49528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49528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520" y="5105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5880" y="586728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58672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5880" y="617184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617184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48520" y="63244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5880" y="64767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647676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48520" y="66290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556236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9920" y="5638680"/>
              <a:ext cx="457200" cy="15228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0" y="0"/>
                  </a:moveTo>
                  <a:lnTo>
                    <a:pt x="288" y="48"/>
                  </a:lnTo>
                  <a:lnTo>
                    <a:pt x="288" y="96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0280" y="2150640"/>
              <a:ext cx="762120" cy="330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10280" y="1719000"/>
              <a:ext cx="762120" cy="330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6049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96080" y="54100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96080" y="14778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96080" y="38858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96080" y="44956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96080" y="2992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96080" y="22935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96080" y="1874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8520" y="1752480"/>
              <a:ext cx="76176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48520" y="2057040"/>
              <a:ext cx="76176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48520" y="297144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48520" y="388584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48520" y="449568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601956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525744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1320" y="525744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48520" y="541008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8A6-61FE-4172-99C8-D5431A81D51E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osed-bucket hash tab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3648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(with collis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90720" y="2057400"/>
          <a:ext cx="1981080" cy="42480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3200400" y="4011480"/>
            <a:ext cx="182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s re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181480" y="1523880"/>
            <a:ext cx="3353040" cy="4876920"/>
            <a:chOff x="5181480" y="1523880"/>
            <a:chExt cx="3353040" cy="4876920"/>
          </a:xfrm>
        </p:grpSpPr>
        <p:sp>
          <p:nvSpPr>
            <p:cNvPr id="188" name=""/>
            <p:cNvSpPr/>
            <p:nvPr/>
          </p:nvSpPr>
          <p:spPr>
            <a:xfrm>
              <a:off x="5486400" y="15238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81480" y="1523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18288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81480" y="18288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6400" y="21337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1480" y="21337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86400" y="27432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1480" y="27432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86400" y="30481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81480" y="30481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86400" y="33526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81480" y="33526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36576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1480" y="36576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86400" y="3962520"/>
              <a:ext cx="304920" cy="304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81480" y="39625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6400" y="42670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81480" y="4267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86400" y="60958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1480" y="6095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410080" y="4876920"/>
              <a:ext cx="457200" cy="304560"/>
              <a:chOff x="5410080" y="4876920"/>
              <a:chExt cx="457200" cy="304560"/>
            </a:xfrm>
          </p:grpSpPr>
          <p:sp>
            <p:nvSpPr>
              <p:cNvPr id="209" name=""/>
              <p:cNvSpPr/>
              <p:nvPr/>
            </p:nvSpPr>
            <p:spPr>
              <a:xfrm>
                <a:off x="5486040" y="4876920"/>
                <a:ext cx="304920" cy="3045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10080" y="4952880"/>
                <a:ext cx="457200" cy="15192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0"/>
                    </a:moveTo>
                    <a:lnTo>
                      <a:pt x="288" y="48"/>
                    </a:lnTo>
                    <a:lnTo>
                      <a:pt x="288" y="96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V="1">
              <a:off x="5638680" y="1884240"/>
              <a:ext cx="76212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38680" y="2255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638680" y="4011120"/>
              <a:ext cx="76212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6400" y="45720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81480" y="45720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00800" y="5611680"/>
              <a:ext cx="762120" cy="331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00800" y="3402000"/>
              <a:ext cx="762120" cy="331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0800" y="4697280"/>
              <a:ext cx="762120" cy="331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00800" y="4260960"/>
              <a:ext cx="762120" cy="331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00800" y="3832200"/>
              <a:ext cx="762120" cy="331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00800" y="1685880"/>
              <a:ext cx="762120" cy="331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72400" y="2097000"/>
              <a:ext cx="762120" cy="331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2400" y="1676520"/>
              <a:ext cx="762120" cy="331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2400" y="2716200"/>
              <a:ext cx="762120" cy="331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00800" y="2716200"/>
              <a:ext cx="762120" cy="331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00800" y="5181480"/>
              <a:ext cx="762120" cy="331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00800" y="2106720"/>
              <a:ext cx="762120" cy="331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5400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r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410080" y="2438280"/>
              <a:ext cx="457200" cy="304920"/>
              <a:chOff x="5410080" y="2438280"/>
              <a:chExt cx="457200" cy="304920"/>
            </a:xfrm>
          </p:grpSpPr>
          <p:sp>
            <p:nvSpPr>
              <p:cNvPr id="229" name=""/>
              <p:cNvSpPr/>
              <p:nvPr/>
            </p:nvSpPr>
            <p:spPr>
              <a:xfrm>
                <a:off x="5486040" y="2438280"/>
                <a:ext cx="304920" cy="304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10080" y="251460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0"/>
                    </a:moveTo>
                    <a:lnTo>
                      <a:pt x="288" y="48"/>
                    </a:lnTo>
                    <a:lnTo>
                      <a:pt x="288" y="96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486400" y="518148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81480" y="52117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86400" y="5486400"/>
              <a:ext cx="30492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81480" y="55166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5410080" y="5791320"/>
              <a:ext cx="457200" cy="304560"/>
              <a:chOff x="5410080" y="5791320"/>
              <a:chExt cx="457200" cy="304560"/>
            </a:xfrm>
          </p:grpSpPr>
          <p:sp>
            <p:nvSpPr>
              <p:cNvPr id="236" name=""/>
              <p:cNvSpPr/>
              <p:nvPr/>
            </p:nvSpPr>
            <p:spPr>
              <a:xfrm>
                <a:off x="5486040" y="5791320"/>
                <a:ext cx="304920" cy="3045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10080" y="5867280"/>
                <a:ext cx="457200" cy="15192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0"/>
                    </a:moveTo>
                    <a:lnTo>
                      <a:pt x="288" y="48"/>
                    </a:lnTo>
                    <a:lnTo>
                      <a:pt x="288" y="96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5638680" y="6248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38680" y="5638680"/>
              <a:ext cx="76212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8680" y="536400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638680" y="3614760"/>
              <a:ext cx="76212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38680" y="441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8680" y="4724280"/>
              <a:ext cx="76212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8680" y="2887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1676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38680" y="320040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3505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86600" y="5803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86600" y="48895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44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86600" y="44737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86600" y="36147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58200" y="22971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58200" y="188928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58200" y="2928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86600" y="539424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188424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86600" y="228924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28987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D9C-CC3F-4308-8B9D-79F62942677A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osed-bucket hash tab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339966"/>
              </a:buClr>
              <a:buFont typeface="Times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class implementing CBH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BH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Node[] bucke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BH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cke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Node[m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CBHT methods (see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ash (Object key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th.abs(key.hashCode()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buckets.length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55F-3E06-4267-BF9F-3A230458D05C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osed-bucket hash tab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339966"/>
              </a:buClr>
              <a:buFont typeface="Times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er class for CBHT nod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Nod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key, valu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Node suc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Node (Object key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val, BucketNode succ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DDD-B86E-4F9C-B245-0D1F01B2A800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BHT search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BHT search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nd which if any node of a CBHT contains an entry whose key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-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-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which if any node of the SLL o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an ent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key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-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erminate with that node a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204-D8A4-4BA2-9771-5AEE420D8E0D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BHT search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B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Node search (Object targetKey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= hash(targetKey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BucketNode curr = buckets[b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curr = curr.succ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targetKey.equals(curr.key)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ur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57E-DB34-46FA-9A0C-F02377FD7060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BH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BHT insertion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sert the entr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to a CBH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entr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to the SLL o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ing an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entry whose key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6FD-84A6-495E-9E04-21374492421A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BH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B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sert (Object ke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val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= hash(key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BucketNode curr = buckets[b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curr = curr.succ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key.equals(curr.key)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.value = val;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ckets[b]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Node(key, val, buckets[b]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030-7BD3-462C-A5C7-D66DE08CD4C2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BHT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BHT deletion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lete the entry (if any) whose key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a CBH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e entry (if any) whose key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SLL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157-3A58-466A-9B86-EFE547924082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Hash-table princip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map’s keys are small integers, we can represent the map by a key-indexed array. Search, insertion, and deletion then have time complex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prisingly, we can approach this performance with keys of other typ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ranslate each key to a small integer, and use that integer to index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c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gether with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at translates each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bucket index (in the range 0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CA9-D1A0-4BD4-A563-B42814CD7CDD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BHT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B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elete (Object key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= hash(key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BucketNode pred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= buckets[b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rr !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d = curr, curr = curr.succ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key.equals(curr.key)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pred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ckets[b] = curr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pred.succ = curr.suc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C22-4B5B-4977-AA75-2095945B11FB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BHTs: analysi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the CBHT search/insertion/deletion algorithms (counting comparis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number of entries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 bucket contains more than (say) 2 e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. no. of comparisons  =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-case time complex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t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e bucket contains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. no. of comparisons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t-case time complex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890-6085-48C8-8F03-ABF13D2B59B6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BHTs: design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HT design consist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number of bucke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hash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ai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s should be infr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ies should be distributed evenly among the buckets, such that few buckets contain more than about 2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2F0-FAC9-4446-AFFD-33EDF58D5F42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BHTs: choosing the number of bucket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hash table is the average number of entries per bucke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(roughly) predictable,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the load factor is likely to be between 0.5 and 0.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w load factor wastes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 load factor tends to cause some buckets to have many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a prim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the hash function performs modulo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ithmetic.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ime, the entries are more likely to be distributed evenly over the buckets, regardless of any pattern in the ke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54F-99AD-4680-813B-7FEF4E6FDA6B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BHTs: choosing the hash function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sh function should be efficient (performing few arithmetic opera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hash function should distribute the entries evenly among the buckets, regardless of any patterns in the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trade-of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 up the hash function by using only part of the 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beware of any patterns in that part of the key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E99-A6A2-436E-8796-0D285F953967}" type="slidenum">
              <a:t>24</a:t>
            </a:fld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hash table for word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at a hash table will contain about 1000 common English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patterns in the ke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s vary in frequen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E, I, N, S, T are 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X, Z are uncomm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lengths vary in frequen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lengths 4–8 are 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word lengths are less comm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A38-E7DD-4261-8754-755959DEE23B}" type="slidenum">
              <a:t>25</a:t>
            </a:fld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hash table for word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an depend on an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letters and/or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lengt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 too few buckets. Load factor = 1000/20 = 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uneven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initial let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‘A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 too few buck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uneven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3C4-A5C9-4948-9514-F29E0892B782}" type="slidenum">
              <a:t>26</a:t>
            </a:fld>
          </a:p>
        </p:txBody>
      </p:sp>
    </p:spTree>
  </p:cSld>
  <p:transition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hash table for word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engt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+ (initial let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‘A’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few buckets. Load factor = 1000/52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uneven distribution. Since few words have length 0–2, buckets 0–51 will be sparsely populated. Since initial letter Z is uncommon, buckets 25, 51, 77, 103, … will be sparsely populated. And so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499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weighted sum of lette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st letter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nd letter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) modul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number of buckets. Load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6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ably even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357-A008-444C-AB96-FA102DF55D71}" type="slidenum">
              <a:t>27</a:t>
            </a:fld>
          </a:p>
        </p:txBody>
      </p:sp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pen-bucket hash tab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-bucket hash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BH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bucket may be occupied by at most one e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ever there is a collision, displace the new entry to another buc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bucket has three possible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-occup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s never contained an e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urrently contains an e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rly-occup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eviously contained an entry, which has been deleted and not yet replac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8F2-54EA-4B22-8D0D-2B7E7CA19FC1}" type="slidenum">
              <a:t>28</a:t>
            </a:fld>
          </a:p>
        </p:txBody>
      </p:sp>
    </p:spTree>
  </p:cSld>
  <p:transition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pen-bucket hash tab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ollowing illustrations, keys are names of chemical elements. 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2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(initial let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‘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collision, insert the new entry in the next unoccupied bucket (treating the array as cycl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258-3454-477A-B810-729FEE384774}" type="slidenum">
              <a:t>29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Hash-table princip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38360" y="2746440"/>
          <a:ext cx="1434960" cy="2397240"/>
        </p:xfrm>
        <a:graphic>
          <a:graphicData uri="http://schemas.openxmlformats.org/drawingml/2006/table">
            <a:tbl>
              <a:tblPr/>
              <a:tblGrid>
                <a:gridCol w="698400"/>
                <a:gridCol w="73656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4292640" y="2421000"/>
            <a:ext cx="1066680" cy="325440"/>
          </a:xfrm>
          <a:prstGeom prst="wedgeRectCallout">
            <a:avLst>
              <a:gd name="adj1" fmla="val 54166"/>
              <a:gd name="adj2" fmla="val 211462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coll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59320" y="1752480"/>
            <a:ext cx="2400480" cy="3789360"/>
            <a:chOff x="5359320" y="1752480"/>
            <a:chExt cx="2400480" cy="3789360"/>
          </a:xfrm>
        </p:grpSpPr>
        <p:sp>
          <p:nvSpPr>
            <p:cNvPr id="55" name=""/>
            <p:cNvSpPr/>
            <p:nvPr/>
          </p:nvSpPr>
          <p:spPr>
            <a:xfrm>
              <a:off x="5504040" y="2766960"/>
              <a:ext cx="2901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04040" y="3057480"/>
              <a:ext cx="2901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04040" y="3346560"/>
              <a:ext cx="2901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4040" y="3637080"/>
              <a:ext cx="2901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04040" y="3925800"/>
              <a:ext cx="2901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04040" y="4216320"/>
              <a:ext cx="2901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9320" y="5253120"/>
              <a:ext cx="4348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59320" y="4962600"/>
              <a:ext cx="434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–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32360" y="3057480"/>
              <a:ext cx="723960" cy="273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32360" y="3330720"/>
              <a:ext cx="723960" cy="272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2360" y="3603600"/>
              <a:ext cx="723960" cy="273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32360" y="3876840"/>
              <a:ext cx="723960" cy="272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32360" y="4149720"/>
              <a:ext cx="723960" cy="272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4422600"/>
              <a:ext cx="723960" cy="273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2360" y="4695840"/>
              <a:ext cx="723960" cy="272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2360" y="4968720"/>
              <a:ext cx="723960" cy="273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32360" y="5241960"/>
              <a:ext cx="723960" cy="272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32360" y="2784600"/>
              <a:ext cx="723960" cy="272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4200" y="4543560"/>
              <a:ext cx="83844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1752480"/>
              <a:ext cx="1965600" cy="662040"/>
            </a:xfrm>
            <a:prstGeom prst="wedgeRectCallout">
              <a:avLst>
                <a:gd name="adj1" fmla="val -30935"/>
                <a:gd name="adj2" fmla="val 95083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hash table</a:t>
              </a:r>
              <a:br>
                <a:rPr sz="2000"/>
              </a:b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(array of bucke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523880" y="44197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0"/>
                </a:moveTo>
                <a:lnTo>
                  <a:pt x="1008" y="96"/>
                </a:lnTo>
                <a:lnTo>
                  <a:pt x="1008" y="192"/>
                </a:lnTo>
                <a:lnTo>
                  <a:pt x="0" y="9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33720" y="3270240"/>
            <a:ext cx="3458880" cy="1733400"/>
            <a:chOff x="2133720" y="3270240"/>
            <a:chExt cx="3458880" cy="1733400"/>
          </a:xfrm>
        </p:grpSpPr>
        <p:sp>
          <p:nvSpPr>
            <p:cNvPr id="77" name=""/>
            <p:cNvSpPr/>
            <p:nvPr/>
          </p:nvSpPr>
          <p:spPr>
            <a:xfrm>
              <a:off x="2133720" y="3270240"/>
              <a:ext cx="3458880" cy="149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33720" y="3419640"/>
              <a:ext cx="345888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133720" y="4039920"/>
              <a:ext cx="3458880" cy="912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3720" y="4149720"/>
              <a:ext cx="34588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3603600"/>
              <a:ext cx="3200400" cy="1400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203640" y="5330880"/>
            <a:ext cx="1922400" cy="914400"/>
          </a:xfrm>
          <a:prstGeom prst="wedgeRectCallout">
            <a:avLst>
              <a:gd name="adj1" fmla="val -6893"/>
              <a:gd name="adj2" fmla="val -128995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hashing (translating keys to bucket ind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AED-4036-4A6D-8BEE-8E036AC02DC5}" type="slidenum">
              <a:t>3</a:t>
            </a:fld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1219320" y="2238480"/>
          <a:ext cx="1981080" cy="290520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pen-bucket hash tab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(with no collis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3529080"/>
            <a:ext cx="182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s re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91520" y="2438280"/>
            <a:ext cx="1143000" cy="625680"/>
          </a:xfrm>
          <a:prstGeom prst="wedgeRectCallout">
            <a:avLst>
              <a:gd name="adj1" fmla="val -76111"/>
              <a:gd name="adj2" fmla="val -36546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never-</a:t>
            </a:r>
            <a:br>
              <a:rPr sz="2000"/>
            </a:b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occup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91520" y="1909800"/>
            <a:ext cx="1143000" cy="350640"/>
          </a:xfrm>
          <a:prstGeom prst="wedgeRectCallout">
            <a:avLst>
              <a:gd name="adj1" fmla="val -76111"/>
              <a:gd name="adj2" fmla="val -12898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occup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867280" y="1681200"/>
            <a:ext cx="1219320" cy="4871880"/>
            <a:chOff x="5867280" y="1681200"/>
            <a:chExt cx="1219320" cy="4871880"/>
          </a:xfrm>
        </p:grpSpPr>
        <p:sp>
          <p:nvSpPr>
            <p:cNvPr id="319" name=""/>
            <p:cNvSpPr/>
            <p:nvPr/>
          </p:nvSpPr>
          <p:spPr>
            <a:xfrm>
              <a:off x="6248520" y="264168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48520" y="469908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48520" y="401328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48520" y="355608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520" y="1736640"/>
              <a:ext cx="761760" cy="219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67280" y="16812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67280" y="19098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67280" y="21542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7280" y="23828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67280" y="26114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67280" y="28242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67280" y="30528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7280" y="3281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67280" y="35100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67280" y="37386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67280" y="39672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67280" y="41958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67280" y="4424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48520" y="287028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48520" y="195588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67280" y="46530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48520" y="218448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48520" y="241308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309888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48520" y="332748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48520" y="378468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8520" y="424188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8520" y="447048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581328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77836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67280" y="599436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48520" y="602928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72200" y="6400800"/>
              <a:ext cx="914400" cy="152280"/>
            </a:xfrm>
            <a:custGeom>
              <a:avLst/>
              <a:gdLst/>
              <a:ahLst/>
              <a:rect l="l" t="t" r="r" b="b"/>
              <a:pathLst>
                <a:path w="576" h="96">
                  <a:moveTo>
                    <a:pt x="0" y="0"/>
                  </a:moveTo>
                  <a:lnTo>
                    <a:pt x="576" y="48"/>
                  </a:lnTo>
                  <a:lnTo>
                    <a:pt x="576" y="96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67280" y="622296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624204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48816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48520" y="491652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67280" y="5567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48520" y="5589720"/>
              <a:ext cx="7617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48520" y="5143680"/>
              <a:ext cx="761760" cy="44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72200" y="51814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E2D-B7D9-42DB-8F50-7ABD904209A0}" type="slidenum">
              <a:t>30</a:t>
            </a:fld>
          </a:p>
        </p:txBody>
      </p:sp>
    </p:spTree>
  </p:cSld>
  <p:transition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1447920" y="2057400"/>
          <a:ext cx="1981080" cy="42480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pen-bucket hash tab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(with collis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3962520"/>
            <a:ext cx="182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s re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696080" y="2057400"/>
            <a:ext cx="838440" cy="2362320"/>
            <a:chOff x="7696080" y="2057400"/>
            <a:chExt cx="838440" cy="2362320"/>
          </a:xfrm>
        </p:grpSpPr>
        <p:sp>
          <p:nvSpPr>
            <p:cNvPr id="366" name=""/>
            <p:cNvSpPr/>
            <p:nvPr/>
          </p:nvSpPr>
          <p:spPr>
            <a:xfrm>
              <a:off x="7696080" y="2057400"/>
              <a:ext cx="838440" cy="304920"/>
            </a:xfrm>
            <a:prstGeom prst="wedgeRectCallout">
              <a:avLst>
                <a:gd name="adj1" fmla="val -109847"/>
                <a:gd name="adj2" fmla="val -1560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clu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4114800"/>
              <a:ext cx="838440" cy="304920"/>
            </a:xfrm>
            <a:prstGeom prst="wedgeRectCallout">
              <a:avLst>
                <a:gd name="adj1" fmla="val -109847"/>
                <a:gd name="adj2" fmla="val -5726"/>
              </a:avLst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</a:rPr>
                <a:t>clu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943600" y="1477800"/>
            <a:ext cx="1219320" cy="4846680"/>
            <a:chOff x="5943600" y="1477800"/>
            <a:chExt cx="1219320" cy="4846680"/>
          </a:xfrm>
        </p:grpSpPr>
        <p:sp>
          <p:nvSpPr>
            <p:cNvPr id="369" name=""/>
            <p:cNvSpPr/>
            <p:nvPr/>
          </p:nvSpPr>
          <p:spPr>
            <a:xfrm>
              <a:off x="6324480" y="243828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49568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24480" y="380988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35268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4480" y="1533600"/>
              <a:ext cx="76212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3600" y="14778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43600" y="1706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43600" y="19512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3600" y="21798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3600" y="2408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43600" y="26208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43600" y="2849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43600" y="30780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43600" y="33066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43600" y="35352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7638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43600" y="3992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3600" y="42210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24480" y="26668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24480" y="175248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44496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24480" y="198108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24480" y="220968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24480" y="28954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24480" y="312408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24480" y="35812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24480" y="403848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426708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24480" y="517032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43600" y="5135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43600" y="53640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24480" y="539892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24480" y="562284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43600" y="60498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24480" y="60688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324480" y="471960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48520" y="47242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48520" y="56386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FF7-7C7D-49DD-AB13-D201B141C95D}" type="slidenum">
              <a:t>31</a:t>
            </a:fld>
          </a:p>
        </p:txBody>
      </p:sp>
    </p:spTree>
  </p:cSld>
  <p:transition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pen-bucket hash tab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339966"/>
              </a:buClr>
              <a:buFont typeface="Times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class implemen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B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H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Entry[] bucke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H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cke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Entry[m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ash (Object k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th.abs(k.hashCode()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buckets.length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4191120"/>
            <a:ext cx="990720" cy="609480"/>
          </a:xfrm>
          <a:prstGeom prst="wedgeRectCallout">
            <a:avLst>
              <a:gd name="adj1" fmla="val -614745"/>
              <a:gd name="adj2" fmla="val 13800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OBHT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009-7AFB-4F71-9B93-F7A889B37D08}" type="slidenum">
              <a:t>32</a:t>
            </a:fld>
          </a:p>
        </p:txBody>
      </p:sp>
    </p:spTree>
  </p:cSld>
  <p:transition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pen-bucket hash tab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6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339966"/>
              </a:buClr>
              <a:buFont typeface="Times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////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er class for OBHT entri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En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bject key,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Entry (Object k, Object v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key = k;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value = v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Entry FORMER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Ent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1D7-50EF-4581-9FCF-E65E0A373148}" type="slidenum">
              <a:t>33</a:t>
            </a:fld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populating an OBHT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143000" y="2057400"/>
          <a:ext cx="1981080" cy="424800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114800" y="1706400"/>
            <a:ext cx="1219320" cy="4846680"/>
            <a:chOff x="4114800" y="1706400"/>
            <a:chExt cx="1219320" cy="4846680"/>
          </a:xfrm>
        </p:grpSpPr>
        <p:sp>
          <p:nvSpPr>
            <p:cNvPr id="419" name=""/>
            <p:cNvSpPr/>
            <p:nvPr/>
          </p:nvSpPr>
          <p:spPr>
            <a:xfrm>
              <a:off x="4495680" y="26668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95680" y="47242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95680" y="40384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95680" y="35812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95680" y="1762200"/>
              <a:ext cx="76212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800" y="1706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14800" y="19350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14800" y="21798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14800" y="2408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4800" y="26370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14800" y="2849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14800" y="30780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33066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14800" y="35352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14800" y="37638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14800" y="3992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14800" y="42210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14800" y="44496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95680" y="28954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95680" y="19810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14800" y="46782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95680" y="22096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95680" y="24382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95680" y="31240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95680" y="33526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95680" y="38098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95680" y="42670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95680" y="44956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95680" y="539892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14800" y="53640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14800" y="55926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95680" y="562752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95680" y="585144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14800" y="627840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629748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95680" y="494820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49528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58672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95680" y="266688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72428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403848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358128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198108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220968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243828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95680" y="335268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426708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495680" y="449568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95680" y="539892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95680" y="5627520"/>
            <a:ext cx="762120" cy="22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1800"/>
              </a:lnSpc>
              <a:spcBef>
                <a:spcPts val="1800"/>
              </a:spcBef>
              <a:tabLst>
                <a:tab algn="l" pos="0"/>
                <a:tab algn="r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286-64EC-4C8E-B85C-EA1BBA8FE438}" type="slidenum">
              <a:t>34</a:t>
            </a:fld>
          </a:p>
        </p:txBody>
      </p:sp>
    </p:spTree>
  </p:cSld>
  <p:transition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 search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HT search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nd which if any bucket of an OBHT is occupied by an entry whose key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-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-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ever-occupie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ccupied by an entry whose key is equal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-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ith answ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formerly-occupied, or is occupied by an ent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key is not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-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472-234C-4D14-B148-B18DF65EDC52}" type="slidenum">
              <a:t>35</a:t>
            </a:fld>
          </a:p>
        </p:txBody>
      </p:sp>
    </p:spTree>
  </p:cSld>
  <p:transition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 search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78160"/>
            <a:ext cx="190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arching for M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1676520"/>
            <a:ext cx="190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arching for B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9000" y="3035160"/>
            <a:ext cx="190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arching for 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5092560"/>
            <a:ext cx="190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arching for 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334120" y="1782720"/>
            <a:ext cx="457200" cy="685800"/>
            <a:chOff x="5334120" y="1782720"/>
            <a:chExt cx="457200" cy="685800"/>
          </a:xfrm>
        </p:grpSpPr>
        <p:sp>
          <p:nvSpPr>
            <p:cNvPr id="480" name=""/>
            <p:cNvSpPr/>
            <p:nvPr/>
          </p:nvSpPr>
          <p:spPr>
            <a:xfrm>
              <a:off x="5334120" y="17827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62720" y="17827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62720" y="2011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62720" y="22399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334120" y="3154320"/>
            <a:ext cx="457200" cy="228600"/>
            <a:chOff x="5334120" y="3154320"/>
            <a:chExt cx="457200" cy="228600"/>
          </a:xfrm>
        </p:grpSpPr>
        <p:sp>
          <p:nvSpPr>
            <p:cNvPr id="485" name=""/>
            <p:cNvSpPr/>
            <p:nvPr/>
          </p:nvSpPr>
          <p:spPr>
            <a:xfrm>
              <a:off x="5334120" y="31543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3154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5334120" y="42973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334120" y="5211720"/>
            <a:ext cx="457200" cy="457200"/>
            <a:chOff x="5334120" y="5211720"/>
            <a:chExt cx="457200" cy="457200"/>
          </a:xfrm>
        </p:grpSpPr>
        <p:sp>
          <p:nvSpPr>
            <p:cNvPr id="489" name=""/>
            <p:cNvSpPr/>
            <p:nvPr/>
          </p:nvSpPr>
          <p:spPr>
            <a:xfrm>
              <a:off x="5334120" y="52117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62720" y="52117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62720" y="5440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791320" y="1432080"/>
            <a:ext cx="1218960" cy="5045040"/>
            <a:chOff x="5791320" y="1432080"/>
            <a:chExt cx="1218960" cy="5045040"/>
          </a:xfrm>
        </p:grpSpPr>
        <p:sp>
          <p:nvSpPr>
            <p:cNvPr id="493" name=""/>
            <p:cNvSpPr/>
            <p:nvPr/>
          </p:nvSpPr>
          <p:spPr>
            <a:xfrm>
              <a:off x="6172200" y="23922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72200" y="44496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72200" y="37638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72200" y="33066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72200" y="1487520"/>
              <a:ext cx="76212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91320" y="14320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91320" y="16606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91320" y="190512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791320" y="213372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91320" y="236232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91320" y="25750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91320" y="28036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1320" y="30322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91320" y="32608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91320" y="34894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91320" y="37180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91320" y="39466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91320" y="41752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2200" y="26208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72200" y="17064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91320" y="44038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2200" y="19350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72200" y="21636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72200" y="28494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72200" y="30780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72200" y="35352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72200" y="39924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2200" y="42210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124600"/>
              <a:ext cx="76212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91320" y="50896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91320" y="53182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72200" y="5353200"/>
              <a:ext cx="76212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72200" y="577548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91320" y="620244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72200" y="6221520"/>
              <a:ext cx="76212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72200" y="467352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91320" y="55468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72200" y="55656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95880" y="57913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95880" y="47242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290-80F1-4086-B6DF-4CE7F59592CB}" type="slidenum">
              <a:t>36</a:t>
            </a:fld>
          </a:p>
        </p:txBody>
      </p:sp>
    </p:spTree>
  </p:cSld>
  <p:transition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 search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arch (Object targetKey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= hash(targetKey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cketEntry old = buckets[b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old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N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old != BucketEntry.FORM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&amp; targetKey.equals(old.key)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(b + 1) % buckets.length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432-8AA8-4FA4-AC40-0A760E65653A}" type="slidenum">
              <a:t>37</a:t>
            </a:fld>
          </a:p>
        </p:txBody>
      </p:sp>
    </p:spTree>
  </p:cSld>
  <p:transition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HT insertion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sert the entr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to an OBH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ever-occupie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last never-occupied bucket, treat the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HT as fu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ccupied b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formerly-occupied, or is occupied by an ent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key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ccupied b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16F-A879-4BA1-8E46-4CFF2437EBFB}" type="slidenum">
              <a:t>38</a:t>
            </a:fld>
          </a:p>
        </p:txBody>
      </p:sp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HT insertion algorith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ccupied by an entry whose key is not equal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991-B6A3-4380-887F-18BCA5DCEB83}" type="slidenum">
              <a:t>39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Hash-table princip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bu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hash table, namely the bucket with inde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new entry with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the hash table, assign that entry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home bu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 entry with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hash table, look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home bu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ntry with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hash table, look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home bu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25E-7578-45A5-AE2A-C6CFEF1DA177}" type="slidenum">
              <a:t>4</a:t>
            </a:fld>
          </a:p>
        </p:txBody>
      </p:sp>
    </p:spTree>
  </p:cSld>
  <p:transition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50960" y="3062160"/>
            <a:ext cx="987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ser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Fr, 8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19880" y="2125800"/>
            <a:ext cx="957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ser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B, 5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38440" y="3200400"/>
            <a:ext cx="355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502320" y="2286000"/>
            <a:ext cx="355680" cy="1143000"/>
            <a:chOff x="6502320" y="2286000"/>
            <a:chExt cx="355680" cy="1143000"/>
          </a:xfrm>
        </p:grpSpPr>
        <p:sp>
          <p:nvSpPr>
            <p:cNvPr id="549" name=""/>
            <p:cNvSpPr/>
            <p:nvPr/>
          </p:nvSpPr>
          <p:spPr>
            <a:xfrm>
              <a:off x="6629400" y="274320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29400" y="297180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29400" y="320040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29400" y="251460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29400" y="228600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02320" y="2286000"/>
              <a:ext cx="355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781680" y="1889280"/>
            <a:ext cx="1219320" cy="4816440"/>
            <a:chOff x="6781680" y="1889280"/>
            <a:chExt cx="1219320" cy="4816440"/>
          </a:xfrm>
        </p:grpSpPr>
        <p:sp>
          <p:nvSpPr>
            <p:cNvPr id="556" name=""/>
            <p:cNvSpPr/>
            <p:nvPr/>
          </p:nvSpPr>
          <p:spPr>
            <a:xfrm>
              <a:off x="7162920" y="28494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162920" y="4906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2920" y="42210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62920" y="3763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62920" y="1944720"/>
              <a:ext cx="76176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1889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81680" y="2117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81680" y="23623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81680" y="25909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81680" y="28195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3032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81680" y="3260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81680" y="3489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81680" y="3718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81680" y="39466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1680" y="4175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403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81680" y="4632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62920" y="30780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162920" y="2163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81680" y="4861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62920" y="2392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62920" y="2620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162920" y="3306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62920" y="3535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62920" y="39924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62920" y="4449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62920" y="4678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62920" y="55818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81680" y="5546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81680" y="5775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62920" y="58104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62920" y="60199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81680" y="64310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62920" y="6450120"/>
              <a:ext cx="7617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62920" y="51307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86600" y="51814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6600" y="60199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817800" y="1889280"/>
            <a:ext cx="1211400" cy="4816440"/>
            <a:chOff x="3817800" y="1889280"/>
            <a:chExt cx="1211400" cy="4816440"/>
          </a:xfrm>
        </p:grpSpPr>
        <p:sp>
          <p:nvSpPr>
            <p:cNvPr id="595" name=""/>
            <p:cNvSpPr/>
            <p:nvPr/>
          </p:nvSpPr>
          <p:spPr>
            <a:xfrm>
              <a:off x="4199040" y="28494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99040" y="4906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99040" y="42210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99040" y="3763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99040" y="1944720"/>
              <a:ext cx="76176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17800" y="1889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17800" y="2117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17800" y="23623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7800" y="25909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7800" y="28195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7800" y="3032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7800" y="3260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7800" y="3489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7800" y="3718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7800" y="39466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7800" y="4175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7800" y="4403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7800" y="4632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99040" y="30780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99040" y="2163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7800" y="4861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99040" y="2392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99040" y="2620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9040" y="33066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99040" y="3535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99040" y="39924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99040" y="4449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99040" y="4678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99040" y="55818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7800" y="5546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7800" y="5775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99040" y="58104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99040" y="60199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17800" y="64310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99040" y="6450120"/>
              <a:ext cx="7617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9040" y="51307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14800" y="51814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14800" y="60199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95240" y="1889280"/>
            <a:ext cx="1262160" cy="4816440"/>
            <a:chOff x="795240" y="1889280"/>
            <a:chExt cx="1262160" cy="4816440"/>
          </a:xfrm>
        </p:grpSpPr>
        <p:sp>
          <p:nvSpPr>
            <p:cNvPr id="634" name=""/>
            <p:cNvSpPr/>
            <p:nvPr/>
          </p:nvSpPr>
          <p:spPr>
            <a:xfrm>
              <a:off x="1176480" y="28494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76480" y="4906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76480" y="42210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76480" y="3763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76480" y="1944720"/>
              <a:ext cx="76176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95240" y="1889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5240" y="2117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95240" y="23623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5240" y="25909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5240" y="28195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5240" y="3032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5240" y="3260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5240" y="3489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5240" y="3718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5240" y="39466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95240" y="4175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5240" y="4403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5240" y="4632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76480" y="30780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76480" y="2163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5240" y="4861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176480" y="2392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76480" y="2620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76480" y="33066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76480" y="3535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76480" y="39924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76480" y="4449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76480" y="4678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76480" y="55818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5240" y="5546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5240" y="5775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58104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76480" y="60199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5240" y="64310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76480" y="6450120"/>
              <a:ext cx="7617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76480" y="51307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3000" y="51814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3B7-49EC-4201-97BB-FFDA9058342F}" type="slidenum">
              <a:t>40</a:t>
            </a:fld>
          </a:p>
        </p:txBody>
      </p:sp>
    </p:spTree>
  </p:cSld>
  <p:transition>
    <p:cover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ad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. of occupied or formerly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ied buckets in this OB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sert (Object key, Object val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cketEntry newest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ucketEntry(key, val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= hash(key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cketEntry old = buckets[b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old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++load == buckets.length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ckets[b] = newe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7D6-2C8B-4110-BF3B-B189FDF976B4}" type="slidenum">
              <a:t>41</a:t>
            </a:fld>
          </a:p>
        </p:txBody>
      </p:sp>
    </p:spTree>
  </p:cSld>
  <p:transition>
    <p:cover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 inser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5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old == BucketEntry.FORM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| key.equals(old.key)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ckets[b] = newes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(b + 1) % buckets.length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AD8-EA8F-48C3-B18B-BC85B08FB4BC}" type="slidenum">
              <a:t>42</a:t>
            </a:fld>
          </a:p>
        </p:txBody>
      </p:sp>
    </p:spTree>
  </p:cSld>
  <p:transition>
    <p:cover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HT deletion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lete the entry (if any) whose key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an OBH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ever-occupie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ccupied by an entry whose key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erly-occupi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formerly-occupied, or is occupied by an ent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key is not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B73-AFB4-45BF-A2BD-449060A3C7AE}" type="slidenum">
              <a:t>43</a:t>
            </a:fld>
          </a:p>
        </p:txBody>
      </p:sp>
    </p:spTree>
  </p:cSld>
  <p:transition>
    <p:cover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51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438280" y="2362320"/>
            <a:ext cx="9813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leting Ca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43320" y="2514600"/>
            <a:ext cx="355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6510240" y="2286000"/>
            <a:ext cx="355680" cy="685800"/>
            <a:chOff x="6510240" y="2286000"/>
            <a:chExt cx="355680" cy="685800"/>
          </a:xfrm>
        </p:grpSpPr>
        <p:sp>
          <p:nvSpPr>
            <p:cNvPr id="687" name=""/>
            <p:cNvSpPr/>
            <p:nvPr/>
          </p:nvSpPr>
          <p:spPr>
            <a:xfrm>
              <a:off x="6637320" y="274320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637320" y="251460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37320" y="228600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10240" y="2286000"/>
              <a:ext cx="355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562720" y="2133720"/>
            <a:ext cx="981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leting Ba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43520" y="3094200"/>
            <a:ext cx="1066680" cy="609480"/>
          </a:xfrm>
          <a:prstGeom prst="wedgeRectCallout">
            <a:avLst>
              <a:gd name="adj1" fmla="val -68453"/>
              <a:gd name="adj2" fmla="val -145833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formerly-occup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781680" y="1889280"/>
            <a:ext cx="1219320" cy="4816440"/>
            <a:chOff x="6781680" y="1889280"/>
            <a:chExt cx="1219320" cy="4816440"/>
          </a:xfrm>
        </p:grpSpPr>
        <p:sp>
          <p:nvSpPr>
            <p:cNvPr id="694" name=""/>
            <p:cNvSpPr/>
            <p:nvPr/>
          </p:nvSpPr>
          <p:spPr>
            <a:xfrm>
              <a:off x="7162920" y="2849400"/>
              <a:ext cx="761760" cy="22392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62920" y="4906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62920" y="42210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2920" y="3763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62920" y="1944720"/>
              <a:ext cx="76176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81680" y="1889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2117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81680" y="23623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81680" y="25909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81680" y="28195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81680" y="3032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781680" y="3260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781680" y="3489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81680" y="3718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81680" y="39466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81680" y="4175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81680" y="4403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81680" y="4632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62920" y="30780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2163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81680" y="4861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62920" y="2392200"/>
              <a:ext cx="761760" cy="22392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62920" y="2620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62920" y="33066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62920" y="3535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62920" y="39924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2920" y="4449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62920" y="4678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62920" y="55818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81680" y="5546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81680" y="5775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62920" y="58104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62920" y="60199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81680" y="64310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62920" y="6450120"/>
              <a:ext cx="7617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62920" y="51307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86600" y="51814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86600" y="60199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571920" y="1889280"/>
            <a:ext cx="1228680" cy="4816440"/>
            <a:chOff x="3571920" y="1889280"/>
            <a:chExt cx="1228680" cy="4816440"/>
          </a:xfrm>
        </p:grpSpPr>
        <p:sp>
          <p:nvSpPr>
            <p:cNvPr id="733" name=""/>
            <p:cNvSpPr/>
            <p:nvPr/>
          </p:nvSpPr>
          <p:spPr>
            <a:xfrm>
              <a:off x="3952800" y="28494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52800" y="49068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52800" y="42210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52800" y="37638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52800" y="1944720"/>
              <a:ext cx="76212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71920" y="1889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71920" y="2117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71920" y="23623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71920" y="25909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71920" y="28195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71920" y="3032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71920" y="3260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71920" y="3489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71920" y="3718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71920" y="39466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571920" y="4175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71920" y="4403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71920" y="4632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52800" y="30780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52800" y="21636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71920" y="4861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52800" y="2392200"/>
              <a:ext cx="762120" cy="22392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952800" y="26208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52800" y="33066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52800" y="35352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52800" y="39924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52800" y="44496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52800" y="46782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52800" y="5581800"/>
              <a:ext cx="76212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71920" y="5546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71920" y="5775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52800" y="5810400"/>
              <a:ext cx="76212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952800" y="601992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71920" y="64310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952800" y="6450120"/>
              <a:ext cx="76212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952800" y="513072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86200" y="51814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86200" y="60199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795240" y="1889280"/>
            <a:ext cx="1262160" cy="4816440"/>
            <a:chOff x="795240" y="1889280"/>
            <a:chExt cx="1262160" cy="4816440"/>
          </a:xfrm>
        </p:grpSpPr>
        <p:sp>
          <p:nvSpPr>
            <p:cNvPr id="772" name=""/>
            <p:cNvSpPr/>
            <p:nvPr/>
          </p:nvSpPr>
          <p:spPr>
            <a:xfrm>
              <a:off x="1176480" y="28494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76480" y="4906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76480" y="42210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76480" y="3763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76480" y="1944720"/>
              <a:ext cx="76176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5240" y="1889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5240" y="2117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5240" y="23623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95240" y="25909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95240" y="28195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95240" y="3032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95240" y="3260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95240" y="3489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5240" y="3718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5240" y="39466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95240" y="4175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5240" y="4403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5240" y="4632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76480" y="30780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76480" y="2163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5240" y="4861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76480" y="2392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76480" y="2620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76480" y="33066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76480" y="3535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76480" y="39924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76480" y="4449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76480" y="4678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76480" y="55818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95240" y="5546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5240" y="5775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176480" y="58104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76480" y="60199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5240" y="64310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76480" y="6450120"/>
              <a:ext cx="7617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76480" y="51307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43000" y="51814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43000" y="60199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71A-3705-4EE2-8526-EABDC2280686}" type="slidenum">
              <a:t>44</a:t>
            </a:fld>
          </a:p>
        </p:txBody>
      </p:sp>
    </p:spTree>
  </p:cSld>
  <p:transition>
    <p:cover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 deletion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(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elete (Object key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= hash(key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cketEntry old = buckets[b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old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old != BucketEntry.FORM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&amp; key.equals(old.key)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ckets[b] = BucketEntry.FORME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(b + 1) % buckets.length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23A-439D-47B9-A58D-0E6AE8D7332F}" type="slidenum">
              <a:t>45</a:t>
            </a:fld>
          </a:p>
        </p:txBody>
      </p:sp>
    </p:spTree>
  </p:cSld>
  <p:transition>
    <p:cover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s: analysi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OBHT search/insertion/deletion algorithm (counting comparis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number of entries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 cluster contains more than (say) 4 e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. no. of comparisons  =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-case time complex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t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e cluster contains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. no. of comparisons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t-case time complex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174-989D-4CD8-8562-170C71366EE7}" type="slidenum">
              <a:t>46</a:t>
            </a:fld>
          </a:p>
        </p:txBody>
      </p:sp>
    </p:spTree>
  </p:cSld>
  <p:transition>
    <p:cover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s: design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HT design consist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number of bucke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hash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step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plained la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ai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s should be infr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ies should be distributed evenly over the hash table, such that few clusters contain more than about 4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1F9-55FE-4994-9481-16F8781BE0DA}" type="slidenum">
              <a:t>47</a:t>
            </a:fld>
          </a:p>
        </p:txBody>
      </p:sp>
    </p:spTree>
  </p:cSld>
  <p:transition>
    <p:cover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s: choosing the number of bucket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: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hash table is the average number of entries per bucke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(roughly) predictable,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the load factor is likely to be between 0.5 and 0.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w load factor wastes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 load factor tends to result in long clus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a prim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838-DA9F-4833-92EE-B13475C8E13A}" type="slidenum">
              <a:t>48</a:t>
            </a:fld>
          </a:p>
        </p:txBody>
      </p:sp>
    </p:spTree>
  </p:cSld>
  <p:transition>
    <p:cover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s: choosing the hash function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sh function should be 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hash function should distribute the entries evenly over the buckets, with few long clu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 OHBT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a cluster will form when several entries fall into the s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djac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ck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605-B1C8-4502-83B2-9AF467CC907A}" type="slidenum">
              <a:t>49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Hash-table principle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sh function must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pl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the hash function is many-to-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different keys may share the same home buck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calle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prefer a hash function that makes collisions relatively infreq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61C-2A39-4A3B-BF0A-BACD8D3AB0A4}" type="slidenum">
              <a:t>5</a:t>
            </a:fld>
          </a:p>
        </p:txBody>
      </p:sp>
    </p:spTree>
  </p:cSld>
  <p:transition>
    <p:cover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s: choosing the step length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solve a collision, the search/insertion/deletion algorithm increments the bucket index and tries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the amount by which the bucket index is incremented. So far we have assum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ly, we can use a fix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prime, and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in the range 2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nsur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no common fa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(say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a typical search path would be 6–8–0–2–4, never reaching the remaining bucke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0E0-FA5F-4D5B-A362-8139A0B8420D}" type="slidenum">
              <a:t>50</a:t>
            </a:fld>
          </a:p>
        </p:txBody>
      </p:sp>
    </p:spTree>
  </p:cSld>
  <p:transition>
    <p:cover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s: double hashing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till, let different keys have different step lengths. (But each key always has the same step length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has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search/insert/delete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second hash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ollowing illustration, keys are names of chemical elements. 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itial let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‘A’)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a single letter, otherwi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(second let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‘a’) modulo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14B-3808-4988-9815-D3114835AF79}" type="slidenum">
              <a:t>51</a:t>
            </a:fld>
          </a:p>
        </p:txBody>
      </p:sp>
    </p:spTree>
  </p:cSld>
  <p:transition>
    <p:cover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s: double hashing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2133720"/>
            <a:ext cx="9874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ser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, 56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19880" y="2354400"/>
            <a:ext cx="957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ser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s, 55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502320" y="2514600"/>
            <a:ext cx="355680" cy="3962520"/>
            <a:chOff x="6502320" y="2514600"/>
            <a:chExt cx="355680" cy="3962520"/>
          </a:xfrm>
        </p:grpSpPr>
        <p:sp>
          <p:nvSpPr>
            <p:cNvPr id="837" name=""/>
            <p:cNvSpPr/>
            <p:nvPr/>
          </p:nvSpPr>
          <p:spPr>
            <a:xfrm>
              <a:off x="6629400" y="2514600"/>
              <a:ext cx="228600" cy="39625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02320" y="2514600"/>
              <a:ext cx="355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505320" y="2286000"/>
            <a:ext cx="355320" cy="457200"/>
            <a:chOff x="3505320" y="2286000"/>
            <a:chExt cx="355320" cy="457200"/>
          </a:xfrm>
        </p:grpSpPr>
        <p:sp>
          <p:nvSpPr>
            <p:cNvPr id="840" name=""/>
            <p:cNvSpPr/>
            <p:nvPr/>
          </p:nvSpPr>
          <p:spPr>
            <a:xfrm>
              <a:off x="3632040" y="2286000"/>
              <a:ext cx="228240" cy="4572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72" y="36"/>
                    <a:pt x="0" y="72"/>
                    <a:pt x="0" y="96"/>
                  </a:cubicBezTo>
                  <a:cubicBezTo>
                    <a:pt x="0" y="120"/>
                    <a:pt x="72" y="132"/>
                    <a:pt x="144" y="14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505320" y="2286000"/>
              <a:ext cx="355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2220840" y="3094200"/>
            <a:ext cx="1411200" cy="669600"/>
          </a:xfrm>
          <a:prstGeom prst="wedgeRectCallout">
            <a:avLst>
              <a:gd name="adj1" fmla="val -12541"/>
              <a:gd name="adj2" fmla="val -110662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8000"/>
                </a:solidFill>
                <a:latin typeface="Times New Roman"/>
              </a:rPr>
              <a:t>hash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(Ba) = 1</a:t>
            </a:r>
            <a:br>
              <a:rPr sz="2000"/>
            </a:br>
            <a:r>
              <a:rPr b="0" i="1" lang="en-GB" sz="2000" spc="-1" strike="noStrike">
                <a:solidFill>
                  <a:srgbClr val="008000"/>
                </a:solidFill>
                <a:latin typeface="Times New Roman"/>
              </a:rPr>
              <a:t>step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(Ba)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181480" y="3292560"/>
            <a:ext cx="1600200" cy="699840"/>
          </a:xfrm>
          <a:prstGeom prst="wedgeRectCallout">
            <a:avLst>
              <a:gd name="adj1" fmla="val -15375"/>
              <a:gd name="adj2" fmla="val -104421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8000"/>
                </a:solidFill>
                <a:latin typeface="Times New Roman"/>
              </a:rPr>
              <a:t>hash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(Cs) = 2</a:t>
            </a:r>
            <a:br>
              <a:rPr sz="2000"/>
            </a:br>
            <a:r>
              <a:rPr b="0" i="1" lang="en-GB" sz="2000" spc="-1" strike="noStrike">
                <a:solidFill>
                  <a:srgbClr val="008000"/>
                </a:solidFill>
                <a:latin typeface="Times New Roman"/>
              </a:rPr>
              <a:t>step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(Cs) =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6781680" y="1889280"/>
            <a:ext cx="1219320" cy="4816440"/>
            <a:chOff x="6781680" y="1889280"/>
            <a:chExt cx="1219320" cy="4816440"/>
          </a:xfrm>
        </p:grpSpPr>
        <p:sp>
          <p:nvSpPr>
            <p:cNvPr id="845" name=""/>
            <p:cNvSpPr/>
            <p:nvPr/>
          </p:nvSpPr>
          <p:spPr>
            <a:xfrm>
              <a:off x="7162920" y="28494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62920" y="4906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62920" y="42210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162920" y="37638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162920" y="1944720"/>
              <a:ext cx="76176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81680" y="1889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81680" y="2117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81680" y="23623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781680" y="25909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81680" y="28195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81680" y="3032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81680" y="3260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81680" y="3489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81680" y="3718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81680" y="39466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81680" y="4175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81680" y="4403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81680" y="4632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62920" y="30780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162920" y="2163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781680" y="4861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62920" y="2392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162920" y="26208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62920" y="33066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162920" y="3535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62920" y="3992400"/>
              <a:ext cx="7617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44496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62920" y="4678200"/>
              <a:ext cx="76176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2920" y="55818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81680" y="5546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781680" y="5775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81040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162920" y="60199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1680" y="64310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62920" y="6450120"/>
              <a:ext cx="76176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13072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51814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86600" y="60199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773520" y="1889280"/>
            <a:ext cx="1255680" cy="4816440"/>
            <a:chOff x="3773520" y="1889280"/>
            <a:chExt cx="1255680" cy="4816440"/>
          </a:xfrm>
        </p:grpSpPr>
        <p:sp>
          <p:nvSpPr>
            <p:cNvPr id="884" name=""/>
            <p:cNvSpPr/>
            <p:nvPr/>
          </p:nvSpPr>
          <p:spPr>
            <a:xfrm>
              <a:off x="4154400" y="28494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54400" y="49068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54400" y="42210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154400" y="37638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54400" y="1944720"/>
              <a:ext cx="76212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773520" y="1889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73520" y="2117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73520" y="23623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73520" y="25909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73520" y="281952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73520" y="3032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773520" y="3260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73520" y="3489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773520" y="3718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73520" y="39466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773520" y="41752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773520" y="4403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773520" y="4632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154400" y="30780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54400" y="21636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73520" y="48610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54400" y="23922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54400" y="26208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54400" y="33066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54400" y="35352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54400" y="39924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54400" y="44496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54400" y="46782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54400" y="5581800"/>
              <a:ext cx="76212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73520" y="55468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73520" y="577548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54400" y="5810400"/>
              <a:ext cx="76212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54400" y="601992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773520" y="64310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54400" y="6450120"/>
              <a:ext cx="76212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54400" y="513072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14800" y="51814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14800" y="60199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62120" y="1889280"/>
            <a:ext cx="1218960" cy="4816440"/>
            <a:chOff x="762120" y="1889280"/>
            <a:chExt cx="1218960" cy="4816440"/>
          </a:xfrm>
        </p:grpSpPr>
        <p:sp>
          <p:nvSpPr>
            <p:cNvPr id="923" name=""/>
            <p:cNvSpPr/>
            <p:nvPr/>
          </p:nvSpPr>
          <p:spPr>
            <a:xfrm>
              <a:off x="1143000" y="28494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143000" y="49068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143000" y="42210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143000" y="37638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143000" y="1944720"/>
              <a:ext cx="76212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2120" y="18892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62120" y="21178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2120" y="236232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62120" y="259092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2120" y="281952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2120" y="30322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2120" y="32608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2120" y="34894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2120" y="37180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62120" y="39466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2120" y="41752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2120" y="44038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62120" y="46324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143000" y="30780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143000" y="21636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48610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143000" y="23922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143000" y="26208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143000" y="33066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43000" y="35352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143000" y="3992400"/>
              <a:ext cx="76212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143000" y="44496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143000" y="4678200"/>
              <a:ext cx="762120" cy="22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143000" y="5581800"/>
              <a:ext cx="76212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62120" y="55468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62120" y="577548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43000" y="5810400"/>
              <a:ext cx="762120" cy="22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143000" y="601992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62120" y="6431040"/>
              <a:ext cx="3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43000" y="6450120"/>
              <a:ext cx="76212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43000" y="5130720"/>
              <a:ext cx="762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ctr"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r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66680" y="5181480"/>
              <a:ext cx="914400" cy="38124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66680" y="60199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0"/>
                  </a:moveTo>
                  <a:lnTo>
                    <a:pt x="576" y="144"/>
                  </a:lnTo>
                  <a:lnTo>
                    <a:pt x="576" y="240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D4C-B73F-42CA-84AF-CE7D67B81D11}" type="slidenum">
              <a:t>52</a:t>
            </a:fld>
          </a:p>
        </p:txBody>
      </p:sp>
    </p:spTree>
  </p:cSld>
  <p:transition>
    <p:cover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OBHTs: double hashing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HT insertion algorithm with double has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sert the entr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to an OBH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76212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nd set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ep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ever-occupie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formerly-occupied, or is occupied by an ent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key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uck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ccupied by an entry whose key is not equal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y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odul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323-21CD-4819-868B-2FD7FBF7F8DD}" type="slidenum">
              <a:t>53</a:t>
            </a:fld>
          </a:p>
        </p:txBody>
      </p:sp>
    </p:spTree>
  </p:cSld>
  <p:transition>
    <p:cover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Hash tables in practic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trials compared the performance of three hash tables, each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ck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B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HBT with step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HBT with step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termined by double has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ash function was chosen to distribute keys uniformly amo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ckets (i.e., the probability that a key is mapped to any particular bucket was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trial, all three hash tables were loaded with the sam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domly-generated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AE5-1DDD-4194-B2FE-905F83842AB8}" type="slidenum">
              <a:t>54</a:t>
            </a:fld>
          </a:p>
        </p:txBody>
      </p:sp>
    </p:spTree>
  </p:cSld>
  <p:transition>
    <p:cover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Hash tables in practic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l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7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3 (load fact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5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733920" y="2133720"/>
            <a:ext cx="838080" cy="4191480"/>
            <a:chOff x="3733920" y="2133720"/>
            <a:chExt cx="838080" cy="4191480"/>
          </a:xfrm>
        </p:grpSpPr>
        <p:sp>
          <p:nvSpPr>
            <p:cNvPr id="971" name=""/>
            <p:cNvSpPr/>
            <p:nvPr/>
          </p:nvSpPr>
          <p:spPr>
            <a:xfrm>
              <a:off x="3962520" y="2133720"/>
              <a:ext cx="380880" cy="358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733920" y="5715000"/>
              <a:ext cx="8380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BHT (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=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962520" y="22096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962520" y="22860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962520" y="25905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62520" y="27432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962520" y="28954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62520" y="29718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962520" y="35812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62520" y="41907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962520" y="42670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62520" y="43434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962520" y="44193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962520" y="46479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962520" y="48006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62520" y="48765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962520" y="50292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62520" y="51814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962520" y="52578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62520" y="53337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962520" y="54100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962520" y="55623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62520" y="51051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62520" y="54864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962520" y="56386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6019920" y="2133720"/>
            <a:ext cx="1752480" cy="4191480"/>
            <a:chOff x="6019920" y="2133720"/>
            <a:chExt cx="1752480" cy="4191480"/>
          </a:xfrm>
        </p:grpSpPr>
        <p:sp>
          <p:nvSpPr>
            <p:cNvPr id="997" name=""/>
            <p:cNvSpPr/>
            <p:nvPr/>
          </p:nvSpPr>
          <p:spPr>
            <a:xfrm>
              <a:off x="6705720" y="2133720"/>
              <a:ext cx="380880" cy="358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19920" y="5715000"/>
              <a:ext cx="1752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BH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double hash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05720" y="22096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22860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05720" y="25905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705720" y="27432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705720" y="28954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705720" y="29718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05720" y="35812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05720" y="41907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05720" y="42670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05720" y="43434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05720" y="44193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05720" y="46479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05720" y="48006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705720" y="48765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705720" y="50292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705720" y="51814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705720" y="52578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05720" y="53337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705720" y="541008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705720" y="55623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705720" y="35049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05720" y="37335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705720" y="5486400"/>
              <a:ext cx="380880" cy="75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1143000" y="2133720"/>
            <a:ext cx="1066680" cy="3886920"/>
            <a:chOff x="1143000" y="2133720"/>
            <a:chExt cx="1066680" cy="3886920"/>
          </a:xfrm>
        </p:grpSpPr>
        <p:sp>
          <p:nvSpPr>
            <p:cNvPr id="1023" name=""/>
            <p:cNvSpPr/>
            <p:nvPr/>
          </p:nvSpPr>
          <p:spPr>
            <a:xfrm>
              <a:off x="1371600" y="221004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43000" y="5715360"/>
              <a:ext cx="106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B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71600" y="22863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371600" y="259092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71600" y="27435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289584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371600" y="29721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71600" y="358164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71600" y="419112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71600" y="426744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371600" y="43437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71600" y="441972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371600" y="464832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71600" y="48009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71600" y="487692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371600" y="50295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371600" y="518184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371600" y="52581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371600" y="533412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71600" y="541044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71600" y="556272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828800" y="50295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828800" y="525816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28800" y="533412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43000" y="2133720"/>
              <a:ext cx="152280" cy="3581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4800600" y="5029200"/>
            <a:ext cx="762120" cy="609480"/>
          </a:xfrm>
          <a:prstGeom prst="wedgeRectCallout">
            <a:avLst>
              <a:gd name="adj1" fmla="val -97500"/>
              <a:gd name="adj2" fmla="val 6250"/>
            </a:avLst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66"/>
                </a:solidFill>
                <a:latin typeface="Times New Roman"/>
              </a:rPr>
              <a:t>long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0120" y="5029200"/>
            <a:ext cx="838080" cy="609480"/>
          </a:xfrm>
          <a:prstGeom prst="wedgeRectCallout">
            <a:avLst>
              <a:gd name="adj1" fmla="val -93180"/>
              <a:gd name="adj2" fmla="val 6250"/>
            </a:avLst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66"/>
                </a:solidFill>
                <a:latin typeface="Times New Roman"/>
              </a:rPr>
              <a:t>shorter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86000" y="3429000"/>
            <a:ext cx="1143000" cy="1219320"/>
          </a:xfrm>
          <a:prstGeom prst="wedgeRectCallout">
            <a:avLst>
              <a:gd name="adj1" fmla="val -81666"/>
              <a:gd name="adj2" fmla="val -21875"/>
            </a:avLst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66"/>
                </a:solidFill>
                <a:latin typeface="Times New Roman"/>
              </a:rPr>
              <a:t>Most buckets have 0</a:t>
            </a:r>
            <a:r>
              <a:rPr b="0" lang="en-GB" sz="20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–1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284-2320-4396-93DF-73C58B4AE57D}" type="slidenum">
              <a:t>55</a:t>
            </a:fld>
          </a:p>
        </p:txBody>
      </p:sp>
    </p:spTree>
  </p:cSld>
  <p:transition>
    <p:cover dir="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Hash tables in practice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l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7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6 (load fact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75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5791320" y="2209680"/>
            <a:ext cx="1752480" cy="4191840"/>
            <a:chOff x="5791320" y="2209680"/>
            <a:chExt cx="1752480" cy="4191840"/>
          </a:xfrm>
        </p:grpSpPr>
        <p:sp>
          <p:nvSpPr>
            <p:cNvPr id="1055" name=""/>
            <p:cNvSpPr/>
            <p:nvPr/>
          </p:nvSpPr>
          <p:spPr>
            <a:xfrm>
              <a:off x="6477120" y="22860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77120" y="2209680"/>
              <a:ext cx="38088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23623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77120" y="25146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477120" y="25909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477120" y="27432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77120" y="28195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77120" y="28954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77120" y="29718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77120" y="30481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77120" y="31240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77120" y="32004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77120" y="32767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77120" y="35053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77120" y="36576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477120" y="37339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77120" y="38098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77120" y="38862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77120" y="39625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477120" y="40384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477120" y="41148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477120" y="42670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77120" y="43434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477120" y="44197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77120" y="44956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477120" y="46483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48006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477120" y="48769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477120" y="49528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77120" y="50292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477120" y="51814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77120" y="52578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77120" y="54100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77120" y="54864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77120" y="55627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77120" y="56386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477120" y="57150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91320" y="5791320"/>
              <a:ext cx="1752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BH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double hash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1066680" y="2209680"/>
            <a:ext cx="1981080" cy="3886920"/>
            <a:chOff x="1066680" y="2209680"/>
            <a:chExt cx="1981080" cy="3886920"/>
          </a:xfrm>
        </p:grpSpPr>
        <p:sp>
          <p:nvSpPr>
            <p:cNvPr id="1094" name=""/>
            <p:cNvSpPr/>
            <p:nvPr/>
          </p:nvSpPr>
          <p:spPr>
            <a:xfrm>
              <a:off x="1295280" y="30481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295280" y="22860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295280" y="23623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295280" y="25146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295280" y="28195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295280" y="27432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295280" y="31240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295280" y="32004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295280" y="32767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295280" y="35053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295280" y="36576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295280" y="37339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295280" y="40384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295280" y="41148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295280" y="42670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295280" y="44956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5280" y="46483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95280" y="48006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95280" y="48769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295280" y="49528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295280" y="50292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95280" y="51814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95280" y="52578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295280" y="54100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95280" y="54864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752480" y="22860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752480" y="28195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52480" y="27432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752480" y="32004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752480" y="37339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52480" y="46483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52480" y="52578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752480" y="54100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209680" y="27432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66880" y="27432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209680" y="46483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66680" y="5791320"/>
              <a:ext cx="106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B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66680" y="2209680"/>
              <a:ext cx="152280" cy="3581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952880" y="2819520"/>
            <a:ext cx="762120" cy="914400"/>
          </a:xfrm>
          <a:prstGeom prst="wedgeRectCallout">
            <a:avLst>
              <a:gd name="adj1" fmla="val -89166"/>
              <a:gd name="adj2" fmla="val -5555"/>
            </a:avLst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66"/>
                </a:solidFill>
                <a:latin typeface="Times New Roman"/>
              </a:rPr>
              <a:t>very long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952880" y="4648320"/>
            <a:ext cx="838440" cy="914400"/>
          </a:xfrm>
          <a:prstGeom prst="wedgeRectCallout">
            <a:avLst>
              <a:gd name="adj1" fmla="val -85606"/>
              <a:gd name="adj2" fmla="val -1388"/>
            </a:avLst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66"/>
                </a:solidFill>
                <a:latin typeface="Times New Roman"/>
              </a:rPr>
              <a:t>very long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3962520" y="2209680"/>
            <a:ext cx="838080" cy="4191840"/>
            <a:chOff x="3962520" y="2209680"/>
            <a:chExt cx="838080" cy="4191840"/>
          </a:xfrm>
        </p:grpSpPr>
        <p:sp>
          <p:nvSpPr>
            <p:cNvPr id="1135" name=""/>
            <p:cNvSpPr/>
            <p:nvPr/>
          </p:nvSpPr>
          <p:spPr>
            <a:xfrm>
              <a:off x="4191120" y="2209680"/>
              <a:ext cx="38088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191120" y="29718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91120" y="30481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91120" y="31240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91120" y="32004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191120" y="32767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191120" y="33526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191120" y="34290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191120" y="35053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91120" y="35812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191120" y="36576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191120" y="37339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191120" y="48006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191120" y="48769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191120" y="49528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91120" y="50292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191120" y="51055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191120" y="51814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91120" y="52578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191120" y="53341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91120" y="54100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91120" y="54864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91120" y="55627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962520" y="5791320"/>
              <a:ext cx="8380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BHT (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=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191120" y="22860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191120" y="23623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91120" y="24382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91120" y="25146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91120" y="27432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91120" y="28195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91120" y="28954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91120" y="38098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91120" y="40384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91120" y="411480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91120" y="42670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91120" y="44956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91120" y="4648320"/>
              <a:ext cx="380880" cy="7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91120" y="4724280"/>
              <a:ext cx="380880" cy="76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7315200" y="2666880"/>
            <a:ext cx="838080" cy="609840"/>
          </a:xfrm>
          <a:prstGeom prst="wedgeRectCallout">
            <a:avLst>
              <a:gd name="adj1" fmla="val -93180"/>
              <a:gd name="adj2" fmla="val 6250"/>
            </a:avLst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66"/>
                </a:solidFill>
                <a:latin typeface="Times New Roman"/>
              </a:rPr>
              <a:t>shorter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666880" y="3124080"/>
            <a:ext cx="1143000" cy="1219320"/>
          </a:xfrm>
          <a:prstGeom prst="wedgeRectCallout">
            <a:avLst>
              <a:gd name="adj1" fmla="val -81666"/>
              <a:gd name="adj2" fmla="val -21875"/>
            </a:avLst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66"/>
                </a:solidFill>
                <a:latin typeface="Times New Roman"/>
              </a:rPr>
              <a:t>Most buckets have 0</a:t>
            </a:r>
            <a:r>
              <a:rPr b="0" lang="en-GB" sz="20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–2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315200" y="3581280"/>
            <a:ext cx="838080" cy="609840"/>
          </a:xfrm>
          <a:prstGeom prst="wedgeRectCallout">
            <a:avLst>
              <a:gd name="adj1" fmla="val -93180"/>
              <a:gd name="adj2" fmla="val 6250"/>
            </a:avLst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66"/>
                </a:solidFill>
                <a:latin typeface="Times New Roman"/>
              </a:rPr>
              <a:t>shorter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6C1-2630-486F-B99E-A729434E1C7F}" type="slidenum">
              <a:t>56</a:t>
            </a:fld>
          </a:p>
        </p:txBody>
      </p:sp>
    </p:spTree>
  </p:cSld>
  <p:transition>
    <p:cover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tudent record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hypothetical university’s student records. About 1500 new students register each year, and most students stay for 4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udent has a unique id,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ydd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last two digits of the year of first registration, and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rial numb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at the student records will be held in a hash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an depend on any or al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dig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797-2FCC-4AE4-AA17-1A4E056BBEB3}" type="slidenum">
              <a:t>57</a:t>
            </a:fld>
          </a:p>
        </p:txBody>
      </p:sp>
    </p:spTree>
  </p:cSld>
  <p:transition>
    <p:cover dir="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tudent record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first two digi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 too few buckets. Load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00/10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uneven distribution. E.g., in academic year 2001–02, most ids start with 98, 99, 00, or 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last four digi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number of buckets. Load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00/1000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ven distribution. Most ids end with 0000…15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997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number of buckets. Load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00/999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distribution (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im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50E-A2EF-44A8-A509-78E8C8DFE2DB}" type="slidenum">
              <a:t>58</a:t>
            </a:fld>
          </a:p>
        </p:txBody>
      </p:sp>
    </p:spTree>
  </p:cSld>
  <p:transition>
    <p:cover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student records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OBHT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clusters of about 1500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OBHT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void cluste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OBHT with double has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void cluste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96F-89B5-499C-8E5B-66611E70D8FA}" type="slidenum">
              <a:t>59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Example: a hash function for word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at the keys are English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hash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2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(initial let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‘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ords with initial letter ‘A’ share bucket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ords with initial letter ‘Z’ share bucket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convenient choice for illustrative purp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t is a poor choice for practical purposes: collisions are likely to be frequent in some bu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F22-B06E-4B4E-8B5D-B0214F510F03}" type="slidenum">
              <a:t>6</a:t>
            </a:fld>
          </a:p>
        </p:txBody>
      </p:sp>
    </p:spTree>
  </p:cSld>
  <p:transition>
    <p:cover dir="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sets using CBHT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implementation of maps (with set members instead of map entries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1143000" y="3073320"/>
          <a:ext cx="5384880" cy="2551320"/>
        </p:xfrm>
        <a:graphic>
          <a:graphicData uri="http://schemas.openxmlformats.org/drawingml/2006/table">
            <a:tbl>
              <a:tblPr/>
              <a:tblGrid>
                <a:gridCol w="1409760"/>
                <a:gridCol w="1917720"/>
                <a:gridCol w="205740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BHT 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1816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BHT inse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1816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BHT de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1816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1EE-4B96-4FF4-8339-0919C15808CC}" type="slidenum">
              <a:t>60</a:t>
            </a:fld>
          </a:p>
        </p:txBody>
      </p:sp>
    </p:spTree>
  </p:cSld>
  <p:transition>
    <p:cover dir="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Implementation of maps using CBHT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2" name=""/>
          <p:cNvGraphicFramePr/>
          <p:nvPr/>
        </p:nvGraphicFramePr>
        <p:xfrm>
          <a:off x="1143000" y="2081160"/>
          <a:ext cx="6603840" cy="3951360"/>
        </p:xfrm>
        <a:graphic>
          <a:graphicData uri="http://schemas.openxmlformats.org/drawingml/2006/table">
            <a:tbl>
              <a:tblPr/>
              <a:tblGrid>
                <a:gridCol w="1320840"/>
                <a:gridCol w="3276720"/>
                <a:gridCol w="20062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BHT 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1714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BHT de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1714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BHT inse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1714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ge on corresponding buckets of both CB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1714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lity test on corresponding buckets of both CB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r" pos="1714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49F-E09B-455E-A48E-C3B22BA53112}" type="slidenum">
              <a:t>61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Hashing in Java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1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method 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ashCode 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e this object to an integer, such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.equals(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.hashcod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.hashcod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onsistent. We can use it to implement a hash function for a hash table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ck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ash (Object k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th.abs(k.hashCode()) %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257800"/>
            <a:ext cx="2286000" cy="665280"/>
          </a:xfrm>
          <a:prstGeom prst="wedgeRectCallout">
            <a:avLst>
              <a:gd name="adj1" fmla="val 35833"/>
              <a:gd name="adj2" fmla="val -106324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ourier New"/>
              </a:rPr>
              <a:t>Math.abs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 returns a nonnegative int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5257800"/>
            <a:ext cx="3429000" cy="650880"/>
          </a:xfrm>
          <a:prstGeom prst="wedgeRectCallout">
            <a:avLst>
              <a:gd name="adj1" fmla="val 10185"/>
              <a:gd name="adj2" fmla="val -106342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Modulo-</a:t>
            </a:r>
            <a:r>
              <a:rPr b="0" i="1" lang="en-GB" sz="20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 arithmetic then gives an integer in the range 0…</a:t>
            </a:r>
            <a:r>
              <a:rPr b="0" i="1" lang="en-GB" sz="20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–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7E1-60BC-4466-BF87-762731FBDB6F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Hashing in Java </a:t>
            </a:r>
            <a:r>
              <a:rPr b="1" i="1" lang="en-US" sz="3600" spc="-1" strike="noStrike">
                <a:solidFill>
                  <a:srgbClr val="339966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ubclas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43000" y="2774880"/>
          <a:ext cx="7010280" cy="1886040"/>
        </p:xfrm>
        <a:graphic>
          <a:graphicData uri="http://schemas.openxmlformats.org/drawingml/2006/table">
            <a:tbl>
              <a:tblPr/>
              <a:tblGrid>
                <a:gridCol w="1295280"/>
                <a:gridCol w="5715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of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ult of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hashCod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ed sum of characters of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er value of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high 32 bits of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exclusive-or (low 32 bits of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i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ressed in milliseconds since 1970-01-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FAC-1627-47BB-AFD0-8BC4303F0E5D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Closed-bucket vs. open-bucket hash tables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-bucket hash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bucket may be occupied by several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ckets are completely sepa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-bucket hash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bucket may be occupied by at most one e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ever there is a collision, displace the new entry to another buc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CD4-078A-4294-8915-415F7B14B921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2:16:58Z</dcterms:created>
  <dc:creator>Watt</dc:creator>
  <dc:description/>
  <dc:language>en-US</dc:language>
  <cp:lastModifiedBy>David A Watt</cp:lastModifiedBy>
  <cp:lastPrinted>2000-10-24T16:09:57Z</cp:lastPrinted>
  <dcterms:modified xsi:type="dcterms:W3CDTF">2002-01-04T10:48:24Z</dcterms:modified>
  <cp:revision>247</cp:revision>
  <dc:subject/>
  <dc:title>Formalizing the Dynamic Semantics of Java</dc:title>
</cp:coreProperties>
</file>