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712D1-EE9E-405F-9024-0D9DBF615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934D1-813E-4727-B4EA-2851D30AE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B9E3E-1BF1-464C-A09D-0FDC18D52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DB6F3-E5D0-4FE3-BE3E-A40D6059B4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41C0F-DFD3-4515-A8F5-1712F112B1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A900F-E698-471C-9D07-7EB9AAB0D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2998C-6EB9-422D-89A5-2A5245173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B97A4-7787-4132-89D9-2BEBF57C7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4CC51-4CC3-45D6-A945-C5CDBBDE9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33DCB-3B7F-4FE4-87A6-7C3063AA1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A2621-23A8-4868-AE38-1884885AF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64148-59A7-4194-B112-316B4379C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800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10-</a:t>
            </a:r>
            <a:fld id="{FB344B9A-2F56-42BD-970C-6975585A4073}" type="slidenum"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10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Binary Tree Data Structures</a:t>
            </a:r>
            <a:endParaRPr b="1" lang="en-US" sz="4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trees and binary search t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vers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sets using B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609480"/>
            <a:ext cx="9144000" cy="1676520"/>
            <a:chOff x="0" y="609480"/>
            <a:chExt cx="9144000" cy="1676520"/>
          </a:xfrm>
        </p:grpSpPr>
        <p:sp>
          <p:nvSpPr>
            <p:cNvPr id="43" name="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2286000"/>
              <a:ext cx="914400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56570-9214-41A1-AE39-BFA19F69F740}" type="slidenum">
              <a:t>1</a:t>
            </a:fld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inary search tree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search 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s a binary tree with the following property. For any node in the binary tree, if that node contains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left subtree (if nonempty) contains only elements less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right subtree (if nonempty) contains only elements great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526E7-65D8-4A90-819A-5F3BD78183A8}" type="slidenum">
              <a:t>10</a:t>
            </a:fld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inary search tree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ust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143000" y="2048040"/>
            <a:ext cx="4952880" cy="2134080"/>
            <a:chOff x="1143000" y="2048040"/>
            <a:chExt cx="4952880" cy="2134080"/>
          </a:xfrm>
        </p:grpSpPr>
        <p:sp>
          <p:nvSpPr>
            <p:cNvPr id="243" name=""/>
            <p:cNvSpPr/>
            <p:nvPr/>
          </p:nvSpPr>
          <p:spPr>
            <a:xfrm>
              <a:off x="1143000" y="2057760"/>
              <a:ext cx="38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76520" y="205776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28800" y="2210040"/>
              <a:ext cx="1752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981080" y="2048040"/>
              <a:ext cx="4114800" cy="2134080"/>
              <a:chOff x="1981080" y="2048040"/>
              <a:chExt cx="4114800" cy="2134080"/>
            </a:xfrm>
          </p:grpSpPr>
          <p:sp>
            <p:nvSpPr>
              <p:cNvPr id="247" name=""/>
              <p:cNvSpPr/>
              <p:nvPr/>
            </p:nvSpPr>
            <p:spPr>
              <a:xfrm>
                <a:off x="2514600" y="3876840"/>
                <a:ext cx="914400" cy="305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do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52680" y="4105440"/>
                <a:ext cx="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590920" y="4105440"/>
                <a:ext cx="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81080" y="3267360"/>
                <a:ext cx="914400" cy="305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a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057400" y="3495960"/>
                <a:ext cx="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048120" y="2657880"/>
                <a:ext cx="914400" cy="305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fo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886200" y="2886480"/>
                <a:ext cx="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81280" y="2048040"/>
                <a:ext cx="914400" cy="305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l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14800" y="3267360"/>
                <a:ext cx="914400" cy="305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pi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952880" y="3495960"/>
                <a:ext cx="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191120" y="3495960"/>
                <a:ext cx="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648320" y="2657880"/>
                <a:ext cx="914400" cy="305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ra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181480" y="3267360"/>
                <a:ext cx="914400" cy="305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tig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019920" y="3495960"/>
                <a:ext cx="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257800" y="3495960"/>
                <a:ext cx="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419720" y="2286360"/>
                <a:ext cx="68580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486400" y="2895840"/>
                <a:ext cx="15228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4571640" y="2895840"/>
                <a:ext cx="15228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2437920" y="2895840"/>
                <a:ext cx="68580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819520" y="3505320"/>
                <a:ext cx="152280" cy="38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3504960" y="2286360"/>
                <a:ext cx="15228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1143000" y="4410000"/>
            <a:ext cx="5943600" cy="2134080"/>
            <a:chOff x="1143000" y="4410000"/>
            <a:chExt cx="5943600" cy="2134080"/>
          </a:xfrm>
        </p:grpSpPr>
        <p:sp>
          <p:nvSpPr>
            <p:cNvPr id="269" name=""/>
            <p:cNvSpPr/>
            <p:nvPr/>
          </p:nvSpPr>
          <p:spPr>
            <a:xfrm>
              <a:off x="1143000" y="4419720"/>
              <a:ext cx="38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76520" y="441972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28800" y="457200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05520" y="50198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71800" y="44100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6238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43400" y="64674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81280" y="64674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38480" y="56293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72000" y="6238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0080" y="64674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48320" y="64674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09880" y="4648320"/>
              <a:ext cx="17528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76920" y="586728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3962160" y="586728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495320" y="525780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38680" y="6238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77120" y="64674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15000" y="64674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72200" y="56293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095880" y="5867280"/>
              <a:ext cx="1526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43600" y="525780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10280" y="58672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48120" y="46483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E6E7A-B0CD-4EDF-9205-43AE7B77493F}" type="slidenum">
              <a:t>11</a:t>
            </a:fld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inary search tree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quivalent recursive definition is also possibl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search 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emp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 which case it h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oot node containing an eleme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nk to a left subtree in which (if it is not empty) all elements are less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nk to a right subtree in which (if it is not empty) all elements are great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DC945-93A4-4E26-B74E-E07DB2612AA0}" type="slidenum">
              <a:t>12</a:t>
            </a:fld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inary search tree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4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class implementing BST no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STNod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mparable elemen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STNode left, righ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STNode (Comparable elem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ent = elem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f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righ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57800" y="5029200"/>
            <a:ext cx="3276720" cy="380880"/>
          </a:xfrm>
          <a:prstGeom prst="wedgeRectCallout">
            <a:avLst>
              <a:gd name="adj1" fmla="val -95541"/>
              <a:gd name="adj2" fmla="val -20000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Courier New"/>
              </a:rPr>
              <a:t>BSTNode</a:t>
            </a: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 methods (to fol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07C8C-1545-47C7-9483-EF4D763EEB0E}" type="slidenum">
              <a:t>13</a:t>
            </a:fld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inary search tree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5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class implementing BST head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S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STNode roo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ST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n empty BS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o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67280" y="4724280"/>
            <a:ext cx="2667240" cy="381240"/>
          </a:xfrm>
          <a:prstGeom prst="wedgeRectCallout">
            <a:avLst>
              <a:gd name="adj1" fmla="val -128810"/>
              <a:gd name="adj2" fmla="val -20000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Courier New"/>
              </a:rPr>
              <a:t>BST</a:t>
            </a: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 methods (to fol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EB213-52F6-41C3-BDB1-C8FC4FB68375}" type="slidenum">
              <a:t>14</a:t>
            </a:fld>
          </a:p>
        </p:txBody>
      </p:sp>
    </p:spTree>
  </p:cSld>
  <p:transition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ST search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Search for a given target value in a B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: Compare the target value with the element in the root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9196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target value i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search is successf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9196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arget value i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earch the left sub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9196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arget value i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earch the right sub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9196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subtree i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search is unsuccessf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57A3D-D497-4F10-A06D-4EF07808F393}" type="slidenum">
              <a:t>15</a:t>
            </a:fld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ST search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T search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nd which if any node of a BST contains an element equal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BST’s roo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null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 with answ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wise,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equal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elemen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 with answ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wise,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less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elemen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left chi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wise,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great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elemen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right child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5F4E1-0028-450E-9FA5-EB6DD4841439}" type="slidenum">
              <a:t>16</a:t>
            </a:fld>
          </a:p>
        </p:txBody>
      </p:sp>
    </p:spTree>
  </p:cSld>
  <p:transition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ST search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tion (successful search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09480" y="1978200"/>
            <a:ext cx="7925040" cy="4727520"/>
            <a:chOff x="609480" y="1978200"/>
            <a:chExt cx="7925040" cy="4727520"/>
          </a:xfrm>
        </p:grpSpPr>
        <p:sp>
          <p:nvSpPr>
            <p:cNvPr id="314" name=""/>
            <p:cNvSpPr/>
            <p:nvPr/>
          </p:nvSpPr>
          <p:spPr>
            <a:xfrm>
              <a:off x="609480" y="1981440"/>
              <a:ext cx="7925040" cy="472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480" y="1978200"/>
              <a:ext cx="79250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find which if any node of a BST contains an element equal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BST’s root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ull, terminate with answ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n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equal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terminate with answ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3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less tha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left child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4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greater tha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right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il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43000" y="449604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76520" y="449604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28800" y="4648320"/>
              <a:ext cx="2362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24080" y="63154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62520" y="65440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00400" y="65440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9092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6688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57600" y="5096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495680" y="53247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91120" y="44866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2428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56272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0060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257800" y="5096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132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2940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6728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29200" y="472464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095880" y="5334120"/>
              <a:ext cx="1526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181480" y="5334120"/>
              <a:ext cx="1526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3047760" y="5334120"/>
              <a:ext cx="68580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594396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114440" y="472464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91520" y="4492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629400" y="4492800"/>
              <a:ext cx="6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09480" y="1978200"/>
            <a:ext cx="7925040" cy="4727520"/>
            <a:chOff x="609480" y="1978200"/>
            <a:chExt cx="7925040" cy="4727520"/>
          </a:xfrm>
        </p:grpSpPr>
        <p:sp>
          <p:nvSpPr>
            <p:cNvPr id="343" name=""/>
            <p:cNvSpPr/>
            <p:nvPr/>
          </p:nvSpPr>
          <p:spPr>
            <a:xfrm>
              <a:off x="609480" y="1981440"/>
              <a:ext cx="7925040" cy="472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9480" y="1978200"/>
              <a:ext cx="79250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find which if any node of a BST contains an element equal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Set 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to the BST’s root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ull, terminate with answ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n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equal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terminate with answ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3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less tha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left child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4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greater tha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right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il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43000" y="449604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76520" y="449604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28800" y="4648320"/>
              <a:ext cx="2362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24080" y="63154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62520" y="65440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00400" y="65440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9092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6688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57600" y="5096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95680" y="53247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91120" y="44866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2428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6272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80060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257800" y="5096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9132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2940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6728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029200" y="472464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095880" y="5334120"/>
              <a:ext cx="1526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5181480" y="5334120"/>
              <a:ext cx="1526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047760" y="5334120"/>
              <a:ext cx="68580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29000" y="594396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4114440" y="472464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43000" y="541044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ur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76520" y="541044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28800" y="4724640"/>
              <a:ext cx="2362320" cy="838080"/>
            </a:xfrm>
            <a:custGeom>
              <a:avLst/>
              <a:gdLst/>
              <a:ahLst/>
              <a:rect l="l" t="t" r="r" b="b"/>
              <a:pathLst>
                <a:path w="1488" h="528">
                  <a:moveTo>
                    <a:pt x="0" y="528"/>
                  </a:moveTo>
                  <a:lnTo>
                    <a:pt x="192" y="528"/>
                  </a:lnTo>
                  <a:lnTo>
                    <a:pt x="148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91520" y="4492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629400" y="4492800"/>
              <a:ext cx="6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609480" y="1978200"/>
            <a:ext cx="7925040" cy="4727520"/>
            <a:chOff x="609480" y="1978200"/>
            <a:chExt cx="7925040" cy="4727520"/>
          </a:xfrm>
        </p:grpSpPr>
        <p:sp>
          <p:nvSpPr>
            <p:cNvPr id="375" name=""/>
            <p:cNvSpPr/>
            <p:nvPr/>
          </p:nvSpPr>
          <p:spPr>
            <a:xfrm>
              <a:off x="609480" y="1981440"/>
              <a:ext cx="7925040" cy="472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9480" y="1978200"/>
              <a:ext cx="79250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find which if any node of a BST contains an element equal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BST’s root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ull, terminate with answ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n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equal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terminate with answ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3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less tha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left child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4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is greater than 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s right 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hil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43000" y="449604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449604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28800" y="4648320"/>
              <a:ext cx="2362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24080" y="63154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962520" y="65440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00400" y="65440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092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66688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57600" y="5096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95680" y="53247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191120" y="44866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72428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6272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0060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257800" y="5096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9132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2940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86728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29200" y="4724640"/>
              <a:ext cx="68580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95880" y="5334120"/>
              <a:ext cx="1526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5181480" y="5334120"/>
              <a:ext cx="1526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3047760" y="5334120"/>
              <a:ext cx="68580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29000" y="594396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4114440" y="472464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43000" y="541044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ur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76520" y="541044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28800" y="5318280"/>
              <a:ext cx="3429000" cy="244440"/>
            </a:xfrm>
            <a:custGeom>
              <a:avLst/>
              <a:gdLst/>
              <a:ahLst/>
              <a:rect l="l" t="t" r="r" b="b"/>
              <a:pathLst>
                <a:path w="2160" h="154">
                  <a:moveTo>
                    <a:pt x="0" y="154"/>
                  </a:moveTo>
                  <a:lnTo>
                    <a:pt x="1736" y="152"/>
                  </a:lnTo>
                  <a:lnTo>
                    <a:pt x="21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391520" y="4492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629400" y="4492800"/>
              <a:ext cx="6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09480" y="1978200"/>
            <a:ext cx="7925040" cy="4727520"/>
            <a:chOff x="609480" y="1978200"/>
            <a:chExt cx="7925040" cy="4727520"/>
          </a:xfrm>
        </p:grpSpPr>
        <p:sp>
          <p:nvSpPr>
            <p:cNvPr id="407" name=""/>
            <p:cNvSpPr/>
            <p:nvPr/>
          </p:nvSpPr>
          <p:spPr>
            <a:xfrm>
              <a:off x="609480" y="1981440"/>
              <a:ext cx="7925040" cy="472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9480" y="1978200"/>
              <a:ext cx="79250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find which if any node of a BST contains an element equal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BST’s root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ull, terminate with answ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n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equal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terminate with answ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3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is less than 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s left child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4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greater tha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right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il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143000" y="449604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76520" y="449604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28800" y="4648320"/>
              <a:ext cx="2362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24080" y="63154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62520" y="65440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00400" y="65440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59092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66688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57600" y="5096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495680" y="53247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91120" y="44866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2428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6272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0060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57800" y="5096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79132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62940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6728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029200" y="4724640"/>
              <a:ext cx="68580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95880" y="5334120"/>
              <a:ext cx="1526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181480" y="5334120"/>
              <a:ext cx="152640" cy="38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047760" y="5334120"/>
              <a:ext cx="68580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29000" y="594396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4114440" y="472464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143000" y="541044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ur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676520" y="541044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28800" y="5559840"/>
              <a:ext cx="2908440" cy="228600"/>
            </a:xfrm>
            <a:custGeom>
              <a:avLst/>
              <a:gdLst/>
              <a:ahLst/>
              <a:rect l="l" t="t" r="r" b="b"/>
              <a:pathLst>
                <a:path w="1832" h="144">
                  <a:moveTo>
                    <a:pt x="0" y="2"/>
                  </a:moveTo>
                  <a:lnTo>
                    <a:pt x="1056" y="0"/>
                  </a:lnTo>
                  <a:lnTo>
                    <a:pt x="1832" y="1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91520" y="4492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29400" y="4492800"/>
              <a:ext cx="6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609480" y="1978200"/>
            <a:ext cx="7925040" cy="4727520"/>
            <a:chOff x="609480" y="1978200"/>
            <a:chExt cx="7925040" cy="4727520"/>
          </a:xfrm>
        </p:grpSpPr>
        <p:sp>
          <p:nvSpPr>
            <p:cNvPr id="439" name=""/>
            <p:cNvSpPr/>
            <p:nvPr/>
          </p:nvSpPr>
          <p:spPr>
            <a:xfrm>
              <a:off x="609480" y="1981440"/>
              <a:ext cx="7925040" cy="472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9480" y="1978200"/>
              <a:ext cx="79250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find which if any node of a BST contains an element equal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BST’s root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ull, terminate with answ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n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is equal to 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s element, terminate with answer 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3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less tha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left child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4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greater tha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right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il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43000" y="449604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676520" y="449604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828800" y="4648320"/>
              <a:ext cx="2362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124080" y="63154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62520" y="65440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200400" y="65440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9092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6688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57600" y="5096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95680" y="53247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191120" y="44866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72428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6272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0060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257800" y="5096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9132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2940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6728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29200" y="4724640"/>
              <a:ext cx="68580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095880" y="5334120"/>
              <a:ext cx="1526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181480" y="5334120"/>
              <a:ext cx="152640" cy="38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3047760" y="5334120"/>
              <a:ext cx="68580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429000" y="594396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4114440" y="472464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43000" y="541044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ur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676520" y="541044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828800" y="5559840"/>
              <a:ext cx="2908440" cy="228600"/>
            </a:xfrm>
            <a:custGeom>
              <a:avLst/>
              <a:gdLst/>
              <a:ahLst/>
              <a:rect l="l" t="t" r="r" b="b"/>
              <a:pathLst>
                <a:path w="1832" h="144">
                  <a:moveTo>
                    <a:pt x="0" y="2"/>
                  </a:moveTo>
                  <a:lnTo>
                    <a:pt x="1056" y="0"/>
                  </a:lnTo>
                  <a:lnTo>
                    <a:pt x="1832" y="1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391520" y="4492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629400" y="4492800"/>
              <a:ext cx="6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4493D-B315-4A7D-AADD-FEEC4EA84ED5}" type="slidenum">
              <a:t>17</a:t>
            </a:fld>
          </a:p>
        </p:txBody>
      </p:sp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ST search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4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tion (unsuccessful search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609480" y="1978200"/>
            <a:ext cx="7925040" cy="4727520"/>
            <a:chOff x="609480" y="1978200"/>
            <a:chExt cx="7925040" cy="4727520"/>
          </a:xfrm>
        </p:grpSpPr>
        <p:sp>
          <p:nvSpPr>
            <p:cNvPr id="474" name=""/>
            <p:cNvSpPr/>
            <p:nvPr/>
          </p:nvSpPr>
          <p:spPr>
            <a:xfrm>
              <a:off x="609480" y="1981440"/>
              <a:ext cx="7925040" cy="472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09480" y="1978200"/>
              <a:ext cx="79250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find which if any node of a BST contains an element equal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BST’s root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ull, terminate with answ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n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equal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terminate with answ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3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less tha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left child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4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greater tha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right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il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143000" y="449604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676520" y="449604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828800" y="4648320"/>
              <a:ext cx="2362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124080" y="63154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962520" y="65440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200400" y="65440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59092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6688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57600" y="5096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53247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91120" y="44866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72428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6272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0060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257800" y="5096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9132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62940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728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029200" y="472464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95880" y="5334120"/>
              <a:ext cx="1526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5181480" y="5334120"/>
              <a:ext cx="1526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3047760" y="5334120"/>
              <a:ext cx="68580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429000" y="594396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4114440" y="472464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391520" y="4492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go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629400" y="4492800"/>
              <a:ext cx="6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609480" y="1978200"/>
            <a:ext cx="7925040" cy="4727520"/>
            <a:chOff x="609480" y="1978200"/>
            <a:chExt cx="7925040" cy="4727520"/>
          </a:xfrm>
        </p:grpSpPr>
        <p:sp>
          <p:nvSpPr>
            <p:cNvPr id="503" name=""/>
            <p:cNvSpPr/>
            <p:nvPr/>
          </p:nvSpPr>
          <p:spPr>
            <a:xfrm>
              <a:off x="609480" y="1981440"/>
              <a:ext cx="7925040" cy="472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09480" y="1978200"/>
              <a:ext cx="79250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find which if any node of a BST contains an element equal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Set 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to the BST’s root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ull, terminate with answ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n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equal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terminate with answ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3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less tha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left child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4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greater tha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right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il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43000" y="449604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76520" y="449604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828800" y="4648320"/>
              <a:ext cx="2362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124080" y="63154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62520" y="65440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200400" y="65440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9092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66688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57600" y="5096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95680" y="53247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191120" y="44866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72428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56272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0060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257800" y="5096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9132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2940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6728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29200" y="472464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334120"/>
              <a:ext cx="1526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5181480" y="5334120"/>
              <a:ext cx="1526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3047760" y="5334120"/>
              <a:ext cx="68580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429000" y="594396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4114440" y="472464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43000" y="541044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ur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76520" y="541044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828800" y="4724640"/>
              <a:ext cx="2362320" cy="838080"/>
            </a:xfrm>
            <a:custGeom>
              <a:avLst/>
              <a:gdLst/>
              <a:ahLst/>
              <a:rect l="l" t="t" r="r" b="b"/>
              <a:pathLst>
                <a:path w="1488" h="528">
                  <a:moveTo>
                    <a:pt x="0" y="528"/>
                  </a:moveTo>
                  <a:lnTo>
                    <a:pt x="192" y="528"/>
                  </a:lnTo>
                  <a:lnTo>
                    <a:pt x="148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391520" y="4492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go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629400" y="4492800"/>
              <a:ext cx="6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609480" y="1978200"/>
            <a:ext cx="7925040" cy="4727520"/>
            <a:chOff x="609480" y="1978200"/>
            <a:chExt cx="7925040" cy="4727520"/>
          </a:xfrm>
        </p:grpSpPr>
        <p:sp>
          <p:nvSpPr>
            <p:cNvPr id="535" name=""/>
            <p:cNvSpPr/>
            <p:nvPr/>
          </p:nvSpPr>
          <p:spPr>
            <a:xfrm>
              <a:off x="609480" y="1981440"/>
              <a:ext cx="7925040" cy="472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9480" y="1978200"/>
              <a:ext cx="79250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find which if any node of a BST contains an element equal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BST’s root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ull, terminate with answ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n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equal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terminate with answ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3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is less than 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s left child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4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greater tha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right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il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143000" y="449604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676520" y="449604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828800" y="4648320"/>
              <a:ext cx="2362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124080" y="63154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962520" y="65440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200400" y="65440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59092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66688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657600" y="5096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495680" y="53247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91120" y="44866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72428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6272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60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257800" y="5096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9132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2940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6728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29200" y="472464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95880" y="5334120"/>
              <a:ext cx="1526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5181480" y="5334120"/>
              <a:ext cx="1526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3047760" y="5334120"/>
              <a:ext cx="68580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429000" y="594396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4114440" y="4724640"/>
              <a:ext cx="15228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143000" y="541044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ur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676520" y="541044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828800" y="5254920"/>
              <a:ext cx="1828800" cy="307800"/>
            </a:xfrm>
            <a:custGeom>
              <a:avLst/>
              <a:gdLst/>
              <a:ahLst/>
              <a:rect l="l" t="t" r="r" b="b"/>
              <a:pathLst>
                <a:path w="1152" h="194">
                  <a:moveTo>
                    <a:pt x="0" y="194"/>
                  </a:moveTo>
                  <a:lnTo>
                    <a:pt x="192" y="194"/>
                  </a:lnTo>
                  <a:lnTo>
                    <a:pt x="115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391520" y="4492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go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29400" y="4492800"/>
              <a:ext cx="6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09480" y="1978200"/>
            <a:ext cx="7925040" cy="4727520"/>
            <a:chOff x="609480" y="1978200"/>
            <a:chExt cx="7925040" cy="4727520"/>
          </a:xfrm>
        </p:grpSpPr>
        <p:sp>
          <p:nvSpPr>
            <p:cNvPr id="567" name=""/>
            <p:cNvSpPr/>
            <p:nvPr/>
          </p:nvSpPr>
          <p:spPr>
            <a:xfrm>
              <a:off x="609480" y="1981440"/>
              <a:ext cx="7925040" cy="472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9480" y="1978200"/>
              <a:ext cx="79250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find which if any node of a BST contains an element equal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BST’s root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ull, terminate with answ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n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equal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terminate with answ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3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less tha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left child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4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is greater than 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s right 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hil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143000" y="449604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76520" y="449604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828800" y="4648320"/>
              <a:ext cx="2362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124080" y="63154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62520" y="65440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200400" y="65440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59092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66688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657600" y="5096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495680" y="5324760"/>
              <a:ext cx="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191120" y="44866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72428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56272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80060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5096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79132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62940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86728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029200" y="472464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095880" y="5334120"/>
              <a:ext cx="1526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5181480" y="5334120"/>
              <a:ext cx="1526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3047760" y="5334120"/>
              <a:ext cx="68580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429000" y="594396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4114440" y="4724640"/>
              <a:ext cx="15228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143000" y="541044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ur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676520" y="541044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391520" y="4492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go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629400" y="4492800"/>
              <a:ext cx="6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828800" y="55598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609480" y="1978200"/>
            <a:ext cx="7925040" cy="4727520"/>
            <a:chOff x="609480" y="1978200"/>
            <a:chExt cx="7925040" cy="4727520"/>
          </a:xfrm>
        </p:grpSpPr>
        <p:sp>
          <p:nvSpPr>
            <p:cNvPr id="599" name=""/>
            <p:cNvSpPr/>
            <p:nvPr/>
          </p:nvSpPr>
          <p:spPr>
            <a:xfrm>
              <a:off x="609480" y="1981440"/>
              <a:ext cx="7925040" cy="472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09480" y="1978200"/>
              <a:ext cx="79250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find which if any node of a BST contains an element equal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BST’s root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is null, terminate with answer 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none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equal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terminate with answ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3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less tha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left child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4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greater tha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right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il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143000" y="449604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676520" y="449604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828800" y="4648320"/>
              <a:ext cx="2362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124080" y="63154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962520" y="65440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200400" y="65440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092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66688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657600" y="5096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495680" y="5324760"/>
              <a:ext cx="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191120" y="44866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72428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56272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80060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257800" y="5096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79132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62940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6728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029200" y="472464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095880" y="5334120"/>
              <a:ext cx="1526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5181480" y="5334120"/>
              <a:ext cx="1526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3047760" y="5334120"/>
              <a:ext cx="68580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429000" y="594396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4114440" y="4724640"/>
              <a:ext cx="15228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143000" y="541044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ur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76520" y="541044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391520" y="4492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go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29400" y="4492800"/>
              <a:ext cx="6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828800" y="55598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665F4-DC13-468D-A82C-04F74D6906E8}" type="slidenum">
              <a:t>18</a:t>
            </a:fld>
          </a:p>
        </p:txBody>
      </p:sp>
    </p:spTree>
  </p:cSld>
  <p:transition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ST search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5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50280" indent="-3502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 (counting comparis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the BST’s size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BST has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number of comparisons is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3502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BST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-balanc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ts depth is floor(log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. no. of comparisons  =  floor(log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-case time complexity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3502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BST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-balanc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ts depth is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. no. of comparisons 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st-case time complexity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D465E-4586-4DAB-B764-8872C3856B6B}" type="slidenum">
              <a:t>19</a:t>
            </a:fld>
          </a:p>
        </p:txBody>
      </p:sp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inary tree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sists of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lus a number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nected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 hierarchical data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node contains a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alue or object), plus links to at most two other nodes (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 chi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chi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eader contains a link to a node designated as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ot n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438280" y="3809880"/>
            <a:ext cx="4800600" cy="2134080"/>
            <a:chOff x="2438280" y="3809880"/>
            <a:chExt cx="4800600" cy="2134080"/>
          </a:xfrm>
        </p:grpSpPr>
        <p:sp>
          <p:nvSpPr>
            <p:cNvPr id="48" name=""/>
            <p:cNvSpPr/>
            <p:nvPr/>
          </p:nvSpPr>
          <p:spPr>
            <a:xfrm>
              <a:off x="2438280" y="381960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90920" y="3971880"/>
              <a:ext cx="1600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57600" y="50385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95680" y="52671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33920" y="52671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24080" y="44290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00400" y="46576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1120" y="3809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724280" y="50292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62720" y="52578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00600" y="52578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57800" y="44197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91320" y="50292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867280" y="52578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29200" y="404820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5880" y="4657680"/>
              <a:ext cx="1526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181480" y="4657680"/>
              <a:ext cx="1526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62520" y="466740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3580920" y="404820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24480" y="56386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62920" y="58672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00800" y="58672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29400" y="526716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523880" y="3819600"/>
            <a:ext cx="5943600" cy="1295280"/>
            <a:chOff x="1523880" y="3819600"/>
            <a:chExt cx="5943600" cy="1295280"/>
          </a:xfrm>
        </p:grpSpPr>
        <p:sp>
          <p:nvSpPr>
            <p:cNvPr id="72" name=""/>
            <p:cNvSpPr/>
            <p:nvPr/>
          </p:nvSpPr>
          <p:spPr>
            <a:xfrm>
              <a:off x="1523880" y="4809960"/>
              <a:ext cx="914400" cy="304920"/>
            </a:xfrm>
            <a:prstGeom prst="wedgeRectCallout">
              <a:avLst>
                <a:gd name="adj1" fmla="val 59027"/>
                <a:gd name="adj2" fmla="val -262500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hea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24480" y="3819600"/>
              <a:ext cx="1143000" cy="304560"/>
            </a:xfrm>
            <a:prstGeom prst="wedgeRectCallout">
              <a:avLst>
                <a:gd name="adj1" fmla="val -153888"/>
                <a:gd name="adj2" fmla="val -8333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root n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666880" y="5638680"/>
            <a:ext cx="3353040" cy="762120"/>
            <a:chOff x="2666880" y="5638680"/>
            <a:chExt cx="3353040" cy="762120"/>
          </a:xfrm>
        </p:grpSpPr>
        <p:sp>
          <p:nvSpPr>
            <p:cNvPr id="75" name=""/>
            <p:cNvSpPr/>
            <p:nvPr/>
          </p:nvSpPr>
          <p:spPr>
            <a:xfrm>
              <a:off x="2666880" y="5638680"/>
              <a:ext cx="1143000" cy="304920"/>
            </a:xfrm>
            <a:prstGeom prst="wedgeRectCallout">
              <a:avLst>
                <a:gd name="adj1" fmla="val 55000"/>
                <a:gd name="adj2" fmla="val -129166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leaf n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6920" y="6095880"/>
              <a:ext cx="1143000" cy="304920"/>
            </a:xfrm>
            <a:prstGeom prst="wedgeRectCallout">
              <a:avLst>
                <a:gd name="adj1" fmla="val 72777"/>
                <a:gd name="adj2" fmla="val -145833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leaf n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62520" y="5638680"/>
              <a:ext cx="1143000" cy="304920"/>
            </a:xfrm>
            <a:prstGeom prst="wedgeRectCallout">
              <a:avLst>
                <a:gd name="adj1" fmla="val 35000"/>
                <a:gd name="adj2" fmla="val -133333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leaf n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6EEB8-EF87-47A3-AE53-DCCF84FD6219}" type="slidenum">
              <a:t>2</a:t>
            </a:fld>
          </a:p>
        </p:txBody>
      </p:sp>
    </p:spTree>
  </p:cSld>
  <p:transition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ST search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6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as a Java method (in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STNode search (Comparable target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irection = 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STNode curr = roo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;;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curr =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rection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et.compareTo(curr.element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direction == 0)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urr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direction &lt; 0)  curr = curr.lef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curr = curr.righ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9C536-5D0E-46D0-AB0F-8F3078331462}" type="slidenum">
              <a:t>20</a:t>
            </a:fld>
          </a:p>
        </p:txBody>
      </p:sp>
    </p:spTree>
  </p:cSld>
  <p:transition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ST inser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: To insert a new element into a BST, proceed as if searching for that element. If the element is not already present, the search will lead to a null link. Replace that null link by a link to a leaf node containing the new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72204-B440-4F23-9E2A-5FD26FB626C4}" type="slidenum">
              <a:t>21</a:t>
            </a:fld>
          </a:p>
        </p:txBody>
      </p:sp>
    </p:spTree>
  </p:cSld>
  <p:transition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ST inser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T insertion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nsert the eleme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o a B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null, and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BST’s roo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null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ace the null link from whi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as tak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ither the BST’s root 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left child 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right child) by a link to a newly-created lea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 with eleme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wise,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equal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elemen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wise, …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423D9-36F5-4ED3-A309-C906555F56B3}" type="slidenum">
              <a:t>22</a:t>
            </a:fld>
          </a:p>
        </p:txBody>
      </p:sp>
    </p:spTree>
  </p:cSld>
  <p:transition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ST inser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T insertion algorith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wise,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less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elemen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left chi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wise,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great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elemen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right child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92590-6D80-4DB6-A369-FC52DECDDDA8}" type="slidenum">
              <a:t>23</a:t>
            </a:fld>
          </a:p>
        </p:txBody>
      </p:sp>
    </p:spTree>
  </p:cSld>
  <p:transition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ST inser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4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tion (empty B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609480" y="1905120"/>
            <a:ext cx="7925040" cy="4800600"/>
            <a:chOff x="609480" y="1905120"/>
            <a:chExt cx="7925040" cy="4800600"/>
          </a:xfrm>
        </p:grpSpPr>
        <p:sp>
          <p:nvSpPr>
            <p:cNvPr id="649" name=""/>
            <p:cNvSpPr/>
            <p:nvPr/>
          </p:nvSpPr>
          <p:spPr>
            <a:xfrm>
              <a:off x="609480" y="1981080"/>
              <a:ext cx="7925040" cy="4724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09480" y="1905120"/>
              <a:ext cx="792504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insert the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o a BS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null, 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BST’s root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ull, replace the null link from which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as taken by a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nk to a newly-created leaf node with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terminat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equal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terminat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less tha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left child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greater tha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right chil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143000" y="525780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676520" y="525780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172200" y="52545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go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410080" y="5254560"/>
              <a:ext cx="6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828800" y="54100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609480" y="1905120"/>
            <a:ext cx="7925040" cy="4800600"/>
            <a:chOff x="609480" y="1905120"/>
            <a:chExt cx="7925040" cy="4800600"/>
          </a:xfrm>
        </p:grpSpPr>
        <p:sp>
          <p:nvSpPr>
            <p:cNvPr id="657" name=""/>
            <p:cNvSpPr/>
            <p:nvPr/>
          </p:nvSpPr>
          <p:spPr>
            <a:xfrm>
              <a:off x="609480" y="1981080"/>
              <a:ext cx="7925040" cy="4724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09480" y="1905120"/>
              <a:ext cx="792504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insert the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o a BS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to null, and se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to the BST’s root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ull, replace the null link from which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as taken by a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nk to a newly-created leaf node with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terminat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equal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terminat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less tha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left child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greater tha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right chil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143000" y="525780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676520" y="525780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172200" y="52545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go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410080" y="5254560"/>
              <a:ext cx="6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828800" y="5410080"/>
              <a:ext cx="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143000" y="609588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ur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76520" y="609588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38080" y="5715000"/>
              <a:ext cx="762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a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676520" y="571500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28800" y="58672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28800" y="62485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609480" y="1905120"/>
            <a:ext cx="7925040" cy="4800600"/>
            <a:chOff x="609480" y="1905120"/>
            <a:chExt cx="7925040" cy="4800600"/>
          </a:xfrm>
        </p:grpSpPr>
        <p:sp>
          <p:nvSpPr>
            <p:cNvPr id="671" name=""/>
            <p:cNvSpPr/>
            <p:nvPr/>
          </p:nvSpPr>
          <p:spPr>
            <a:xfrm>
              <a:off x="609480" y="1981080"/>
              <a:ext cx="7925040" cy="4724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09480" y="1905120"/>
              <a:ext cx="792504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insert the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o a BS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null, 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BST’s root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is null, replace the null link from which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was taken by a 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link to a newly-created leaf node with elemen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, and terminat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equal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terminat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less tha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left child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greater tha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right chil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143000" y="525780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676520" y="525780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828800" y="5410080"/>
              <a:ext cx="1371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172200" y="52545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go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410080" y="5254560"/>
              <a:ext cx="6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200400" y="5257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go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276720" y="54864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038480" y="54864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143000" y="609588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ur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676520" y="609588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8080" y="5715000"/>
              <a:ext cx="762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a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676520" y="571500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28800" y="58672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28800" y="62485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79B42-643B-45BB-9DA2-77F1630A5CE2}" type="slidenum">
              <a:t>24</a:t>
            </a:fld>
          </a:p>
        </p:txBody>
      </p:sp>
    </p:spTree>
  </p:cSld>
  <p:transition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ST inser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5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tion (nonempty B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609480" y="1905120"/>
            <a:ext cx="7925040" cy="4800600"/>
            <a:chOff x="609480" y="1905120"/>
            <a:chExt cx="7925040" cy="4800600"/>
          </a:xfrm>
        </p:grpSpPr>
        <p:sp>
          <p:nvSpPr>
            <p:cNvPr id="691" name=""/>
            <p:cNvSpPr/>
            <p:nvPr/>
          </p:nvSpPr>
          <p:spPr>
            <a:xfrm>
              <a:off x="609480" y="1981080"/>
              <a:ext cx="7925040" cy="4724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9480" y="1905120"/>
              <a:ext cx="792504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insert the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o a BS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null, 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BST’s root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ull, replace the null link from which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as taken by a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nk to a newly-created leaf node with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terminat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equal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terminat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less tha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left child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greater tha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right chil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143000" y="510552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676520" y="510552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828800" y="5257800"/>
              <a:ext cx="2362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49568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91120" y="5095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25780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029200" y="533412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4114440" y="533412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391520" y="51022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go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629400" y="5102280"/>
              <a:ext cx="6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095880" y="59403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334120" y="59403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24080" y="6315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3581280" y="5943600"/>
              <a:ext cx="1526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96252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20040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609480" y="1905120"/>
            <a:ext cx="7925040" cy="4800600"/>
            <a:chOff x="609480" y="1905120"/>
            <a:chExt cx="7925040" cy="4800600"/>
          </a:xfrm>
        </p:grpSpPr>
        <p:sp>
          <p:nvSpPr>
            <p:cNvPr id="711" name=""/>
            <p:cNvSpPr/>
            <p:nvPr/>
          </p:nvSpPr>
          <p:spPr>
            <a:xfrm>
              <a:off x="609480" y="1981080"/>
              <a:ext cx="7925040" cy="4724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09480" y="1905120"/>
              <a:ext cx="792504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insert the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o a BS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to null, and se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to the BST’s root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ull, replace the null link from which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as taken by a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nk to a newly-created leaf node with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terminat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equal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terminat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less tha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left child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greater tha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right chil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43000" y="510552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676520" y="510552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828800" y="5257800"/>
              <a:ext cx="2362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65760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49568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191120" y="5095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25780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029200" y="533412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4114440" y="533412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143000" y="601992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ur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76520" y="601992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828800" y="5334120"/>
              <a:ext cx="2362320" cy="838080"/>
            </a:xfrm>
            <a:custGeom>
              <a:avLst/>
              <a:gdLst/>
              <a:ahLst/>
              <a:rect l="l" t="t" r="r" b="b"/>
              <a:pathLst>
                <a:path w="1488" h="528">
                  <a:moveTo>
                    <a:pt x="0" y="528"/>
                  </a:moveTo>
                  <a:lnTo>
                    <a:pt x="192" y="528"/>
                  </a:lnTo>
                  <a:lnTo>
                    <a:pt x="148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391520" y="51022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go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629400" y="5102280"/>
              <a:ext cx="6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95880" y="59403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334120" y="59403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38080" y="5638680"/>
              <a:ext cx="762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a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676520" y="563868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828800" y="57913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124080" y="6315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3581280" y="5943600"/>
              <a:ext cx="1526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96252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20040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609480" y="1905120"/>
            <a:ext cx="7925040" cy="4800600"/>
            <a:chOff x="609480" y="1905120"/>
            <a:chExt cx="7925040" cy="4800600"/>
          </a:xfrm>
        </p:grpSpPr>
        <p:sp>
          <p:nvSpPr>
            <p:cNvPr id="737" name=""/>
            <p:cNvSpPr/>
            <p:nvPr/>
          </p:nvSpPr>
          <p:spPr>
            <a:xfrm>
              <a:off x="609480" y="1981080"/>
              <a:ext cx="7925040" cy="4724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09480" y="1905120"/>
              <a:ext cx="792504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insert the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o a BS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null, 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BST’s root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ull, replace the null link from which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as taken by a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nk to a newly-created leaf node with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terminat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equal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terminat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is less than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nd se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s left child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greater tha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right chil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143000" y="510552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676520" y="510552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28800" y="5257800"/>
              <a:ext cx="2362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65760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9568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91120" y="5095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25780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029200" y="533412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4114440" y="5334120"/>
              <a:ext cx="15228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43000" y="601992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ur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676520" y="601992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828800" y="5829480"/>
              <a:ext cx="1816200" cy="342720"/>
            </a:xfrm>
            <a:custGeom>
              <a:avLst/>
              <a:gdLst/>
              <a:ahLst/>
              <a:rect l="l" t="t" r="r" b="b"/>
              <a:pathLst>
                <a:path w="1144" h="216">
                  <a:moveTo>
                    <a:pt x="0" y="216"/>
                  </a:moveTo>
                  <a:lnTo>
                    <a:pt x="192" y="216"/>
                  </a:lnTo>
                  <a:lnTo>
                    <a:pt x="114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391520" y="51022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go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629400" y="5102280"/>
              <a:ext cx="6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95880" y="59403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34120" y="59403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38080" y="5638680"/>
              <a:ext cx="762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a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676520" y="563868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28800" y="5346720"/>
              <a:ext cx="2362320" cy="444600"/>
            </a:xfrm>
            <a:custGeom>
              <a:avLst/>
              <a:gdLst/>
              <a:ahLst/>
              <a:rect l="l" t="t" r="r" b="b"/>
              <a:pathLst>
                <a:path w="1488" h="280">
                  <a:moveTo>
                    <a:pt x="0" y="280"/>
                  </a:moveTo>
                  <a:lnTo>
                    <a:pt x="192" y="280"/>
                  </a:lnTo>
                  <a:lnTo>
                    <a:pt x="148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4080" y="6315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3581280" y="5943600"/>
              <a:ext cx="1526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96252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0040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609480" y="1905120"/>
            <a:ext cx="7925040" cy="4800600"/>
            <a:chOff x="609480" y="1905120"/>
            <a:chExt cx="7925040" cy="4800600"/>
          </a:xfrm>
        </p:grpSpPr>
        <p:sp>
          <p:nvSpPr>
            <p:cNvPr id="763" name=""/>
            <p:cNvSpPr/>
            <p:nvPr/>
          </p:nvSpPr>
          <p:spPr>
            <a:xfrm>
              <a:off x="609480" y="1981080"/>
              <a:ext cx="7925040" cy="4724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09480" y="1905120"/>
              <a:ext cx="792504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insert the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o a BS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null, 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BST’s root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ull, replace the null link from which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as taken by a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nk to a newly-created leaf node with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terminat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equal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terminat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less tha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left child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is greater than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nd se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s right chil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143000" y="510552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676520" y="510552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828800" y="5257800"/>
              <a:ext cx="2362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65760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495680" y="5934240"/>
              <a:ext cx="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191120" y="5095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5780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029200" y="533412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4114440" y="5334120"/>
              <a:ext cx="15228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143000" y="601992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ur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676520" y="601992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391520" y="51022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go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29400" y="5102280"/>
              <a:ext cx="6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095880" y="59403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334120" y="59403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38080" y="5638680"/>
              <a:ext cx="762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a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676520" y="563868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828800" y="5791320"/>
              <a:ext cx="1816200" cy="63360"/>
            </a:xfrm>
            <a:custGeom>
              <a:avLst/>
              <a:gdLst/>
              <a:ahLst/>
              <a:rect l="l" t="t" r="r" b="b"/>
              <a:pathLst>
                <a:path w="1144" h="40">
                  <a:moveTo>
                    <a:pt x="0" y="0"/>
                  </a:moveTo>
                  <a:lnTo>
                    <a:pt x="192" y="0"/>
                  </a:lnTo>
                  <a:lnTo>
                    <a:pt x="1144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828800" y="6172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124080" y="6315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3581280" y="5943600"/>
              <a:ext cx="1526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96252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20040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609480" y="1905120"/>
            <a:ext cx="7925040" cy="4800600"/>
            <a:chOff x="609480" y="1905120"/>
            <a:chExt cx="7925040" cy="4800600"/>
          </a:xfrm>
        </p:grpSpPr>
        <p:sp>
          <p:nvSpPr>
            <p:cNvPr id="789" name=""/>
            <p:cNvSpPr/>
            <p:nvPr/>
          </p:nvSpPr>
          <p:spPr>
            <a:xfrm>
              <a:off x="609480" y="1981080"/>
              <a:ext cx="7925040" cy="4724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1905120"/>
              <a:ext cx="792504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insert the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o a BS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null, 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BST’s root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is null, replace the null link from which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was taken by a 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link to a newly-created leaf node with elemen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, and terminat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equal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terminat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less tha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left child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greater tha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right chil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143000" y="510552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676520" y="510552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828800" y="5257800"/>
              <a:ext cx="2362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24080" y="6315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65760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91120" y="5095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780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029200" y="533412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3581280" y="5943600"/>
              <a:ext cx="1526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4114440" y="5334120"/>
              <a:ext cx="15228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143000" y="601992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ur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676520" y="601992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391520" y="51022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go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629400" y="5102280"/>
              <a:ext cx="6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95880" y="59403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34120" y="59403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96252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20040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38080" y="5638680"/>
              <a:ext cx="762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a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676520" y="563868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828800" y="5791320"/>
              <a:ext cx="1816200" cy="63360"/>
            </a:xfrm>
            <a:custGeom>
              <a:avLst/>
              <a:gdLst/>
              <a:ahLst/>
              <a:rect l="l" t="t" r="r" b="b"/>
              <a:pathLst>
                <a:path w="1144" h="40">
                  <a:moveTo>
                    <a:pt x="0" y="0"/>
                  </a:moveTo>
                  <a:lnTo>
                    <a:pt x="192" y="0"/>
                  </a:lnTo>
                  <a:lnTo>
                    <a:pt x="1144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828800" y="6172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495680" y="5943600"/>
              <a:ext cx="15264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191120" y="63244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go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029200" y="65595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267080" y="65595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BC3F3-9210-4A64-9DA4-7857D6591ABB}" type="slidenum">
              <a:t>25</a:t>
            </a:fld>
          </a:p>
        </p:txBody>
      </p:sp>
    </p:spTree>
  </p:cSld>
  <p:transition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ST inser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6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 (counting comparis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. of comparisons is the same as for BST search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BST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-balanc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. no. of comparisons  =  floor(log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-case time complexity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BST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-balanc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. no. of comparisons 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st-case time complexity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AB53A-5912-4C19-B313-129470537500}" type="slidenum">
              <a:t>26</a:t>
            </a:fld>
          </a:p>
        </p:txBody>
      </p:sp>
    </p:spTree>
  </p:cSld>
  <p:transition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ST inser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7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as a Java method (in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sert (Comparable elem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irection = 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STNode paren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curr = roo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;;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curr =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STNode in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STNode(elem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root =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 root = in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direction &lt; 0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ent.left = in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parent.right = in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E1B67-AD97-4EA2-B4D9-887DEE23F045}" type="slidenum">
              <a:t>27</a:t>
            </a:fld>
          </a:p>
        </p:txBody>
      </p:sp>
    </p:spTree>
  </p:cSld>
  <p:transition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ST inser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8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rection = elem.compareTo(curr.element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direction == 0)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ent = curr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direction &lt; 0)  curr = curr.lef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curr = curr.righ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0A07E-E887-411C-9F29-9102B338D60D}" type="slidenum">
              <a:t>28</a:t>
            </a:fld>
          </a:p>
        </p:txBody>
      </p:sp>
    </p:spTree>
  </p:cSld>
  <p:transition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STs in practice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ther a BST is well-balanced or ill-balanced depends on the order of inser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inserted elements are randomly ordered, the BST will probably be reasonably well-balan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inserted elements happen to be in ascending (or descending) order, the BST will be extremely ill-balan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9086C-A20C-401F-96B0-E2A311A35129}" type="slidenum">
              <a:t>29</a:t>
            </a:fld>
          </a:p>
        </p:txBody>
      </p:sp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inary tree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f n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one that has no children (i.e., both its links are nul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node, except the root node, is the left or right child of exactly one other node (i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The root node has no parent – the only link to it is the hea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binary tree is the number of nodes (elemen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nary tree has size zero. Its header is nu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33D22-8957-4BE6-B079-77259BD329C0}" type="slidenum">
              <a:t>3</a:t>
            </a:fld>
          </a:p>
        </p:txBody>
      </p:sp>
    </p:spTree>
  </p:cSld>
  <p:transition>
    <p:cover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0" name=""/>
          <p:cNvGrpSpPr/>
          <p:nvPr/>
        </p:nvGrpSpPr>
        <p:grpSpPr>
          <a:xfrm>
            <a:off x="1219320" y="2590920"/>
            <a:ext cx="5486400" cy="2971800"/>
            <a:chOff x="1219320" y="2590920"/>
            <a:chExt cx="5486400" cy="2971800"/>
          </a:xfrm>
        </p:grpSpPr>
        <p:sp>
          <p:nvSpPr>
            <p:cNvPr id="831" name=""/>
            <p:cNvSpPr/>
            <p:nvPr/>
          </p:nvSpPr>
          <p:spPr>
            <a:xfrm>
              <a:off x="1219320" y="2590920"/>
              <a:ext cx="5486400" cy="2971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219320" y="25909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ly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676520" y="328608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828800" y="34290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successive insertion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tion (inserting ‘lion’, ‘fox’, ‘rat’, ‘cat’, ‘pig’, ‘dog’, ‘tiger’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1219320" y="2590920"/>
            <a:ext cx="5486400" cy="2971800"/>
            <a:chOff x="1219320" y="2590920"/>
            <a:chExt cx="5486400" cy="2971800"/>
          </a:xfrm>
        </p:grpSpPr>
        <p:sp>
          <p:nvSpPr>
            <p:cNvPr id="838" name=""/>
            <p:cNvSpPr/>
            <p:nvPr/>
          </p:nvSpPr>
          <p:spPr>
            <a:xfrm>
              <a:off x="1219320" y="2590920"/>
              <a:ext cx="5486400" cy="2971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19320" y="25909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fter inserting ‘lion’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676520" y="328644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828800" y="3438720"/>
              <a:ext cx="205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886200" y="32767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962520" y="35053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724280" y="35053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1219320" y="2590920"/>
            <a:ext cx="5486400" cy="2971800"/>
            <a:chOff x="1219320" y="2590920"/>
            <a:chExt cx="5486400" cy="2971800"/>
          </a:xfrm>
        </p:grpSpPr>
        <p:sp>
          <p:nvSpPr>
            <p:cNvPr id="846" name=""/>
            <p:cNvSpPr/>
            <p:nvPr/>
          </p:nvSpPr>
          <p:spPr>
            <a:xfrm>
              <a:off x="1219320" y="2590920"/>
              <a:ext cx="5486400" cy="2971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219320" y="25909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fter inserting ‘fox’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676520" y="328608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828800" y="3438720"/>
              <a:ext cx="205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352680" y="38862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91120" y="41148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886200" y="32767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3809880" y="3514680"/>
              <a:ext cx="1526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29000" y="41148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724280" y="35053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1219320" y="2590920"/>
            <a:ext cx="5486400" cy="2971800"/>
            <a:chOff x="1219320" y="2590920"/>
            <a:chExt cx="5486400" cy="2971800"/>
          </a:xfrm>
        </p:grpSpPr>
        <p:sp>
          <p:nvSpPr>
            <p:cNvPr id="857" name=""/>
            <p:cNvSpPr/>
            <p:nvPr/>
          </p:nvSpPr>
          <p:spPr>
            <a:xfrm>
              <a:off x="1219320" y="2590920"/>
              <a:ext cx="5486400" cy="2971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219320" y="25909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fter inserting ‘rat’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676520" y="328644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828800" y="3438720"/>
              <a:ext cx="205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52680" y="38865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191120" y="41151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86200" y="32767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952880" y="38865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724280" y="351504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3809880" y="3515040"/>
              <a:ext cx="1526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791320" y="41151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429000" y="41151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029200" y="41151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1219320" y="2590920"/>
            <a:ext cx="5486400" cy="2971800"/>
            <a:chOff x="1219320" y="2590920"/>
            <a:chExt cx="5486400" cy="2971800"/>
          </a:xfrm>
        </p:grpSpPr>
        <p:sp>
          <p:nvSpPr>
            <p:cNvPr id="871" name=""/>
            <p:cNvSpPr/>
            <p:nvPr/>
          </p:nvSpPr>
          <p:spPr>
            <a:xfrm>
              <a:off x="1219320" y="2590920"/>
              <a:ext cx="5486400" cy="2971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219320" y="25909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fter inserting ‘cat’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676520" y="328608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828800" y="3438720"/>
              <a:ext cx="205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286000" y="44960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362320" y="47246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352680" y="38862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191120" y="41148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86200" y="32767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952880" y="38862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724280" y="3514680"/>
              <a:ext cx="68580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2742840" y="412452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3809880" y="3514680"/>
              <a:ext cx="1526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791320" y="41148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124080" y="47246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029200" y="41148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1219320" y="2590920"/>
            <a:ext cx="5486400" cy="2971800"/>
            <a:chOff x="1219320" y="2590920"/>
            <a:chExt cx="5486400" cy="2971800"/>
          </a:xfrm>
        </p:grpSpPr>
        <p:sp>
          <p:nvSpPr>
            <p:cNvPr id="888" name=""/>
            <p:cNvSpPr/>
            <p:nvPr/>
          </p:nvSpPr>
          <p:spPr>
            <a:xfrm>
              <a:off x="1219320" y="2590920"/>
              <a:ext cx="5486400" cy="2971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219320" y="25909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fter inserting ‘pig’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76520" y="328644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828800" y="3438720"/>
              <a:ext cx="205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286000" y="44960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362320" y="47246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352680" y="38865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191120" y="41151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886200" y="32767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419720" y="44960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257800" y="47246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495680" y="47246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952880" y="38865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724280" y="351504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4876560" y="412452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2742840" y="412452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3809880" y="3515040"/>
              <a:ext cx="1526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791320" y="41151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124080" y="47246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1219320" y="2590920"/>
            <a:ext cx="5486400" cy="2971800"/>
            <a:chOff x="1219320" y="2590920"/>
            <a:chExt cx="5486400" cy="2971800"/>
          </a:xfrm>
        </p:grpSpPr>
        <p:sp>
          <p:nvSpPr>
            <p:cNvPr id="908" name=""/>
            <p:cNvSpPr/>
            <p:nvPr/>
          </p:nvSpPr>
          <p:spPr>
            <a:xfrm>
              <a:off x="1219320" y="2590920"/>
              <a:ext cx="5486400" cy="2971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219320" y="25909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fter inserting ‘dog’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676520" y="328608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828800" y="3438720"/>
              <a:ext cx="205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819520" y="51055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657600" y="53341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95480" y="53341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286000" y="44960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362320" y="47246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52680" y="38862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1120" y="41148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886200" y="32767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19720" y="44960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257800" y="47246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495680" y="47246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52880" y="38862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724280" y="3514680"/>
              <a:ext cx="68580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4876560" y="412452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2742840" y="412452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124080" y="4734000"/>
              <a:ext cx="1526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3809880" y="3514680"/>
              <a:ext cx="1526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791320" y="41148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1219320" y="2590920"/>
            <a:ext cx="5486400" cy="2971800"/>
            <a:chOff x="1219320" y="2590920"/>
            <a:chExt cx="5486400" cy="2971800"/>
          </a:xfrm>
        </p:grpSpPr>
        <p:sp>
          <p:nvSpPr>
            <p:cNvPr id="931" name=""/>
            <p:cNvSpPr/>
            <p:nvPr/>
          </p:nvSpPr>
          <p:spPr>
            <a:xfrm>
              <a:off x="1219320" y="2590920"/>
              <a:ext cx="5486400" cy="2971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219320" y="25909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fter inserting ‘tiger’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676520" y="328644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28800" y="3438720"/>
              <a:ext cx="205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819520" y="51055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657600" y="53341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895480" y="53341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286000" y="44960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362320" y="47246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352680" y="38865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191120" y="41151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886200" y="32767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419720" y="44960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257800" y="47246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495680" y="47246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952880" y="38865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486400" y="44960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324480" y="47246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562720" y="47246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724280" y="351504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791320" y="412452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4876560" y="412452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742840" y="412452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124080" y="4734000"/>
              <a:ext cx="1526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3809880" y="3515040"/>
              <a:ext cx="1526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24DB3-AACE-44D5-B3DE-DC3F9EFC3352}" type="slidenum">
              <a:t>30</a:t>
            </a:fld>
          </a:p>
        </p:txBody>
      </p:sp>
    </p:spTree>
  </p:cSld>
  <p:transition>
    <p:cover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successive insertion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tion (inserting ‘cat’, ‘dog’, ‘fox’, ‘lion’, ‘pig’, ‘rat’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1143000" y="2133720"/>
            <a:ext cx="5486400" cy="3962160"/>
            <a:chOff x="1143000" y="2133720"/>
            <a:chExt cx="5486400" cy="3962160"/>
          </a:xfrm>
        </p:grpSpPr>
        <p:sp>
          <p:nvSpPr>
            <p:cNvPr id="960" name=""/>
            <p:cNvSpPr/>
            <p:nvPr/>
          </p:nvSpPr>
          <p:spPr>
            <a:xfrm>
              <a:off x="1143000" y="2133720"/>
              <a:ext cx="5486400" cy="3962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143000" y="21337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ly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600200" y="26668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752480" y="28098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1143000" y="2133720"/>
            <a:ext cx="5486400" cy="3962160"/>
            <a:chOff x="1143000" y="2133720"/>
            <a:chExt cx="5486400" cy="3962160"/>
          </a:xfrm>
        </p:grpSpPr>
        <p:sp>
          <p:nvSpPr>
            <p:cNvPr id="965" name=""/>
            <p:cNvSpPr/>
            <p:nvPr/>
          </p:nvSpPr>
          <p:spPr>
            <a:xfrm>
              <a:off x="1143000" y="2133720"/>
              <a:ext cx="5486400" cy="3962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143000" y="21337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fter inserting ‘cat’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600200" y="26668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819520" y="26575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9" name=""/>
            <p:cNvGrpSpPr/>
            <p:nvPr/>
          </p:nvGrpSpPr>
          <p:grpSpPr>
            <a:xfrm>
              <a:off x="2895480" y="2886120"/>
              <a:ext cx="762120" cy="9360"/>
              <a:chOff x="2895480" y="2886120"/>
              <a:chExt cx="762120" cy="9360"/>
            </a:xfrm>
          </p:grpSpPr>
          <p:sp>
            <p:nvSpPr>
              <p:cNvPr id="970" name=""/>
              <p:cNvSpPr/>
              <p:nvPr/>
            </p:nvSpPr>
            <p:spPr>
              <a:xfrm>
                <a:off x="2895480" y="2886120"/>
                <a:ext cx="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657600" y="2895480"/>
                <a:ext cx="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1752480" y="2819520"/>
              <a:ext cx="1067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1143000" y="2133720"/>
            <a:ext cx="5486400" cy="3962160"/>
            <a:chOff x="1143000" y="2133720"/>
            <a:chExt cx="5486400" cy="3962160"/>
          </a:xfrm>
        </p:grpSpPr>
        <p:sp>
          <p:nvSpPr>
            <p:cNvPr id="974" name=""/>
            <p:cNvSpPr/>
            <p:nvPr/>
          </p:nvSpPr>
          <p:spPr>
            <a:xfrm>
              <a:off x="1143000" y="2133720"/>
              <a:ext cx="5486400" cy="3962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143000" y="21337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fter inserting ‘dog’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600200" y="26668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752480" y="2819520"/>
              <a:ext cx="1067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352680" y="32670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819520" y="26575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95480" y="28861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657600" y="289548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429000" y="34671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191120" y="34671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1143000" y="2133720"/>
            <a:ext cx="5486400" cy="3962160"/>
            <a:chOff x="1143000" y="2133720"/>
            <a:chExt cx="5486400" cy="3962160"/>
          </a:xfrm>
        </p:grpSpPr>
        <p:sp>
          <p:nvSpPr>
            <p:cNvPr id="985" name=""/>
            <p:cNvSpPr/>
            <p:nvPr/>
          </p:nvSpPr>
          <p:spPr>
            <a:xfrm>
              <a:off x="1143000" y="2133720"/>
              <a:ext cx="5486400" cy="3962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143000" y="21337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fter inserting ‘fox’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600200" y="267660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752480" y="2828880"/>
              <a:ext cx="1067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52680" y="32767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429000" y="35053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19520" y="2666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895480" y="28954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657600" y="290520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886200" y="38768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962520" y="41054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191120" y="350532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724280" y="41054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1143000" y="2133720"/>
            <a:ext cx="5486400" cy="3962160"/>
            <a:chOff x="1143000" y="2133720"/>
            <a:chExt cx="5486400" cy="3962160"/>
          </a:xfrm>
        </p:grpSpPr>
        <p:sp>
          <p:nvSpPr>
            <p:cNvPr id="999" name=""/>
            <p:cNvSpPr/>
            <p:nvPr/>
          </p:nvSpPr>
          <p:spPr>
            <a:xfrm>
              <a:off x="1143000" y="2133720"/>
              <a:ext cx="5486400" cy="3962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143000" y="21337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fter inserting ‘lion’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600200" y="268596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752480" y="2838600"/>
              <a:ext cx="1067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352680" y="32860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429000" y="35146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19520" y="26766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95480" y="2905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657600" y="291456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886200" y="38862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962520" y="41148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191120" y="351468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419720" y="44863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495680" y="47149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724280" y="4114800"/>
              <a:ext cx="1526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57800" y="4705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143000" y="2133720"/>
            <a:ext cx="5486400" cy="3962160"/>
            <a:chOff x="1143000" y="2133720"/>
            <a:chExt cx="5486400" cy="3962160"/>
          </a:xfrm>
        </p:grpSpPr>
        <p:sp>
          <p:nvSpPr>
            <p:cNvPr id="1016" name=""/>
            <p:cNvSpPr/>
            <p:nvPr/>
          </p:nvSpPr>
          <p:spPr>
            <a:xfrm>
              <a:off x="1143000" y="2133720"/>
              <a:ext cx="5486400" cy="3962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143000" y="21337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fter inserting ‘pig’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600200" y="269568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752480" y="2847960"/>
              <a:ext cx="1067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352680" y="3295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429000" y="35244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819520" y="26859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895480" y="29145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657600" y="292428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886200" y="38955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962520" y="41241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191120" y="352440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419720" y="44956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495680" y="47242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724280" y="4124160"/>
              <a:ext cx="1526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952880" y="5095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029200" y="53244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257800" y="472428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791320" y="53244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1143000" y="2133720"/>
            <a:ext cx="5486400" cy="3962160"/>
            <a:chOff x="1143000" y="2133720"/>
            <a:chExt cx="5486400" cy="3962160"/>
          </a:xfrm>
        </p:grpSpPr>
        <p:sp>
          <p:nvSpPr>
            <p:cNvPr id="1036" name=""/>
            <p:cNvSpPr/>
            <p:nvPr/>
          </p:nvSpPr>
          <p:spPr>
            <a:xfrm>
              <a:off x="1143000" y="2133720"/>
              <a:ext cx="5486400" cy="3962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143000" y="21337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fter inserting ‘rat’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600200" y="267660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752480" y="2828880"/>
              <a:ext cx="1067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352680" y="32767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429000" y="35053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819520" y="2666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895480" y="28954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657600" y="290520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886200" y="38768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962520" y="41054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191120" y="350532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419720" y="44766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495680" y="4705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724280" y="4105440"/>
              <a:ext cx="1526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952880" y="50767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029200" y="53053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257800" y="470520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486400" y="56768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562720" y="59054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791320" y="530532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324480" y="59151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45B36-4376-4B6D-BE36-72B3A898CD61}" type="slidenum">
              <a:t>31</a:t>
            </a:fld>
          </a:p>
        </p:txBody>
      </p:sp>
    </p:spTree>
  </p:cSld>
  <p:transition>
    <p:cover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"/>
          <p:cNvGrpSpPr/>
          <p:nvPr/>
        </p:nvGrpSpPr>
        <p:grpSpPr>
          <a:xfrm>
            <a:off x="1203480" y="3048120"/>
            <a:ext cx="7254720" cy="1752480"/>
            <a:chOff x="1203480" y="3048120"/>
            <a:chExt cx="7254720" cy="1752480"/>
          </a:xfrm>
        </p:grpSpPr>
        <p:sp>
          <p:nvSpPr>
            <p:cNvPr id="1060" name=""/>
            <p:cNvSpPr/>
            <p:nvPr/>
          </p:nvSpPr>
          <p:spPr>
            <a:xfrm>
              <a:off x="1203480" y="3200400"/>
              <a:ext cx="7010280" cy="0"/>
            </a:xfrm>
            <a:prstGeom prst="line">
              <a:avLst/>
            </a:prstGeom>
            <a:ln w="936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203480" y="3429000"/>
              <a:ext cx="7010280" cy="0"/>
            </a:xfrm>
            <a:prstGeom prst="line">
              <a:avLst/>
            </a:prstGeom>
            <a:ln w="936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203480" y="3657600"/>
              <a:ext cx="7010280" cy="0"/>
            </a:xfrm>
            <a:prstGeom prst="line">
              <a:avLst/>
            </a:prstGeom>
            <a:ln w="936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203480" y="3886200"/>
              <a:ext cx="7010280" cy="0"/>
            </a:xfrm>
            <a:prstGeom prst="line">
              <a:avLst/>
            </a:prstGeom>
            <a:ln w="936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203480" y="4114800"/>
              <a:ext cx="7010280" cy="0"/>
            </a:xfrm>
            <a:prstGeom prst="line">
              <a:avLst/>
            </a:prstGeom>
            <a:ln w="936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203480" y="4343400"/>
              <a:ext cx="7010280" cy="0"/>
            </a:xfrm>
            <a:prstGeom prst="line">
              <a:avLst/>
            </a:prstGeom>
            <a:ln w="936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203480" y="4572000"/>
              <a:ext cx="7010280" cy="0"/>
            </a:xfrm>
            <a:prstGeom prst="line">
              <a:avLst/>
            </a:prstGeom>
            <a:ln w="936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203480" y="4800600"/>
              <a:ext cx="7010280" cy="0"/>
            </a:xfrm>
            <a:prstGeom prst="line">
              <a:avLst/>
            </a:prstGeom>
            <a:ln w="936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290080" y="3048120"/>
              <a:ext cx="16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99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8290080" y="4449600"/>
              <a:ext cx="16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9966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8290080" y="3962160"/>
              <a:ext cx="16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9966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290080" y="3535200"/>
              <a:ext cx="16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9966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STs in practice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trials show the results of loading a BST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ndomly-generated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trial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1279440" y="3200400"/>
            <a:ext cx="6569280" cy="1676520"/>
            <a:chOff x="1279440" y="3200400"/>
            <a:chExt cx="6569280" cy="1676520"/>
          </a:xfrm>
        </p:grpSpPr>
        <p:sp>
          <p:nvSpPr>
            <p:cNvPr id="1075" name=""/>
            <p:cNvSpPr/>
            <p:nvPr/>
          </p:nvSpPr>
          <p:spPr>
            <a:xfrm>
              <a:off x="2498760" y="320040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279440" y="457200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955960" y="457200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495680" y="457200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38480" y="457200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952880" y="457200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324480" y="457200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162920" y="4572000"/>
              <a:ext cx="30456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343400" y="480060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477120" y="4800600"/>
              <a:ext cx="30456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391520" y="4800600"/>
              <a:ext cx="30456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934320" y="4800600"/>
              <a:ext cx="30456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432080" y="4343400"/>
              <a:ext cx="30456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03680" y="4343400"/>
              <a:ext cx="30456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191120" y="4343400"/>
              <a:ext cx="30456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105520" y="4343400"/>
              <a:ext cx="30456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705720" y="4343400"/>
              <a:ext cx="30456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584360" y="411480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041560" y="411480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651040" y="411480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886200" y="411480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429000" y="411480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57800" y="411480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715000" y="411480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172200" y="411480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812960" y="388620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108240" y="388620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657600" y="388620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86400" y="388620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543800" y="388620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193840" y="365760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352680" y="365760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59440" y="365760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346480" y="3429000"/>
              <a:ext cx="30456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724280" y="342900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>
              <a:off x="4495680" y="464832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743200" y="3276720"/>
              <a:ext cx="21337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1431720" y="441972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1584360" y="419112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1736640" y="396252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041560" y="39625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1964880" y="373392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2346120" y="350532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>
              <a:off x="2498760" y="327672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879640" y="419112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032280" y="441972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>
              <a:off x="2803680" y="396252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3260520" y="3733920"/>
              <a:ext cx="1681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581280" y="37339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3581280" y="396252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886200" y="39625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114800" y="41911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4190760" y="441972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419720" y="4419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505320" y="3505320"/>
              <a:ext cx="1295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952880" y="3505320"/>
              <a:ext cx="11588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5638320" y="3733920"/>
              <a:ext cx="397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5410080" y="396252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5257800" y="419112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5105160" y="441972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715000" y="39625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188040" y="3733920"/>
              <a:ext cx="15080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6324120" y="3962520"/>
              <a:ext cx="1295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400800" y="419112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6477120" y="4419720"/>
              <a:ext cx="304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553080" y="464832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934320" y="441972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7086240" y="46483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391520" y="46483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8C8D0-1B9F-41D5-BE3A-8EC0F850D459}" type="slidenum">
              <a:t>32</a:t>
            </a:fld>
          </a:p>
        </p:txBody>
      </p:sp>
    </p:spTree>
  </p:cSld>
  <p:transition>
    <p:cover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5" name=""/>
          <p:cNvGrpSpPr/>
          <p:nvPr/>
        </p:nvGrpSpPr>
        <p:grpSpPr>
          <a:xfrm>
            <a:off x="1203480" y="2057400"/>
            <a:ext cx="7254720" cy="2209680"/>
            <a:chOff x="1203480" y="2057400"/>
            <a:chExt cx="7254720" cy="2209680"/>
          </a:xfrm>
        </p:grpSpPr>
        <p:sp>
          <p:nvSpPr>
            <p:cNvPr id="1146" name=""/>
            <p:cNvSpPr/>
            <p:nvPr/>
          </p:nvSpPr>
          <p:spPr>
            <a:xfrm>
              <a:off x="1203480" y="2209680"/>
              <a:ext cx="7010280" cy="0"/>
            </a:xfrm>
            <a:prstGeom prst="line">
              <a:avLst/>
            </a:prstGeom>
            <a:ln w="936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203480" y="2438280"/>
              <a:ext cx="7010280" cy="0"/>
            </a:xfrm>
            <a:prstGeom prst="line">
              <a:avLst/>
            </a:prstGeom>
            <a:ln w="936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203480" y="2666880"/>
              <a:ext cx="7010280" cy="0"/>
            </a:xfrm>
            <a:prstGeom prst="line">
              <a:avLst/>
            </a:prstGeom>
            <a:ln w="936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203480" y="2895480"/>
              <a:ext cx="7010280" cy="0"/>
            </a:xfrm>
            <a:prstGeom prst="line">
              <a:avLst/>
            </a:prstGeom>
            <a:ln w="936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203480" y="3124080"/>
              <a:ext cx="7010280" cy="0"/>
            </a:xfrm>
            <a:prstGeom prst="line">
              <a:avLst/>
            </a:prstGeom>
            <a:ln w="936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203480" y="3352680"/>
              <a:ext cx="7010280" cy="0"/>
            </a:xfrm>
            <a:prstGeom prst="line">
              <a:avLst/>
            </a:prstGeom>
            <a:ln w="936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203480" y="3581280"/>
              <a:ext cx="7010280" cy="0"/>
            </a:xfrm>
            <a:prstGeom prst="line">
              <a:avLst/>
            </a:prstGeom>
            <a:ln w="936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203480" y="3809880"/>
              <a:ext cx="7010280" cy="0"/>
            </a:xfrm>
            <a:prstGeom prst="line">
              <a:avLst/>
            </a:prstGeom>
            <a:ln w="936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203480" y="4038480"/>
              <a:ext cx="7010280" cy="0"/>
            </a:xfrm>
            <a:prstGeom prst="line">
              <a:avLst/>
            </a:prstGeom>
            <a:ln w="936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290080" y="2057400"/>
              <a:ext cx="16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99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290080" y="3459240"/>
              <a:ext cx="16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9966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290080" y="2971800"/>
              <a:ext cx="16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9966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290080" y="2544840"/>
              <a:ext cx="16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9966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290080" y="3916440"/>
              <a:ext cx="16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9966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203480" y="4267080"/>
              <a:ext cx="7010280" cy="0"/>
            </a:xfrm>
            <a:prstGeom prst="line">
              <a:avLst/>
            </a:prstGeom>
            <a:ln w="936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STs in practice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trial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279440" y="2209680"/>
            <a:ext cx="6705360" cy="2133720"/>
            <a:chOff x="1279440" y="2209680"/>
            <a:chExt cx="6705360" cy="2133720"/>
          </a:xfrm>
        </p:grpSpPr>
        <p:sp>
          <p:nvSpPr>
            <p:cNvPr id="1164" name=""/>
            <p:cNvSpPr/>
            <p:nvPr/>
          </p:nvSpPr>
          <p:spPr>
            <a:xfrm>
              <a:off x="1736640" y="3809880"/>
              <a:ext cx="30456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888920" y="358128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584000" y="335268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041200" y="312408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431720" y="289548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279440" y="2666880"/>
              <a:ext cx="30456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812600" y="34290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1888920" y="36576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1736640" y="320040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508040" y="274320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660320" y="2971800"/>
              <a:ext cx="5335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269800" y="243828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1431720" y="2514600"/>
              <a:ext cx="914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803320" y="358128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955600" y="335268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651040" y="3124080"/>
              <a:ext cx="30456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498400" y="289548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727000" y="29718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879640" y="32004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>
              <a:off x="2955600" y="34290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17720" y="380988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565440" y="3581280"/>
              <a:ext cx="30456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870000" y="335268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098600" y="289548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479840" y="3809880"/>
              <a:ext cx="30456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32120" y="358128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327200" y="335268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555800" y="34290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4632120" y="36576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3717360" y="34290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794040" y="365760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412800" y="312408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3565080" y="2971800"/>
              <a:ext cx="60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641400" y="320040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860720" y="312408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698800" y="403848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546520" y="380988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775120" y="38862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089320" y="380988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317920" y="358128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5241600" y="365760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546520" y="36576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156000" y="403848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308640" y="3809880"/>
              <a:ext cx="30456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6308280" y="388620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918120" y="426708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765840" y="4038480"/>
              <a:ext cx="30456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994440" y="411480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070400" y="380988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>
              <a:off x="6917760" y="38862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537240" y="3581280"/>
              <a:ext cx="30456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6460560" y="36576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765840" y="365760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927400" y="335268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5470200" y="3429000"/>
              <a:ext cx="5335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156000" y="3429000"/>
              <a:ext cx="5335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H="1">
              <a:off x="4479840" y="320040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089320" y="3200400"/>
              <a:ext cx="9907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327200" y="297180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184200" y="266688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2650680" y="2743200"/>
              <a:ext cx="60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412800" y="2743200"/>
              <a:ext cx="838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498400" y="2514600"/>
              <a:ext cx="838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527600" y="266688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680240" y="2438280"/>
              <a:ext cx="30456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7679880" y="251460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299000" y="2209680"/>
              <a:ext cx="30492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527600" y="228600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2422440" y="2286000"/>
              <a:ext cx="495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ABFBD-2389-4F5D-A514-525EAFE64580}" type="slidenum">
              <a:t>33</a:t>
            </a:fld>
          </a:p>
        </p:txBody>
      </p:sp>
    </p:spTree>
  </p:cSld>
  <p:transition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ST deletion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a subtree’s leftmost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a subtree’s topmost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an arbitrary given element in a B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9EDBC-C0F3-49DA-B1FA-CC17B8413456}" type="slidenum">
              <a:t>34</a:t>
            </a:fld>
          </a:p>
        </p:txBody>
      </p:sp>
    </p:spTree>
  </p:cSld>
  <p:transition>
    <p:cover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Deleting a leftmost elemen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: Delete the leftmost element in a sub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cases to cons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0400" indent="-45720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btree’s topmost node has no left chi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0400" indent="-45720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btree’s topmost node has a left chi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By definition, the leftmost node has no left chi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58C22-6F84-4EC7-BA71-3613DA45C265}" type="slidenum">
              <a:t>35</a:t>
            </a:fld>
          </a:p>
        </p:txBody>
      </p:sp>
    </p:spTree>
  </p:cSld>
  <p:transition>
    <p:cover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Deleting a leftmost elemen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 (topmost node has no left child)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d the topmost node, but retain its right subtree.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1143000" y="2571840"/>
            <a:ext cx="4724280" cy="1524600"/>
            <a:chOff x="1143000" y="2571840"/>
            <a:chExt cx="4724280" cy="1524600"/>
          </a:xfrm>
        </p:grpSpPr>
        <p:sp>
          <p:nvSpPr>
            <p:cNvPr id="1243" name=""/>
            <p:cNvSpPr/>
            <p:nvPr/>
          </p:nvSpPr>
          <p:spPr>
            <a:xfrm>
              <a:off x="1143000" y="2571840"/>
              <a:ext cx="7617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for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133360" y="258156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286000" y="273384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352680" y="25718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886200" y="3791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724280" y="40197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962160" y="40197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419360" y="31816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952880" y="3791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90960" y="40197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029200" y="40197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190760" y="281016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257800" y="341964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4343040" y="341964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429000" y="28004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1143000" y="4562640"/>
            <a:ext cx="4724280" cy="1524240"/>
            <a:chOff x="1143000" y="4562640"/>
            <a:chExt cx="4724280" cy="1524240"/>
          </a:xfrm>
        </p:grpSpPr>
        <p:sp>
          <p:nvSpPr>
            <p:cNvPr id="1259" name=""/>
            <p:cNvSpPr/>
            <p:nvPr/>
          </p:nvSpPr>
          <p:spPr>
            <a:xfrm>
              <a:off x="1143000" y="4562640"/>
              <a:ext cx="762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fter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133720" y="457164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352680" y="4562640"/>
              <a:ext cx="914400" cy="305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886200" y="57816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724280" y="601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962520" y="601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419720" y="51717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952880" y="57816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791320" y="601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029200" y="601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191120" y="480024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257800" y="5410080"/>
              <a:ext cx="152280" cy="38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4343040" y="5410080"/>
              <a:ext cx="152280" cy="38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429000" y="47908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286000" y="4714560"/>
              <a:ext cx="213372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4" name=""/>
          <p:cNvSpPr/>
          <p:nvPr/>
        </p:nvSpPr>
        <p:spPr>
          <a:xfrm>
            <a:off x="1447920" y="5257800"/>
            <a:ext cx="990360" cy="380880"/>
          </a:xfrm>
          <a:prstGeom prst="wedgeRectCallout">
            <a:avLst>
              <a:gd name="adj1" fmla="val 136537"/>
              <a:gd name="adj2" fmla="val -140000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garb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447920" y="3352680"/>
            <a:ext cx="990360" cy="609840"/>
          </a:xfrm>
          <a:prstGeom prst="wedgeRectCallout">
            <a:avLst>
              <a:gd name="adj1" fmla="val 137819"/>
              <a:gd name="adj2" fmla="val -116666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leftmos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02CBB-051E-4347-A9BE-ADCB23EF1083}" type="slidenum">
              <a:t>36</a:t>
            </a:fld>
          </a:p>
        </p:txBody>
      </p:sp>
    </p:spTree>
  </p:cSld>
  <p:transition>
    <p:cover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Deleting a leftmost elemen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 (topmost node has a left child)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 the leftmost node’s parent to the leftmost node’s right child.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1143000" y="2876400"/>
            <a:ext cx="6248520" cy="1524240"/>
            <a:chOff x="1143000" y="2876400"/>
            <a:chExt cx="6248520" cy="1524240"/>
          </a:xfrm>
        </p:grpSpPr>
        <p:sp>
          <p:nvSpPr>
            <p:cNvPr id="1280" name=""/>
            <p:cNvSpPr/>
            <p:nvPr/>
          </p:nvSpPr>
          <p:spPr>
            <a:xfrm>
              <a:off x="1143000" y="2876400"/>
              <a:ext cx="7621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for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720" y="288576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286000" y="3038040"/>
              <a:ext cx="259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743200" y="34952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819520" y="37238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809880" y="40953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876920" y="28764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410080" y="40953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248520" y="43239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486400" y="43239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943600" y="3485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477120" y="40953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315200" y="43239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553080" y="43239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715000" y="311436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781680" y="3723840"/>
              <a:ext cx="1526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H="1">
              <a:off x="5867280" y="3723840"/>
              <a:ext cx="1526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581280" y="3723840"/>
              <a:ext cx="68580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>
              <a:off x="3276720" y="3114360"/>
              <a:ext cx="1676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648320" y="43336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886200" y="43336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1" name=""/>
          <p:cNvSpPr/>
          <p:nvPr/>
        </p:nvSpPr>
        <p:spPr>
          <a:xfrm>
            <a:off x="1066680" y="5553000"/>
            <a:ext cx="990720" cy="381240"/>
          </a:xfrm>
          <a:prstGeom prst="wedgeRectCallout">
            <a:avLst>
              <a:gd name="adj1" fmla="val 108333"/>
              <a:gd name="adj2" fmla="val -60000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garb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1143000" y="4714920"/>
            <a:ext cx="6248520" cy="1524600"/>
            <a:chOff x="1143000" y="4714920"/>
            <a:chExt cx="6248520" cy="1524600"/>
          </a:xfrm>
        </p:grpSpPr>
        <p:sp>
          <p:nvSpPr>
            <p:cNvPr id="1303" name=""/>
            <p:cNvSpPr/>
            <p:nvPr/>
          </p:nvSpPr>
          <p:spPr>
            <a:xfrm>
              <a:off x="1143000" y="4714920"/>
              <a:ext cx="762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fter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133720" y="472464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286000" y="4876920"/>
              <a:ext cx="259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743200" y="5334120"/>
              <a:ext cx="914400" cy="305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819520" y="55627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876920" y="47149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410080" y="59342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248520" y="61628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486400" y="61628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943600" y="53244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477120" y="59342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315200" y="61628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553080" y="61628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15000" y="495324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781680" y="5562720"/>
              <a:ext cx="1526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5867280" y="5562720"/>
              <a:ext cx="1526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581280" y="556272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4266720" y="4953240"/>
              <a:ext cx="685800" cy="99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809880" y="59342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648320" y="6172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886200" y="6172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4" name=""/>
          <p:cNvSpPr/>
          <p:nvPr/>
        </p:nvSpPr>
        <p:spPr>
          <a:xfrm>
            <a:off x="1066680" y="3733920"/>
            <a:ext cx="990720" cy="609480"/>
          </a:xfrm>
          <a:prstGeom prst="wedgeRectCallout">
            <a:avLst>
              <a:gd name="adj1" fmla="val 108333"/>
              <a:gd name="adj2" fmla="val -56250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leftmos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311DF-7E2D-43A4-8D24-ADF5799F6848}" type="slidenum">
              <a:t>37</a:t>
            </a:fld>
          </a:p>
        </p:txBody>
      </p:sp>
    </p:spTree>
  </p:cSld>
  <p:transition>
    <p:cover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Deleting a leftmost elemen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4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lete the leftmost element in the (nonempty) subtree whose topmost node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no left child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right child as answe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a left child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left chi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a left child, repea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left chi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left child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right chi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answer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696080" y="2971800"/>
            <a:ext cx="838440" cy="304920"/>
          </a:xfrm>
          <a:prstGeom prst="wedgeRectCallout">
            <a:avLst>
              <a:gd name="adj1" fmla="val -485606"/>
              <a:gd name="adj2" fmla="val -4166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c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696080" y="3581280"/>
            <a:ext cx="838440" cy="304920"/>
          </a:xfrm>
          <a:prstGeom prst="wedgeRectCallout">
            <a:avLst>
              <a:gd name="adj1" fmla="val -485606"/>
              <a:gd name="adj2" fmla="val -4166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cas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88BD8-3EDD-4BF4-BAE7-2D3AEF366B56}" type="slidenum">
              <a:t>38</a:t>
            </a:fld>
          </a:p>
        </p:txBody>
      </p:sp>
    </p:spTree>
  </p:cSld>
  <p:transition>
    <p:cover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Deleting a leftmost elemen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5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as a Java method (in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STN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STNode deleteLeftmost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left =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righ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STNode paren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curr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lef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curr.left !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ent = curr;  curr = curr.lef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ent.left = curr.righ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829E9-8FEE-4B11-A7F8-2C877F135077}" type="slidenum">
              <a:t>39</a:t>
            </a:fld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762120" y="3809880"/>
            <a:ext cx="7772400" cy="1828800"/>
            <a:chOff x="762120" y="3809880"/>
            <a:chExt cx="7772400" cy="1828800"/>
          </a:xfrm>
        </p:grpSpPr>
        <p:sp>
          <p:nvSpPr>
            <p:cNvPr id="83" name=""/>
            <p:cNvSpPr/>
            <p:nvPr/>
          </p:nvSpPr>
          <p:spPr>
            <a:xfrm>
              <a:off x="1905120" y="3809880"/>
              <a:ext cx="2057400" cy="1219320"/>
            </a:xfrm>
            <a:custGeom>
              <a:avLst/>
              <a:gdLst/>
              <a:ahLst/>
              <a:rect l="l" t="t" r="r" b="b"/>
              <a:pathLst>
                <a:path w="1296" h="768">
                  <a:moveTo>
                    <a:pt x="192" y="0"/>
                  </a:moveTo>
                  <a:lnTo>
                    <a:pt x="0" y="768"/>
                  </a:lnTo>
                  <a:lnTo>
                    <a:pt x="1296" y="768"/>
                  </a:lnTo>
                  <a:lnTo>
                    <a:pt x="1104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62520" y="3809880"/>
              <a:ext cx="3581280" cy="1828800"/>
            </a:xfrm>
            <a:custGeom>
              <a:avLst/>
              <a:gdLst/>
              <a:ahLst/>
              <a:rect l="l" t="t" r="r" b="b"/>
              <a:pathLst>
                <a:path w="2256" h="1152">
                  <a:moveTo>
                    <a:pt x="336" y="0"/>
                  </a:moveTo>
                  <a:lnTo>
                    <a:pt x="0" y="1152"/>
                  </a:lnTo>
                  <a:lnTo>
                    <a:pt x="2256" y="1152"/>
                  </a:lnTo>
                  <a:lnTo>
                    <a:pt x="1936" y="0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2120" y="3809880"/>
              <a:ext cx="914400" cy="609840"/>
            </a:xfrm>
            <a:prstGeom prst="wedgeRectCallout">
              <a:avLst>
                <a:gd name="adj1" fmla="val 95486"/>
                <a:gd name="adj2" fmla="val 11717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8000"/>
                  </a:solidFill>
                  <a:latin typeface="Times New Roman"/>
                </a:rPr>
                <a:t>A</a:t>
              </a: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’s left subt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43800" y="3809880"/>
              <a:ext cx="990720" cy="609840"/>
            </a:xfrm>
            <a:prstGeom prst="wedgeRectCallout">
              <a:avLst>
                <a:gd name="adj1" fmla="val -90384"/>
                <a:gd name="adj2" fmla="val 18231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8000"/>
                  </a:solidFill>
                  <a:latin typeface="Times New Roman"/>
                </a:rPr>
                <a:t>A</a:t>
              </a: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’s right subt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inary trees and subtree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node has both a left subtree and a right subtree (either of which may be empty). The node’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b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sists of the node’s left (right) child together with that child’s own children, grandchildren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62520" y="4419720"/>
            <a:ext cx="4572000" cy="1752480"/>
            <a:chOff x="3962520" y="4419720"/>
            <a:chExt cx="4572000" cy="1752480"/>
          </a:xfrm>
        </p:grpSpPr>
        <p:sp>
          <p:nvSpPr>
            <p:cNvPr id="90" name=""/>
            <p:cNvSpPr/>
            <p:nvPr/>
          </p:nvSpPr>
          <p:spPr>
            <a:xfrm>
              <a:off x="4267080" y="4419720"/>
              <a:ext cx="1219320" cy="533160"/>
            </a:xfrm>
            <a:custGeom>
              <a:avLst/>
              <a:gdLst/>
              <a:ahLst/>
              <a:rect l="l" t="t" r="r" b="b"/>
              <a:pathLst>
                <a:path w="768" h="336">
                  <a:moveTo>
                    <a:pt x="96" y="0"/>
                  </a:moveTo>
                  <a:lnTo>
                    <a:pt x="0" y="336"/>
                  </a:lnTo>
                  <a:lnTo>
                    <a:pt x="768" y="336"/>
                  </a:lnTo>
                  <a:lnTo>
                    <a:pt x="672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86400" y="4419720"/>
              <a:ext cx="1905120" cy="1143000"/>
            </a:xfrm>
            <a:custGeom>
              <a:avLst/>
              <a:gdLst/>
              <a:ahLst/>
              <a:rect l="l" t="t" r="r" b="b"/>
              <a:pathLst>
                <a:path w="1200" h="720">
                  <a:moveTo>
                    <a:pt x="192" y="0"/>
                  </a:moveTo>
                  <a:lnTo>
                    <a:pt x="0" y="720"/>
                  </a:lnTo>
                  <a:lnTo>
                    <a:pt x="1200" y="720"/>
                  </a:lnTo>
                  <a:lnTo>
                    <a:pt x="1008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62520" y="5867280"/>
              <a:ext cx="1676160" cy="304920"/>
            </a:xfrm>
            <a:prstGeom prst="wedgeRectCallout">
              <a:avLst>
                <a:gd name="adj1" fmla="val 1324"/>
                <a:gd name="adj2" fmla="val -351564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8000"/>
                  </a:solidFill>
                  <a:latin typeface="Times New Roman"/>
                </a:rPr>
                <a:t>C</a:t>
              </a: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’s left subt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05720" y="5867280"/>
              <a:ext cx="1828800" cy="304920"/>
            </a:xfrm>
            <a:prstGeom prst="wedgeRectCallout">
              <a:avLst>
                <a:gd name="adj1" fmla="val -39930"/>
                <a:gd name="adj2" fmla="val -159375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8000"/>
                  </a:solidFill>
                  <a:latin typeface="Times New Roman"/>
                </a:rPr>
                <a:t>C</a:t>
              </a: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’s right subt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838080" y="4419720"/>
            <a:ext cx="2971800" cy="1752480"/>
            <a:chOff x="838080" y="4419720"/>
            <a:chExt cx="2971800" cy="1752480"/>
          </a:xfrm>
        </p:grpSpPr>
        <p:sp>
          <p:nvSpPr>
            <p:cNvPr id="95" name=""/>
            <p:cNvSpPr/>
            <p:nvPr/>
          </p:nvSpPr>
          <p:spPr>
            <a:xfrm>
              <a:off x="2590920" y="4419720"/>
              <a:ext cx="1218960" cy="533160"/>
            </a:xfrm>
            <a:custGeom>
              <a:avLst/>
              <a:gdLst/>
              <a:ahLst/>
              <a:rect l="l" t="t" r="r" b="b"/>
              <a:pathLst>
                <a:path w="768" h="336">
                  <a:moveTo>
                    <a:pt x="96" y="0"/>
                  </a:moveTo>
                  <a:lnTo>
                    <a:pt x="0" y="336"/>
                  </a:lnTo>
                  <a:lnTo>
                    <a:pt x="768" y="336"/>
                  </a:lnTo>
                  <a:lnTo>
                    <a:pt x="672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66880" y="5562720"/>
              <a:ext cx="990720" cy="609480"/>
            </a:xfrm>
            <a:prstGeom prst="wedgeRectCallout">
              <a:avLst>
                <a:gd name="adj1" fmla="val 21472"/>
                <a:gd name="adj2" fmla="val -150782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’s right subt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5562720"/>
              <a:ext cx="1676520" cy="609480"/>
            </a:xfrm>
            <a:prstGeom prst="wedgeRectCallout">
              <a:avLst>
                <a:gd name="adj1" fmla="val 36175"/>
                <a:gd name="adj2" fmla="val -267449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’s left subtree is emp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600200" y="3343320"/>
            <a:ext cx="5638680" cy="2134080"/>
            <a:chOff x="1600200" y="3343320"/>
            <a:chExt cx="5638680" cy="2134080"/>
          </a:xfrm>
        </p:grpSpPr>
        <p:sp>
          <p:nvSpPr>
            <p:cNvPr id="99" name=""/>
            <p:cNvSpPr/>
            <p:nvPr/>
          </p:nvSpPr>
          <p:spPr>
            <a:xfrm>
              <a:off x="1600200" y="335268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52480" y="3505320"/>
              <a:ext cx="182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3200" y="4562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81280" y="4791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19160" y="4791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09680" y="3952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6000" y="41814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81280" y="33433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19360" y="4562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57800" y="4791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95680" y="4791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05160" y="3952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90960" y="4562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67280" y="4791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19360" y="3581280"/>
              <a:ext cx="114300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3600" y="4191120"/>
              <a:ext cx="3045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876200" y="4191120"/>
              <a:ext cx="30492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7760" y="4191120"/>
              <a:ext cx="1526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590560" y="3581280"/>
              <a:ext cx="10670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24480" y="5172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62560" y="54007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00800" y="54007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480060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3174A-083C-478F-B5B0-D72895CEC7AF}" type="slidenum">
              <a:t>4</a:t>
            </a:fld>
          </a:p>
        </p:txBody>
      </p:sp>
    </p:spTree>
  </p:cSld>
  <p:transition>
    <p:cover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Deleting a topmost elemen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: Delete the topmost element in a sub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 cases to cons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0400" indent="-45720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opmost node has no child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0400" indent="-45720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opmost node has a right child but no left chi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0400" indent="-45720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opmost node has a left child but no right chi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0400" indent="-45720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opmost node has two child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E81E7-79EC-491A-956A-EDE9D3C1EE6E}" type="slidenum">
              <a:t>40</a:t>
            </a:fld>
          </a:p>
        </p:txBody>
      </p:sp>
    </p:spTree>
  </p:cSld>
  <p:transition>
    <p:cover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Deleting a topmost elemen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 (topmost node has no children)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 subtree empty.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9" name=""/>
          <p:cNvGrpSpPr/>
          <p:nvPr/>
        </p:nvGrpSpPr>
        <p:grpSpPr>
          <a:xfrm>
            <a:off x="1219320" y="2571840"/>
            <a:ext cx="3124080" cy="610200"/>
            <a:chOff x="1219320" y="2571840"/>
            <a:chExt cx="3124080" cy="610200"/>
          </a:xfrm>
        </p:grpSpPr>
        <p:sp>
          <p:nvSpPr>
            <p:cNvPr id="1340" name=""/>
            <p:cNvSpPr/>
            <p:nvPr/>
          </p:nvSpPr>
          <p:spPr>
            <a:xfrm>
              <a:off x="2209680" y="259092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219320" y="2571840"/>
              <a:ext cx="7617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for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362320" y="273384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429000" y="25718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505320" y="28004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267080" y="28004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6" name=""/>
          <p:cNvGrpSpPr/>
          <p:nvPr/>
        </p:nvGrpSpPr>
        <p:grpSpPr>
          <a:xfrm>
            <a:off x="1219320" y="3267000"/>
            <a:ext cx="3124080" cy="314280"/>
            <a:chOff x="1219320" y="3267000"/>
            <a:chExt cx="3124080" cy="314280"/>
          </a:xfrm>
        </p:grpSpPr>
        <p:sp>
          <p:nvSpPr>
            <p:cNvPr id="1347" name=""/>
            <p:cNvSpPr/>
            <p:nvPr/>
          </p:nvSpPr>
          <p:spPr>
            <a:xfrm>
              <a:off x="2209680" y="327672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219320" y="3267000"/>
              <a:ext cx="76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fter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429000" y="3267000"/>
              <a:ext cx="914400" cy="305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505320" y="34956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267080" y="34956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362320" y="34196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3" name=""/>
          <p:cNvSpPr/>
          <p:nvPr/>
        </p:nvSpPr>
        <p:spPr>
          <a:xfrm>
            <a:off x="5867280" y="3191040"/>
            <a:ext cx="990720" cy="380880"/>
          </a:xfrm>
          <a:prstGeom prst="wedgeRectCallout">
            <a:avLst>
              <a:gd name="adj1" fmla="val -185254"/>
              <a:gd name="adj2" fmla="val 9999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garb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6970B-EC53-45C2-B74C-22BF8DA7C2E1}" type="slidenum">
              <a:t>41</a:t>
            </a:fld>
          </a:p>
        </p:txBody>
      </p:sp>
    </p:spTree>
  </p:cSld>
  <p:transition>
    <p:cover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Deleting a topmost elemen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 (topmost node has a right child but no left child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d the topmost node, but retain its right subtree.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7" name=""/>
          <p:cNvGrpSpPr/>
          <p:nvPr/>
        </p:nvGrpSpPr>
        <p:grpSpPr>
          <a:xfrm>
            <a:off x="1219320" y="2571840"/>
            <a:ext cx="4724280" cy="1524240"/>
            <a:chOff x="1219320" y="2571840"/>
            <a:chExt cx="4724280" cy="1524240"/>
          </a:xfrm>
        </p:grpSpPr>
        <p:sp>
          <p:nvSpPr>
            <p:cNvPr id="1358" name=""/>
            <p:cNvSpPr/>
            <p:nvPr/>
          </p:nvSpPr>
          <p:spPr>
            <a:xfrm>
              <a:off x="2210040" y="259092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219320" y="2571840"/>
              <a:ext cx="7621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for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362320" y="273384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429000" y="25718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962520" y="3790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800600" y="40194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038840" y="40194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496040" y="31813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029200" y="3790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867640" y="40194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105520" y="40194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267440" y="2809800"/>
              <a:ext cx="68580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334120" y="341964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4419360" y="341964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505320" y="28004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1219320" y="4562640"/>
            <a:ext cx="4724280" cy="1524240"/>
            <a:chOff x="1219320" y="4562640"/>
            <a:chExt cx="4724280" cy="1524240"/>
          </a:xfrm>
        </p:grpSpPr>
        <p:sp>
          <p:nvSpPr>
            <p:cNvPr id="1374" name=""/>
            <p:cNvSpPr/>
            <p:nvPr/>
          </p:nvSpPr>
          <p:spPr>
            <a:xfrm>
              <a:off x="2210040" y="457200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219320" y="4562640"/>
              <a:ext cx="762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fter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429000" y="4562640"/>
              <a:ext cx="914400" cy="305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962520" y="57816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800600" y="601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038840" y="601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496040" y="5172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029200" y="57816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867640" y="601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105520" y="601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267440" y="480060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334120" y="541008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H="1">
              <a:off x="4419360" y="541008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505320" y="4791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362320" y="4714920"/>
              <a:ext cx="213372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6400800" y="4486320"/>
            <a:ext cx="990720" cy="380880"/>
          </a:xfrm>
          <a:prstGeom prst="wedgeRectCallout">
            <a:avLst>
              <a:gd name="adj1" fmla="val -241666"/>
              <a:gd name="adj2" fmla="val 6666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garb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BB7C7-D25F-4269-8F89-7CCAF9067372}" type="slidenum">
              <a:t>42</a:t>
            </a:fld>
          </a:p>
        </p:txBody>
      </p:sp>
    </p:spTree>
  </p:cSld>
  <p:transition>
    <p:cover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Deleting a topmost elemen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4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3 (topmost node has a left child but no right child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d the topmost node, but retain its left subtree.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3" name=""/>
          <p:cNvGrpSpPr/>
          <p:nvPr/>
        </p:nvGrpSpPr>
        <p:grpSpPr>
          <a:xfrm>
            <a:off x="1219320" y="2571840"/>
            <a:ext cx="4114800" cy="1524240"/>
            <a:chOff x="1219320" y="2571840"/>
            <a:chExt cx="4114800" cy="1524240"/>
          </a:xfrm>
        </p:grpSpPr>
        <p:sp>
          <p:nvSpPr>
            <p:cNvPr id="1394" name=""/>
            <p:cNvSpPr/>
            <p:nvPr/>
          </p:nvSpPr>
          <p:spPr>
            <a:xfrm>
              <a:off x="2209680" y="259092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219320" y="2581200"/>
              <a:ext cx="7617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for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362320" y="2733840"/>
              <a:ext cx="205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419720" y="25718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819520" y="3790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657600" y="40194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895480" y="40194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352680" y="31813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886200" y="3790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go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724280" y="40194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962520" y="40194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>
              <a:off x="3809520" y="2809800"/>
              <a:ext cx="68580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191120" y="341964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>
              <a:off x="3276360" y="341964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257800" y="28098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1219320" y="4486320"/>
            <a:ext cx="4114800" cy="1524600"/>
            <a:chOff x="1219320" y="4486320"/>
            <a:chExt cx="4114800" cy="1524600"/>
          </a:xfrm>
        </p:grpSpPr>
        <p:sp>
          <p:nvSpPr>
            <p:cNvPr id="1410" name=""/>
            <p:cNvSpPr/>
            <p:nvPr/>
          </p:nvSpPr>
          <p:spPr>
            <a:xfrm>
              <a:off x="2209680" y="44956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219320" y="4495680"/>
              <a:ext cx="76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fter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362320" y="4648320"/>
              <a:ext cx="99036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419720" y="4486320"/>
              <a:ext cx="914400" cy="305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81952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65760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89548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352680" y="5095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88620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go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72428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962520" y="593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3809520" y="4724280"/>
              <a:ext cx="68580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191120" y="533412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3276360" y="533412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257800" y="47242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6324480" y="4486320"/>
            <a:ext cx="990720" cy="380880"/>
          </a:xfrm>
          <a:prstGeom prst="wedgeRectCallout">
            <a:avLst>
              <a:gd name="adj1" fmla="val -127564"/>
              <a:gd name="adj2" fmla="val -6666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garb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EF0BF-2CD3-4707-BC79-30D9F938DC20}" type="slidenum">
              <a:t>43</a:t>
            </a:fld>
          </a:p>
        </p:txBody>
      </p:sp>
    </p:spTree>
  </p:cSld>
  <p:transition>
    <p:cover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Deleting a topmost elemen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5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4 (topmost node has two children)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 the right subtree’s leftmost element into the topmost node, then delete the right subtree’s leftmost element.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553080" y="5238720"/>
            <a:ext cx="990720" cy="380880"/>
          </a:xfrm>
          <a:prstGeom prst="wedgeRectCallout">
            <a:avLst>
              <a:gd name="adj1" fmla="val -150638"/>
              <a:gd name="adj2" fmla="val 123333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garb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1219320" y="2876400"/>
            <a:ext cx="5333760" cy="1534320"/>
            <a:chOff x="1219320" y="2876400"/>
            <a:chExt cx="5333760" cy="1534320"/>
          </a:xfrm>
        </p:grpSpPr>
        <p:sp>
          <p:nvSpPr>
            <p:cNvPr id="1431" name=""/>
            <p:cNvSpPr/>
            <p:nvPr/>
          </p:nvSpPr>
          <p:spPr>
            <a:xfrm>
              <a:off x="1219320" y="2876400"/>
              <a:ext cx="7617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for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209680" y="288612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362320" y="3038400"/>
              <a:ext cx="167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505320" y="34956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343400" y="3724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971800" y="40957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038480" y="28764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105520" y="34862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638680" y="40957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477120" y="43243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715000" y="43243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876920" y="3114720"/>
              <a:ext cx="685800" cy="3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43600" y="372420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5028840" y="3733920"/>
              <a:ext cx="15228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>
              <a:off x="3428640" y="3724200"/>
              <a:ext cx="152280" cy="3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3962160" y="311472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048120" y="43340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572000" y="41054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648320" y="4343400"/>
              <a:ext cx="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10080" y="4343400"/>
              <a:ext cx="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809880" y="4343400"/>
              <a:ext cx="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1219320" y="4695840"/>
            <a:ext cx="5333760" cy="1543680"/>
            <a:chOff x="1219320" y="4695840"/>
            <a:chExt cx="5333760" cy="1543680"/>
          </a:xfrm>
        </p:grpSpPr>
        <p:sp>
          <p:nvSpPr>
            <p:cNvPr id="1453" name=""/>
            <p:cNvSpPr/>
            <p:nvPr/>
          </p:nvSpPr>
          <p:spPr>
            <a:xfrm>
              <a:off x="1219320" y="4695840"/>
              <a:ext cx="76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fter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209680" y="470520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362320" y="4857840"/>
              <a:ext cx="167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505320" y="53244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343400" y="55530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971800" y="59245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038480" y="47052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105520" y="53150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638680" y="59245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477120" y="61531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715000" y="61531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876920" y="4943520"/>
              <a:ext cx="685800" cy="3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943600" y="555300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3428640" y="5553000"/>
              <a:ext cx="152280" cy="3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3962160" y="494352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048120" y="61628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572000" y="5934240"/>
              <a:ext cx="914400" cy="305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648320" y="6172200"/>
              <a:ext cx="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410080" y="6172200"/>
              <a:ext cx="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809880" y="6172200"/>
              <a:ext cx="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181480" y="55436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72CF9-489C-43AA-95E8-A99523628F6D}" type="slidenum">
              <a:t>44</a:t>
            </a:fld>
          </a:p>
        </p:txBody>
      </p:sp>
    </p:spTree>
  </p:cSld>
  <p:transition>
    <p:cover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Deleting a topmost elemen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6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lete the topmost element in the subtree whose topmost node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no left child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right child as answe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no right child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left child as answe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two childre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element to the leftmost element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righ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tre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 the leftmost element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right subtre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answer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7467480" y="2971800"/>
            <a:ext cx="1067040" cy="304920"/>
          </a:xfrm>
          <a:prstGeom prst="wedgeRectCallout">
            <a:avLst>
              <a:gd name="adj1" fmla="val -363689"/>
              <a:gd name="adj2" fmla="val -4166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cases 1,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7467480" y="3581280"/>
            <a:ext cx="1067040" cy="304920"/>
          </a:xfrm>
          <a:prstGeom prst="wedgeRectCallout">
            <a:avLst>
              <a:gd name="adj1" fmla="val -366069"/>
              <a:gd name="adj2" fmla="val -8333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cases 1,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7696080" y="4191120"/>
            <a:ext cx="838440" cy="304560"/>
          </a:xfrm>
          <a:prstGeom prst="wedgeRectCallout">
            <a:avLst>
              <a:gd name="adj1" fmla="val -478032"/>
              <a:gd name="adj2" fmla="val -8333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cas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195B7-1306-4230-8383-450E8C48FEBF}" type="slidenum">
              <a:t>45</a:t>
            </a:fld>
          </a:p>
        </p:txBody>
      </p:sp>
    </p:spTree>
  </p:cSld>
  <p:transition>
    <p:cover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Deleting a topmost elemen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7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xiliary algorith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 the leftmost element in the (nonempty) subtree whose topmost node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a left child, repea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left chi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element as answer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8CB09-FC5D-46FA-87A2-A1C3BE9FA43F}" type="slidenum">
              <a:t>46</a:t>
            </a:fld>
          </a:p>
        </p:txBody>
      </p:sp>
    </p:spTree>
  </p:cSld>
  <p:transition>
    <p:cover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Deleting a topmost elemen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8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as a Java method (in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STN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STNode deleteTopmost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left =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righ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right =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lef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{  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node has two childr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lemen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right.getLeftmost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righ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right.deleteLeftmost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5DAEF-D840-4C28-B0DD-A15C451955EB}" type="slidenum">
              <a:t>47</a:t>
            </a:fld>
          </a:p>
        </p:txBody>
      </p:sp>
    </p:spTree>
  </p:cSld>
  <p:transition>
    <p:cover dir="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Deleting a topmost elemen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9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xiliary method (in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STN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mparable getLeftmost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STNode curr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curr.left !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rr = curr.lef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urr.elemen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3E9C3-4106-4100-9A80-05E82B92B794}" type="slidenum">
              <a:t>48</a:t>
            </a:fld>
          </a:p>
        </p:txBody>
      </p:sp>
    </p:spTree>
  </p:cSld>
  <p:transition>
    <p:cover dir="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Deleting a given elemen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T deletion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lete the eleme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 B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null, and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BST’s root nod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null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wise,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equal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elemen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 the topmost element in the subtree who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most node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a link to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ing subtre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ace the link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wise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D4DC1-75E5-4ED3-B942-29F6D9D05CAB}" type="slidenum">
              <a:t>49</a:t>
            </a:fld>
          </a:p>
        </p:txBody>
      </p:sp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inary trees and subtree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ubtree is itself a binary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gives rise to an equivalent recursive definition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emp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 which case it has a root node containing an element, a link to a left subtree, and a link to a right subtree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432CD-F868-4D43-B0A3-FE09DBDA00D7}" type="slidenum">
              <a:t>5</a:t>
            </a:fld>
          </a:p>
        </p:txBody>
      </p:sp>
    </p:spTree>
  </p:cSld>
  <p:transition>
    <p:cover dir="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Deleting a given elemen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T deletion algorith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wise,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less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elemen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left chi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wise,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great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elemen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right chi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F42DE-273F-447B-9344-7E40BA86C438}" type="slidenum">
              <a:t>50</a:t>
            </a:fld>
          </a:p>
        </p:txBody>
      </p:sp>
    </p:spTree>
  </p:cSld>
  <p:transition>
    <p:cover dir="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Deleting a given elemen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609480" y="1905120"/>
            <a:ext cx="7925040" cy="4800600"/>
            <a:chOff x="609480" y="1905120"/>
            <a:chExt cx="7925040" cy="4800600"/>
          </a:xfrm>
        </p:grpSpPr>
        <p:sp>
          <p:nvSpPr>
            <p:cNvPr id="1499" name=""/>
            <p:cNvSpPr/>
            <p:nvPr/>
          </p:nvSpPr>
          <p:spPr>
            <a:xfrm>
              <a:off x="609480" y="1981440"/>
              <a:ext cx="7925040" cy="472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09480" y="1905120"/>
              <a:ext cx="792504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delete the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a BS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null, 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BST’s root nod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ull, terminat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equal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less tha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left child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greater tha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right chil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066680" y="510552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600200" y="510552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752480" y="5257800"/>
              <a:ext cx="2362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04812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114800" y="5096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952880" y="533412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H="1">
              <a:off x="3504960" y="533412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315200" y="51022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553080" y="5102280"/>
              <a:ext cx="6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581280" y="6315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41972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65760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886200" y="594360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18148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648320" y="6315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5105160" y="594360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48640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72428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715000" y="6315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55308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79132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019920" y="594360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124080" y="59436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4" name=""/>
          <p:cNvGrpSpPr/>
          <p:nvPr/>
        </p:nvGrpSpPr>
        <p:grpSpPr>
          <a:xfrm>
            <a:off x="609480" y="1905120"/>
            <a:ext cx="7925040" cy="4800600"/>
            <a:chOff x="609480" y="1905120"/>
            <a:chExt cx="7925040" cy="4800600"/>
          </a:xfrm>
        </p:grpSpPr>
        <p:sp>
          <p:nvSpPr>
            <p:cNvPr id="1525" name=""/>
            <p:cNvSpPr/>
            <p:nvPr/>
          </p:nvSpPr>
          <p:spPr>
            <a:xfrm>
              <a:off x="609480" y="1981440"/>
              <a:ext cx="7925040" cy="472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09480" y="1905120"/>
              <a:ext cx="792504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delete the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a BS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to null, and se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to the BST’s root nod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ull, terminat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equal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less tha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left child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greater tha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right chil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066680" y="510552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00200" y="510552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752480" y="5257800"/>
              <a:ext cx="2362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04812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114800" y="5096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952880" y="533412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3504960" y="533412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315200" y="51022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553080" y="5102280"/>
              <a:ext cx="6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581280" y="6315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41972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65760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886200" y="594360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18148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648320" y="6315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5105160" y="594360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48640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72428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715000" y="6315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55308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79132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019920" y="594360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62120" y="5486400"/>
              <a:ext cx="76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a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600200" y="548640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066680" y="586764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ur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600200" y="586764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V="1">
              <a:off x="1752480" y="5333760"/>
              <a:ext cx="236232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752480" y="56390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124080" y="59436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609480" y="1905120"/>
            <a:ext cx="7925040" cy="4800600"/>
            <a:chOff x="609480" y="1905120"/>
            <a:chExt cx="7925040" cy="4800600"/>
          </a:xfrm>
        </p:grpSpPr>
        <p:sp>
          <p:nvSpPr>
            <p:cNvPr id="1557" name=""/>
            <p:cNvSpPr/>
            <p:nvPr/>
          </p:nvSpPr>
          <p:spPr>
            <a:xfrm>
              <a:off x="609480" y="1981440"/>
              <a:ext cx="7925040" cy="472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09480" y="1905120"/>
              <a:ext cx="792504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delete the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a BS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null, 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BST’s root nod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ull, terminat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equal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is less than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, 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nd se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s left child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greater tha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,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right chil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066680" y="510552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600200" y="510552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752480" y="5257800"/>
              <a:ext cx="2362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04812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114800" y="5096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952880" y="533412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>
              <a:off x="3504960" y="533412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315200" y="51022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553080" y="5102280"/>
              <a:ext cx="6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581280" y="6315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41972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65760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886200" y="594360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18148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648320" y="6315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5105160" y="594360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48640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72428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715000" y="6315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55308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79132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019920" y="594360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62120" y="5486400"/>
              <a:ext cx="76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a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600200" y="548640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066680" y="586764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ur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600200" y="586764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V="1">
              <a:off x="1752480" y="5867280"/>
              <a:ext cx="129564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V="1">
              <a:off x="1752480" y="5333760"/>
              <a:ext cx="236232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124080" y="59436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609480" y="1905120"/>
            <a:ext cx="7925040" cy="4800600"/>
            <a:chOff x="609480" y="1905120"/>
            <a:chExt cx="7925040" cy="4800600"/>
          </a:xfrm>
        </p:grpSpPr>
        <p:sp>
          <p:nvSpPr>
            <p:cNvPr id="1589" name=""/>
            <p:cNvSpPr/>
            <p:nvPr/>
          </p:nvSpPr>
          <p:spPr>
            <a:xfrm>
              <a:off x="609480" y="1981440"/>
              <a:ext cx="7925040" cy="472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09480" y="1905120"/>
              <a:ext cx="792504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delete the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a BS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null, 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BST’s root nod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ull, terminat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is equal to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s elemen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lete the topmost element in the subtree whose topmost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de i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e a link to the resulting subtre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lace the link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rminat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066680" y="510552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600200" y="510552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752480" y="5257800"/>
              <a:ext cx="2362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04812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114800" y="5096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952880" y="533412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3504960" y="533412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315200" y="51022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553080" y="5102280"/>
              <a:ext cx="6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581280" y="6315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41972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65760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886200" y="594360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18148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648320" y="6315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5105160" y="594360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48640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72428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715000" y="6315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55308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79132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019920" y="594360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62120" y="5486400"/>
              <a:ext cx="76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a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600200" y="548640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066680" y="586764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ur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600200" y="586764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V="1">
              <a:off x="1752480" y="5867280"/>
              <a:ext cx="129564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V="1">
              <a:off x="1752480" y="5333760"/>
              <a:ext cx="236232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124080" y="59436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0" name=""/>
          <p:cNvGrpSpPr/>
          <p:nvPr/>
        </p:nvGrpSpPr>
        <p:grpSpPr>
          <a:xfrm>
            <a:off x="609480" y="1905120"/>
            <a:ext cx="7925040" cy="4800600"/>
            <a:chOff x="609480" y="1905120"/>
            <a:chExt cx="7925040" cy="4800600"/>
          </a:xfrm>
        </p:grpSpPr>
        <p:sp>
          <p:nvSpPr>
            <p:cNvPr id="1621" name=""/>
            <p:cNvSpPr/>
            <p:nvPr/>
          </p:nvSpPr>
          <p:spPr>
            <a:xfrm>
              <a:off x="609480" y="1981440"/>
              <a:ext cx="7925040" cy="472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09480" y="1905120"/>
              <a:ext cx="792504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delete the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a BS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null, 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BST’s root nod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ull, terminat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equal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Delete the topmost element in the subtree whose topmost 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node is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, and le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del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be a link to the resulting subtre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lace the link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rminat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066680" y="510552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600200" y="510552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752480" y="5257800"/>
              <a:ext cx="2362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04812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114800" y="5096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952880" y="533412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3504960" y="533412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315200" y="51022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553080" y="5102280"/>
              <a:ext cx="6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581280" y="6315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41972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65760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18148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648320" y="6315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H="1">
              <a:off x="5105160" y="594360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48640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72428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715000" y="6315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55308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79132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019920" y="594360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62120" y="5486400"/>
              <a:ext cx="76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a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600200" y="548640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066680" y="586764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ur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600200" y="586764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V="1">
              <a:off x="1752480" y="5867280"/>
              <a:ext cx="129564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V="1">
              <a:off x="1752480" y="5333760"/>
              <a:ext cx="236232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066680" y="624852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600200" y="624852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752480" y="6400800"/>
              <a:ext cx="1828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124080" y="59436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886200" y="594360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5" name=""/>
          <p:cNvGrpSpPr/>
          <p:nvPr/>
        </p:nvGrpSpPr>
        <p:grpSpPr>
          <a:xfrm>
            <a:off x="609480" y="1905120"/>
            <a:ext cx="7925040" cy="4800600"/>
            <a:chOff x="609480" y="1905120"/>
            <a:chExt cx="7925040" cy="4800600"/>
          </a:xfrm>
        </p:grpSpPr>
        <p:sp>
          <p:nvSpPr>
            <p:cNvPr id="1656" name=""/>
            <p:cNvSpPr/>
            <p:nvPr/>
          </p:nvSpPr>
          <p:spPr>
            <a:xfrm>
              <a:off x="609480" y="1981440"/>
              <a:ext cx="7925040" cy="472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09480" y="1905120"/>
              <a:ext cx="792504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delete the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a BS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null, 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BST’s root nod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ull, terminat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equal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lete the topmost element in the subtree whose topmost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de i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e a link to the resulting subtre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Replace the link to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by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del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rminat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066680" y="510552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600200" y="510552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752480" y="5257800"/>
              <a:ext cx="2362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04812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114800" y="5096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952880" y="533412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H="1">
              <a:off x="4114800" y="5334120"/>
              <a:ext cx="7632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315200" y="51022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553080" y="5102280"/>
              <a:ext cx="6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581280" y="6315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41972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65760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18148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648320" y="6315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H="1">
              <a:off x="5105160" y="594360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48640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72428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715000" y="6315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55308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79132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019920" y="594360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62120" y="5486400"/>
              <a:ext cx="76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a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600200" y="548640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066680" y="586764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ur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600200" y="586764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V="1">
              <a:off x="1752480" y="5867280"/>
              <a:ext cx="129564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V="1">
              <a:off x="1752480" y="5333760"/>
              <a:ext cx="236232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066680" y="624852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600200" y="624852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752480" y="6400800"/>
              <a:ext cx="182880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124080" y="59436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886200" y="594360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0" name=""/>
          <p:cNvGrpSpPr/>
          <p:nvPr/>
        </p:nvGrpSpPr>
        <p:grpSpPr>
          <a:xfrm>
            <a:off x="609480" y="1905120"/>
            <a:ext cx="7925040" cy="4800600"/>
            <a:chOff x="609480" y="1905120"/>
            <a:chExt cx="7925040" cy="4800600"/>
          </a:xfrm>
        </p:grpSpPr>
        <p:sp>
          <p:nvSpPr>
            <p:cNvPr id="1691" name=""/>
            <p:cNvSpPr/>
            <p:nvPr/>
          </p:nvSpPr>
          <p:spPr>
            <a:xfrm>
              <a:off x="609480" y="1981440"/>
              <a:ext cx="7925040" cy="472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09480" y="1905120"/>
              <a:ext cx="792504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delete the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a BS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null, 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he BST’s root nod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ull, terminat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equal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elemen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lete the topmost element in the subtree whose topmost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de i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e a link to the resulting subtre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lace the link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erminate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, 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066680" y="510552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600200" y="510552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752480" y="5257800"/>
              <a:ext cx="2362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048120" y="5705640"/>
              <a:ext cx="914400" cy="305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114800" y="5096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952880" y="533412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H="1">
              <a:off x="4114800" y="5334120"/>
              <a:ext cx="7632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315200" y="51022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553080" y="5102280"/>
              <a:ext cx="6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581280" y="6315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41972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65760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181480" y="5705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648320" y="6315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>
              <a:off x="5105160" y="594360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48640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72428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715000" y="6315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55308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791320" y="6550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019920" y="594360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124080" y="59436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86200" y="594360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2D667-53E4-4534-B92A-783624C78423}" type="slidenum">
              <a:t>51</a:t>
            </a:fld>
          </a:p>
        </p:txBody>
      </p:sp>
    </p:spTree>
  </p:cSld>
  <p:transition>
    <p:cover dir="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Deleting a given elemen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4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53880" indent="-353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as a Java method (in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elete (Comparable elem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irection = 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STNode paren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curr = roo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;;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curr =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rection = elem.compareTo(curr.element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direction == 0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STNode del = curr.deleteTopmost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curr == root)  root = del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curr == parent.lef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ent.left = del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parent.right = del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7521F-2461-4C24-92DA-7E8ABEF38E6E}" type="slidenum">
              <a:t>52</a:t>
            </a:fld>
          </a:p>
        </p:txBody>
      </p:sp>
    </p:spTree>
  </p:cSld>
  <p:transition>
    <p:cover dir="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Deleting a given elemen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5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ent = curr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direction &lt; 0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rr = parent.lef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// direction &gt; 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rr = parent.righ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F945A-4492-460E-BBEA-ADAC508FAD2C}" type="slidenum">
              <a:t>53</a:t>
            </a:fld>
          </a:p>
        </p:txBody>
      </p:sp>
    </p:spTree>
  </p:cSld>
  <p:transition>
    <p:cover dir="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BSTs in practice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4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ther a BST is well-balanced or ill-balanced depends on the order of insertions and dele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on can make a well-balanced BST ill-balanced,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e vers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3B753-24E8-44A7-AB0F-13FD9572DD3C}" type="slidenum">
              <a:t>54</a:t>
            </a:fld>
          </a:p>
        </p:txBody>
      </p:sp>
    </p:spTree>
  </p:cSld>
  <p:transition>
    <p:cover dir="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Example: successive deletion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tion (deleting ‘lion, ‘fox’, ‘pig’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8" name=""/>
          <p:cNvGrpSpPr/>
          <p:nvPr/>
        </p:nvGrpSpPr>
        <p:grpSpPr>
          <a:xfrm>
            <a:off x="1143000" y="2057400"/>
            <a:ext cx="5791320" cy="3276720"/>
            <a:chOff x="1143000" y="2057400"/>
            <a:chExt cx="5791320" cy="3276720"/>
          </a:xfrm>
        </p:grpSpPr>
        <p:sp>
          <p:nvSpPr>
            <p:cNvPr id="1729" name=""/>
            <p:cNvSpPr/>
            <p:nvPr/>
          </p:nvSpPr>
          <p:spPr>
            <a:xfrm>
              <a:off x="1143000" y="2057400"/>
              <a:ext cx="5791320" cy="327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523880" y="2276640"/>
              <a:ext cx="2362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ly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905120" y="289584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057400" y="3048120"/>
              <a:ext cx="205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581280" y="35053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419720" y="37339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514600" y="41054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114800" y="2886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181480" y="34959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715000" y="41054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553080" y="43340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791320" y="43340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952880" y="312444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019920" y="373392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5105160" y="373392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>
              <a:off x="2971440" y="373392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4038480" y="3124440"/>
              <a:ext cx="1526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048120" y="47149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886200" y="49435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3124080" y="49435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352680" y="4343400"/>
              <a:ext cx="15264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590920" y="43434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648320" y="4114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724280" y="4353120"/>
              <a:ext cx="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486400" y="43434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4" name=""/>
          <p:cNvGrpSpPr/>
          <p:nvPr/>
        </p:nvGrpSpPr>
        <p:grpSpPr>
          <a:xfrm>
            <a:off x="1143000" y="2057400"/>
            <a:ext cx="5791320" cy="3276720"/>
            <a:chOff x="1143000" y="2057400"/>
            <a:chExt cx="5791320" cy="3276720"/>
          </a:xfrm>
        </p:grpSpPr>
        <p:sp>
          <p:nvSpPr>
            <p:cNvPr id="1755" name=""/>
            <p:cNvSpPr/>
            <p:nvPr/>
          </p:nvSpPr>
          <p:spPr>
            <a:xfrm>
              <a:off x="1143000" y="2057400"/>
              <a:ext cx="5791320" cy="327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523880" y="2276640"/>
              <a:ext cx="2362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fter deleting ‘lion’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905120" y="289584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057400" y="3048120"/>
              <a:ext cx="205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581280" y="35053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419720" y="37339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514600" y="41054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114800" y="2886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181480" y="34959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715000" y="41054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553080" y="43340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791320" y="43340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952880" y="312444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019920" y="373392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2971440" y="373392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4038480" y="3124440"/>
              <a:ext cx="1526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048120" y="47149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886200" y="49435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124080" y="49435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352680" y="4343400"/>
              <a:ext cx="15264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590920" y="43434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648320" y="4114800"/>
              <a:ext cx="914400" cy="305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724280" y="4353120"/>
              <a:ext cx="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486400" y="43434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257800" y="37339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648320" y="4876920"/>
              <a:ext cx="990360" cy="380880"/>
            </a:xfrm>
            <a:prstGeom prst="wedgeRectCallout">
              <a:avLst>
                <a:gd name="adj1" fmla="val 638"/>
                <a:gd name="adj2" fmla="val -143333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garb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1" name=""/>
          <p:cNvGrpSpPr/>
          <p:nvPr/>
        </p:nvGrpSpPr>
        <p:grpSpPr>
          <a:xfrm>
            <a:off x="1143000" y="2057400"/>
            <a:ext cx="5791320" cy="3276720"/>
            <a:chOff x="1143000" y="2057400"/>
            <a:chExt cx="5791320" cy="3276720"/>
          </a:xfrm>
        </p:grpSpPr>
        <p:sp>
          <p:nvSpPr>
            <p:cNvPr id="1782" name=""/>
            <p:cNvSpPr/>
            <p:nvPr/>
          </p:nvSpPr>
          <p:spPr>
            <a:xfrm>
              <a:off x="1143000" y="2057400"/>
              <a:ext cx="5791320" cy="327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523880" y="2276640"/>
              <a:ext cx="2362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fter deleting ‘fox’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905120" y="289584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057400" y="3048120"/>
              <a:ext cx="205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581280" y="3505320"/>
              <a:ext cx="914400" cy="305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419720" y="37339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514600" y="41054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114800" y="2886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181480" y="34959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715000" y="41054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553080" y="43340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791320" y="43340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952880" y="312444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019920" y="373392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2971440" y="373392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048120" y="47149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886200" y="49435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124080" y="49435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352680" y="4343400"/>
              <a:ext cx="15264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590920" y="43434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257800" y="37339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572000" y="4800600"/>
              <a:ext cx="990720" cy="381240"/>
            </a:xfrm>
            <a:prstGeom prst="wedgeRectCallout">
              <a:avLst>
                <a:gd name="adj1" fmla="val -91666"/>
                <a:gd name="adj2" fmla="val -276666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garb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895480" y="3124440"/>
              <a:ext cx="1295640" cy="990360"/>
            </a:xfrm>
            <a:custGeom>
              <a:avLst/>
              <a:gdLst/>
              <a:ahLst/>
              <a:rect l="l" t="t" r="r" b="b"/>
              <a:pathLst>
                <a:path w="816" h="624">
                  <a:moveTo>
                    <a:pt x="816" y="0"/>
                  </a:moveTo>
                  <a:lnTo>
                    <a:pt x="336" y="240"/>
                  </a:lnTo>
                  <a:lnTo>
                    <a:pt x="0" y="6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1143000" y="2057400"/>
            <a:ext cx="5791320" cy="3276720"/>
            <a:chOff x="1143000" y="2057400"/>
            <a:chExt cx="5791320" cy="3276720"/>
          </a:xfrm>
        </p:grpSpPr>
        <p:sp>
          <p:nvSpPr>
            <p:cNvPr id="1806" name=""/>
            <p:cNvSpPr/>
            <p:nvPr/>
          </p:nvSpPr>
          <p:spPr>
            <a:xfrm>
              <a:off x="1143000" y="2057400"/>
              <a:ext cx="5791320" cy="327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523880" y="2276640"/>
              <a:ext cx="2362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291960"/>
                  <a:tab algn="l" pos="76212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fter deleting ‘pig’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905120" y="289584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057400" y="3048120"/>
              <a:ext cx="205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514600" y="41054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114800" y="2886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181480" y="3495960"/>
              <a:ext cx="914400" cy="305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715000" y="41054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553080" y="43340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791320" y="43340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019920" y="373392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H="1">
              <a:off x="2971440" y="3124440"/>
              <a:ext cx="1219320" cy="99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048120" y="47149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886200" y="49435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124080" y="49435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352680" y="4343400"/>
              <a:ext cx="15264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2590920" y="43434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257800" y="37339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419720" y="4800600"/>
              <a:ext cx="990360" cy="381240"/>
            </a:xfrm>
            <a:prstGeom prst="wedgeRectCallout">
              <a:avLst>
                <a:gd name="adj1" fmla="val 60898"/>
                <a:gd name="adj2" fmla="val -283333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garb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952880" y="3124440"/>
              <a:ext cx="1295640" cy="990360"/>
            </a:xfrm>
            <a:custGeom>
              <a:avLst/>
              <a:gdLst/>
              <a:ahLst/>
              <a:rect l="l" t="t" r="r" b="b"/>
              <a:pathLst>
                <a:path w="816" h="624">
                  <a:moveTo>
                    <a:pt x="0" y="0"/>
                  </a:moveTo>
                  <a:lnTo>
                    <a:pt x="816" y="240"/>
                  </a:lnTo>
                  <a:lnTo>
                    <a:pt x="816" y="6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D45AD-7B75-40A5-A998-FB7D28D80917}" type="slidenum">
              <a:t>55</a:t>
            </a:fld>
          </a:p>
        </p:txBody>
      </p:sp>
    </p:spTree>
  </p:cSld>
  <p:transition>
    <p:cover dir="u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inary tree traversal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tree travers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isit all nodes (elements) of the tree in some predetermined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must visit the root node, traverse the left subtree, and traverse the right subtree. But in which or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-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versal: Traverse the left subtree, then visit the root node, then traverse the right sub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versal: Visit the root node, then traverse the left subtree, then traverse the right sub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-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versal: Traverse the left subtree, then traverse the right subtree, then visit the root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809E6-9B69-4FD8-9D6E-370DA5C4A336}" type="slidenum">
              <a:t>56</a:t>
            </a:fld>
          </a:p>
        </p:txBody>
      </p:sp>
    </p:spTree>
  </p:cSld>
  <p:transition>
    <p:cover dir="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0" name=""/>
          <p:cNvGrpSpPr/>
          <p:nvPr/>
        </p:nvGrpSpPr>
        <p:grpSpPr>
          <a:xfrm>
            <a:off x="1222200" y="2575080"/>
            <a:ext cx="4492800" cy="2225160"/>
            <a:chOff x="1222200" y="2575080"/>
            <a:chExt cx="4492800" cy="2225160"/>
          </a:xfrm>
        </p:grpSpPr>
        <p:sp>
          <p:nvSpPr>
            <p:cNvPr id="1831" name=""/>
            <p:cNvSpPr/>
            <p:nvPr/>
          </p:nvSpPr>
          <p:spPr>
            <a:xfrm>
              <a:off x="3011400" y="2575080"/>
              <a:ext cx="914400" cy="31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222200" y="3246120"/>
              <a:ext cx="2073600" cy="1554120"/>
            </a:xfrm>
            <a:custGeom>
              <a:avLst/>
              <a:gdLst/>
              <a:ahLst/>
              <a:rect l="l" t="t" r="r" b="b"/>
              <a:pathLst>
                <a:path w="1306" h="979">
                  <a:moveTo>
                    <a:pt x="273" y="0"/>
                  </a:moveTo>
                  <a:lnTo>
                    <a:pt x="1033" y="0"/>
                  </a:lnTo>
                  <a:lnTo>
                    <a:pt x="1306" y="979"/>
                  </a:lnTo>
                  <a:lnTo>
                    <a:pt x="0" y="979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641760" y="3246120"/>
              <a:ext cx="2073240" cy="1554120"/>
            </a:xfrm>
            <a:custGeom>
              <a:avLst/>
              <a:gdLst/>
              <a:ahLst/>
              <a:rect l="l" t="t" r="r" b="b"/>
              <a:pathLst>
                <a:path w="1306" h="979">
                  <a:moveTo>
                    <a:pt x="272" y="0"/>
                  </a:moveTo>
                  <a:lnTo>
                    <a:pt x="1033" y="0"/>
                  </a:lnTo>
                  <a:lnTo>
                    <a:pt x="1306" y="979"/>
                  </a:lnTo>
                  <a:lnTo>
                    <a:pt x="0" y="979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H="1">
              <a:off x="2249640" y="2813040"/>
              <a:ext cx="838080" cy="52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849840" y="2803320"/>
              <a:ext cx="83808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inary tree in-order traversal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matic for in-order travers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1460520" y="2209680"/>
            <a:ext cx="4025880" cy="2438640"/>
          </a:xfrm>
          <a:custGeom>
            <a:avLst/>
            <a:gdLst/>
            <a:ahLst/>
            <a:rect l="l" t="t" r="r" b="b"/>
            <a:pathLst>
              <a:path w="2536" h="1536">
                <a:moveTo>
                  <a:pt x="904" y="0"/>
                </a:moveTo>
                <a:cubicBezTo>
                  <a:pt x="640" y="296"/>
                  <a:pt x="376" y="592"/>
                  <a:pt x="232" y="816"/>
                </a:cubicBezTo>
                <a:cubicBezTo>
                  <a:pt x="88" y="1040"/>
                  <a:pt x="0" y="1224"/>
                  <a:pt x="40" y="1344"/>
                </a:cubicBezTo>
                <a:cubicBezTo>
                  <a:pt x="80" y="1464"/>
                  <a:pt x="328" y="1536"/>
                  <a:pt x="472" y="1536"/>
                </a:cubicBezTo>
                <a:cubicBezTo>
                  <a:pt x="616" y="1536"/>
                  <a:pt x="864" y="1464"/>
                  <a:pt x="904" y="1344"/>
                </a:cubicBezTo>
                <a:cubicBezTo>
                  <a:pt x="944" y="1224"/>
                  <a:pt x="656" y="976"/>
                  <a:pt x="712" y="816"/>
                </a:cubicBezTo>
                <a:cubicBezTo>
                  <a:pt x="768" y="656"/>
                  <a:pt x="1064" y="384"/>
                  <a:pt x="1240" y="384"/>
                </a:cubicBezTo>
                <a:cubicBezTo>
                  <a:pt x="1416" y="384"/>
                  <a:pt x="1704" y="656"/>
                  <a:pt x="1768" y="816"/>
                </a:cubicBezTo>
                <a:cubicBezTo>
                  <a:pt x="1832" y="976"/>
                  <a:pt x="1584" y="1224"/>
                  <a:pt x="1624" y="1344"/>
                </a:cubicBezTo>
                <a:cubicBezTo>
                  <a:pt x="1664" y="1464"/>
                  <a:pt x="1864" y="1536"/>
                  <a:pt x="2008" y="1536"/>
                </a:cubicBezTo>
                <a:cubicBezTo>
                  <a:pt x="2152" y="1536"/>
                  <a:pt x="2440" y="1464"/>
                  <a:pt x="2488" y="1344"/>
                </a:cubicBezTo>
                <a:cubicBezTo>
                  <a:pt x="2536" y="1224"/>
                  <a:pt x="2440" y="1040"/>
                  <a:pt x="2296" y="816"/>
                </a:cubicBezTo>
                <a:cubicBezTo>
                  <a:pt x="2152" y="592"/>
                  <a:pt x="1888" y="296"/>
                  <a:pt x="1624" y="0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17F36-C2DE-4E76-95B1-3497B4756531}" type="slidenum">
              <a:t>57</a:t>
            </a:fld>
          </a:p>
        </p:txBody>
      </p:sp>
    </p:spTree>
  </p:cSld>
  <p:transition>
    <p:cover dir="u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inary tree in-order traversal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ust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2" name=""/>
          <p:cNvGrpSpPr/>
          <p:nvPr/>
        </p:nvGrpSpPr>
        <p:grpSpPr>
          <a:xfrm>
            <a:off x="1219320" y="2352600"/>
            <a:ext cx="4952880" cy="2134080"/>
            <a:chOff x="1219320" y="2352600"/>
            <a:chExt cx="4952880" cy="2134080"/>
          </a:xfrm>
        </p:grpSpPr>
        <p:sp>
          <p:nvSpPr>
            <p:cNvPr id="1843" name=""/>
            <p:cNvSpPr/>
            <p:nvPr/>
          </p:nvSpPr>
          <p:spPr>
            <a:xfrm>
              <a:off x="1219320" y="236232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371600" y="2514600"/>
              <a:ext cx="205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819520" y="2971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657600" y="32004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600200" y="35719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429000" y="23526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648320" y="29624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257800" y="35719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095880" y="38005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334120" y="38005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267080" y="259092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486400" y="320040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4571640" y="320040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>
              <a:off x="2209320" y="320040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>
              <a:off x="3352680" y="2590920"/>
              <a:ext cx="1526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209680" y="41814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048120" y="44100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286000" y="44100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438280" y="3809880"/>
              <a:ext cx="15264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676520" y="38098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038480" y="35812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114800" y="3819600"/>
              <a:ext cx="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876920" y="38098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6" name=""/>
          <p:cNvSpPr/>
          <p:nvPr/>
        </p:nvSpPr>
        <p:spPr>
          <a:xfrm>
            <a:off x="1930320" y="2200320"/>
            <a:ext cx="4076640" cy="2235240"/>
          </a:xfrm>
          <a:custGeom>
            <a:avLst/>
            <a:gdLst/>
            <a:ahLst/>
            <a:rect l="l" t="t" r="r" b="b"/>
            <a:pathLst>
              <a:path w="2568" h="1408">
                <a:moveTo>
                  <a:pt x="944" y="0"/>
                </a:moveTo>
                <a:cubicBezTo>
                  <a:pt x="552" y="368"/>
                  <a:pt x="160" y="736"/>
                  <a:pt x="80" y="960"/>
                </a:cubicBezTo>
                <a:cubicBezTo>
                  <a:pt x="0" y="1184"/>
                  <a:pt x="336" y="1408"/>
                  <a:pt x="464" y="1344"/>
                </a:cubicBezTo>
                <a:cubicBezTo>
                  <a:pt x="592" y="1280"/>
                  <a:pt x="720" y="768"/>
                  <a:pt x="848" y="576"/>
                </a:cubicBezTo>
                <a:cubicBezTo>
                  <a:pt x="976" y="384"/>
                  <a:pt x="1104" y="120"/>
                  <a:pt x="1232" y="192"/>
                </a:cubicBezTo>
                <a:cubicBezTo>
                  <a:pt x="1360" y="264"/>
                  <a:pt x="1488" y="944"/>
                  <a:pt x="1616" y="1008"/>
                </a:cubicBezTo>
                <a:cubicBezTo>
                  <a:pt x="1744" y="1072"/>
                  <a:pt x="1880" y="584"/>
                  <a:pt x="2000" y="576"/>
                </a:cubicBezTo>
                <a:cubicBezTo>
                  <a:pt x="2120" y="568"/>
                  <a:pt x="2264" y="976"/>
                  <a:pt x="2336" y="960"/>
                </a:cubicBezTo>
                <a:cubicBezTo>
                  <a:pt x="2408" y="944"/>
                  <a:pt x="2568" y="640"/>
                  <a:pt x="2432" y="480"/>
                </a:cubicBezTo>
                <a:cubicBezTo>
                  <a:pt x="2296" y="320"/>
                  <a:pt x="1908" y="160"/>
                  <a:pt x="1520" y="0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685800" y="480060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-order traversal of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sits the elements in ascending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30857-87DF-452B-B6FF-C1B599BC45D2}" type="slidenum">
              <a:t>58</a:t>
            </a:fld>
          </a:p>
        </p:txBody>
      </p:sp>
    </p:spTree>
  </p:cSld>
  <p:transition>
    <p:cover dir="u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inary tree in-order traversal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tree in-order traversal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generic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raverse, in in-order, the subtree whose topmost node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not null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erse, in in-orde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left subtre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erse, in in-orde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right subtre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algorith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meaning of “Visit …” is left o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B25FA-356D-45C1-8982-038D1D86D004}" type="slidenum">
              <a:t>59</a:t>
            </a:fld>
          </a:p>
        </p:txBody>
      </p:sp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Node and tree depth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ation: For an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 tree, there is exactly one sequence of links between the root nod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number of links between the root nod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tree is the depth of the deepest node in the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ree consisting of a single node has depth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convention, an empty tree has depth –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0DE49-5471-41E2-8B27-190D735441E6}" type="slidenum">
              <a:t>6</a:t>
            </a:fld>
          </a:p>
        </p:txBody>
      </p:sp>
    </p:spTree>
  </p:cSld>
  <p:transition>
    <p:cover dir="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printing elements in order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intInOrder (BSTNode top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, in ascending order, all the elements in the BST subtre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se topmost node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top !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InOrder(top.left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top.element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InOrder(top.right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7238880" y="3429000"/>
            <a:ext cx="1295640" cy="914400"/>
          </a:xfrm>
          <a:prstGeom prst="wedgeRectCallout">
            <a:avLst>
              <a:gd name="adj1" fmla="val -80884"/>
              <a:gd name="adj2" fmla="val -5555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Visit </a:t>
            </a:r>
            <a:r>
              <a:rPr b="0" lang="en-GB" sz="2000" spc="-1" strike="noStrike">
                <a:solidFill>
                  <a:srgbClr val="008000"/>
                </a:solidFill>
                <a:latin typeface="Courier New"/>
              </a:rPr>
              <a:t>top</a:t>
            </a: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 (printing its elemen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0DFDF-39B6-4E91-9543-57F153EEB86D}" type="slidenum">
              <a:t>60</a:t>
            </a:fld>
          </a:p>
        </p:txBody>
      </p:sp>
    </p:spTree>
  </p:cSld>
  <p:transition>
    <p:cover dir="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inary tree pre-order traversal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matic for pre-order travers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8" name=""/>
          <p:cNvGrpSpPr/>
          <p:nvPr/>
        </p:nvGrpSpPr>
        <p:grpSpPr>
          <a:xfrm>
            <a:off x="1222200" y="2422440"/>
            <a:ext cx="4492800" cy="2225520"/>
            <a:chOff x="1222200" y="2422440"/>
            <a:chExt cx="4492800" cy="2225520"/>
          </a:xfrm>
        </p:grpSpPr>
        <p:sp>
          <p:nvSpPr>
            <p:cNvPr id="1879" name=""/>
            <p:cNvSpPr/>
            <p:nvPr/>
          </p:nvSpPr>
          <p:spPr>
            <a:xfrm>
              <a:off x="3011400" y="2422440"/>
              <a:ext cx="91440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222200" y="3093840"/>
              <a:ext cx="2073600" cy="1554120"/>
            </a:xfrm>
            <a:custGeom>
              <a:avLst/>
              <a:gdLst/>
              <a:ahLst/>
              <a:rect l="l" t="t" r="r" b="b"/>
              <a:pathLst>
                <a:path w="1306" h="979">
                  <a:moveTo>
                    <a:pt x="273" y="0"/>
                  </a:moveTo>
                  <a:lnTo>
                    <a:pt x="1033" y="0"/>
                  </a:lnTo>
                  <a:lnTo>
                    <a:pt x="1306" y="979"/>
                  </a:lnTo>
                  <a:lnTo>
                    <a:pt x="0" y="979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641760" y="3093840"/>
              <a:ext cx="2073240" cy="1554120"/>
            </a:xfrm>
            <a:custGeom>
              <a:avLst/>
              <a:gdLst/>
              <a:ahLst/>
              <a:rect l="l" t="t" r="r" b="b"/>
              <a:pathLst>
                <a:path w="1306" h="979">
                  <a:moveTo>
                    <a:pt x="272" y="0"/>
                  </a:moveTo>
                  <a:lnTo>
                    <a:pt x="1033" y="0"/>
                  </a:lnTo>
                  <a:lnTo>
                    <a:pt x="1306" y="979"/>
                  </a:lnTo>
                  <a:lnTo>
                    <a:pt x="0" y="979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2249640" y="2660400"/>
              <a:ext cx="838080" cy="52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849840" y="2651040"/>
              <a:ext cx="83808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4" name=""/>
          <p:cNvSpPr/>
          <p:nvPr/>
        </p:nvSpPr>
        <p:spPr>
          <a:xfrm>
            <a:off x="1374840" y="2235240"/>
            <a:ext cx="4114800" cy="2400120"/>
          </a:xfrm>
          <a:custGeom>
            <a:avLst/>
            <a:gdLst/>
            <a:ahLst/>
            <a:rect l="l" t="t" r="r" b="b"/>
            <a:pathLst>
              <a:path w="2592" h="1512">
                <a:moveTo>
                  <a:pt x="1008" y="0"/>
                </a:moveTo>
                <a:cubicBezTo>
                  <a:pt x="1244" y="64"/>
                  <a:pt x="1480" y="128"/>
                  <a:pt x="1344" y="240"/>
                </a:cubicBezTo>
                <a:cubicBezTo>
                  <a:pt x="1208" y="352"/>
                  <a:pt x="384" y="488"/>
                  <a:pt x="192" y="672"/>
                </a:cubicBezTo>
                <a:cubicBezTo>
                  <a:pt x="0" y="856"/>
                  <a:pt x="72" y="1224"/>
                  <a:pt x="192" y="1344"/>
                </a:cubicBezTo>
                <a:cubicBezTo>
                  <a:pt x="312" y="1464"/>
                  <a:pt x="792" y="1496"/>
                  <a:pt x="912" y="1392"/>
                </a:cubicBezTo>
                <a:cubicBezTo>
                  <a:pt x="1032" y="1288"/>
                  <a:pt x="776" y="840"/>
                  <a:pt x="912" y="720"/>
                </a:cubicBezTo>
                <a:cubicBezTo>
                  <a:pt x="1048" y="600"/>
                  <a:pt x="1592" y="560"/>
                  <a:pt x="1728" y="672"/>
                </a:cubicBezTo>
                <a:cubicBezTo>
                  <a:pt x="1864" y="784"/>
                  <a:pt x="1608" y="1272"/>
                  <a:pt x="1728" y="1392"/>
                </a:cubicBezTo>
                <a:cubicBezTo>
                  <a:pt x="1848" y="1512"/>
                  <a:pt x="2328" y="1512"/>
                  <a:pt x="2448" y="1392"/>
                </a:cubicBezTo>
                <a:cubicBezTo>
                  <a:pt x="2568" y="1272"/>
                  <a:pt x="2592" y="904"/>
                  <a:pt x="2448" y="672"/>
                </a:cubicBezTo>
                <a:cubicBezTo>
                  <a:pt x="2304" y="440"/>
                  <a:pt x="1944" y="220"/>
                  <a:pt x="1584" y="0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E628A-FC34-42B3-A764-7D98337457ED}" type="slidenum">
              <a:t>61</a:t>
            </a:fld>
          </a:p>
        </p:txBody>
      </p:sp>
    </p:spTree>
  </p:cSld>
  <p:transition>
    <p:cover dir="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inary tree pre-order traversal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ust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8" name=""/>
          <p:cNvGrpSpPr/>
          <p:nvPr/>
        </p:nvGrpSpPr>
        <p:grpSpPr>
          <a:xfrm>
            <a:off x="1219320" y="2352600"/>
            <a:ext cx="4952880" cy="2134080"/>
            <a:chOff x="1219320" y="2352600"/>
            <a:chExt cx="4952880" cy="2134080"/>
          </a:xfrm>
        </p:grpSpPr>
        <p:sp>
          <p:nvSpPr>
            <p:cNvPr id="1889" name=""/>
            <p:cNvSpPr/>
            <p:nvPr/>
          </p:nvSpPr>
          <p:spPr>
            <a:xfrm>
              <a:off x="1219320" y="236232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371600" y="2514600"/>
              <a:ext cx="205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819520" y="2971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657600" y="32004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600200" y="35719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429000" y="23526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648320" y="29624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257800" y="35719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095880" y="38005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334120" y="38005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267080" y="259092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486400" y="320040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4571640" y="320040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H="1">
              <a:off x="2209320" y="320040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H="1">
              <a:off x="3352680" y="2590920"/>
              <a:ext cx="1526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209680" y="41814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048120" y="44100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286000" y="44100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438280" y="3809880"/>
              <a:ext cx="15264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676520" y="38098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4038480" y="35812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114800" y="3819600"/>
              <a:ext cx="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876920" y="38098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2" name=""/>
          <p:cNvSpPr/>
          <p:nvPr/>
        </p:nvSpPr>
        <p:spPr>
          <a:xfrm>
            <a:off x="1955880" y="2200320"/>
            <a:ext cx="4216320" cy="2158920"/>
          </a:xfrm>
          <a:custGeom>
            <a:avLst/>
            <a:gdLst/>
            <a:ahLst/>
            <a:rect l="l" t="t" r="r" b="b"/>
            <a:pathLst>
              <a:path w="2656" h="1360">
                <a:moveTo>
                  <a:pt x="928" y="0"/>
                </a:moveTo>
                <a:cubicBezTo>
                  <a:pt x="1080" y="48"/>
                  <a:pt x="1232" y="96"/>
                  <a:pt x="1216" y="192"/>
                </a:cubicBezTo>
                <a:cubicBezTo>
                  <a:pt x="1200" y="288"/>
                  <a:pt x="1024" y="448"/>
                  <a:pt x="832" y="576"/>
                </a:cubicBezTo>
                <a:cubicBezTo>
                  <a:pt x="640" y="704"/>
                  <a:pt x="128" y="832"/>
                  <a:pt x="64" y="960"/>
                </a:cubicBezTo>
                <a:cubicBezTo>
                  <a:pt x="0" y="1088"/>
                  <a:pt x="256" y="1360"/>
                  <a:pt x="448" y="1344"/>
                </a:cubicBezTo>
                <a:cubicBezTo>
                  <a:pt x="640" y="1328"/>
                  <a:pt x="960" y="992"/>
                  <a:pt x="1216" y="864"/>
                </a:cubicBezTo>
                <a:cubicBezTo>
                  <a:pt x="1472" y="736"/>
                  <a:pt x="1920" y="560"/>
                  <a:pt x="1984" y="576"/>
                </a:cubicBezTo>
                <a:cubicBezTo>
                  <a:pt x="2048" y="592"/>
                  <a:pt x="1536" y="896"/>
                  <a:pt x="1600" y="960"/>
                </a:cubicBezTo>
                <a:cubicBezTo>
                  <a:pt x="1664" y="1024"/>
                  <a:pt x="2216" y="1040"/>
                  <a:pt x="2368" y="960"/>
                </a:cubicBezTo>
                <a:cubicBezTo>
                  <a:pt x="2520" y="880"/>
                  <a:pt x="2656" y="640"/>
                  <a:pt x="2512" y="480"/>
                </a:cubicBezTo>
                <a:cubicBezTo>
                  <a:pt x="2368" y="320"/>
                  <a:pt x="1936" y="160"/>
                  <a:pt x="1504" y="0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240EA-2554-4F5F-B325-61C89A31FE48}" type="slidenum">
              <a:t>62</a:t>
            </a:fld>
          </a:p>
        </p:txBody>
      </p:sp>
    </p:spTree>
  </p:cSld>
  <p:transition>
    <p:cover dir="u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inary tree pre-order traversal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tree pre-order traversal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generic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raverse, in pre-order, the subtree whose topmost node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not null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erse, in pre-orde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left subtre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erse, in pre-orde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right subtre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89D33-67DC-4EA5-BD67-42FBD6D32FE9}" type="slidenum">
              <a:t>63</a:t>
            </a:fld>
          </a:p>
        </p:txBody>
      </p:sp>
    </p:spTree>
  </p:cSld>
  <p:transition>
    <p:cover dir="u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inary tree post-order traversal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matic for post-order travers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9" name=""/>
          <p:cNvGrpSpPr/>
          <p:nvPr/>
        </p:nvGrpSpPr>
        <p:grpSpPr>
          <a:xfrm>
            <a:off x="1219320" y="2498760"/>
            <a:ext cx="4492440" cy="2225520"/>
            <a:chOff x="1219320" y="2498760"/>
            <a:chExt cx="4492440" cy="2225520"/>
          </a:xfrm>
        </p:grpSpPr>
        <p:sp>
          <p:nvSpPr>
            <p:cNvPr id="1920" name=""/>
            <p:cNvSpPr/>
            <p:nvPr/>
          </p:nvSpPr>
          <p:spPr>
            <a:xfrm>
              <a:off x="3008160" y="2498760"/>
              <a:ext cx="91440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219320" y="3170160"/>
              <a:ext cx="2073240" cy="1554120"/>
            </a:xfrm>
            <a:custGeom>
              <a:avLst/>
              <a:gdLst/>
              <a:ahLst/>
              <a:rect l="l" t="t" r="r" b="b"/>
              <a:pathLst>
                <a:path w="1306" h="979">
                  <a:moveTo>
                    <a:pt x="273" y="0"/>
                  </a:moveTo>
                  <a:lnTo>
                    <a:pt x="1033" y="0"/>
                  </a:lnTo>
                  <a:lnTo>
                    <a:pt x="1306" y="979"/>
                  </a:lnTo>
                  <a:lnTo>
                    <a:pt x="0" y="979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638520" y="3170160"/>
              <a:ext cx="2073240" cy="1554120"/>
            </a:xfrm>
            <a:custGeom>
              <a:avLst/>
              <a:gdLst/>
              <a:ahLst/>
              <a:rect l="l" t="t" r="r" b="b"/>
              <a:pathLst>
                <a:path w="1306" h="979">
                  <a:moveTo>
                    <a:pt x="272" y="0"/>
                  </a:moveTo>
                  <a:lnTo>
                    <a:pt x="1033" y="0"/>
                  </a:lnTo>
                  <a:lnTo>
                    <a:pt x="1306" y="979"/>
                  </a:lnTo>
                  <a:lnTo>
                    <a:pt x="0" y="979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H="1">
              <a:off x="2246400" y="2736720"/>
              <a:ext cx="838080" cy="52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846600" y="2727360"/>
              <a:ext cx="83808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5" name=""/>
          <p:cNvSpPr/>
          <p:nvPr/>
        </p:nvSpPr>
        <p:spPr>
          <a:xfrm>
            <a:off x="1460520" y="2286000"/>
            <a:ext cx="4089240" cy="2387520"/>
          </a:xfrm>
          <a:custGeom>
            <a:avLst/>
            <a:gdLst/>
            <a:ahLst/>
            <a:rect l="l" t="t" r="r" b="b"/>
            <a:pathLst>
              <a:path w="2576" h="1504">
                <a:moveTo>
                  <a:pt x="952" y="0"/>
                </a:moveTo>
                <a:cubicBezTo>
                  <a:pt x="612" y="244"/>
                  <a:pt x="272" y="488"/>
                  <a:pt x="136" y="720"/>
                </a:cubicBezTo>
                <a:cubicBezTo>
                  <a:pt x="0" y="952"/>
                  <a:pt x="16" y="1280"/>
                  <a:pt x="136" y="1392"/>
                </a:cubicBezTo>
                <a:cubicBezTo>
                  <a:pt x="256" y="1504"/>
                  <a:pt x="736" y="1504"/>
                  <a:pt x="856" y="1392"/>
                </a:cubicBezTo>
                <a:cubicBezTo>
                  <a:pt x="976" y="1280"/>
                  <a:pt x="720" y="832"/>
                  <a:pt x="856" y="720"/>
                </a:cubicBezTo>
                <a:cubicBezTo>
                  <a:pt x="992" y="608"/>
                  <a:pt x="1536" y="608"/>
                  <a:pt x="1672" y="720"/>
                </a:cubicBezTo>
                <a:cubicBezTo>
                  <a:pt x="1808" y="832"/>
                  <a:pt x="1552" y="1280"/>
                  <a:pt x="1672" y="1392"/>
                </a:cubicBezTo>
                <a:cubicBezTo>
                  <a:pt x="1792" y="1504"/>
                  <a:pt x="2272" y="1504"/>
                  <a:pt x="2392" y="1392"/>
                </a:cubicBezTo>
                <a:cubicBezTo>
                  <a:pt x="2512" y="1280"/>
                  <a:pt x="2576" y="904"/>
                  <a:pt x="2392" y="720"/>
                </a:cubicBezTo>
                <a:cubicBezTo>
                  <a:pt x="2208" y="536"/>
                  <a:pt x="1432" y="408"/>
                  <a:pt x="1288" y="288"/>
                </a:cubicBezTo>
                <a:cubicBezTo>
                  <a:pt x="1144" y="168"/>
                  <a:pt x="1336" y="84"/>
                  <a:pt x="1528" y="0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DDE37-EA26-4473-870E-36062983FD32}" type="slidenum">
              <a:t>64</a:t>
            </a:fld>
          </a:p>
        </p:txBody>
      </p:sp>
    </p:spTree>
  </p:cSld>
  <p:transition>
    <p:cover dir="u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inary tree post-order traversal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ust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1295280" y="2352600"/>
            <a:ext cx="4952880" cy="2134080"/>
            <a:chOff x="1295280" y="2352600"/>
            <a:chExt cx="4952880" cy="2134080"/>
          </a:xfrm>
        </p:grpSpPr>
        <p:sp>
          <p:nvSpPr>
            <p:cNvPr id="1930" name=""/>
            <p:cNvSpPr/>
            <p:nvPr/>
          </p:nvSpPr>
          <p:spPr>
            <a:xfrm>
              <a:off x="1295280" y="236232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447560" y="2514600"/>
              <a:ext cx="205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2895480" y="2971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733560" y="32004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676160" y="35719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504960" y="23526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724280" y="29624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333760" y="35719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171840" y="38005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410080" y="38005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4343040" y="259092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562360" y="320040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H="1">
              <a:off x="4647600" y="320040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H="1">
              <a:off x="2285280" y="320040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H="1">
              <a:off x="3428640" y="2590920"/>
              <a:ext cx="1526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285640" y="41814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124080" y="44100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361960" y="44100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514240" y="3809880"/>
              <a:ext cx="15264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752480" y="38098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114440" y="35812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4190760" y="3819600"/>
              <a:ext cx="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952880" y="38098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3" name=""/>
          <p:cNvSpPr/>
          <p:nvPr/>
        </p:nvSpPr>
        <p:spPr>
          <a:xfrm>
            <a:off x="1244520" y="2209680"/>
            <a:ext cx="4648320" cy="2133720"/>
          </a:xfrm>
          <a:custGeom>
            <a:avLst/>
            <a:gdLst/>
            <a:ahLst/>
            <a:rect l="l" t="t" r="r" b="b"/>
            <a:pathLst>
              <a:path w="2928" h="1344">
                <a:moveTo>
                  <a:pt x="1424" y="0"/>
                </a:moveTo>
                <a:cubicBezTo>
                  <a:pt x="792" y="368"/>
                  <a:pt x="160" y="736"/>
                  <a:pt x="80" y="960"/>
                </a:cubicBezTo>
                <a:cubicBezTo>
                  <a:pt x="0" y="1184"/>
                  <a:pt x="864" y="1344"/>
                  <a:pt x="944" y="1344"/>
                </a:cubicBezTo>
                <a:cubicBezTo>
                  <a:pt x="1024" y="1344"/>
                  <a:pt x="496" y="1088"/>
                  <a:pt x="560" y="960"/>
                </a:cubicBezTo>
                <a:cubicBezTo>
                  <a:pt x="624" y="832"/>
                  <a:pt x="1072" y="568"/>
                  <a:pt x="1328" y="576"/>
                </a:cubicBezTo>
                <a:cubicBezTo>
                  <a:pt x="1584" y="584"/>
                  <a:pt x="1840" y="944"/>
                  <a:pt x="2096" y="1008"/>
                </a:cubicBezTo>
                <a:cubicBezTo>
                  <a:pt x="2352" y="1072"/>
                  <a:pt x="2800" y="1032"/>
                  <a:pt x="2864" y="960"/>
                </a:cubicBezTo>
                <a:cubicBezTo>
                  <a:pt x="2928" y="888"/>
                  <a:pt x="2672" y="704"/>
                  <a:pt x="2480" y="576"/>
                </a:cubicBezTo>
                <a:cubicBezTo>
                  <a:pt x="2288" y="448"/>
                  <a:pt x="1792" y="288"/>
                  <a:pt x="1712" y="192"/>
                </a:cubicBezTo>
                <a:cubicBezTo>
                  <a:pt x="1632" y="96"/>
                  <a:pt x="1816" y="48"/>
                  <a:pt x="2000" y="0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C3454-A01D-4B07-AD53-77D175DD39CD}" type="slidenum">
              <a:t>65</a:t>
            </a:fld>
          </a:p>
        </p:txBody>
      </p:sp>
    </p:spTree>
  </p:cSld>
  <p:transition>
    <p:cover dir="u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inary tree post-order traversal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tree post-order traversal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generic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raverse, in post-order, the subtree whose topmost node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not null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erse, in post-orde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left subtre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erse, in post-orde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right subtre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7E991-6A05-4B28-87C0-464A2F085553}" type="slidenum">
              <a:t>66</a:t>
            </a:fld>
          </a:p>
        </p:txBody>
      </p:sp>
    </p:spTree>
  </p:cSld>
  <p:transition>
    <p:cover dir="u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of sets using BS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an (unbounded) set by a BST whose elements are the set me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1066680" y="4419720"/>
            <a:ext cx="1752840" cy="305280"/>
            <a:chOff x="1066680" y="4419720"/>
            <a:chExt cx="1752840" cy="305280"/>
          </a:xfrm>
        </p:grpSpPr>
        <p:sp>
          <p:nvSpPr>
            <p:cNvPr id="1961" name=""/>
            <p:cNvSpPr/>
            <p:nvPr/>
          </p:nvSpPr>
          <p:spPr>
            <a:xfrm>
              <a:off x="1066680" y="4419720"/>
              <a:ext cx="133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mpty se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514600" y="441972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666880" y="45720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4" name=""/>
          <p:cNvGrpSpPr/>
          <p:nvPr/>
        </p:nvGrpSpPr>
        <p:grpSpPr>
          <a:xfrm>
            <a:off x="1066680" y="2484360"/>
            <a:ext cx="4191120" cy="1630440"/>
            <a:chOff x="1066680" y="2484360"/>
            <a:chExt cx="4191120" cy="1630440"/>
          </a:xfrm>
        </p:grpSpPr>
        <p:sp>
          <p:nvSpPr>
            <p:cNvPr id="1965" name=""/>
            <p:cNvSpPr/>
            <p:nvPr/>
          </p:nvSpPr>
          <p:spPr>
            <a:xfrm>
              <a:off x="1066680" y="2494080"/>
              <a:ext cx="133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varian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514600" y="248436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184560" y="2560680"/>
              <a:ext cx="2073240" cy="1554120"/>
            </a:xfrm>
            <a:custGeom>
              <a:avLst/>
              <a:gdLst/>
              <a:ahLst/>
              <a:rect l="l" t="t" r="r" b="b"/>
              <a:pathLst>
                <a:path w="1306" h="979">
                  <a:moveTo>
                    <a:pt x="273" y="0"/>
                  </a:moveTo>
                  <a:lnTo>
                    <a:pt x="1033" y="0"/>
                  </a:lnTo>
                  <a:lnTo>
                    <a:pt x="1306" y="979"/>
                  </a:lnTo>
                  <a:lnTo>
                    <a:pt x="0" y="979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2666880" y="2637000"/>
              <a:ext cx="15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9" name=""/>
          <p:cNvGrpSpPr/>
          <p:nvPr/>
        </p:nvGrpSpPr>
        <p:grpSpPr>
          <a:xfrm>
            <a:off x="1066680" y="5029200"/>
            <a:ext cx="7010640" cy="914760"/>
            <a:chOff x="1066680" y="5029200"/>
            <a:chExt cx="7010640" cy="914760"/>
          </a:xfrm>
        </p:grpSpPr>
        <p:sp>
          <p:nvSpPr>
            <p:cNvPr id="1970" name=""/>
            <p:cNvSpPr/>
            <p:nvPr/>
          </p:nvSpPr>
          <p:spPr>
            <a:xfrm>
              <a:off x="1066680" y="5029200"/>
              <a:ext cx="1371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2514600" y="502920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666880" y="5181480"/>
              <a:ext cx="1067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200400" y="56386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038480" y="58672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276720" y="58672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733920" y="50292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M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4267080" y="56386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105520" y="58672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4343400" y="58672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572000" y="526716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H="1">
              <a:off x="3657240" y="526716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248520" y="5181480"/>
              <a:ext cx="1828800" cy="609840"/>
            </a:xfrm>
            <a:prstGeom prst="wedgeRectCallout">
              <a:avLst>
                <a:gd name="adj1" fmla="val -98263"/>
                <a:gd name="adj2" fmla="val -6250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represents the set {CA, MX, US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2AAB3-017F-41C1-BB89-87A8B3257D17}" type="slidenum">
              <a:t>67</a:t>
            </a:fld>
          </a:p>
        </p:txBody>
      </p:sp>
    </p:spTree>
  </p:cSld>
  <p:transition>
    <p:cover dir="u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of sets using BS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ST representation of a set is not un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6" name=""/>
          <p:cNvGrpSpPr/>
          <p:nvPr/>
        </p:nvGrpSpPr>
        <p:grpSpPr>
          <a:xfrm>
            <a:off x="1143000" y="2209680"/>
            <a:ext cx="7391520" cy="1524600"/>
            <a:chOff x="1143000" y="2209680"/>
            <a:chExt cx="7391520" cy="1524600"/>
          </a:xfrm>
        </p:grpSpPr>
        <p:sp>
          <p:nvSpPr>
            <p:cNvPr id="1987" name=""/>
            <p:cNvSpPr/>
            <p:nvPr/>
          </p:nvSpPr>
          <p:spPr>
            <a:xfrm>
              <a:off x="1143000" y="221940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295280" y="2371680"/>
              <a:ext cx="1600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828800" y="34290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666880" y="36576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905120" y="36576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2362320" y="28195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2285640" y="305748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6095880" y="2448000"/>
              <a:ext cx="2438640" cy="685800"/>
            </a:xfrm>
            <a:prstGeom prst="wedgeRectCallout">
              <a:avLst>
                <a:gd name="adj1" fmla="val -82032"/>
                <a:gd name="adj2" fmla="val -7407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represents the set {BE, DE, FR, IT, LU, NL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429000" y="34290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267080" y="36576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505320" y="36576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962520" y="28195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495680" y="34290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N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334120" y="36576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572000" y="36576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4800600" y="305748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H="1">
              <a:off x="3885840" y="305748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895480" y="22096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733920" y="2448000"/>
              <a:ext cx="6858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H="1">
              <a:off x="2819160" y="244800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200400" y="30574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8" name=""/>
          <p:cNvGrpSpPr/>
          <p:nvPr/>
        </p:nvGrpSpPr>
        <p:grpSpPr>
          <a:xfrm>
            <a:off x="1143000" y="4114800"/>
            <a:ext cx="7391520" cy="2134080"/>
            <a:chOff x="1143000" y="4114800"/>
            <a:chExt cx="7391520" cy="2134080"/>
          </a:xfrm>
        </p:grpSpPr>
        <p:sp>
          <p:nvSpPr>
            <p:cNvPr id="2009" name=""/>
            <p:cNvSpPr/>
            <p:nvPr/>
          </p:nvSpPr>
          <p:spPr>
            <a:xfrm>
              <a:off x="1143000" y="412416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295280" y="4276800"/>
              <a:ext cx="2133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828800" y="47242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905120" y="49528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2362320" y="5334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666880" y="4962600"/>
              <a:ext cx="1526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095880" y="4352760"/>
              <a:ext cx="2438640" cy="685800"/>
            </a:xfrm>
            <a:prstGeom prst="wedgeRectCallout">
              <a:avLst>
                <a:gd name="adj1" fmla="val -82032"/>
                <a:gd name="adj2" fmla="val -7407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represents the set {BE, DE, FR, IT, LU, NL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962520" y="47242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495680" y="5334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N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334120" y="55627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572000" y="55627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800600" y="496260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429000" y="4114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267080" y="4352760"/>
              <a:ext cx="1526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H="1">
              <a:off x="2285640" y="4352760"/>
              <a:ext cx="121932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438280" y="55720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895480" y="59436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200400" y="557208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733920" y="61815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2971800" y="61815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4038480" y="49528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7FDD7-B239-41F4-A764-EF863FA0DA44}" type="slidenum">
              <a:t>68</a:t>
            </a:fld>
          </a:p>
        </p:txBody>
      </p:sp>
    </p:spTree>
  </p:cSld>
  <p:transition>
    <p:cover dir="u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of sets using BS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algorithms and time complex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3" name=""/>
          <p:cNvGraphicFramePr/>
          <p:nvPr/>
        </p:nvGraphicFramePr>
        <p:xfrm>
          <a:off x="1143000" y="2119320"/>
          <a:ext cx="5105520" cy="255744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981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complex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ta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ST 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r" pos="19051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og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ST inser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r" pos="19051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og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ST del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r" pos="19051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og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DC129-9D45-4AEC-9F3B-D994EEEE6BCB}" type="slidenum">
              <a:t>69</a:t>
            </a:fld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2590920" y="4114800"/>
            <a:ext cx="5029200" cy="2103480"/>
            <a:chOff x="2590920" y="4114800"/>
            <a:chExt cx="5029200" cy="2103480"/>
          </a:xfrm>
        </p:grpSpPr>
        <p:sp>
          <p:nvSpPr>
            <p:cNvPr id="130" name=""/>
            <p:cNvSpPr/>
            <p:nvPr/>
          </p:nvSpPr>
          <p:spPr>
            <a:xfrm>
              <a:off x="2590920" y="4876920"/>
              <a:ext cx="4190760" cy="0"/>
            </a:xfrm>
            <a:prstGeom prst="line">
              <a:avLst/>
            </a:prstGeom>
            <a:ln w="93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90920" y="5486400"/>
              <a:ext cx="4190760" cy="0"/>
            </a:xfrm>
            <a:prstGeom prst="line">
              <a:avLst/>
            </a:prstGeom>
            <a:ln w="93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90920" y="6095880"/>
              <a:ext cx="4190760" cy="0"/>
            </a:xfrm>
            <a:prstGeom prst="line">
              <a:avLst/>
            </a:prstGeom>
            <a:ln w="93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00600" y="4267080"/>
              <a:ext cx="1981080" cy="0"/>
            </a:xfrm>
            <a:prstGeom prst="line">
              <a:avLst/>
            </a:prstGeom>
            <a:ln w="93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0" y="4114800"/>
              <a:ext cx="76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8000"/>
                  </a:solidFill>
                  <a:latin typeface="Times New Roman"/>
                </a:rPr>
                <a:t>depth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58000" y="4724280"/>
              <a:ext cx="76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8000"/>
                  </a:solidFill>
                  <a:latin typeface="Times New Roman"/>
                </a:rPr>
                <a:t>depth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58000" y="5334120"/>
              <a:ext cx="76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8000"/>
                  </a:solidFill>
                  <a:latin typeface="Times New Roman"/>
                </a:rPr>
                <a:t>depth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58000" y="5943600"/>
              <a:ext cx="76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8000"/>
                  </a:solidFill>
                  <a:latin typeface="Times New Roman"/>
                </a:rPr>
                <a:t>depth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590920" y="2057400"/>
            <a:ext cx="5029200" cy="1494000"/>
            <a:chOff x="2590920" y="2057400"/>
            <a:chExt cx="5029200" cy="1494000"/>
          </a:xfrm>
        </p:grpSpPr>
        <p:sp>
          <p:nvSpPr>
            <p:cNvPr id="139" name=""/>
            <p:cNvSpPr/>
            <p:nvPr/>
          </p:nvSpPr>
          <p:spPr>
            <a:xfrm>
              <a:off x="2590920" y="2819520"/>
              <a:ext cx="4190760" cy="0"/>
            </a:xfrm>
            <a:prstGeom prst="line">
              <a:avLst/>
            </a:prstGeom>
            <a:ln w="93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90920" y="3429000"/>
              <a:ext cx="4190760" cy="0"/>
            </a:xfrm>
            <a:prstGeom prst="line">
              <a:avLst/>
            </a:prstGeom>
            <a:ln w="93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2209680"/>
              <a:ext cx="2971800" cy="0"/>
            </a:xfrm>
            <a:prstGeom prst="line">
              <a:avLst/>
            </a:prstGeom>
            <a:ln w="93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58000" y="2057400"/>
              <a:ext cx="76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8000"/>
                  </a:solidFill>
                  <a:latin typeface="Times New Roman"/>
                </a:rPr>
                <a:t>depth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58000" y="2666880"/>
              <a:ext cx="76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8000"/>
                  </a:solidFill>
                  <a:latin typeface="Times New Roman"/>
                </a:rPr>
                <a:t>depth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58000" y="3276720"/>
              <a:ext cx="76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8000"/>
                  </a:solidFill>
                  <a:latin typeface="Times New Roman"/>
                </a:rPr>
                <a:t>depth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Node and tree depth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ust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219320" y="2057400"/>
            <a:ext cx="5105160" cy="1533960"/>
            <a:chOff x="1219320" y="2057400"/>
            <a:chExt cx="5105160" cy="1533960"/>
          </a:xfrm>
        </p:grpSpPr>
        <p:sp>
          <p:nvSpPr>
            <p:cNvPr id="148" name=""/>
            <p:cNvSpPr/>
            <p:nvPr/>
          </p:nvSpPr>
          <p:spPr>
            <a:xfrm>
              <a:off x="1676520" y="206676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28800" y="2219400"/>
              <a:ext cx="19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76720" y="32860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14800" y="35146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35146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43200" y="26766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19520" y="2905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09880" y="20574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43400" y="32767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81480" y="35053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19720" y="35053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76920" y="2666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0080" y="32767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86400" y="35053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48320" y="2295360"/>
              <a:ext cx="68580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15000" y="290520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4800240" y="290520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81280" y="2914560"/>
              <a:ext cx="1526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200040" y="2295360"/>
              <a:ext cx="68580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48520" y="35053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19320" y="208764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219320" y="4095720"/>
            <a:ext cx="5105160" cy="2143800"/>
            <a:chOff x="1219320" y="4095720"/>
            <a:chExt cx="5105160" cy="2143800"/>
          </a:xfrm>
        </p:grpSpPr>
        <p:sp>
          <p:nvSpPr>
            <p:cNvPr id="170" name=""/>
            <p:cNvSpPr/>
            <p:nvPr/>
          </p:nvSpPr>
          <p:spPr>
            <a:xfrm>
              <a:off x="2743200" y="53244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81280" y="55530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19520" y="55530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6720" y="47149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09880" y="53244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86200" y="55530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0" y="495288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200040" y="495288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43400" y="59342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19720" y="61628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8320" y="556272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81480" y="61628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47149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6400" y="49435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48520" y="49435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00600" y="40957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38680" y="4334040"/>
              <a:ext cx="2286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733560" y="4334040"/>
              <a:ext cx="11430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76520" y="410544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28800" y="4257720"/>
              <a:ext cx="29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19320" y="411480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762120" y="2971800"/>
            <a:ext cx="1298520" cy="2403360"/>
            <a:chOff x="762120" y="2971800"/>
            <a:chExt cx="1298520" cy="2403360"/>
          </a:xfrm>
        </p:grpSpPr>
        <p:sp>
          <p:nvSpPr>
            <p:cNvPr id="192" name=""/>
            <p:cNvSpPr/>
            <p:nvPr/>
          </p:nvSpPr>
          <p:spPr>
            <a:xfrm>
              <a:off x="762120" y="2971800"/>
              <a:ext cx="1298520" cy="345960"/>
            </a:xfrm>
            <a:prstGeom prst="wedgeRectCallout">
              <a:avLst>
                <a:gd name="adj1" fmla="val 83495"/>
                <a:gd name="adj2" fmla="val -13300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balanc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2120" y="5029200"/>
              <a:ext cx="1295280" cy="345960"/>
            </a:xfrm>
            <a:prstGeom prst="wedgeRectCallout">
              <a:avLst>
                <a:gd name="adj1" fmla="val 82842"/>
                <a:gd name="adj2" fmla="val -20643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ill-balanc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9EC7D-6A4C-4EFB-9DDE-BE88A94A9ECE}" type="slidenum">
              <a:t>7</a:t>
            </a:fld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2666880" y="2009880"/>
            <a:ext cx="4953240" cy="3322440"/>
            <a:chOff x="2666880" y="2009880"/>
            <a:chExt cx="4953240" cy="3322440"/>
          </a:xfrm>
        </p:grpSpPr>
        <p:sp>
          <p:nvSpPr>
            <p:cNvPr id="196" name=""/>
            <p:cNvSpPr/>
            <p:nvPr/>
          </p:nvSpPr>
          <p:spPr>
            <a:xfrm>
              <a:off x="2666880" y="4600440"/>
              <a:ext cx="4114800" cy="0"/>
            </a:xfrm>
            <a:prstGeom prst="line">
              <a:avLst/>
            </a:prstGeom>
            <a:ln w="93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5209920"/>
              <a:ext cx="4114800" cy="0"/>
            </a:xfrm>
            <a:prstGeom prst="line">
              <a:avLst/>
            </a:prstGeom>
            <a:ln w="93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66880" y="3990600"/>
              <a:ext cx="4114800" cy="0"/>
            </a:xfrm>
            <a:prstGeom prst="line">
              <a:avLst/>
            </a:prstGeom>
            <a:ln w="93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58000" y="4447800"/>
              <a:ext cx="76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8000"/>
                  </a:solidFill>
                  <a:latin typeface="Times New Roman"/>
                </a:rPr>
                <a:t>depth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58000" y="5057640"/>
              <a:ext cx="76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8000"/>
                  </a:solidFill>
                  <a:latin typeface="Times New Roman"/>
                </a:rPr>
                <a:t>depth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0" y="3838320"/>
              <a:ext cx="76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8000"/>
                  </a:solidFill>
                  <a:latin typeface="Times New Roman"/>
                </a:rPr>
                <a:t>depth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66880" y="2771640"/>
              <a:ext cx="4114800" cy="0"/>
            </a:xfrm>
            <a:prstGeom prst="line">
              <a:avLst/>
            </a:prstGeom>
            <a:ln w="93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66880" y="3381120"/>
              <a:ext cx="4114800" cy="0"/>
            </a:xfrm>
            <a:prstGeom prst="line">
              <a:avLst/>
            </a:prstGeom>
            <a:ln w="93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29000" y="2161800"/>
              <a:ext cx="3352680" cy="0"/>
            </a:xfrm>
            <a:prstGeom prst="line">
              <a:avLst/>
            </a:prstGeom>
            <a:ln w="93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58000" y="2009880"/>
              <a:ext cx="76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8000"/>
                  </a:solidFill>
                  <a:latin typeface="Times New Roman"/>
                </a:rPr>
                <a:t>depth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58000" y="2619000"/>
              <a:ext cx="76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8000"/>
                  </a:solidFill>
                  <a:latin typeface="Times New Roman"/>
                </a:rPr>
                <a:t>depth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0" y="3228840"/>
              <a:ext cx="76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8000"/>
                  </a:solidFill>
                  <a:latin typeface="Times New Roman"/>
                </a:rPr>
                <a:t>depth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Node and tree depth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ustra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3429000"/>
            <a:ext cx="1295280" cy="609480"/>
          </a:xfrm>
          <a:prstGeom prst="wedgeRectCallout">
            <a:avLst>
              <a:gd name="adj1" fmla="val 87745"/>
              <a:gd name="adj2" fmla="val -12500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very ill-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219320" y="2009880"/>
            <a:ext cx="5181480" cy="3315240"/>
            <a:chOff x="1219320" y="2009880"/>
            <a:chExt cx="5181480" cy="3315240"/>
          </a:xfrm>
        </p:grpSpPr>
        <p:sp>
          <p:nvSpPr>
            <p:cNvPr id="212" name=""/>
            <p:cNvSpPr/>
            <p:nvPr/>
          </p:nvSpPr>
          <p:spPr>
            <a:xfrm>
              <a:off x="1676520" y="201924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28800" y="217188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9520" y="2009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52680" y="26193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29000" y="28479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57600" y="224784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19320" y="203976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(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95480" y="22384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86200" y="32194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62520" y="34480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1120" y="284796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19720" y="38196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95680" y="4048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24280" y="3448080"/>
              <a:ext cx="1526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52880" y="44197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29200" y="46483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57800" y="404820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86400" y="50198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62720" y="52484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91320" y="464832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24480" y="52578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69F14-455E-4F1C-9F96-41CE5C5E2C53}" type="slidenum">
              <a:t>8</a:t>
            </a:fld>
          </a:p>
        </p:txBody>
      </p:sp>
    </p:spTree>
  </p:cSld>
  <p:transition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Balanced binary tree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50280" indent="-3502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inary tree of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all nodes at depths 0, 1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2 have two child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6440" indent="-42048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s at dep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 may have two/one/no child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6440" indent="-42048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s at dep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ve no children (by definiti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6440" indent="-42048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inary tree of depth 0 or 1 is always balanc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3502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alanced binary tree of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at least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t most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 nodes. Convers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th of balanced binary tree of s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loor(log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3502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ll-balanced binary tree of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uld have as few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 nodes. Convers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. depth of ill-balanced binary tree of s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3DBA3-8C49-470D-9B10-2680D4821183}" type="slidenum">
              <a:t>9</a:t>
            </a:fld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12:16:58Z</dcterms:created>
  <dc:creator>Watt</dc:creator>
  <dc:description/>
  <dc:language>en-US</dc:language>
  <cp:lastModifiedBy>David A Watt</cp:lastModifiedBy>
  <cp:lastPrinted>2000-10-24T16:09:57Z</cp:lastPrinted>
  <dcterms:modified xsi:type="dcterms:W3CDTF">2002-01-04T09:59:35Z</dcterms:modified>
  <cp:revision>265</cp:revision>
  <dc:subject/>
  <dc:title>Formalizing the Dynamic Semantics of Java</dc:title>
</cp:coreProperties>
</file>