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4CF8-ABE9-4B44-8750-E7F789684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2A38-9549-4EFB-B03D-2D90FD94A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55BA-D20F-4766-9547-E246EE9D1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56AA-0584-49AF-A718-8A8C952FE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0E08-54C0-4C88-AAEA-FF22DF5BE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A6C9-0E30-46D3-A1C1-CAEB353FB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071D-AD00-418B-9534-48EBC66E6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D644-AA14-47EF-BE94-76C490B53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1720"/>
            <a:ext cx="77724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608B-5864-40FC-95B2-20D8B0638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4507-B57B-4675-BCF7-BA9FC2FEB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035F-7748-479A-B924-07FEC2DD1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E97A-7549-45C5-ACF1-84BD8FD7F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2004, D.A. Watt and D.F.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5-</a:t>
            </a:r>
            <a:fld id="{AB1E76D5-838D-4C4B-B372-D2708CFEF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609480"/>
            <a:ext cx="7772400" cy="16765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br>
              <a:rPr sz="3200"/>
            </a:b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Graph AD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2590920"/>
            <a:ext cx="777240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 of 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ADT – requirements,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 of grap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-set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jacency-set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jacency-matrix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c graph algorithms: traversal and topological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7087-0173-41F7-8849-BC984BD3DFD3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requirement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rements (both undirected and directed graph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make a graph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d a new node, or to add a new edge connecting two existing nodes, to a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remove a node (together with all of its connecting edges), or to remove a given edge, from a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a graph has an edge connecting two given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ccess all nodes, or all edges of a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ccess all neighbours, or all connecting edges, of a given node in a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inspect or update the element contained in a given node, or to inspect or update the attribute (if any) contained in a given edge, of a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AA0C-7BDC-4BCC-86D0-A2B20EA87D05}" type="slidenum">
              <a:t>10</a:t>
            </a:fld>
          </a:p>
        </p:txBody>
      </p:sp>
    </p:spTree>
  </p:cSld>
  <p:transition>
    <p:cover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requirement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irected graphs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ccess all successors, or all out-edges, of a given node in a directed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19D7-A244-4508-9370-F9A7ACEBCC35}" type="slidenum">
              <a:t>11</a:t>
            </a:fld>
          </a:p>
        </p:txBody>
      </p:sp>
    </p:spTree>
  </p:cSld>
  <p:transition>
    <p:cover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contrac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ph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(directed or undirected) grap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elements and edge attributes are arbitrary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9483-4D25-4D17-815D-9EA6D5DA1E56}" type="slidenum">
              <a:t>12</a:t>
            </a:fld>
          </a:p>
        </p:txBody>
      </p:sp>
    </p:spTree>
  </p:cSld>
  <p:transition>
    <p:cover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number of nodes in this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gree (Graph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number of edges connecting node in this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ntainsEdge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.Node node0, Graph.Node node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ese is an edge connect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graph. (If the graph is directed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dge’s source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ts destination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2560-75FA-4BAD-9527-7A59AC3D5434}" type="slidenum">
              <a:t>13</a:t>
            </a:fld>
          </a:p>
        </p:txBody>
      </p:sp>
    </p:spTree>
  </p:cSld>
  <p:transition>
    <p:cover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graph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ph.Node addNode (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this graph a new node contain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ith no connecting edges, and return the new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ph.Edge addEdge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.Node node0, Graph.Node node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this graph a new edge connect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containing no attribute, and return the new edge. (If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is directed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dge’s source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destination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945E-05B1-4BB6-BFAC-994C0457F07A}" type="slidenum">
              <a:t>14</a:t>
            </a:fld>
          </a:p>
        </p:txBody>
      </p:sp>
    </p:spTree>
  </p:cSld>
  <p:transition>
    <p:cover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ph.Edge addEdge (Graph.Node node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.Node node1, Object att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this graph a new edge connect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aining attribu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return the new edge. (If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is directed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dge’s source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destination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moveNode (Graph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is graph, together with all i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ed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moveEdge (Graph.Edge edg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d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is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4C8A-B9D9-41EE-A4CD-C8DBC9C66A86}" type="slidenum">
              <a:t>15</a:t>
            </a:fld>
          </a:p>
        </p:txBody>
      </p:sp>
    </p:spTree>
  </p:cSld>
  <p:transition>
    <p:cover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nodes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the nodes of this graph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no 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edges (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the edges of this graph, 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neighbors (Graph.Node node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neighbors of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, in no 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connectingEdges (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.Node node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connecting edges of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graph, in no 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4FDF-AC77-4DDB-8645-ECDFBECB6A96}" type="slidenum">
              <a:t>16</a:t>
            </a:fld>
          </a:p>
        </p:txBody>
      </p:sp>
    </p:spTree>
  </p:cSld>
  <p:transition>
    <p:cover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interface for graph nod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.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graph node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singl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Elemen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element contained in this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Element (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element contained in this node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19A6-50F6-430F-B402-5C3A36044B65}" type="slidenum">
              <a:t>17</a:t>
            </a:fld>
          </a:p>
        </p:txBody>
      </p:sp>
    </p:spTree>
  </p:cSld>
  <p:transition>
    <p:cover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interface for graph edg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dg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.Ed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graph edge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contains a singl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ph.Node[] getNodes (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array containing the two nodes connected by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. (If the graph is directed, the array will conta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’s source and destination nodes, in that orde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Attribute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attribute contained in this edge, or null if t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Attribute (Object att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attribute contained in this edge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90A0-994C-4036-99B2-A49476D11DA8}" type="slidenum">
              <a:t>18</a:t>
            </a:fld>
          </a:p>
        </p:txBody>
      </p:sp>
    </p:spTree>
  </p:cSld>
  <p:transition>
    <p:cover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rected Graph ADT: contrac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grap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ph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directed graph whose ele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dge attributes are arbitrary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utDegree (Graph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number of out-edg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8D98-27C8-4E0D-BB9D-EE6B3E955710}" type="slidenum">
              <a:t>19</a:t>
            </a:fld>
          </a:p>
        </p:txBody>
      </p:sp>
    </p:spTree>
  </p:cSld>
  <p:transition>
    <p:cover dir="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concept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ed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(or vertex) contains an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dge (or arc) connects two nod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dge has an optional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nodes ar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neighbou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f they are connected by an 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deg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node is its number of connecting 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429A-3CC7-4F28-AE28-671D4749D214}" type="slidenum">
              <a:t>2</a:t>
            </a:fld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rected Graph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successors (Graph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successor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ed graph, in no 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outEdges (Graph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out-edg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ed graph, in no particular ord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59AB-20F3-4E8A-A08B-6054C6DC8E3B}" type="slidenum">
              <a:t>20</a:t>
            </a:fld>
          </a:p>
        </p:txBody>
      </p:sp>
    </p:spTree>
  </p:cSld>
  <p:transition>
    <p:cover dir="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dge-set representation of graph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implest way to represent a graph is to store a set of nodes and a set of 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called 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edge-set represent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 both the node set and the edge set using a D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LLs to improve the time complexity of the deletion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1A85-0FAA-4FC1-AE76-A75C01FB284B}" type="slidenum">
              <a:t>21</a:t>
            </a:fld>
          </a:p>
        </p:txBody>
      </p:sp>
    </p:spTree>
  </p:cSld>
  <p:transition>
    <p:cover dir="u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dge-set representation of graphs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05160" y="1413000"/>
            <a:ext cx="5299200" cy="4746600"/>
            <a:chOff x="3305160" y="1413000"/>
            <a:chExt cx="5299200" cy="4746600"/>
          </a:xfrm>
        </p:grpSpPr>
        <p:sp>
          <p:nvSpPr>
            <p:cNvPr id="164" name=""/>
            <p:cNvSpPr/>
            <p:nvPr/>
          </p:nvSpPr>
          <p:spPr>
            <a:xfrm>
              <a:off x="3305160" y="165744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94040" y="20970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0400" y="213660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79680" y="1776240"/>
              <a:ext cx="505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79680" y="173052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821040" y="2224080"/>
              <a:ext cx="109440" cy="522000"/>
              <a:chOff x="3821040" y="2224080"/>
              <a:chExt cx="109440" cy="52200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3876480" y="22644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5400000">
                <a:off x="3830040" y="22179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400000">
                <a:off x="3802320" y="26179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794040" y="27669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00400" y="284940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952800" y="2443680"/>
              <a:ext cx="109440" cy="521640"/>
              <a:chOff x="3952800" y="2443680"/>
              <a:chExt cx="109440" cy="52164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4005360" y="25858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200000">
                <a:off x="3965400" y="28713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00000">
                <a:off x="3934440" y="246204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830760" y="2887560"/>
              <a:ext cx="109440" cy="522000"/>
              <a:chOff x="3830760" y="2887560"/>
              <a:chExt cx="109440" cy="52200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3886200" y="29278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3839760" y="28814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5400000">
                <a:off x="3812040" y="32814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794040" y="34290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0400" y="351000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952800" y="3119400"/>
              <a:ext cx="109440" cy="522000"/>
              <a:chOff x="3952800" y="3119400"/>
              <a:chExt cx="109440" cy="52200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4005360" y="326196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200000">
                <a:off x="3965400" y="35474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200000">
                <a:off x="3934080" y="313776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>
              <a:off x="3882600" y="177624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3958920" y="221112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3809160" y="1961280"/>
              <a:ext cx="145800" cy="10944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0" y="69"/>
                  </a:moveTo>
                  <a:lnTo>
                    <a:pt x="105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440" y="409572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14800" y="41781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844800" y="4216320"/>
              <a:ext cx="109440" cy="522000"/>
              <a:chOff x="3844800" y="4216320"/>
              <a:chExt cx="109440" cy="52200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3900240" y="425664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400000">
                <a:off x="3853800" y="42102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3826080" y="461016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808440" y="47577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48387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967200" y="4448160"/>
              <a:ext cx="109440" cy="522000"/>
              <a:chOff x="3967200" y="4448160"/>
              <a:chExt cx="109440" cy="52200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4019760" y="45907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6200000">
                <a:off x="3979800" y="48762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6200000">
                <a:off x="3948480" y="44665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3808440" y="541332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4800" y="54957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981600" y="5094360"/>
              <a:ext cx="109440" cy="522000"/>
              <a:chOff x="3981600" y="5094360"/>
              <a:chExt cx="109440" cy="522000"/>
            </a:xfrm>
          </p:grpSpPr>
          <p:sp>
            <p:nvSpPr>
              <p:cNvPr id="207" name=""/>
              <p:cNvSpPr/>
              <p:nvPr/>
            </p:nvSpPr>
            <p:spPr>
              <a:xfrm flipV="1">
                <a:off x="4034160" y="52369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3994200" y="55224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3962880" y="51127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844800" y="5529240"/>
              <a:ext cx="100080" cy="100080"/>
              <a:chOff x="3844800" y="5529240"/>
              <a:chExt cx="100080" cy="100080"/>
            </a:xfrm>
          </p:grpSpPr>
          <p:sp>
            <p:nvSpPr>
              <p:cNvPr id="211" name=""/>
              <p:cNvSpPr/>
              <p:nvPr/>
            </p:nvSpPr>
            <p:spPr>
              <a:xfrm>
                <a:off x="3890880" y="55753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44800" y="55292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827520" y="3554280"/>
              <a:ext cx="109440" cy="522000"/>
              <a:chOff x="3827520" y="3554280"/>
              <a:chExt cx="109440" cy="52200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882960" y="35946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3836520" y="35481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3808800" y="39481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68640" y="3770280"/>
              <a:ext cx="109440" cy="522000"/>
              <a:chOff x="3968640" y="3770280"/>
              <a:chExt cx="109440" cy="52200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4021200" y="391284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200000">
                <a:off x="3981240" y="419832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200000">
                <a:off x="3949920" y="378864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836880" y="4878360"/>
              <a:ext cx="109440" cy="522000"/>
              <a:chOff x="3836880" y="4878360"/>
              <a:chExt cx="109440" cy="52200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3892320" y="49186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400000">
                <a:off x="3845880" y="48722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818160" y="52722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380360" y="18572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86720" y="18972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8329680" y="1984320"/>
              <a:ext cx="109440" cy="522000"/>
              <a:chOff x="8329680" y="1984320"/>
              <a:chExt cx="109440" cy="522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8385120" y="202464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5400000">
                <a:off x="8338680" y="19782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8310960" y="237816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7380360" y="25272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86720" y="26100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8461440" y="2203920"/>
              <a:ext cx="109440" cy="521640"/>
              <a:chOff x="8461440" y="2203920"/>
              <a:chExt cx="109440" cy="52164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8514000" y="23461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8474040" y="26316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8443080" y="222228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339040" y="2647800"/>
              <a:ext cx="109440" cy="522000"/>
              <a:chOff x="8339040" y="2647800"/>
              <a:chExt cx="109440" cy="52200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8394480" y="26881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5400000">
                <a:off x="8348040" y="26416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400000">
                <a:off x="8320320" y="304164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7380360" y="31892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86720" y="327024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8461440" y="2879640"/>
              <a:ext cx="109440" cy="522000"/>
              <a:chOff x="8461440" y="2879640"/>
              <a:chExt cx="109440" cy="5220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8514000" y="30222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8474040" y="33076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8442720" y="28980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rot="5400000">
              <a:off x="8467920" y="1971720"/>
              <a:ext cx="871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0360" y="38559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01120" y="39387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8353440" y="3976560"/>
              <a:ext cx="109440" cy="522000"/>
              <a:chOff x="8353440" y="3976560"/>
              <a:chExt cx="109440" cy="52200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8408880" y="40168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400000">
                <a:off x="8362440" y="39704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400000">
                <a:off x="8334720" y="43704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7380360" y="45180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01120" y="45990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475840" y="4199040"/>
              <a:ext cx="109440" cy="522000"/>
              <a:chOff x="8475840" y="4199040"/>
              <a:chExt cx="109440" cy="52200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8528400" y="43416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8488440" y="46270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200000">
                <a:off x="8457120" y="42174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7380360" y="583092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01120" y="59133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489880" y="5512320"/>
              <a:ext cx="109440" cy="521640"/>
              <a:chOff x="8489880" y="5512320"/>
              <a:chExt cx="109440" cy="52164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8542440" y="56545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8502480" y="59400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200000">
                <a:off x="8471520" y="553068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353440" y="5946840"/>
              <a:ext cx="100080" cy="100080"/>
              <a:chOff x="8353440" y="5946840"/>
              <a:chExt cx="100080" cy="100080"/>
            </a:xfrm>
          </p:grpSpPr>
          <p:sp>
            <p:nvSpPr>
              <p:cNvPr id="267" name=""/>
              <p:cNvSpPr/>
              <p:nvPr/>
            </p:nvSpPr>
            <p:spPr>
              <a:xfrm>
                <a:off x="8399520" y="59929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53440" y="59468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8336160" y="3314880"/>
              <a:ext cx="109440" cy="521640"/>
              <a:chOff x="8336160" y="3314880"/>
              <a:chExt cx="109440" cy="521640"/>
            </a:xfrm>
          </p:grpSpPr>
          <p:sp>
            <p:nvSpPr>
              <p:cNvPr id="270" name=""/>
              <p:cNvSpPr/>
              <p:nvPr/>
            </p:nvSpPr>
            <p:spPr>
              <a:xfrm flipH="1">
                <a:off x="8391600" y="33552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8345160" y="33087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400000">
                <a:off x="8317800" y="370872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477280" y="3530520"/>
              <a:ext cx="109440" cy="522000"/>
              <a:chOff x="8477280" y="3530520"/>
              <a:chExt cx="109440" cy="52200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8529840" y="36730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6200000">
                <a:off x="8489880" y="39585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6200000">
                <a:off x="8458560" y="354888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45520" y="4638600"/>
              <a:ext cx="109440" cy="522000"/>
              <a:chOff x="8345520" y="4638600"/>
              <a:chExt cx="109440" cy="52200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8400960" y="46789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8354520" y="46324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400000">
                <a:off x="8326800" y="503244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380360" y="51753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99320" y="52563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8474040" y="4856040"/>
              <a:ext cx="109440" cy="522000"/>
              <a:chOff x="8474040" y="4856040"/>
              <a:chExt cx="109440" cy="52200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8526600" y="49986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200000">
                <a:off x="8486640" y="52840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200000">
                <a:off x="8455320" y="48744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344080" y="5295960"/>
              <a:ext cx="109440" cy="522000"/>
              <a:chOff x="8344080" y="5295960"/>
              <a:chExt cx="109440" cy="522000"/>
            </a:xfrm>
          </p:grpSpPr>
          <p:sp>
            <p:nvSpPr>
              <p:cNvPr id="288" name=""/>
              <p:cNvSpPr/>
              <p:nvPr/>
            </p:nvSpPr>
            <p:spPr>
              <a:xfrm flipH="1">
                <a:off x="8399520" y="53362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8353080" y="52898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8325360" y="56898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 flipH="1">
              <a:off x="8381520" y="152244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8308080" y="1707480"/>
              <a:ext cx="146160" cy="10944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0" y="69"/>
                  </a:moveTo>
                  <a:lnTo>
                    <a:pt x="105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5160" y="14130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79680" y="148608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9520" y="1531800"/>
              <a:ext cx="4926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033160" y="1911240"/>
            <a:ext cx="2492280" cy="4191120"/>
            <a:chOff x="5033160" y="1911240"/>
            <a:chExt cx="2492280" cy="4191120"/>
          </a:xfrm>
        </p:grpSpPr>
        <p:sp>
          <p:nvSpPr>
            <p:cNvPr id="297" name=""/>
            <p:cNvSpPr/>
            <p:nvPr/>
          </p:nvSpPr>
          <p:spPr>
            <a:xfrm rot="5400000">
              <a:off x="7422120" y="5873760"/>
              <a:ext cx="8712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7418880" y="600876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7431840" y="522612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7428600" y="536112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7431840" y="4568760"/>
              <a:ext cx="8712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7428600" y="4703760"/>
              <a:ext cx="8712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7431840" y="3902040"/>
              <a:ext cx="8712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7428600" y="4037040"/>
              <a:ext cx="8712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7422120" y="3235320"/>
              <a:ext cx="8712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00000">
              <a:off x="7418880" y="337032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7422120" y="256716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7418880" y="270216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7412760" y="190512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7409520" y="2040120"/>
              <a:ext cx="87480" cy="997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033880" y="1950840"/>
              <a:ext cx="2412720" cy="25380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033880" y="2088720"/>
              <a:ext cx="2412720" cy="7635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033160" y="2612880"/>
              <a:ext cx="2422440" cy="3844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033160" y="2752200"/>
              <a:ext cx="2422440" cy="74772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033160" y="3274920"/>
              <a:ext cx="2422440" cy="3700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043240" y="3419280"/>
              <a:ext cx="2412720" cy="7635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033160" y="3951360"/>
              <a:ext cx="2431800" cy="3412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52600" y="4086000"/>
              <a:ext cx="2412720" cy="7635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33160" y="4609800"/>
              <a:ext cx="2431800" cy="3315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3160" y="3068640"/>
              <a:ext cx="2431800" cy="1684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3160" y="3716280"/>
              <a:ext cx="2431800" cy="155592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33160" y="5411520"/>
              <a:ext cx="2431800" cy="1047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33160" y="2349360"/>
              <a:ext cx="2422440" cy="35625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33160" y="5661000"/>
              <a:ext cx="2422440" cy="38880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87000" y="3068640"/>
            <a:ext cx="2890080" cy="1268280"/>
            <a:chOff x="387000" y="3068640"/>
            <a:chExt cx="2890080" cy="1268280"/>
          </a:xfrm>
        </p:grpSpPr>
        <p:sp>
          <p:nvSpPr>
            <p:cNvPr id="326" name=""/>
            <p:cNvSpPr/>
            <p:nvPr/>
          </p:nvSpPr>
          <p:spPr>
            <a:xfrm flipV="1">
              <a:off x="2411280" y="412092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520" y="399888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04640" y="3170160"/>
              <a:ext cx="1468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6560" y="375120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30200" y="3876840"/>
              <a:ext cx="1468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39840" y="3170160"/>
              <a:ext cx="1926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04640" y="3876840"/>
              <a:ext cx="1468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73320" y="3876840"/>
              <a:ext cx="1242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8200" y="4121280"/>
              <a:ext cx="6490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7000" y="3876840"/>
              <a:ext cx="1134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4680" y="399888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278080" y="3400560"/>
              <a:ext cx="0" cy="50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85840" y="433692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76360" y="39988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61480" y="375120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74760" y="3490920"/>
              <a:ext cx="9072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61480" y="306864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39840" y="3490920"/>
              <a:ext cx="9072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98920" y="3727440"/>
              <a:ext cx="1443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62200" y="4083120"/>
              <a:ext cx="810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458720" y="329256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35240" y="3400560"/>
              <a:ext cx="0" cy="50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D75F-CBC0-471F-ADA9-02252224A722}" type="slidenum">
              <a:t>22</a:t>
            </a:fld>
          </a:p>
        </p:txBody>
      </p:sp>
    </p:spTree>
  </p:cSld>
  <p:transition>
    <p:cover dir="u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dge-set representation of graphs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ary of algorithms (whe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nodes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edg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971640" y="2565360"/>
          <a:ext cx="7200720" cy="2878200"/>
        </p:xfrm>
        <a:graphic>
          <a:graphicData uri="http://schemas.openxmlformats.org/drawingml/2006/table">
            <a:tbl>
              <a:tblPr/>
              <a:tblGrid>
                <a:gridCol w="1879560"/>
                <a:gridCol w="3449520"/>
                <a:gridCol w="18716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ar search through edge-set 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ion at front of node-set 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ion at front of edge-set 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ion in node-set DLL, plus multiple deletions in edge-set 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ion in edge-set 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662D-FAF2-4D76-8086-847EAF80D697}" type="slidenum">
              <a:t>23</a:t>
            </a:fld>
          </a:p>
        </p:txBody>
      </p:sp>
    </p:spTree>
  </p:cSld>
  <p:transition>
    <p:cover dir="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dge-set representation of graphs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directe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utEd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terator must traverse the entire edge-set to find all of a node’s out-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ilarly for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ccesso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terator to find all of a node’s successor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operations are therefo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 undirecte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gnore the order of nodes stored in each 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ure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containsEdg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containsEdg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ive the same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8FDC-992A-4AD3-9615-3FB50F85D35B}" type="slidenum">
              <a:t>24</a:t>
            </a:fld>
          </a:p>
        </p:txBody>
      </p:sp>
    </p:spTree>
  </p:cSld>
  <p:transition>
    <p:cover dir="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set representation of graph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ther than store a single, large edge set, divide it into smaller sets, called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adjacency</a:t>
            </a:r>
            <a:r>
              <a:rPr b="0" lang="en-GB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s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adjacency set stores only the edges connecting a particular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re a single node set, with each adjacency set linked from each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ives 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adjacency-set represent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 the node set by a DLL a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 each adjacency set by a SLL, since size should be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0BDD-BD2C-48AA-91F4-2E813B694CED}" type="slidenum">
              <a:t>25</a:t>
            </a:fld>
          </a:p>
        </p:txBody>
      </p:sp>
    </p:spTree>
  </p:cSld>
  <p:transition>
    <p:cover dir="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set representation of graphs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85840" y="2133720"/>
            <a:ext cx="5400720" cy="4084560"/>
            <a:chOff x="1185840" y="2133720"/>
            <a:chExt cx="5400720" cy="4084560"/>
          </a:xfrm>
        </p:grpSpPr>
        <p:sp>
          <p:nvSpPr>
            <p:cNvPr id="358" name=""/>
            <p:cNvSpPr/>
            <p:nvPr/>
          </p:nvSpPr>
          <p:spPr>
            <a:xfrm>
              <a:off x="1185840" y="21337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5080" y="2573640"/>
              <a:ext cx="1224000" cy="328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1440" y="261324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60720" y="2252880"/>
              <a:ext cx="504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0720" y="220680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702080" y="2700360"/>
              <a:ext cx="109440" cy="522000"/>
              <a:chOff x="1702080" y="2700360"/>
              <a:chExt cx="109440" cy="522000"/>
            </a:xfrm>
          </p:grpSpPr>
          <p:sp>
            <p:nvSpPr>
              <p:cNvPr id="364" name=""/>
              <p:cNvSpPr/>
              <p:nvPr/>
            </p:nvSpPr>
            <p:spPr>
              <a:xfrm flipH="1">
                <a:off x="1757520" y="27406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5400000">
                <a:off x="1711080" y="26942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5400000">
                <a:off x="1683360" y="30942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675080" y="3243600"/>
              <a:ext cx="1224000" cy="328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1440" y="332604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833840" y="2919600"/>
              <a:ext cx="109440" cy="522000"/>
              <a:chOff x="1833840" y="2919600"/>
              <a:chExt cx="109440" cy="522000"/>
            </a:xfrm>
          </p:grpSpPr>
          <p:sp>
            <p:nvSpPr>
              <p:cNvPr id="370" name=""/>
              <p:cNvSpPr/>
              <p:nvPr/>
            </p:nvSpPr>
            <p:spPr>
              <a:xfrm flipV="1">
                <a:off x="1886400" y="306216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200000">
                <a:off x="1846440" y="33476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200000">
                <a:off x="1815120" y="293796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711440" y="3364200"/>
              <a:ext cx="109440" cy="521640"/>
              <a:chOff x="1711440" y="3364200"/>
              <a:chExt cx="109440" cy="52164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1766880" y="34045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5400000">
                <a:off x="1720440" y="33580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5400000">
                <a:off x="1693080" y="375804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1675080" y="39052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81440" y="398628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833840" y="3595680"/>
              <a:ext cx="109440" cy="522000"/>
              <a:chOff x="1833840" y="3595680"/>
              <a:chExt cx="109440" cy="522000"/>
            </a:xfrm>
          </p:grpSpPr>
          <p:sp>
            <p:nvSpPr>
              <p:cNvPr id="380" name=""/>
              <p:cNvSpPr/>
              <p:nvPr/>
            </p:nvSpPr>
            <p:spPr>
              <a:xfrm flipV="1">
                <a:off x="1886400" y="373824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6200000">
                <a:off x="1846440" y="402372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200000">
                <a:off x="1815120" y="361404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 flipH="1">
              <a:off x="1764000" y="2252880"/>
              <a:ext cx="144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1839600" y="2687760"/>
              <a:ext cx="8712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1689480" y="2437560"/>
              <a:ext cx="146160" cy="10980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0" y="69"/>
                  </a:moveTo>
                  <a:lnTo>
                    <a:pt x="105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89120" y="45720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95480" y="465480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725840" y="4692960"/>
              <a:ext cx="109440" cy="521640"/>
              <a:chOff x="1725840" y="4692960"/>
              <a:chExt cx="109440" cy="521640"/>
            </a:xfrm>
          </p:grpSpPr>
          <p:sp>
            <p:nvSpPr>
              <p:cNvPr id="389" name=""/>
              <p:cNvSpPr/>
              <p:nvPr/>
            </p:nvSpPr>
            <p:spPr>
              <a:xfrm flipH="1">
                <a:off x="1781280" y="47332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400000">
                <a:off x="1734840" y="468684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5400000">
                <a:off x="1707480" y="50868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689120" y="52340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95480" y="531504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847880" y="4924440"/>
              <a:ext cx="109440" cy="522000"/>
              <a:chOff x="1847880" y="4924440"/>
              <a:chExt cx="109440" cy="522000"/>
            </a:xfrm>
          </p:grpSpPr>
          <p:sp>
            <p:nvSpPr>
              <p:cNvPr id="395" name=""/>
              <p:cNvSpPr/>
              <p:nvPr/>
            </p:nvSpPr>
            <p:spPr>
              <a:xfrm flipV="1">
                <a:off x="1900440" y="50670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200000">
                <a:off x="1860480" y="53524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200000">
                <a:off x="1829160" y="49428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689120" y="5889960"/>
              <a:ext cx="1224000" cy="328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95480" y="597240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862280" y="5570640"/>
              <a:ext cx="109440" cy="522000"/>
              <a:chOff x="1862280" y="5570640"/>
              <a:chExt cx="109440" cy="52200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914840" y="57132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1874880" y="59986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200000">
                <a:off x="1843560" y="55890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725840" y="6005520"/>
              <a:ext cx="100080" cy="100080"/>
              <a:chOff x="1725840" y="6005520"/>
              <a:chExt cx="100080" cy="100080"/>
            </a:xfrm>
          </p:grpSpPr>
          <p:sp>
            <p:nvSpPr>
              <p:cNvPr id="405" name=""/>
              <p:cNvSpPr/>
              <p:nvPr/>
            </p:nvSpPr>
            <p:spPr>
              <a:xfrm>
                <a:off x="1771920" y="605160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25840" y="6005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708200" y="4030920"/>
              <a:ext cx="109440" cy="522000"/>
              <a:chOff x="1708200" y="4030920"/>
              <a:chExt cx="109440" cy="522000"/>
            </a:xfrm>
          </p:grpSpPr>
          <p:sp>
            <p:nvSpPr>
              <p:cNvPr id="408" name=""/>
              <p:cNvSpPr/>
              <p:nvPr/>
            </p:nvSpPr>
            <p:spPr>
              <a:xfrm flipH="1">
                <a:off x="1763640" y="407124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5400000">
                <a:off x="1717200" y="40248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5400000">
                <a:off x="1689480" y="442476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849680" y="4246560"/>
              <a:ext cx="109440" cy="522000"/>
              <a:chOff x="1849680" y="4246560"/>
              <a:chExt cx="109440" cy="52200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1902240" y="43891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6200000">
                <a:off x="1862280" y="46746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200000">
                <a:off x="1830960" y="42649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1717920" y="5354640"/>
              <a:ext cx="109440" cy="522000"/>
              <a:chOff x="1717920" y="5354640"/>
              <a:chExt cx="109440" cy="52200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1773360" y="539496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400000">
                <a:off x="1726920" y="534852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5400000">
                <a:off x="1699200" y="574848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3778560" y="2565720"/>
              <a:ext cx="1223640" cy="328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67280" y="26370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80000" y="32418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6360" y="332424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78560" y="3900600"/>
              <a:ext cx="122364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84920" y="39816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80000" y="45720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00760" y="46548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80000" y="52326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00760" y="53136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62560" y="2565720"/>
              <a:ext cx="1224000" cy="328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83320" y="26481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830840" y="2671920"/>
              <a:ext cx="522000" cy="109440"/>
              <a:chOff x="4830840" y="2671920"/>
              <a:chExt cx="522000" cy="109440"/>
            </a:xfrm>
          </p:grpSpPr>
          <p:sp>
            <p:nvSpPr>
              <p:cNvPr id="432" name=""/>
              <p:cNvSpPr/>
              <p:nvPr/>
            </p:nvSpPr>
            <p:spPr>
              <a:xfrm>
                <a:off x="4871160" y="272448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830840" y="26784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06320" y="26719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421680" y="2681280"/>
              <a:ext cx="100080" cy="100080"/>
              <a:chOff x="6421680" y="2681280"/>
              <a:chExt cx="100080" cy="100080"/>
            </a:xfrm>
          </p:grpSpPr>
          <p:sp>
            <p:nvSpPr>
              <p:cNvPr id="436" name=""/>
              <p:cNvSpPr/>
              <p:nvPr/>
            </p:nvSpPr>
            <p:spPr>
              <a:xfrm>
                <a:off x="6467760" y="27273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21680" y="2681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5362560" y="38926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1880" y="397368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830840" y="4016520"/>
              <a:ext cx="522000" cy="109440"/>
              <a:chOff x="4830840" y="4016520"/>
              <a:chExt cx="522000" cy="109440"/>
            </a:xfrm>
          </p:grpSpPr>
          <p:sp>
            <p:nvSpPr>
              <p:cNvPr id="441" name=""/>
              <p:cNvSpPr/>
              <p:nvPr/>
            </p:nvSpPr>
            <p:spPr>
              <a:xfrm>
                <a:off x="4871160" y="406908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30840" y="40230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206320" y="40165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415200" y="4005360"/>
              <a:ext cx="100080" cy="100080"/>
              <a:chOff x="6415200" y="4005360"/>
              <a:chExt cx="100080" cy="100080"/>
            </a:xfrm>
          </p:grpSpPr>
          <p:sp>
            <p:nvSpPr>
              <p:cNvPr id="445" name=""/>
              <p:cNvSpPr/>
              <p:nvPr/>
            </p:nvSpPr>
            <p:spPr>
              <a:xfrm>
                <a:off x="6461280" y="405144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15200" y="40053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830840" y="3357720"/>
              <a:ext cx="100080" cy="100080"/>
              <a:chOff x="4830840" y="3357720"/>
              <a:chExt cx="100080" cy="100080"/>
            </a:xfrm>
          </p:grpSpPr>
          <p:sp>
            <p:nvSpPr>
              <p:cNvPr id="448" name=""/>
              <p:cNvSpPr/>
              <p:nvPr/>
            </p:nvSpPr>
            <p:spPr>
              <a:xfrm>
                <a:off x="4876920" y="340380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840" y="33577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30840" y="4697640"/>
              <a:ext cx="100080" cy="100080"/>
              <a:chOff x="4830840" y="4697640"/>
              <a:chExt cx="100080" cy="100080"/>
            </a:xfrm>
          </p:grpSpPr>
          <p:sp>
            <p:nvSpPr>
              <p:cNvPr id="451" name=""/>
              <p:cNvSpPr/>
              <p:nvPr/>
            </p:nvSpPr>
            <p:spPr>
              <a:xfrm>
                <a:off x="4876920" y="47437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30840" y="4697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830840" y="5345280"/>
              <a:ext cx="100080" cy="100080"/>
              <a:chOff x="4830840" y="5345280"/>
              <a:chExt cx="100080" cy="10008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53913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30840" y="5345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770200" y="2662560"/>
              <a:ext cx="989280" cy="115560"/>
              <a:chOff x="2770200" y="2662560"/>
              <a:chExt cx="989280" cy="115560"/>
            </a:xfrm>
          </p:grpSpPr>
          <p:sp>
            <p:nvSpPr>
              <p:cNvPr id="457" name=""/>
              <p:cNvSpPr/>
              <p:nvPr/>
            </p:nvSpPr>
            <p:spPr>
              <a:xfrm>
                <a:off x="2811600" y="2724480"/>
                <a:ext cx="801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70200" y="2678400"/>
                <a:ext cx="874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13320" y="266256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770200" y="5994720"/>
              <a:ext cx="100080" cy="99720"/>
              <a:chOff x="2770200" y="5994720"/>
              <a:chExt cx="100080" cy="9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2816280" y="604044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70200" y="59947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770200" y="3348360"/>
              <a:ext cx="989280" cy="115560"/>
              <a:chOff x="2770200" y="3348360"/>
              <a:chExt cx="989280" cy="115560"/>
            </a:xfrm>
          </p:grpSpPr>
          <p:sp>
            <p:nvSpPr>
              <p:cNvPr id="464" name=""/>
              <p:cNvSpPr/>
              <p:nvPr/>
            </p:nvSpPr>
            <p:spPr>
              <a:xfrm>
                <a:off x="2811600" y="3410280"/>
                <a:ext cx="801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70200" y="3364200"/>
                <a:ext cx="874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13320" y="334836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770200" y="4005360"/>
              <a:ext cx="989280" cy="115560"/>
              <a:chOff x="2770200" y="4005360"/>
              <a:chExt cx="989280" cy="115560"/>
            </a:xfrm>
          </p:grpSpPr>
          <p:sp>
            <p:nvSpPr>
              <p:cNvPr id="468" name=""/>
              <p:cNvSpPr/>
              <p:nvPr/>
            </p:nvSpPr>
            <p:spPr>
              <a:xfrm>
                <a:off x="2811600" y="4067280"/>
                <a:ext cx="801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0200" y="4021200"/>
                <a:ext cx="874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13320" y="400536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2770200" y="4681800"/>
              <a:ext cx="989280" cy="115560"/>
              <a:chOff x="2770200" y="4681800"/>
              <a:chExt cx="989280" cy="115560"/>
            </a:xfrm>
          </p:grpSpPr>
          <p:sp>
            <p:nvSpPr>
              <p:cNvPr id="472" name=""/>
              <p:cNvSpPr/>
              <p:nvPr/>
            </p:nvSpPr>
            <p:spPr>
              <a:xfrm>
                <a:off x="2811600" y="4743720"/>
                <a:ext cx="801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70200" y="4697640"/>
                <a:ext cx="874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13320" y="46818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2770200" y="5338800"/>
              <a:ext cx="989280" cy="115560"/>
              <a:chOff x="2770200" y="5338800"/>
              <a:chExt cx="989280" cy="115560"/>
            </a:xfrm>
          </p:grpSpPr>
          <p:sp>
            <p:nvSpPr>
              <p:cNvPr id="476" name=""/>
              <p:cNvSpPr/>
              <p:nvPr/>
            </p:nvSpPr>
            <p:spPr>
              <a:xfrm>
                <a:off x="2811600" y="5400720"/>
                <a:ext cx="801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70200" y="5354640"/>
                <a:ext cx="874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3320" y="53388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2913840" y="2349000"/>
            <a:ext cx="4321800" cy="3701880"/>
            <a:chOff x="2913840" y="2349000"/>
            <a:chExt cx="4321800" cy="3701880"/>
          </a:xfrm>
        </p:grpSpPr>
        <p:sp>
          <p:nvSpPr>
            <p:cNvPr id="480" name=""/>
            <p:cNvSpPr/>
            <p:nvPr/>
          </p:nvSpPr>
          <p:spPr>
            <a:xfrm flipV="1">
              <a:off x="2914560" y="2349000"/>
              <a:ext cx="225360" cy="2206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14560" y="6040080"/>
              <a:ext cx="2813040" cy="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5400000">
              <a:off x="3857400" y="527508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5400000">
              <a:off x="3857040" y="540972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5400000">
              <a:off x="3857400" y="461304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5400000">
              <a:off x="3857400" y="474804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5400000">
              <a:off x="3857400" y="394632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5400000">
              <a:off x="3857040" y="408096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5400000">
              <a:off x="3857040" y="260460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5400000">
              <a:off x="3857040" y="273960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3857400" y="328752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5400000">
              <a:off x="3857040" y="342216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5441400" y="393660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5441400" y="407160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5441760" y="260640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5441760" y="274140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914560" y="3030120"/>
              <a:ext cx="234720" cy="20772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913840" y="3682440"/>
              <a:ext cx="237960" cy="22212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914560" y="4344480"/>
              <a:ext cx="225360" cy="2206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913840" y="5006880"/>
              <a:ext cx="215640" cy="22680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3634920" y="2349000"/>
              <a:ext cx="268200" cy="298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5209560" y="2349000"/>
              <a:ext cx="268200" cy="298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3634920" y="3030120"/>
              <a:ext cx="268200" cy="298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3631680" y="3682440"/>
              <a:ext cx="268200" cy="298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628440" y="4344480"/>
              <a:ext cx="268200" cy="298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625200" y="5006520"/>
              <a:ext cx="268200" cy="298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39920" y="2349360"/>
              <a:ext cx="2070000" cy="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49280" y="3678120"/>
              <a:ext cx="2060640" cy="1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209560" y="3677760"/>
              <a:ext cx="268200" cy="298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5478120" y="4122000"/>
              <a:ext cx="247680" cy="191772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5478120" y="2787120"/>
              <a:ext cx="1757520" cy="12999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726880" y="4087080"/>
              <a:ext cx="1508040" cy="196380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840" y="3516120"/>
              <a:ext cx="988920" cy="193356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2914560" y="3463560"/>
              <a:ext cx="979200" cy="5414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914560" y="4127400"/>
              <a:ext cx="979200" cy="5270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914560" y="4797000"/>
              <a:ext cx="979200" cy="5410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2914560" y="2785680"/>
              <a:ext cx="979200" cy="5950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52520" y="3030480"/>
              <a:ext cx="473040" cy="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39920" y="4336920"/>
              <a:ext cx="495360" cy="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39920" y="5013000"/>
              <a:ext cx="473040" cy="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0BE0-B3FF-4878-81AA-97F615FF4B67}" type="slidenum">
              <a:t>26</a:t>
            </a:fld>
          </a:p>
        </p:txBody>
      </p:sp>
    </p:spTree>
  </p:cSld>
  <p:transition>
    <p:cover dir="u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set representation of graphs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ary of algorithms (whe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edges,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maximum degree of each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755640" y="2565360"/>
          <a:ext cx="7704000" cy="3154320"/>
        </p:xfrm>
        <a:graphic>
          <a:graphicData uri="http://schemas.openxmlformats.org/drawingml/2006/table">
            <a:tbl>
              <a:tblPr/>
              <a:tblGrid>
                <a:gridCol w="1879560"/>
                <a:gridCol w="3952800"/>
                <a:gridCol w="18716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ar search through adjacency-set S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ion at front of node-set 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ion at front of adjacency-set 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ion in node-set DLL, plus traversal of all adjacency-set SLLs to find and delete connecting ed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ion in adjacency-set S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1606-D51F-4DA4-8129-1479AA26C3E8}" type="slidenum">
              <a:t>27</a:t>
            </a:fld>
          </a:p>
        </p:txBody>
      </p:sp>
    </p:spTree>
  </p:cSld>
  <p:transition>
    <p:cover dir="u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set representation of graphs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directe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re only the out-edges in a node’s adjacenc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utEd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ccesso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terators now need only traverse the given node’s adjacenc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operations are therefo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 undirecte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e edge in adjacency set of both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tains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search either set, but must remove edge from both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E31A-6A2A-4225-BB0A-34F10D753AF7}" type="slidenum">
              <a:t>28</a:t>
            </a:fld>
          </a:p>
        </p:txBody>
      </p:sp>
    </p:spTree>
  </p:cSld>
  <p:transition>
    <p:cover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matrix representation of graph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ead of using a linked structure, assume each node is allocated a unique position between 0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(sa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de set is represented by an arra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indexed by the nodes’ position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’s adjacency set is also represented by an array,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references to edge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dge set is effectively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wo nod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position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pectively, are connected th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refers to the edge object. Otherwi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82D2-7D4F-4424-B420-57355F551277}" type="slidenum">
              <a:t>29</a:t>
            </a:fld>
          </a:p>
        </p:txBody>
      </p:sp>
    </p:spTree>
  </p:cSld>
  <p:transition>
    <p:cover dir="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aph concept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si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graph is the number of nodes (elements) in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grap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s size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undirec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grap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one in which edges have no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direc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grap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digrap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one in which each edge has a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1223-EED7-4884-BC70-9EEFA28A07CC}" type="slidenum">
              <a:t>3</a:t>
            </a:fld>
          </a:p>
        </p:txBody>
      </p:sp>
    </p:spTree>
  </p:cSld>
  <p:transition>
    <p:cover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matrix representation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gives 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djacency-matrix represent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s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tains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dd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move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ions very fast: all are now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it us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space: wasteful if relatively few 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also mean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raph is limited in size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raph is restricted to at most one edge connecting any pair of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5140-1AB9-4DC8-B268-D0F153980E76}" type="slidenum">
              <a:t>30</a:t>
            </a:fld>
          </a:p>
        </p:txBody>
      </p:sp>
    </p:spTree>
  </p:cSld>
  <p:transition>
    <p:cover dir="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matrix representation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531800" y="1647720"/>
            <a:ext cx="7199280" cy="4950000"/>
            <a:chOff x="1531800" y="1647720"/>
            <a:chExt cx="7199280" cy="4950000"/>
          </a:xfrm>
        </p:grpSpPr>
        <p:sp>
          <p:nvSpPr>
            <p:cNvPr id="532" name=""/>
            <p:cNvSpPr/>
            <p:nvPr/>
          </p:nvSpPr>
          <p:spPr>
            <a:xfrm>
              <a:off x="5477040" y="1647720"/>
              <a:ext cx="14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11760" y="164772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58000" y="1647720"/>
              <a:ext cx="14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08560" y="164772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54800" y="1647720"/>
              <a:ext cx="14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96000" y="164772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39000" y="1647720"/>
              <a:ext cx="14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70840" y="1647720"/>
              <a:ext cx="14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0600" y="1647720"/>
              <a:ext cx="14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86720" y="1647720"/>
              <a:ext cx="14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74720" y="25732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81080" y="261288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74720" y="29019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81080" y="294804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4720" y="32288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080" y="328464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74720" y="35560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81080" y="362124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74720" y="38829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395748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74720" y="42116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81080" y="429408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91080" y="454032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79800" y="46116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67080" y="5116680"/>
              <a:ext cx="1224000" cy="328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73440" y="519912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15080" y="5692680"/>
              <a:ext cx="122364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21440" y="577368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19880" y="62690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40280" y="635148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73720" y="56926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94480" y="577368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07440" y="4540320"/>
              <a:ext cx="122364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27840" y="462276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97600" y="51116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6920" y="519264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74720" y="453852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674720" y="48657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74720" y="51926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4720" y="5519880"/>
              <a:ext cx="1224000" cy="328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15120" y="18828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89640" y="19558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61000" y="18828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35520" y="19558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07240" y="18828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81760" y="19558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53120" y="18828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27640" y="19558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99360" y="18828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73880" y="19558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45240" y="18828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19760" y="19558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89680" y="188136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34120" y="187956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78560" y="18781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3000" y="18763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10080" y="22417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4960" y="2314440"/>
              <a:ext cx="997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56320" y="224172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30840" y="23144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02200" y="22417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77080" y="2314440"/>
              <a:ext cx="997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48440" y="224172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22960" y="23144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94320" y="22417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69200" y="2314440"/>
              <a:ext cx="997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0560" y="224172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15080" y="23144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85000" y="223992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29440" y="22384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73880" y="22366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18320" y="223524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05400" y="26002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9920" y="26733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51640" y="260028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6160" y="26733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97520" y="26002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72040" y="26733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43760" y="260028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18280" y="26733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89640" y="26002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64160" y="26733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35880" y="260028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10400" y="26733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80320" y="259884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24760" y="259704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69200" y="25956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13640" y="2593800"/>
              <a:ext cx="246240" cy="24480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00720" y="29592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75240" y="303228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46600" y="29592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21480" y="3032280"/>
              <a:ext cx="9972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92840" y="29592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67360" y="303228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29592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13600" y="3032280"/>
              <a:ext cx="9972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84960" y="29592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59480" y="303228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30840" y="29592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05720" y="3032280"/>
              <a:ext cx="9972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75640" y="295740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20080" y="295596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64520" y="2954160"/>
              <a:ext cx="245880" cy="24480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8960" y="295272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96040" y="331776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70560" y="33908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41920" y="331776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6440" y="33908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88160" y="331776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62680" y="33908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34040" y="331776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08560" y="33908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80280" y="331776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54800" y="33908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26160" y="331776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00680" y="339084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70600" y="33163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3148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59480" y="33130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04280" y="331164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91000" y="36766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65880" y="3749760"/>
              <a:ext cx="997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37240" y="367668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1760" y="37497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83120" y="36766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8000" y="37497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129360" y="367668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03880" y="37497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375240" y="367668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50120" y="37497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21480" y="3676680"/>
              <a:ext cx="24588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96000" y="374976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65920" y="367524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10360" y="367344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54800" y="36720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99240" y="367020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31800" y="261936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31800" y="295272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31800" y="328608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31800" y="361008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31800" y="393372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31800" y="426708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31800" y="460044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31800" y="492444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531800" y="524844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31800" y="5572080"/>
              <a:ext cx="14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2784600" y="2055960"/>
              <a:ext cx="2630520" cy="66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43200" y="267804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784600" y="2723760"/>
              <a:ext cx="261612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743200" y="336384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2784600" y="3463920"/>
              <a:ext cx="2606400" cy="60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43200" y="402120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784600" y="3785760"/>
              <a:ext cx="2606400" cy="569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43200" y="430992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2784600" y="3077640"/>
              <a:ext cx="2616120" cy="65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43200" y="368604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2743200" y="4653000"/>
              <a:ext cx="100080" cy="100080"/>
              <a:chOff x="2743200" y="4653000"/>
              <a:chExt cx="100080" cy="100080"/>
            </a:xfrm>
          </p:grpSpPr>
          <p:sp>
            <p:nvSpPr>
              <p:cNvPr id="689" name=""/>
              <p:cNvSpPr/>
              <p:nvPr/>
            </p:nvSpPr>
            <p:spPr>
              <a:xfrm>
                <a:off x="2789280" y="46990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43200" y="4653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2743200" y="4989600"/>
              <a:ext cx="100080" cy="100080"/>
              <a:chOff x="2743200" y="4989600"/>
              <a:chExt cx="100080" cy="100080"/>
            </a:xfrm>
          </p:grpSpPr>
          <p:sp>
            <p:nvSpPr>
              <p:cNvPr id="692" name=""/>
              <p:cNvSpPr/>
              <p:nvPr/>
            </p:nvSpPr>
            <p:spPr>
              <a:xfrm>
                <a:off x="2789280" y="50356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43200" y="498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2743200" y="5326200"/>
              <a:ext cx="100080" cy="99720"/>
              <a:chOff x="2743200" y="5326200"/>
              <a:chExt cx="100080" cy="99720"/>
            </a:xfrm>
          </p:grpSpPr>
          <p:sp>
            <p:nvSpPr>
              <p:cNvPr id="695" name=""/>
              <p:cNvSpPr/>
              <p:nvPr/>
            </p:nvSpPr>
            <p:spPr>
              <a:xfrm>
                <a:off x="2789280" y="537192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43200" y="53262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2743200" y="5662440"/>
              <a:ext cx="100080" cy="100080"/>
              <a:chOff x="2743200" y="5662440"/>
              <a:chExt cx="100080" cy="100080"/>
            </a:xfrm>
          </p:grpSpPr>
          <p:sp>
            <p:nvSpPr>
              <p:cNvPr id="698" name=""/>
              <p:cNvSpPr/>
              <p:nvPr/>
            </p:nvSpPr>
            <p:spPr>
              <a:xfrm>
                <a:off x="2789280" y="57085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743200" y="56624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 flipV="1">
              <a:off x="2784600" y="2378160"/>
              <a:ext cx="2616120" cy="69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43200" y="3032280"/>
              <a:ext cx="874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4627080" y="2003400"/>
              <a:ext cx="1149480" cy="2535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076360" y="2363760"/>
              <a:ext cx="941400" cy="27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07240" y="2719440"/>
              <a:ext cx="357120" cy="29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152760" y="3075120"/>
              <a:ext cx="353880" cy="3193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61080" y="3433680"/>
              <a:ext cx="982800" cy="2259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57920" y="2724120"/>
              <a:ext cx="459000" cy="2392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75560" y="1998720"/>
              <a:ext cx="911160" cy="253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894760" y="2838600"/>
            <a:ext cx="4144320" cy="2544480"/>
            <a:chOff x="2894760" y="2838600"/>
            <a:chExt cx="4144320" cy="2544480"/>
          </a:xfrm>
        </p:grpSpPr>
        <p:sp>
          <p:nvSpPr>
            <p:cNvPr id="710" name=""/>
            <p:cNvSpPr/>
            <p:nvPr/>
          </p:nvSpPr>
          <p:spPr>
            <a:xfrm>
              <a:off x="2898000" y="3490920"/>
              <a:ext cx="4095720" cy="171288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5400000">
              <a:off x="3748320" y="458460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5400000">
              <a:off x="3748320" y="471960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5400000">
              <a:off x="6945120" y="5154480"/>
              <a:ext cx="8748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5400000">
              <a:off x="6945480" y="5289480"/>
              <a:ext cx="87120" cy="1000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98720" y="2838600"/>
              <a:ext cx="890640" cy="178884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898000" y="3176640"/>
              <a:ext cx="887400" cy="158112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94760" y="4410000"/>
              <a:ext cx="4095720" cy="92412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328B-A9DE-4CF6-A6FB-8C5C247CC7BE}" type="slidenum">
              <a:t>31</a:t>
            </a:fld>
          </a:p>
        </p:txBody>
      </p:sp>
    </p:spTree>
  </p:cSld>
  <p:transition>
    <p:cover dir="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matrix representation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ary of algorithms (whe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size of the matri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971640" y="2565360"/>
          <a:ext cx="7200720" cy="2876760"/>
        </p:xfrm>
        <a:graphic>
          <a:graphicData uri="http://schemas.openxmlformats.org/drawingml/2006/table">
            <a:tbl>
              <a:tblPr/>
              <a:tblGrid>
                <a:gridCol w="1879560"/>
                <a:gridCol w="3449520"/>
                <a:gridCol w="18716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ix ind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ding a cleared matrix row and colu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ix ind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ing a matrix row and colu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ix ind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18E9-9DF2-4B7E-B771-B8A6A09E43F7}" type="slidenum">
              <a:t>32</a:t>
            </a:fld>
          </a:p>
        </p:txBody>
      </p:sp>
    </p:spTree>
  </p:cSld>
  <p:transition>
    <p:cover dir="u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djacency-matrix representation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directe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trix must represent the direction of each 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edge has source and destination nodes at position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n reference is placed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but not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utEd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ccesso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terators must traverse a whole row of the matrix, so have complexit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 undirecte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re edge in bo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to reflect its lack of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use a triangular matrix, and store only a single reference: halves the space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C3E2-860B-45D2-B350-65DA7CA7F731}" type="slidenum">
              <a:t>33</a:t>
            </a:fld>
          </a:p>
        </p:txBody>
      </p:sp>
    </p:spTree>
  </p:cSld>
  <p:transition>
    <p:cover dir="u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Graph traversal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graph problems involve finding all nodes that can be reached from a given star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find all cities that can be reached by motorway from Glasg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s to solve such problems must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traver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graph, following all possible paths from the starting node, and visiting each node reached along thes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ted problems involve finding if a path exists between two nodes: these problem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graph, and terminate when a solution is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, we will look at graph traversal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82C9-69E8-4228-B15C-030F73B69AF2}" type="slidenum">
              <a:t>34</a:t>
            </a:fld>
          </a:p>
        </p:txBody>
      </p:sp>
    </p:spTree>
  </p:cSld>
  <p:transition>
    <p:cover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Graph traversa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graph traversal algorithm may be able to reach the same node by several different paths from the starting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a graph traversal algorithm must ‘mark’ each node on the first occasion that it reaches it, otherwise the same node may be visited repeatedly (and prevent the traversal from terminat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remember the nodes visi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oring a boolean flag in each node (initially false). Mark a node by changing this field to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eping a separate set of nodes. Mark a node by adding it to the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A041-3B89-4D72-8D18-1CC21E293834}" type="slidenum">
              <a:t>35</a:t>
            </a:fld>
          </a:p>
        </p:txBody>
      </p:sp>
    </p:spTree>
  </p:cSld>
  <p:transition>
    <p:cover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pth-first search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depth-first sear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xplores one possible path as far as possible, before it considers any alternativ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730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745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760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775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790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805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820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835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117080" y="3292560"/>
            <a:ext cx="7196040" cy="1120320"/>
            <a:chOff x="1117080" y="3292560"/>
            <a:chExt cx="7196040" cy="1120320"/>
          </a:xfrm>
        </p:grpSpPr>
        <p:sp>
          <p:nvSpPr>
            <p:cNvPr id="850" name=""/>
            <p:cNvSpPr/>
            <p:nvPr/>
          </p:nvSpPr>
          <p:spPr>
            <a:xfrm flipV="1">
              <a:off x="1573200" y="349200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3640" y="3565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32360" y="32925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5760" y="3636720"/>
              <a:ext cx="92736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655240" y="3636720"/>
              <a:ext cx="883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98160" y="3925800"/>
              <a:ext cx="784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71600" y="3868560"/>
              <a:ext cx="92880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70160" y="32925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73200" y="3925800"/>
              <a:ext cx="64944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17080" y="370836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203640" y="414144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4861080" y="392580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1080" y="3565440"/>
              <a:ext cx="71892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88000" y="38527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8AAF-D648-4E31-9EA5-04029CF49855}" type="slidenum">
              <a:t>36</a:t>
            </a:fld>
          </a:p>
        </p:txBody>
      </p:sp>
    </p:spTree>
  </p:cSld>
  <p:transition>
    <p:cover dir="u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pth-first search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ursive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raverse a grap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depth-first order, starting at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sit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mar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 reach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ach unreached success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verse grap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depth-first order, starting at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1B71-B182-41AD-A430-9D6B5AC42DC5}" type="slidenum">
              <a:t>37</a:t>
            </a:fld>
          </a:p>
        </p:txBody>
      </p:sp>
    </p:spTree>
  </p:cSld>
  <p:transition>
    <p:cover dir="u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pth-first search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erative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raverse grap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depth-first order, starting at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sta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ntain only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mar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ch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sta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not empty,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e the top elemen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sta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sit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ach unreached success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3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sta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mar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 reach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AD8B-7178-4633-8B1A-C22D2815A216}" type="slidenum">
              <a:t>38</a:t>
            </a:fld>
          </a:p>
        </p:txBody>
      </p:sp>
    </p:spTree>
  </p:cSld>
  <p:transition>
    <p:cover dir="u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Breadth-first search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breadth-first sear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xplores all of the successors of a node, before it considers any of the successors’ success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visits nodes in increasing order of the number of edges on the shortest path between each node and the star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871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886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901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916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931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946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961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976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117080" y="4394160"/>
            <a:ext cx="7196040" cy="1120680"/>
            <a:chOff x="1117080" y="4394160"/>
            <a:chExt cx="7196040" cy="1120680"/>
          </a:xfrm>
        </p:grpSpPr>
        <p:sp>
          <p:nvSpPr>
            <p:cNvPr id="991" name=""/>
            <p:cNvSpPr/>
            <p:nvPr/>
          </p:nvSpPr>
          <p:spPr>
            <a:xfrm flipV="1">
              <a:off x="1573200" y="45943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203640" y="4667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2360" y="4394160"/>
              <a:ext cx="6836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85760" y="4738680"/>
              <a:ext cx="92736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55240" y="4738680"/>
              <a:ext cx="883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998160" y="5027760"/>
              <a:ext cx="78408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71600" y="4970520"/>
              <a:ext cx="92880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70160" y="4394160"/>
              <a:ext cx="861840" cy="48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573200" y="50277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17080" y="4810320"/>
              <a:ext cx="383400" cy="243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03640" y="52434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4861080" y="502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861080" y="46674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588000" y="49546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567C-897A-4E0C-8530-86B65C170CCE}" type="slidenum">
              <a:t>39</a:t>
            </a:fld>
          </a:p>
        </p:txBody>
      </p:sp>
    </p:spTree>
  </p:cSld>
  <p:transition>
    <p:cover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Graph concept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 directed graph,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n edge connecting nod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sour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destin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in-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ut-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success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predecess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in-deg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node is its number of in-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ut-deg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node is its number of out-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8F62-4AE4-4073-8D2B-5334AE0C66E5}" type="slidenum">
              <a:t>4</a:t>
            </a:fld>
          </a:p>
        </p:txBody>
      </p:sp>
    </p:spTree>
  </p:cSld>
  <p:transition>
    <p:cover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Breadth-first search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erative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raverse grap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breadth-first order, starting at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ntain only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mar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ch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not empty,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e the front elemen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sit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ach unreached success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3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mar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 reach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42DB-1D64-4885-A6F2-0BC7F9789471}" type="slidenum">
              <a:t>40</a:t>
            </a:fld>
          </a:p>
        </p:txBody>
      </p:sp>
    </p:spTree>
  </p:cSld>
  <p:transition>
    <p:cover dir="u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opological sor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topological order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directed graph is a list of nodes such that, for each node, all successors of that node come after it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rected acyclic graph has at least one, and possibly several, topological orde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rected cyclic graph has no possible topological ord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F977-DAF0-4304-9608-A1FF0C8D8382}" type="slidenum">
              <a:t>41</a:t>
            </a:fld>
          </a:p>
        </p:txBody>
      </p:sp>
    </p:spTree>
  </p:cSld>
  <p:transition>
    <p:cover dir="u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opological sor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i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no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in-degre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ever we add a node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de-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decrem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all of its successor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nodes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 are ready to be adde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de-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a queue of nodes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o keep track of nodes ready to be adde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de-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tialise this queue with all nodes with an init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DDB1-70E1-4EC1-991D-619A8D8F1EF8}" type="slidenum">
              <a:t>42</a:t>
            </a:fld>
          </a:p>
        </p:txBody>
      </p:sp>
    </p:spTree>
  </p:cSld>
  <p:transition>
    <p:cover dir="u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opological sor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find a topological ordering of directed acyclic grap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li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mpt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mpt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ach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the in-degree of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, add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not empty,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e the front elemen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 the last elemen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li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ach success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repeat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3.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remen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3.2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, add no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que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. Terminate with answe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de-li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BB6D-9698-4A4D-B453-F545556EF8B2}" type="slidenum">
              <a:t>43</a:t>
            </a:fld>
          </a:p>
        </p:txBody>
      </p:sp>
    </p:spTree>
  </p:cSld>
  <p:transition>
    <p:cover dir="u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opological sor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20000" y="2997360"/>
            <a:ext cx="7593120" cy="1726200"/>
            <a:chOff x="720000" y="2997360"/>
            <a:chExt cx="7593120" cy="1726200"/>
          </a:xfrm>
        </p:grpSpPr>
        <p:sp>
          <p:nvSpPr>
            <p:cNvPr id="1016" name=""/>
            <p:cNvSpPr/>
            <p:nvPr/>
          </p:nvSpPr>
          <p:spPr>
            <a:xfrm flipV="1">
              <a:off x="1573200" y="3296880"/>
              <a:ext cx="649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03640" y="336996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32360" y="309708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385760" y="344160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55240" y="344160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98160" y="373032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71600" y="3673440"/>
              <a:ext cx="92880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70160" y="3097080"/>
              <a:ext cx="8618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73200" y="373032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117080" y="3512880"/>
              <a:ext cx="3834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03640" y="394632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4861080" y="372996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61080" y="336996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88000" y="365760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013760" y="335736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37760" y="302580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93400" y="299736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49400" y="335736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78120" y="338436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93400" y="364464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37760" y="3601800"/>
              <a:ext cx="10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0000" y="4479840"/>
              <a:ext cx="10234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«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20000" y="2997360"/>
            <a:ext cx="7593120" cy="1726200"/>
            <a:chOff x="720000" y="2997360"/>
            <a:chExt cx="7593120" cy="1726200"/>
          </a:xfrm>
        </p:grpSpPr>
        <p:grpSp>
          <p:nvGrpSpPr>
            <p:cNvPr id="1039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720000" y="4479840"/>
              <a:ext cx="10234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«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721800" y="2997360"/>
            <a:ext cx="7591320" cy="1726200"/>
            <a:chOff x="721800" y="2997360"/>
            <a:chExt cx="7591320" cy="1726200"/>
          </a:xfrm>
        </p:grpSpPr>
        <p:grpSp>
          <p:nvGrpSpPr>
            <p:cNvPr id="1063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064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5" name=""/>
            <p:cNvSpPr/>
            <p:nvPr/>
          </p:nvSpPr>
          <p:spPr>
            <a:xfrm>
              <a:off x="721800" y="4479840"/>
              <a:ext cx="14058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«Start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725760" y="2997360"/>
            <a:ext cx="7587360" cy="1726200"/>
            <a:chOff x="725760" y="2997360"/>
            <a:chExt cx="7587360" cy="1726200"/>
          </a:xfrm>
        </p:grpSpPr>
        <p:grpSp>
          <p:nvGrpSpPr>
            <p:cNvPr id="1087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088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725760" y="4479840"/>
              <a:ext cx="30441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«Start, Fill pan with water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730440" y="2997360"/>
            <a:ext cx="7582680" cy="1726200"/>
            <a:chOff x="730440" y="2997360"/>
            <a:chExt cx="7582680" cy="1726200"/>
          </a:xfrm>
        </p:grpSpPr>
        <p:grpSp>
          <p:nvGrpSpPr>
            <p:cNvPr id="1111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112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30440" y="4479840"/>
              <a:ext cx="48729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«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rt, Fill pan with water, Take egg from frid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734040" y="2997360"/>
            <a:ext cx="7579080" cy="1726200"/>
            <a:chOff x="734040" y="2997360"/>
            <a:chExt cx="7579080" cy="1726200"/>
          </a:xfrm>
        </p:grpSpPr>
        <p:grpSp>
          <p:nvGrpSpPr>
            <p:cNvPr id="1135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136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734040" y="4479840"/>
              <a:ext cx="63648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«Start, Fill pan with water, Take egg from fridge, Add salt to water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735840" y="2997360"/>
            <a:ext cx="7802280" cy="1969560"/>
            <a:chOff x="735840" y="2997360"/>
            <a:chExt cx="7802280" cy="1969560"/>
          </a:xfrm>
        </p:grpSpPr>
        <p:grpSp>
          <p:nvGrpSpPr>
            <p:cNvPr id="1159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160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735840" y="4479840"/>
              <a:ext cx="78022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«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rt, Fill pan with water, Take egg from fridge, Add salt to water, Place egg in pan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736920" y="2997360"/>
            <a:ext cx="7800480" cy="1969560"/>
            <a:chOff x="736920" y="2997360"/>
            <a:chExt cx="7800480" cy="1969560"/>
          </a:xfrm>
        </p:grpSpPr>
        <p:grpSp>
          <p:nvGrpSpPr>
            <p:cNvPr id="1183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736920" y="4479840"/>
              <a:ext cx="78004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: «Start, Fill pan with water, Take egg from fridge, Add salt to water, Place egg in pan,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t water to boiling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36920" y="2997360"/>
            <a:ext cx="7800480" cy="1969560"/>
            <a:chOff x="736920" y="2997360"/>
            <a:chExt cx="7800480" cy="1969560"/>
          </a:xfrm>
        </p:grpSpPr>
        <p:grpSp>
          <p:nvGrpSpPr>
            <p:cNvPr id="1207" name=""/>
            <p:cNvGrpSpPr/>
            <p:nvPr/>
          </p:nvGrpSpPr>
          <p:grpSpPr>
            <a:xfrm>
              <a:off x="1013760" y="2997360"/>
              <a:ext cx="7299360" cy="1220040"/>
              <a:chOff x="1013760" y="2997360"/>
              <a:chExt cx="7299360" cy="1220040"/>
            </a:xfrm>
          </p:grpSpPr>
          <p:sp>
            <p:nvSpPr>
              <p:cNvPr id="1208" name=""/>
              <p:cNvSpPr/>
              <p:nvPr/>
            </p:nvSpPr>
            <p:spPr>
              <a:xfrm flipV="1">
                <a:off x="1573200" y="3296880"/>
                <a:ext cx="64944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203640" y="336996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032360" y="3097080"/>
                <a:ext cx="6836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dd salt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385760" y="3441600"/>
                <a:ext cx="92736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immer fo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 minu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655240" y="3441600"/>
                <a:ext cx="88308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eat wa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o boi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998160" y="3730320"/>
                <a:ext cx="78408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lac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n p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271600" y="3673440"/>
                <a:ext cx="92880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Take egg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om fri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270160" y="3097080"/>
                <a:ext cx="861840" cy="48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ill pa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ith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573200" y="3730320"/>
                <a:ext cx="64944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17080" y="3512880"/>
                <a:ext cx="383400" cy="243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ta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203640" y="3946320"/>
                <a:ext cx="71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4861080" y="372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61080" y="3369960"/>
                <a:ext cx="71892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588000" y="3657600"/>
                <a:ext cx="71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01376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237760" y="3025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893400" y="299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549400" y="3357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278120" y="338436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93400" y="364464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237760" y="3601800"/>
                <a:ext cx="102960" cy="243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736920" y="4479840"/>
              <a:ext cx="78004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ode-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: «Start, Fill pan with water, Take egg from fridge, Add salt to water, Place egg in pan,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t water to boiling, Simmer for 4 minutes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D287-6947-4A74-B37E-C1725F54073E}" type="slidenum">
              <a:t>44</a:t>
            </a:fld>
          </a:p>
        </p:txBody>
      </p:sp>
    </p:spTree>
  </p:cSld>
  <p:transition>
    <p:cover dir="u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Graph concept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pa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list of nodes such that each node and its successor in the list are connected by an 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cyc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path whose first and last node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cycli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grap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one that contains at least on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acycli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grap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one that contains no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8328-2FB0-43BA-BD59-065D2B12A985}" type="slidenum">
              <a:t>5</a:t>
            </a:fld>
          </a:p>
        </p:txBody>
      </p:sp>
    </p:spTree>
  </p:cSld>
  <p:transition>
    <p:cover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plications of graph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phs occur frequently both in real life and i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road netw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graph whose nodes are cities and whose edges are roads connecting these cities. The edge attributes are typically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pipel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netw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directed graph whose nodes are pumping stations and whose edges are pipelines connecti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activ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ch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directed graph whose nodes are activities and whose edges signify the order in which these activities must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C259-4B7F-49D9-A56C-785532E1E675}" type="slidenum">
              <a:t>6</a:t>
            </a:fld>
          </a:p>
        </p:txBody>
      </p:sp>
    </p:spTree>
  </p:cSld>
  <p:transition>
    <p:cover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plications of graph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ad net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66240" y="1413000"/>
            <a:ext cx="6887520" cy="4491720"/>
            <a:chOff x="966240" y="1413000"/>
            <a:chExt cx="6887520" cy="4491720"/>
          </a:xfrm>
        </p:grpSpPr>
        <p:sp>
          <p:nvSpPr>
            <p:cNvPr id="55" name=""/>
            <p:cNvSpPr/>
            <p:nvPr/>
          </p:nvSpPr>
          <p:spPr>
            <a:xfrm>
              <a:off x="3997440" y="2276640"/>
              <a:ext cx="576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5800" y="170028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997440" y="227664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16720" y="4221000"/>
              <a:ext cx="93492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436720" y="4941720"/>
              <a:ext cx="100980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4720" y="4221000"/>
              <a:ext cx="43200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21080" y="48690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18160" y="4869000"/>
              <a:ext cx="86364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3440" y="4221000"/>
              <a:ext cx="180036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3440" y="37162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33440" y="4869000"/>
              <a:ext cx="143964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61080" y="48690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3440" y="306864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3440" y="436392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3440" y="306864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3440" y="37162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49800" y="357336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149440" y="3573360"/>
              <a:ext cx="5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300360" y="3573360"/>
              <a:ext cx="8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005080" y="4221000"/>
              <a:ext cx="8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80560" y="1413000"/>
              <a:ext cx="42912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42160" y="3429000"/>
              <a:ext cx="9471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nche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86160" y="2824200"/>
              <a:ext cx="6318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arlis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65080" y="2133720"/>
              <a:ext cx="72324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lasg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9080" y="2133720"/>
              <a:ext cx="8604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inbur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84720" y="3429000"/>
              <a:ext cx="80244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iver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28000" y="4724280"/>
              <a:ext cx="6346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68720" y="4076640"/>
              <a:ext cx="10810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rmingh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85440" y="4724280"/>
              <a:ext cx="55404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rist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29080" y="4724280"/>
              <a:ext cx="7110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wans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45800" y="5445000"/>
              <a:ext cx="5295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x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57840" y="4076640"/>
              <a:ext cx="5446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ug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0880" y="4076640"/>
              <a:ext cx="9028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am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05440" y="5661000"/>
              <a:ext cx="108576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outhamp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9840" y="5661000"/>
              <a:ext cx="50832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59640" y="3429000"/>
              <a:ext cx="4852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6000" y="3429000"/>
              <a:ext cx="3618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98720" y="2824200"/>
              <a:ext cx="84492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ewcas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08000" y="468648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37080" y="1806480"/>
              <a:ext cx="15300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36800" y="2093760"/>
              <a:ext cx="15300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97080" y="252576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44480" y="314172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65440" y="3395520"/>
              <a:ext cx="15300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48120" y="339084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36720" y="3390840"/>
              <a:ext cx="15300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84480" y="314172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4480" y="378936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65440" y="4038480"/>
              <a:ext cx="15300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4480" y="443700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4480" y="378936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21080" y="450864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65400" y="515772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6280" y="526248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52880" y="437508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5840" y="439416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65440" y="469116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36720" y="501336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4000" y="306396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2080" y="3424320"/>
              <a:ext cx="5662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ub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240" y="2819520"/>
              <a:ext cx="57528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elf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5040" y="3137040"/>
              <a:ext cx="22932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73E9-95A5-4A7B-B376-304F274E9C21}" type="slidenum">
              <a:t>7</a:t>
            </a:fld>
          </a:p>
        </p:txBody>
      </p:sp>
    </p:spTree>
  </p:cSld>
  <p:transition>
    <p:cover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pplications of graph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Glasgow, Carlisle, Manchester, Birmingham, London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Swansea, Bristol, Exeter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Exeter, Bristol, Swansea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Carlisle, Glasgow, Perth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no edge connects Glasgow and Pe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210A-5D28-4B00-BFD0-3661D44A7724}" type="slidenum">
              <a:t>8</a:t>
            </a:fld>
          </a:p>
        </p:txBody>
      </p:sp>
    </p:spTree>
  </p:cSld>
  <p:transition>
    <p:cover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plications of graph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ctivity ch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17080" y="2349360"/>
            <a:ext cx="7196040" cy="1120680"/>
            <a:chOff x="1117080" y="2349360"/>
            <a:chExt cx="7196040" cy="1120680"/>
          </a:xfrm>
        </p:grpSpPr>
        <p:sp>
          <p:nvSpPr>
            <p:cNvPr id="122" name=""/>
            <p:cNvSpPr/>
            <p:nvPr/>
          </p:nvSpPr>
          <p:spPr>
            <a:xfrm flipV="1">
              <a:off x="1573200" y="2549520"/>
              <a:ext cx="649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3640" y="26226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2360" y="2349360"/>
              <a:ext cx="6836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dd salt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85760" y="2693880"/>
              <a:ext cx="92736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mmer fo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5240" y="2693880"/>
              <a:ext cx="883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eat wa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 boi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8160" y="2982960"/>
              <a:ext cx="78408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lac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 p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71600" y="2925720"/>
              <a:ext cx="92880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ke eg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om f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70160" y="2349360"/>
              <a:ext cx="861840" cy="48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l pan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73200" y="2982960"/>
              <a:ext cx="649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17080" y="2765520"/>
              <a:ext cx="3834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640" y="319860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61080" y="29826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61080" y="2622600"/>
              <a:ext cx="7189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8000" y="290988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84360" y="393372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a directed acyclic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6D44-622F-461F-9871-E1B93A82268D}" type="slidenum">
              <a:t>9</a:t>
            </a:fld>
          </a:p>
        </p:txBody>
      </p:sp>
    </p:spTree>
  </p:cSld>
  <p:transition>
    <p:cover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/>
  <dc:description/>
  <dc:language>en-US</dc:language>
  <cp:lastModifiedBy>David Watt</cp:lastModifiedBy>
  <cp:lastPrinted>2000-10-30T14:19:39Z</cp:lastPrinted>
  <dcterms:modified xsi:type="dcterms:W3CDTF">2004-04-02T13:47:00Z</dcterms:modified>
  <cp:revision>165</cp:revision>
  <dc:subject/>
  <dc:title>CM2002: Algorithms and Data Structures</dc:title>
</cp:coreProperties>
</file>