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533-B43A-4428-96EF-20C2633C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344-1162-4A57-A318-A123A0BF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E03-4100-462D-8BBB-EE4C38A3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9BF-9343-444E-8102-DA6058B5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9A3-C091-4F73-A769-CB27925D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E4D-5EA5-4DD0-B2BE-C344EE2D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567-5C97-40D8-99C7-6EAB0307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099-C4E1-46FB-A2EB-7A23D6EE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433-C314-4B41-9553-CBE5A73D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74E-5E30-42E5-995A-AF35E54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3D5-02BC-466D-B978-29194F3E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40A-1985-4F01-B6DD-0257F05F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1-</a:t>
            </a:r>
            <a:fld id="{286936A5-3008-4F67-9664-814DCCB99188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1</a:t>
            </a: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 vs.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data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5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14D-6546-4358-BABD-30B6C54E4BC7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quare roo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2133720"/>
            <a:ext cx="5334120" cy="2666880"/>
            <a:chOff x="1066680" y="2133720"/>
            <a:chExt cx="5334120" cy="2666880"/>
          </a:xfrm>
        </p:grpSpPr>
        <p:sp>
          <p:nvSpPr>
            <p:cNvPr id="249" name=""/>
            <p:cNvSpPr/>
            <p:nvPr/>
          </p:nvSpPr>
          <p:spPr>
            <a:xfrm>
              <a:off x="1066680" y="2133720"/>
              <a:ext cx="5334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10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3000" y="2210040"/>
              <a:ext cx="5181480" cy="18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approximately the positive square root of a positive numb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1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s approximately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066680" y="2133720"/>
            <a:ext cx="5334120" cy="2666880"/>
            <a:chOff x="1066680" y="2133720"/>
            <a:chExt cx="5334120" cy="2666880"/>
          </a:xfrm>
        </p:grpSpPr>
        <p:sp>
          <p:nvSpPr>
            <p:cNvPr id="254" name=""/>
            <p:cNvSpPr/>
            <p:nvPr/>
          </p:nvSpPr>
          <p:spPr>
            <a:xfrm>
              <a:off x="1066680" y="2133720"/>
              <a:ext cx="5334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23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000" y="2210040"/>
              <a:ext cx="5181480" cy="18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approximately the positive square root of a positive numb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the mean of 1 and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s approximately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339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066680" y="2133720"/>
            <a:ext cx="5334120" cy="2666880"/>
            <a:chOff x="1066680" y="2133720"/>
            <a:chExt cx="5334120" cy="2666880"/>
          </a:xfrm>
        </p:grpSpPr>
        <p:sp>
          <p:nvSpPr>
            <p:cNvPr id="261" name=""/>
            <p:cNvSpPr/>
            <p:nvPr/>
          </p:nvSpPr>
          <p:spPr>
            <a:xfrm>
              <a:off x="1066680" y="2133720"/>
              <a:ext cx="5334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810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3000" y="2210040"/>
              <a:ext cx="5181480" cy="18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approximately the positive square root of a positive numb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1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is approximately equal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339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526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066680" y="2133720"/>
            <a:ext cx="5334120" cy="2666880"/>
            <a:chOff x="1066680" y="2133720"/>
            <a:chExt cx="5334120" cy="2666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5334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623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43000" y="2210040"/>
              <a:ext cx="5181480" cy="18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approximately the positive square root of a positive numb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1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s approximately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the mean o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339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4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26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66680" y="2133720"/>
            <a:ext cx="5334120" cy="2666880"/>
            <a:chOff x="1066680" y="2133720"/>
            <a:chExt cx="5334120" cy="2666880"/>
          </a:xfrm>
        </p:grpSpPr>
        <p:sp>
          <p:nvSpPr>
            <p:cNvPr id="275" name=""/>
            <p:cNvSpPr/>
            <p:nvPr/>
          </p:nvSpPr>
          <p:spPr>
            <a:xfrm>
              <a:off x="1066680" y="2133720"/>
              <a:ext cx="5334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23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10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43000" y="2210040"/>
              <a:ext cx="5181480" cy="18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approximately the positive square root of a positive numb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1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is approximately equal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339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4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26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066680" y="2133720"/>
            <a:ext cx="5334120" cy="2666880"/>
            <a:chOff x="1066680" y="2133720"/>
            <a:chExt cx="5334120" cy="2666880"/>
          </a:xfrm>
        </p:grpSpPr>
        <p:sp>
          <p:nvSpPr>
            <p:cNvPr id="282" name=""/>
            <p:cNvSpPr/>
            <p:nvPr/>
          </p:nvSpPr>
          <p:spPr>
            <a:xfrm>
              <a:off x="1066680" y="2133720"/>
              <a:ext cx="5334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623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10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3000" y="2210040"/>
              <a:ext cx="5181480" cy="18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approximately the positive square root of a positive numb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1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s approximately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the mean of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339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4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526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066680" y="2133720"/>
            <a:ext cx="5334120" cy="2666880"/>
            <a:chOff x="1066680" y="2133720"/>
            <a:chExt cx="5334120" cy="2666880"/>
          </a:xfrm>
        </p:grpSpPr>
        <p:sp>
          <p:nvSpPr>
            <p:cNvPr id="289" name=""/>
            <p:cNvSpPr/>
            <p:nvPr/>
          </p:nvSpPr>
          <p:spPr>
            <a:xfrm>
              <a:off x="1066680" y="2133720"/>
              <a:ext cx="5334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43000" y="2210040"/>
              <a:ext cx="5181480" cy="18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approximately the positive square root of a positive numb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1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is approximately equal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339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4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066680" y="2133720"/>
            <a:ext cx="5334120" cy="2666880"/>
            <a:chOff x="1066680" y="2133720"/>
            <a:chExt cx="5334120" cy="2666880"/>
          </a:xfrm>
        </p:grpSpPr>
        <p:sp>
          <p:nvSpPr>
            <p:cNvPr id="296" name=""/>
            <p:cNvSpPr/>
            <p:nvPr/>
          </p:nvSpPr>
          <p:spPr>
            <a:xfrm>
              <a:off x="1066680" y="2133720"/>
              <a:ext cx="5334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23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810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000" y="2210040"/>
              <a:ext cx="5181480" cy="18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approximately the positive square root of a positive numb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1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s approximately equal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the mean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3920" y="4334040"/>
              <a:ext cx="76176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4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52680" y="432432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E9B-60F9-4E45-87D4-5FEE57A0C067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quare roo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in Ja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qr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pproximately the positive square root of posi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 = (1.0 + a)/2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Math.abs(r*r/a - 1.0) &gt;= 0.00005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 = (r + a/r)/2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4D1-CCF0-4AFA-8837-B6C1762958A3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lgorithms vs. progra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performed by humans 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expressed in any suitabl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as abstract as we li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performed by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expressed in a 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detailed and speci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ED8-8B4C-475F-8947-71B69E9127FE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lgorithms vs. progra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express our algorithms in (precis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may be numbered consecu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i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tent of a conditional is indicated by ind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…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i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tent of a loop is indicated by ind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…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i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2819520"/>
            <a:ext cx="2743200" cy="304560"/>
          </a:xfrm>
          <a:prstGeom prst="wedgeRectCallout">
            <a:avLst>
              <a:gd name="adj1" fmla="val -165046"/>
              <a:gd name="adj2" fmla="val 250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Do this and then do t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2720" y="4191120"/>
            <a:ext cx="2971800" cy="609480"/>
          </a:xfrm>
          <a:prstGeom prst="wedgeRectCallout">
            <a:avLst>
              <a:gd name="adj1" fmla="val -133546"/>
              <a:gd name="adj2" fmla="val 2291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Do this and then do that, but only if condition …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5638680"/>
            <a:ext cx="2971800" cy="609840"/>
          </a:xfrm>
          <a:prstGeom prst="wedgeRectCallout">
            <a:avLst>
              <a:gd name="adj1" fmla="val -135254"/>
              <a:gd name="adj2" fmla="val 4791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Do this and then do that, as long as condition …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2F9-A53E-4EE5-99AD-B45530D4A89C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lgorithms vs. program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wish to use the algorithm on a computer, we must first code it 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ay be many ways of coding the algorithm, and there is a wide choice of programming languages. But all the resulting programs are implementations of the same underlying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express our implementation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ternatives would be C, Pascal, Ad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6E0-24A2-4D8B-8F42-7F98D16A2C93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Data structures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stematic way of organizing a collection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c data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whose capacity is fixed at creatio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: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data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whose capacity is variable, so it can expand or contract at any tim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: linked list,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data structure we need algorithms for insertion, deletion, search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4E2-965E-461D-B719-14F835B40091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representing strings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data structures to represent the string “Java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143000" y="3429000"/>
            <a:ext cx="6172200" cy="305280"/>
            <a:chOff x="1143000" y="3429000"/>
            <a:chExt cx="6172200" cy="305280"/>
          </a:xfrm>
        </p:grpSpPr>
        <p:sp>
          <p:nvSpPr>
            <p:cNvPr id="324" name=""/>
            <p:cNvSpPr/>
            <p:nvPr/>
          </p:nvSpPr>
          <p:spPr>
            <a:xfrm>
              <a:off x="2438280" y="3429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00400" y="3429000"/>
              <a:ext cx="6858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3400" y="3429000"/>
              <a:ext cx="6858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86400" y="3429000"/>
              <a:ext cx="6858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29400" y="3429000"/>
              <a:ext cx="68580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43000" y="3429000"/>
              <a:ext cx="121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nked lis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3920" y="35910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76920" y="35910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19920" y="35910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62920" y="35910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35910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143000" y="2284560"/>
            <a:ext cx="2819520" cy="535320"/>
            <a:chOff x="1143000" y="2284560"/>
            <a:chExt cx="2819520" cy="535320"/>
          </a:xfrm>
        </p:grpSpPr>
        <p:sp>
          <p:nvSpPr>
            <p:cNvPr id="336" name=""/>
            <p:cNvSpPr/>
            <p:nvPr/>
          </p:nvSpPr>
          <p:spPr>
            <a:xfrm>
              <a:off x="2438280" y="2514600"/>
              <a:ext cx="3812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9520" y="2514600"/>
              <a:ext cx="3808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00400" y="2514600"/>
              <a:ext cx="3808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3000" y="2514600"/>
              <a:ext cx="76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rra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38280" y="2287440"/>
              <a:ext cx="381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2514600"/>
              <a:ext cx="3812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19520" y="2286000"/>
              <a:ext cx="3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0400" y="2284560"/>
              <a:ext cx="3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2286000"/>
              <a:ext cx="381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A4E-72E2-4B68-AED6-B74EAC7C32CE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representing sets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data structures to represent the set of wor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at, cat, mat, rat, sat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62120" y="3435480"/>
            <a:ext cx="7772400" cy="610200"/>
            <a:chOff x="762120" y="3435480"/>
            <a:chExt cx="7772400" cy="610200"/>
          </a:xfrm>
        </p:grpSpPr>
        <p:sp>
          <p:nvSpPr>
            <p:cNvPr id="349" name=""/>
            <p:cNvSpPr/>
            <p:nvPr/>
          </p:nvSpPr>
          <p:spPr>
            <a:xfrm>
              <a:off x="762120" y="3435480"/>
              <a:ext cx="1143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Sorted) linked lis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133720" y="3591000"/>
              <a:ext cx="6400800" cy="305280"/>
              <a:chOff x="2133720" y="3591000"/>
              <a:chExt cx="6400800" cy="305280"/>
            </a:xfrm>
          </p:grpSpPr>
          <p:sp>
            <p:nvSpPr>
              <p:cNvPr id="351" name=""/>
              <p:cNvSpPr/>
              <p:nvPr/>
            </p:nvSpPr>
            <p:spPr>
              <a:xfrm>
                <a:off x="2133720" y="3591000"/>
                <a:ext cx="304920" cy="3045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95840" y="3591000"/>
                <a:ext cx="76176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b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114800" y="3591000"/>
                <a:ext cx="76212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34120" y="3591000"/>
                <a:ext cx="76212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m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553440" y="3591000"/>
                <a:ext cx="76176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r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72400" y="3591000"/>
                <a:ext cx="76212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05320" y="37530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24640" y="37530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43600" y="3753000"/>
                <a:ext cx="609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62920" y="37530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86000" y="3753000"/>
                <a:ext cx="609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82240" y="373392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762120" y="2468520"/>
            <a:ext cx="7467480" cy="808560"/>
            <a:chOff x="762120" y="2468520"/>
            <a:chExt cx="7467480" cy="808560"/>
          </a:xfrm>
        </p:grpSpPr>
        <p:sp>
          <p:nvSpPr>
            <p:cNvPr id="364" name=""/>
            <p:cNvSpPr/>
            <p:nvPr/>
          </p:nvSpPr>
          <p:spPr>
            <a:xfrm>
              <a:off x="762120" y="2666880"/>
              <a:ext cx="1143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Sorted) arra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133720" y="2468520"/>
              <a:ext cx="6095880" cy="579600"/>
              <a:chOff x="2133720" y="2468520"/>
              <a:chExt cx="6095880" cy="579600"/>
            </a:xfrm>
          </p:grpSpPr>
          <p:sp>
            <p:nvSpPr>
              <p:cNvPr id="366" name=""/>
              <p:cNvSpPr/>
              <p:nvPr/>
            </p:nvSpPr>
            <p:spPr>
              <a:xfrm>
                <a:off x="2133720" y="2468520"/>
                <a:ext cx="762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133720" y="2733840"/>
                <a:ext cx="76212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b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95840" y="2733840"/>
                <a:ext cx="76176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57600" y="2733840"/>
                <a:ext cx="76212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m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19720" y="2733840"/>
                <a:ext cx="76212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r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181840" y="2733840"/>
                <a:ext cx="76176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3600" y="2733840"/>
                <a:ext cx="762120" cy="314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5720" y="2733840"/>
                <a:ext cx="762120" cy="314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67840" y="2733840"/>
                <a:ext cx="761760" cy="314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95840" y="2468520"/>
                <a:ext cx="76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657600" y="2468520"/>
                <a:ext cx="762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19720" y="2468520"/>
                <a:ext cx="762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81840" y="2468520"/>
                <a:ext cx="76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43600" y="2468520"/>
                <a:ext cx="762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2468520"/>
                <a:ext cx="762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467840" y="2468520"/>
                <a:ext cx="76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762120" y="4238640"/>
            <a:ext cx="5410080" cy="1695960"/>
            <a:chOff x="762120" y="4238640"/>
            <a:chExt cx="5410080" cy="1695960"/>
          </a:xfrm>
        </p:grpSpPr>
        <p:sp>
          <p:nvSpPr>
            <p:cNvPr id="383" name=""/>
            <p:cNvSpPr/>
            <p:nvPr/>
          </p:nvSpPr>
          <p:spPr>
            <a:xfrm>
              <a:off x="762120" y="4238640"/>
              <a:ext cx="11430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inary search tre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2133720" y="4410000"/>
              <a:ext cx="4038480" cy="1524600"/>
              <a:chOff x="2133720" y="4410000"/>
              <a:chExt cx="4038480" cy="1524600"/>
            </a:xfrm>
          </p:grpSpPr>
          <p:sp>
            <p:nvSpPr>
              <p:cNvPr id="385" name=""/>
              <p:cNvSpPr/>
              <p:nvPr/>
            </p:nvSpPr>
            <p:spPr>
              <a:xfrm>
                <a:off x="2133720" y="4419720"/>
                <a:ext cx="304920" cy="3045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276720" y="5019840"/>
                <a:ext cx="76212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b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10240" y="4410000"/>
                <a:ext cx="76176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343400" y="5629320"/>
                <a:ext cx="76212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m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76920" y="5019840"/>
                <a:ext cx="76212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r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10440" y="5629320"/>
                <a:ext cx="761760" cy="30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657240" y="4648320"/>
                <a:ext cx="22860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96040" y="4648320"/>
                <a:ext cx="76176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4724280" y="5257800"/>
                <a:ext cx="22860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62720" y="5257800"/>
                <a:ext cx="22860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096240" y="586728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86400" y="586728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29200" y="586728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419720" y="586728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62520" y="525780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353040" y="525780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0" y="4572000"/>
                <a:ext cx="152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68F-D3C9-46AB-B455-A4E152E0B707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Abstract data types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e write application code, we don’t care how strings are represented: we just declare variables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manipulate them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we don’t care how sets are represented: we just declare variables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manipulate them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data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ata type whose representation is hidden from, and of no concern to, the application co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data types are an excellent way to design large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B9A-6161-4C92-BE8D-CAEE49EA338C}" type="slidenum">
              <a:t>18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What is an algorithm?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ep-by-step procedure for solving a stated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consider the problem of multiplying two numbers. There are many possible algorithms for solving this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using a table (suitable only for small numb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using loga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using a slid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fixed-point or floating-point multiplication (in a compu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41D-D4D3-4152-ACB2-BC2507E32F5B}" type="slidenum">
              <a:t>2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istory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clid (~ 300 BCE), Eratosthenes (~ 200 BCE)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– arithmetic, geometric 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Khwarizmi (~ 800)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– arithmetic, algebraic, geometric 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er (~ 1600)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– arithmetic using loga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on (~ 1700)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– differentiation, integ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ing (~ 1940)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– code breaking, solv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C00-3D64-4C40-B307-954F5A9ACBEA}" type="slidenum">
              <a:t>3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finding a midpoi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point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the midpoint of a given straight-line segment A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intersecting circles of equal radius, centered at A and B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C and D be the points where the circles interse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a straight line between C and 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E be the point where CD intersects AB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 with answer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performed by a human equipped with drawing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4C6-FA03-4899-B747-068512F387C2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762120" y="2057400"/>
            <a:ext cx="7238880" cy="4515120"/>
            <a:chOff x="762120" y="2057400"/>
            <a:chExt cx="7238880" cy="4515120"/>
          </a:xfrm>
        </p:grpSpPr>
        <p:sp>
          <p:nvSpPr>
            <p:cNvPr id="57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412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0696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02600" y="5181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8080" y="2209680"/>
              <a:ext cx="312444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412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0696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2600" y="5181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080" y="2209680"/>
              <a:ext cx="312444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finding a midpoint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62120" y="2057400"/>
            <a:ext cx="7238880" cy="4515120"/>
            <a:chOff x="762120" y="2057400"/>
            <a:chExt cx="7238880" cy="4515120"/>
          </a:xfrm>
        </p:grpSpPr>
        <p:sp>
          <p:nvSpPr>
            <p:cNvPr id="70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76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0660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2600" y="5181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2209680"/>
              <a:ext cx="3123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376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0660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2600" y="5181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2209680"/>
              <a:ext cx="3123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38480" y="2133720"/>
              <a:ext cx="2590560" cy="259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3809880"/>
              <a:ext cx="2590200" cy="259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62120" y="2057400"/>
            <a:ext cx="7238880" cy="4515120"/>
            <a:chOff x="762120" y="2057400"/>
            <a:chExt cx="7238880" cy="4515120"/>
          </a:xfrm>
        </p:grpSpPr>
        <p:sp>
          <p:nvSpPr>
            <p:cNvPr id="83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376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0660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5181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2209680"/>
              <a:ext cx="3123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376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0660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600" y="5181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209680"/>
              <a:ext cx="3123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38480" y="2133720"/>
              <a:ext cx="2590560" cy="259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3809880"/>
              <a:ext cx="2590200" cy="259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376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660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600" y="5181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2209680"/>
              <a:ext cx="3123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78360" y="4724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06800" y="342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8480" y="2133720"/>
              <a:ext cx="2590560" cy="259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57800" y="3809880"/>
              <a:ext cx="2590200" cy="259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53080" y="3809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3760" y="472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62120" y="2057400"/>
            <a:ext cx="7238880" cy="4515120"/>
            <a:chOff x="762120" y="2057400"/>
            <a:chExt cx="7238880" cy="4515120"/>
          </a:xfrm>
        </p:grpSpPr>
        <p:sp>
          <p:nvSpPr>
            <p:cNvPr id="107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376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0660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2600" y="5181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2209680"/>
              <a:ext cx="3123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4724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6800" y="342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480" y="2133720"/>
              <a:ext cx="2590560" cy="259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57800" y="3809880"/>
              <a:ext cx="2590200" cy="259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33760" y="380988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3809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3760" y="4724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120" y="2057400"/>
            <a:ext cx="7238880" cy="4515480"/>
            <a:chOff x="762120" y="2057400"/>
            <a:chExt cx="7238880" cy="4515480"/>
          </a:xfrm>
        </p:grpSpPr>
        <p:sp>
          <p:nvSpPr>
            <p:cNvPr id="120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376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0660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2600" y="51818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2210040"/>
              <a:ext cx="3123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47246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6800" y="342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6080" y="40989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43600" y="4267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8480" y="2133720"/>
              <a:ext cx="2590560" cy="259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3810240"/>
              <a:ext cx="2590200" cy="259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333760" y="381024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53080" y="3810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376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62120" y="2057400"/>
            <a:ext cx="7238880" cy="4515480"/>
            <a:chOff x="762120" y="2057400"/>
            <a:chExt cx="7238880" cy="4515480"/>
          </a:xfrm>
        </p:grpSpPr>
        <p:sp>
          <p:nvSpPr>
            <p:cNvPr id="135" name=""/>
            <p:cNvSpPr/>
            <p:nvPr/>
          </p:nvSpPr>
          <p:spPr>
            <a:xfrm>
              <a:off x="762120" y="2057400"/>
              <a:ext cx="7238880" cy="441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3760" y="3429000"/>
              <a:ext cx="121896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6600" y="2971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2600" y="51818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80" y="2210040"/>
              <a:ext cx="3123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intersecting circle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equal radius, center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A and B respectively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C and D be th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ints where the circl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sect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raw a straight lin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ween C and D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t E be the point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re CD intersects AB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 with answer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8360" y="47246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6800" y="342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86080" y="40989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2674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2133720"/>
              <a:ext cx="2590560" cy="259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57800" y="3810240"/>
              <a:ext cx="2590200" cy="259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333760" y="381024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53080" y="3810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3760" y="47246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8D3-A87D-47FB-A3C5-03E257323E0F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GCD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est common divi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two positive integers is the largest integer that exactly divides both. E.g., the GCD of 77 and 21 is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clid’s GCD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mpute the GCD of positive integ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actly divi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performed by a human, perhaps equipped with an abacus or calcu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CD2-03F3-4A3A-B4D2-CA427C5027A4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GCD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133720"/>
            <a:ext cx="5334120" cy="2971800"/>
            <a:chOff x="1066680" y="2133720"/>
            <a:chExt cx="5334120" cy="2971800"/>
          </a:xfrm>
        </p:grpSpPr>
        <p:sp>
          <p:nvSpPr>
            <p:cNvPr id="156" name=""/>
            <p:cNvSpPr/>
            <p:nvPr/>
          </p:nvSpPr>
          <p:spPr>
            <a:xfrm>
              <a:off x="1066680" y="2133720"/>
              <a:ext cx="533412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1960" y="409608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8108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210040"/>
              <a:ext cx="51814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the GCD of positive integer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xactly divide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odul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1280" y="409608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0400" y="4086360"/>
              <a:ext cx="30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066680" y="2133720"/>
            <a:ext cx="5334120" cy="2971800"/>
            <a:chOff x="1066680" y="2133720"/>
            <a:chExt cx="5334120" cy="2971800"/>
          </a:xfrm>
        </p:grpSpPr>
        <p:sp>
          <p:nvSpPr>
            <p:cNvPr id="163" name=""/>
            <p:cNvSpPr/>
            <p:nvPr/>
          </p:nvSpPr>
          <p:spPr>
            <a:xfrm>
              <a:off x="1066680" y="2133720"/>
              <a:ext cx="533412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2320" y="409608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8108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43000" y="2210040"/>
              <a:ext cx="51814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the GCD of positive integer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xactly divide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odul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409608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040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2320" y="463896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1280" y="463896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066680" y="2133720"/>
            <a:ext cx="5334120" cy="2971800"/>
            <a:chOff x="1066680" y="2133720"/>
            <a:chExt cx="5334120" cy="2971800"/>
          </a:xfrm>
        </p:grpSpPr>
        <p:sp>
          <p:nvSpPr>
            <p:cNvPr id="174" name=""/>
            <p:cNvSpPr/>
            <p:nvPr/>
          </p:nvSpPr>
          <p:spPr>
            <a:xfrm>
              <a:off x="1066680" y="2133720"/>
              <a:ext cx="533412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62320" y="409608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108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2210040"/>
              <a:ext cx="51814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the GCD of positive integer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exactly divide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odul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409608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40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463896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8108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463896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040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066680" y="2133720"/>
            <a:ext cx="5334120" cy="2971800"/>
            <a:chOff x="1066680" y="2133720"/>
            <a:chExt cx="5334120" cy="2971800"/>
          </a:xfrm>
        </p:grpSpPr>
        <p:sp>
          <p:nvSpPr>
            <p:cNvPr id="185" name=""/>
            <p:cNvSpPr/>
            <p:nvPr/>
          </p:nvSpPr>
          <p:spPr>
            <a:xfrm>
              <a:off x="1066680" y="2133720"/>
              <a:ext cx="533412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409608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000" y="2210040"/>
              <a:ext cx="51814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the GCD of positive integer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xactly divide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(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modul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280" y="409608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040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463896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108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1280" y="463896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0040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133720"/>
            <a:ext cx="5334120" cy="2971800"/>
            <a:chOff x="1066680" y="2133720"/>
            <a:chExt cx="5334120" cy="2971800"/>
          </a:xfrm>
        </p:grpSpPr>
        <p:sp>
          <p:nvSpPr>
            <p:cNvPr id="196" name=""/>
            <p:cNvSpPr/>
            <p:nvPr/>
          </p:nvSpPr>
          <p:spPr>
            <a:xfrm>
              <a:off x="1066680" y="2133720"/>
              <a:ext cx="533412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62320" y="409608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8108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2210040"/>
              <a:ext cx="51814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the GCD of positive integer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exactly divide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odul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1280" y="409608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0040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2320" y="463896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8108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463896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0040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6680" y="2133720"/>
            <a:ext cx="5334120" cy="2971800"/>
            <a:chOff x="1066680" y="2133720"/>
            <a:chExt cx="5334120" cy="2971800"/>
          </a:xfrm>
        </p:grpSpPr>
        <p:sp>
          <p:nvSpPr>
            <p:cNvPr id="207" name=""/>
            <p:cNvSpPr/>
            <p:nvPr/>
          </p:nvSpPr>
          <p:spPr>
            <a:xfrm>
              <a:off x="1066680" y="2133720"/>
              <a:ext cx="533412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62320" y="409608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108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3000" y="2210040"/>
              <a:ext cx="51814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the GCD of positive integer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xactly divide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to (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modulo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81280" y="409608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40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2320" y="463896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463896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66680" y="2133720"/>
            <a:ext cx="5334120" cy="2971800"/>
            <a:chOff x="1066680" y="2133720"/>
            <a:chExt cx="5334120" cy="2971800"/>
          </a:xfrm>
        </p:grpSpPr>
        <p:sp>
          <p:nvSpPr>
            <p:cNvPr id="218" name=""/>
            <p:cNvSpPr/>
            <p:nvPr/>
          </p:nvSpPr>
          <p:spPr>
            <a:xfrm>
              <a:off x="1066680" y="2133720"/>
              <a:ext cx="533412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09608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8108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43000" y="2210040"/>
              <a:ext cx="51814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the GCD of positive integer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exactly divide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odul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81280" y="409608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040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463896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63896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040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066680" y="2133720"/>
            <a:ext cx="5334120" cy="2971800"/>
            <a:chOff x="1066680" y="2133720"/>
            <a:chExt cx="5334120" cy="2971800"/>
          </a:xfrm>
        </p:grpSpPr>
        <p:sp>
          <p:nvSpPr>
            <p:cNvPr id="229" name=""/>
            <p:cNvSpPr/>
            <p:nvPr/>
          </p:nvSpPr>
          <p:spPr>
            <a:xfrm>
              <a:off x="1066680" y="2133720"/>
              <a:ext cx="533412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409608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8108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3000" y="2210040"/>
              <a:ext cx="51814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3808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compute the GCD of positive integer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ti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xactly divide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1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and set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odul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erminate with answer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409608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408636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62320" y="4638960"/>
              <a:ext cx="60948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108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81280" y="4638960"/>
              <a:ext cx="609840" cy="30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0400" y="4629240"/>
              <a:ext cx="30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5AC-8E77-4B39-8B20-7C33B3643169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GCD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in Ja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cd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he greatest common divisor of positive intege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 = m, q = 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p % q != 0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 = p % q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q;  q = 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q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641-2F40-4D34-B3F5-AC8AAEC81557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quare root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positive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ositive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ton’s square-root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mpute approximately the positive square root of a positive nu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mean of 1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pproximately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mea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performed by a human, perhaps equipped with log tables or a calcu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E34-150B-4C1B-8498-68940EB00DCC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30T14:06:00Z</cp:lastPrinted>
  <dcterms:modified xsi:type="dcterms:W3CDTF">2002-01-03T10:10:29Z</dcterms:modified>
  <cp:revision>176</cp:revision>
  <dc:subject/>
  <dc:title>Formalizing the Dynamic Semantics of Java</dc:title>
</cp:coreProperties>
</file>