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21.jpeg" ContentType="image/jpeg"/>
  <Override PartName="/ppt/media/image2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32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0.jpeg" ContentType="image/jpeg"/>
  <Override PartName="/ppt/media/image31.jpeg" ContentType="image/jpeg"/>
  <Override PartName="/ppt/media/image36.jpeg" ContentType="image/jpeg"/>
  <Override PartName="/ppt/media/image41.jpeg" ContentType="image/jpeg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FEB-4C17-4F45-9C36-AA0B15E4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1D4-8B55-4F54-AF12-C2329C74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B31-BDF4-4588-81E6-8D7AA015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548-5BCE-4764-86A0-55CA1478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5D6-A6E4-47E4-81C1-B9A7767F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2F8-1F14-47C5-AB86-4902B896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747-E47C-4DCF-BE4E-E0F9EA30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A32-388D-4AA2-B1B4-6F3942E0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D5A-49D1-4B61-A557-E5CAE629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E5A-5009-47CD-89AE-277C977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99B-86C7-4DE5-BD2C-AC421250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EF4-1D06-42B3-A9DF-7845A2E5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CF66-1907-425F-8CE9-858ED195AF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google.co.uk/url?sa=i&amp;rct=j&amp;q=your+mission+should+you+choose+to+accept+it&amp;source=images&amp;cd=&amp;cad=rja&amp;docid=3XtvczFon4Qd5M&amp;tbnid=reE2RYq0hGyUfM:&amp;ved=0CAUQjRw&amp;url=http://neilojwilliams.net/missioncreep/2009/your-mission-should-you-choose-to-accept-it/&amp;ei=rvgPUYqdFOeY0QWMz4DgCw&amp;bvm=bv.41867550,d.d2k&amp;psig=AFQjCNEXS9q9Iz_IiT4hv9rVoHocnFy5yA&amp;ust=1360087558354028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google.co.uk/url?sa=i&amp;rct=j&amp;q=your+mission+should+you+choose+to+accept+it&amp;source=images&amp;cd=&amp;cad=rja&amp;docid=3XtvczFon4Qd5M&amp;tbnid=reE2RYq0hGyUfM:&amp;ved=0CAUQjRw&amp;url=http://neilojwilliams.net/missioncreep/2009/your-mission-should-you-choose-to-accept-it/&amp;ei=rvgPUYqdFOeY0QWMz4DgCw&amp;bvm=bv.41867550,d.d2k&amp;psig=AFQjCNEXS9q9Iz_IiT4hv9rVoHocnFy5yA&amp;ust=1360087558354028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diis.unizar.es/asignaturas/EDA/AVLTree/avltree.html" TargetMode="Externa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16FA-5626-4364-928D-E2D014E83B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inary Search Tr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8" descr="austinPowers00"/>
          <p:cNvPicPr/>
          <p:nvPr/>
        </p:nvPicPr>
        <p:blipFill>
          <a:blip r:embed="rId1"/>
          <a:stretch/>
        </p:blipFill>
        <p:spPr>
          <a:xfrm>
            <a:off x="0" y="4276800"/>
            <a:ext cx="17715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5BFA-86F1-44AC-8148-F185B2DC00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4" descr="austinPowers02"/>
          <p:cNvPicPr/>
          <p:nvPr/>
        </p:nvPicPr>
        <p:blipFill>
          <a:blip r:embed="rId1"/>
          <a:stretch/>
        </p:blipFill>
        <p:spPr>
          <a:xfrm>
            <a:off x="457200" y="111276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883" name="AutoShape 5"/>
          <p:cNvSpPr/>
          <p:nvPr/>
        </p:nvSpPr>
        <p:spPr>
          <a:xfrm>
            <a:off x="2438280" y="533520"/>
            <a:ext cx="3429000" cy="838080"/>
          </a:xfrm>
          <a:prstGeom prst="wedgeRoundRectCallout">
            <a:avLst>
              <a:gd name="adj1" fmla="val 51481"/>
              <a:gd name="adj2" fmla="val 112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ll baby, is there an algorithm for th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Text Box 6"/>
          <p:cNvSpPr/>
          <p:nvPr/>
        </p:nvSpPr>
        <p:spPr>
          <a:xfrm>
            <a:off x="6991560" y="0"/>
            <a:ext cx="21636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79200" y="866880"/>
            <a:ext cx="9048960" cy="59626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4" descr="austinPowers02"/>
          <p:cNvPicPr/>
          <p:nvPr/>
        </p:nvPicPr>
        <p:blipFill>
          <a:blip r:embed="rId2"/>
          <a:stretch/>
        </p:blipFill>
        <p:spPr>
          <a:xfrm>
            <a:off x="31680" y="-11160"/>
            <a:ext cx="1568520" cy="884160"/>
          </a:xfrm>
          <a:prstGeom prst="rect">
            <a:avLst/>
          </a:prstGeom>
          <a:ln w="0">
            <a:noFill/>
          </a:ln>
        </p:spPr>
      </p:pic>
      <p:sp>
        <p:nvSpPr>
          <p:cNvPr id="887" name="Text Box 6"/>
          <p:cNvSpPr/>
          <p:nvPr/>
        </p:nvSpPr>
        <p:spPr>
          <a:xfrm>
            <a:off x="6991560" y="0"/>
            <a:ext cx="21636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0"/>
          <p:cNvGrpSpPr/>
          <p:nvPr/>
        </p:nvGrpSpPr>
        <p:grpSpPr>
          <a:xfrm>
            <a:off x="990720" y="685800"/>
            <a:ext cx="1447200" cy="1523520"/>
            <a:chOff x="990720" y="685800"/>
            <a:chExt cx="1447200" cy="1523520"/>
          </a:xfrm>
        </p:grpSpPr>
        <p:sp>
          <p:nvSpPr>
            <p:cNvPr id="889" name="Line 9"/>
            <p:cNvSpPr/>
            <p:nvPr/>
          </p:nvSpPr>
          <p:spPr>
            <a:xfrm flipH="1">
              <a:off x="1218600" y="1447560"/>
              <a:ext cx="456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Line 8"/>
            <p:cNvSpPr/>
            <p:nvPr/>
          </p:nvSpPr>
          <p:spPr>
            <a:xfrm>
              <a:off x="1142640" y="838080"/>
              <a:ext cx="114264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4"/>
            <p:cNvSpPr/>
            <p:nvPr/>
          </p:nvSpPr>
          <p:spPr>
            <a:xfrm>
              <a:off x="990720" y="685800"/>
              <a:ext cx="38052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5"/>
            <p:cNvSpPr/>
            <p:nvPr/>
          </p:nvSpPr>
          <p:spPr>
            <a:xfrm>
              <a:off x="1523880" y="1295280"/>
              <a:ext cx="380520" cy="3805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Rectangle 6"/>
            <p:cNvSpPr/>
            <p:nvPr/>
          </p:nvSpPr>
          <p:spPr>
            <a:xfrm>
              <a:off x="1066680" y="1904760"/>
              <a:ext cx="380520" cy="22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Oval 7"/>
            <p:cNvSpPr/>
            <p:nvPr/>
          </p:nvSpPr>
          <p:spPr>
            <a:xfrm>
              <a:off x="2057040" y="18284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5" name="Group 18"/>
          <p:cNvGrpSpPr/>
          <p:nvPr/>
        </p:nvGrpSpPr>
        <p:grpSpPr>
          <a:xfrm>
            <a:off x="3886200" y="762120"/>
            <a:ext cx="1371600" cy="1447560"/>
            <a:chOff x="3886200" y="762120"/>
            <a:chExt cx="1371600" cy="1447560"/>
          </a:xfrm>
        </p:grpSpPr>
        <p:sp>
          <p:nvSpPr>
            <p:cNvPr id="896" name="Line 12"/>
            <p:cNvSpPr/>
            <p:nvPr/>
          </p:nvSpPr>
          <p:spPr>
            <a:xfrm flipH="1">
              <a:off x="4114800" y="15238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Line 13"/>
            <p:cNvSpPr/>
            <p:nvPr/>
          </p:nvSpPr>
          <p:spPr>
            <a:xfrm>
              <a:off x="4038480" y="914400"/>
              <a:ext cx="1143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Oval 14"/>
            <p:cNvSpPr/>
            <p:nvPr/>
          </p:nvSpPr>
          <p:spPr>
            <a:xfrm>
              <a:off x="3886200" y="762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Oval 15"/>
            <p:cNvSpPr/>
            <p:nvPr/>
          </p:nvSpPr>
          <p:spPr>
            <a:xfrm>
              <a:off x="4419720" y="13716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16"/>
            <p:cNvSpPr/>
            <p:nvPr/>
          </p:nvSpPr>
          <p:spPr>
            <a:xfrm>
              <a:off x="4876920" y="1981080"/>
              <a:ext cx="380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Oval 17"/>
            <p:cNvSpPr/>
            <p:nvPr/>
          </p:nvSpPr>
          <p:spPr>
            <a:xfrm>
              <a:off x="3962520" y="18288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2" name="Group 34"/>
          <p:cNvGrpSpPr/>
          <p:nvPr/>
        </p:nvGrpSpPr>
        <p:grpSpPr>
          <a:xfrm>
            <a:off x="6477120" y="838080"/>
            <a:ext cx="1371600" cy="1447920"/>
            <a:chOff x="6477120" y="838080"/>
            <a:chExt cx="1371600" cy="1447920"/>
          </a:xfrm>
        </p:grpSpPr>
        <p:sp>
          <p:nvSpPr>
            <p:cNvPr id="903" name="Line 27"/>
            <p:cNvSpPr/>
            <p:nvPr/>
          </p:nvSpPr>
          <p:spPr>
            <a:xfrm flipH="1">
              <a:off x="6705720" y="160020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Line 28"/>
            <p:cNvSpPr/>
            <p:nvPr/>
          </p:nvSpPr>
          <p:spPr>
            <a:xfrm>
              <a:off x="6629400" y="990720"/>
              <a:ext cx="11430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Oval 29"/>
            <p:cNvSpPr/>
            <p:nvPr/>
          </p:nvSpPr>
          <p:spPr>
            <a:xfrm>
              <a:off x="6477120" y="8380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Oval 30"/>
            <p:cNvSpPr/>
            <p:nvPr/>
          </p:nvSpPr>
          <p:spPr>
            <a:xfrm>
              <a:off x="7010280" y="1447920"/>
              <a:ext cx="38124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31"/>
            <p:cNvSpPr/>
            <p:nvPr/>
          </p:nvSpPr>
          <p:spPr>
            <a:xfrm>
              <a:off x="7467480" y="2057400"/>
              <a:ext cx="3812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Rectangle 33"/>
            <p:cNvSpPr/>
            <p:nvPr/>
          </p:nvSpPr>
          <p:spPr>
            <a:xfrm>
              <a:off x="6553080" y="2057400"/>
              <a:ext cx="3812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09" name="Rectangle 36"/>
          <p:cNvSpPr/>
          <p:nvPr/>
        </p:nvSpPr>
        <p:spPr>
          <a:xfrm>
            <a:off x="74674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0" name="Group 59"/>
          <p:cNvGrpSpPr/>
          <p:nvPr/>
        </p:nvGrpSpPr>
        <p:grpSpPr>
          <a:xfrm>
            <a:off x="1143000" y="3429000"/>
            <a:ext cx="1371600" cy="1523880"/>
            <a:chOff x="1143000" y="3429000"/>
            <a:chExt cx="1371600" cy="1523880"/>
          </a:xfrm>
        </p:grpSpPr>
        <p:sp>
          <p:nvSpPr>
            <p:cNvPr id="911" name="Line 39"/>
            <p:cNvSpPr/>
            <p:nvPr/>
          </p:nvSpPr>
          <p:spPr>
            <a:xfrm flipH="1">
              <a:off x="1295280" y="358128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Line 40"/>
            <p:cNvSpPr/>
            <p:nvPr/>
          </p:nvSpPr>
          <p:spPr>
            <a:xfrm>
              <a:off x="1752480" y="419112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Oval 41"/>
            <p:cNvSpPr/>
            <p:nvPr/>
          </p:nvSpPr>
          <p:spPr>
            <a:xfrm>
              <a:off x="2133720" y="34290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Oval 42"/>
            <p:cNvSpPr/>
            <p:nvPr/>
          </p:nvSpPr>
          <p:spPr>
            <a:xfrm>
              <a:off x="1600200" y="4038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Rectangle 43"/>
            <p:cNvSpPr/>
            <p:nvPr/>
          </p:nvSpPr>
          <p:spPr>
            <a:xfrm>
              <a:off x="1143000" y="4648320"/>
              <a:ext cx="380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Oval 44"/>
            <p:cNvSpPr/>
            <p:nvPr/>
          </p:nvSpPr>
          <p:spPr>
            <a:xfrm>
              <a:off x="2133720" y="45720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7" name="Group 67"/>
          <p:cNvGrpSpPr/>
          <p:nvPr/>
        </p:nvGrpSpPr>
        <p:grpSpPr>
          <a:xfrm>
            <a:off x="3657600" y="3581280"/>
            <a:ext cx="1371600" cy="1447920"/>
            <a:chOff x="3657600" y="3581280"/>
            <a:chExt cx="1371600" cy="1447920"/>
          </a:xfrm>
        </p:grpSpPr>
        <p:sp>
          <p:nvSpPr>
            <p:cNvPr id="918" name="Line 61"/>
            <p:cNvSpPr/>
            <p:nvPr/>
          </p:nvSpPr>
          <p:spPr>
            <a:xfrm flipH="1">
              <a:off x="3809880" y="373392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Line 62"/>
            <p:cNvSpPr/>
            <p:nvPr/>
          </p:nvSpPr>
          <p:spPr>
            <a:xfrm>
              <a:off x="4267080" y="434340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Oval 63"/>
            <p:cNvSpPr/>
            <p:nvPr/>
          </p:nvSpPr>
          <p:spPr>
            <a:xfrm>
              <a:off x="4648320" y="3581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Oval 64"/>
            <p:cNvSpPr/>
            <p:nvPr/>
          </p:nvSpPr>
          <p:spPr>
            <a:xfrm>
              <a:off x="4114800" y="4191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Rectangle 65"/>
            <p:cNvSpPr/>
            <p:nvPr/>
          </p:nvSpPr>
          <p:spPr>
            <a:xfrm>
              <a:off x="4648320" y="4800600"/>
              <a:ext cx="380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Oval 66"/>
            <p:cNvSpPr/>
            <p:nvPr/>
          </p:nvSpPr>
          <p:spPr>
            <a:xfrm>
              <a:off x="3657600" y="4648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4" name="Line 69"/>
          <p:cNvSpPr/>
          <p:nvPr/>
        </p:nvSpPr>
        <p:spPr>
          <a:xfrm flipH="1">
            <a:off x="6400440" y="3809880"/>
            <a:ext cx="10666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Line 70"/>
          <p:cNvSpPr/>
          <p:nvPr/>
        </p:nvSpPr>
        <p:spPr>
          <a:xfrm>
            <a:off x="6858000" y="44197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Oval 71"/>
          <p:cNvSpPr/>
          <p:nvPr/>
        </p:nvSpPr>
        <p:spPr>
          <a:xfrm>
            <a:off x="7238880" y="36576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Oval 72"/>
          <p:cNvSpPr/>
          <p:nvPr/>
        </p:nvSpPr>
        <p:spPr>
          <a:xfrm>
            <a:off x="6705720" y="42670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Rectangle 73"/>
          <p:cNvSpPr/>
          <p:nvPr/>
        </p:nvSpPr>
        <p:spPr>
          <a:xfrm>
            <a:off x="7238880" y="487692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Rectangle 75"/>
          <p:cNvSpPr/>
          <p:nvPr/>
        </p:nvSpPr>
        <p:spPr>
          <a:xfrm>
            <a:off x="6248520" y="48769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Text Box 76"/>
          <p:cNvSpPr/>
          <p:nvPr/>
        </p:nvSpPr>
        <p:spPr>
          <a:xfrm>
            <a:off x="2014200" y="0"/>
            <a:ext cx="715896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 (a node with less than 2 childr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Text Box 77"/>
          <p:cNvSpPr/>
          <p:nvPr/>
        </p:nvSpPr>
        <p:spPr>
          <a:xfrm>
            <a:off x="18720" y="6491160"/>
            <a:ext cx="39250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Non-internal –  less than 2 child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Text Box 78"/>
          <p:cNvSpPr/>
          <p:nvPr/>
        </p:nvSpPr>
        <p:spPr>
          <a:xfrm>
            <a:off x="6917040" y="6491160"/>
            <a:ext cx="22212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cases to consi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47"/>
          <p:cNvGrpSpPr/>
          <p:nvPr/>
        </p:nvGrpSpPr>
        <p:grpSpPr>
          <a:xfrm>
            <a:off x="990720" y="685800"/>
            <a:ext cx="6858000" cy="4419720"/>
            <a:chOff x="990720" y="685800"/>
            <a:chExt cx="6858000" cy="4419720"/>
          </a:xfrm>
        </p:grpSpPr>
        <p:grpSp>
          <p:nvGrpSpPr>
            <p:cNvPr id="934" name="Group 2"/>
            <p:cNvGrpSpPr/>
            <p:nvPr/>
          </p:nvGrpSpPr>
          <p:grpSpPr>
            <a:xfrm>
              <a:off x="990720" y="685800"/>
              <a:ext cx="1447200" cy="1523520"/>
              <a:chOff x="990720" y="685800"/>
              <a:chExt cx="1447200" cy="1523520"/>
            </a:xfrm>
          </p:grpSpPr>
          <p:sp>
            <p:nvSpPr>
              <p:cNvPr id="935" name="Line 3"/>
              <p:cNvSpPr/>
              <p:nvPr/>
            </p:nvSpPr>
            <p:spPr>
              <a:xfrm flipH="1">
                <a:off x="1218600" y="1447560"/>
                <a:ext cx="45684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6" name="Line 4"/>
              <p:cNvSpPr/>
              <p:nvPr/>
            </p:nvSpPr>
            <p:spPr>
              <a:xfrm>
                <a:off x="1142640" y="838080"/>
                <a:ext cx="1142640" cy="12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7" name="Oval 5"/>
              <p:cNvSpPr/>
              <p:nvPr/>
            </p:nvSpPr>
            <p:spPr>
              <a:xfrm>
                <a:off x="990720" y="685800"/>
                <a:ext cx="38052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8" name="Oval 6"/>
              <p:cNvSpPr/>
              <p:nvPr/>
            </p:nvSpPr>
            <p:spPr>
              <a:xfrm>
                <a:off x="1523880" y="1295280"/>
                <a:ext cx="380520" cy="38052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9" name="Rectangle 7"/>
              <p:cNvSpPr/>
              <p:nvPr/>
            </p:nvSpPr>
            <p:spPr>
              <a:xfrm>
                <a:off x="1066680" y="1904760"/>
                <a:ext cx="380520" cy="228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0" name="Oval 8"/>
              <p:cNvSpPr/>
              <p:nvPr/>
            </p:nvSpPr>
            <p:spPr>
              <a:xfrm>
                <a:off x="2057040" y="182844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41" name="Group 9"/>
            <p:cNvGrpSpPr/>
            <p:nvPr/>
          </p:nvGrpSpPr>
          <p:grpSpPr>
            <a:xfrm>
              <a:off x="3886200" y="762120"/>
              <a:ext cx="1371600" cy="1447560"/>
              <a:chOff x="3886200" y="762120"/>
              <a:chExt cx="1371600" cy="1447560"/>
            </a:xfrm>
          </p:grpSpPr>
          <p:sp>
            <p:nvSpPr>
              <p:cNvPr id="942" name="Line 10"/>
              <p:cNvSpPr/>
              <p:nvPr/>
            </p:nvSpPr>
            <p:spPr>
              <a:xfrm flipH="1">
                <a:off x="4114800" y="1523880"/>
                <a:ext cx="4572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3" name="Line 11"/>
              <p:cNvSpPr/>
              <p:nvPr/>
            </p:nvSpPr>
            <p:spPr>
              <a:xfrm>
                <a:off x="4038480" y="914400"/>
                <a:ext cx="114300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4" name="Oval 12"/>
              <p:cNvSpPr/>
              <p:nvPr/>
            </p:nvSpPr>
            <p:spPr>
              <a:xfrm>
                <a:off x="3886200" y="76212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5" name="Oval 13"/>
              <p:cNvSpPr/>
              <p:nvPr/>
            </p:nvSpPr>
            <p:spPr>
              <a:xfrm>
                <a:off x="4419720" y="13716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6" name="Rectangle 14"/>
              <p:cNvSpPr/>
              <p:nvPr/>
            </p:nvSpPr>
            <p:spPr>
              <a:xfrm>
                <a:off x="4876920" y="1981080"/>
                <a:ext cx="3808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7" name="Oval 15"/>
              <p:cNvSpPr/>
              <p:nvPr/>
            </p:nvSpPr>
            <p:spPr>
              <a:xfrm>
                <a:off x="3962520" y="182880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48" name="Group 16"/>
            <p:cNvGrpSpPr/>
            <p:nvPr/>
          </p:nvGrpSpPr>
          <p:grpSpPr>
            <a:xfrm>
              <a:off x="6477120" y="838080"/>
              <a:ext cx="1371600" cy="1447920"/>
              <a:chOff x="6477120" y="838080"/>
              <a:chExt cx="1371600" cy="1447920"/>
            </a:xfrm>
          </p:grpSpPr>
          <p:sp>
            <p:nvSpPr>
              <p:cNvPr id="949" name="Line 17"/>
              <p:cNvSpPr/>
              <p:nvPr/>
            </p:nvSpPr>
            <p:spPr>
              <a:xfrm flipH="1">
                <a:off x="6705720" y="1600200"/>
                <a:ext cx="4572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0" name="Line 18"/>
              <p:cNvSpPr/>
              <p:nvPr/>
            </p:nvSpPr>
            <p:spPr>
              <a:xfrm>
                <a:off x="6629400" y="990720"/>
                <a:ext cx="11430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1" name="Oval 19"/>
              <p:cNvSpPr/>
              <p:nvPr/>
            </p:nvSpPr>
            <p:spPr>
              <a:xfrm>
                <a:off x="6477120" y="838080"/>
                <a:ext cx="38088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2" name="Oval 20"/>
              <p:cNvSpPr/>
              <p:nvPr/>
            </p:nvSpPr>
            <p:spPr>
              <a:xfrm>
                <a:off x="7010280" y="144792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Rectangle 21"/>
              <p:cNvSpPr/>
              <p:nvPr/>
            </p:nvSpPr>
            <p:spPr>
              <a:xfrm>
                <a:off x="7467480" y="2057400"/>
                <a:ext cx="38124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Rectangle 22"/>
              <p:cNvSpPr/>
              <p:nvPr/>
            </p:nvSpPr>
            <p:spPr>
              <a:xfrm>
                <a:off x="6553080" y="2057400"/>
                <a:ext cx="38124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5" name="Rectangle 23"/>
            <p:cNvSpPr/>
            <p:nvPr/>
          </p:nvSpPr>
          <p:spPr>
            <a:xfrm>
              <a:off x="7467480" y="2057400"/>
              <a:ext cx="3812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6" name="Group 24"/>
            <p:cNvGrpSpPr/>
            <p:nvPr/>
          </p:nvGrpSpPr>
          <p:grpSpPr>
            <a:xfrm>
              <a:off x="1143000" y="3429000"/>
              <a:ext cx="1371600" cy="1523880"/>
              <a:chOff x="1143000" y="3429000"/>
              <a:chExt cx="1371600" cy="1523880"/>
            </a:xfrm>
          </p:grpSpPr>
          <p:sp>
            <p:nvSpPr>
              <p:cNvPr id="957" name="Line 25"/>
              <p:cNvSpPr/>
              <p:nvPr/>
            </p:nvSpPr>
            <p:spPr>
              <a:xfrm flipH="1">
                <a:off x="1295280" y="3581280"/>
                <a:ext cx="106704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Line 26"/>
              <p:cNvSpPr/>
              <p:nvPr/>
            </p:nvSpPr>
            <p:spPr>
              <a:xfrm>
                <a:off x="1752480" y="419112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Oval 27"/>
              <p:cNvSpPr/>
              <p:nvPr/>
            </p:nvSpPr>
            <p:spPr>
              <a:xfrm>
                <a:off x="2133720" y="342900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0" name="Oval 28"/>
              <p:cNvSpPr/>
              <p:nvPr/>
            </p:nvSpPr>
            <p:spPr>
              <a:xfrm>
                <a:off x="1600200" y="403848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1" name="Rectangle 29"/>
              <p:cNvSpPr/>
              <p:nvPr/>
            </p:nvSpPr>
            <p:spPr>
              <a:xfrm>
                <a:off x="1143000" y="4648320"/>
                <a:ext cx="3808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2" name="Oval 30"/>
              <p:cNvSpPr/>
              <p:nvPr/>
            </p:nvSpPr>
            <p:spPr>
              <a:xfrm>
                <a:off x="2133720" y="457200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63" name="Group 31"/>
            <p:cNvGrpSpPr/>
            <p:nvPr/>
          </p:nvGrpSpPr>
          <p:grpSpPr>
            <a:xfrm>
              <a:off x="3657600" y="3581280"/>
              <a:ext cx="1371600" cy="1447920"/>
              <a:chOff x="3657600" y="3581280"/>
              <a:chExt cx="1371600" cy="1447920"/>
            </a:xfrm>
          </p:grpSpPr>
          <p:sp>
            <p:nvSpPr>
              <p:cNvPr id="964" name="Line 32"/>
              <p:cNvSpPr/>
              <p:nvPr/>
            </p:nvSpPr>
            <p:spPr>
              <a:xfrm flipH="1">
                <a:off x="3809880" y="3733920"/>
                <a:ext cx="106704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Line 33"/>
              <p:cNvSpPr/>
              <p:nvPr/>
            </p:nvSpPr>
            <p:spPr>
              <a:xfrm>
                <a:off x="4267080" y="434340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6" name="Oval 34"/>
              <p:cNvSpPr/>
              <p:nvPr/>
            </p:nvSpPr>
            <p:spPr>
              <a:xfrm>
                <a:off x="4648320" y="3581280"/>
                <a:ext cx="38088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7" name="Oval 35"/>
              <p:cNvSpPr/>
              <p:nvPr/>
            </p:nvSpPr>
            <p:spPr>
              <a:xfrm>
                <a:off x="4114800" y="419112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Rectangle 36"/>
              <p:cNvSpPr/>
              <p:nvPr/>
            </p:nvSpPr>
            <p:spPr>
              <a:xfrm>
                <a:off x="4648320" y="4800600"/>
                <a:ext cx="3808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9" name="Oval 37"/>
              <p:cNvSpPr/>
              <p:nvPr/>
            </p:nvSpPr>
            <p:spPr>
              <a:xfrm>
                <a:off x="3657600" y="464832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70" name="Line 38"/>
            <p:cNvSpPr/>
            <p:nvPr/>
          </p:nvSpPr>
          <p:spPr>
            <a:xfrm flipH="1">
              <a:off x="6400440" y="3809880"/>
              <a:ext cx="1066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Line 39"/>
            <p:cNvSpPr/>
            <p:nvPr/>
          </p:nvSpPr>
          <p:spPr>
            <a:xfrm>
              <a:off x="6858000" y="44197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Oval 40"/>
            <p:cNvSpPr/>
            <p:nvPr/>
          </p:nvSpPr>
          <p:spPr>
            <a:xfrm>
              <a:off x="7238880" y="36576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Oval 41"/>
            <p:cNvSpPr/>
            <p:nvPr/>
          </p:nvSpPr>
          <p:spPr>
            <a:xfrm>
              <a:off x="6705720" y="42670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Rectangle 42"/>
            <p:cNvSpPr/>
            <p:nvPr/>
          </p:nvSpPr>
          <p:spPr>
            <a:xfrm>
              <a:off x="7238880" y="4876920"/>
              <a:ext cx="3812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Rectangle 43"/>
            <p:cNvSpPr/>
            <p:nvPr/>
          </p:nvSpPr>
          <p:spPr>
            <a:xfrm>
              <a:off x="6248520" y="4876920"/>
              <a:ext cx="380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6" name="Text Box 44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Text Box 46"/>
          <p:cNvSpPr/>
          <p:nvPr/>
        </p:nvSpPr>
        <p:spPr>
          <a:xfrm>
            <a:off x="5483160" y="6481800"/>
            <a:ext cx="3641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ctually only 4 cases to consi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Text Box 77"/>
          <p:cNvSpPr/>
          <p:nvPr/>
        </p:nvSpPr>
        <p:spPr>
          <a:xfrm>
            <a:off x="18720" y="6491160"/>
            <a:ext cx="39250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Non-internal –  less than 2 child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Text Box 6"/>
          <p:cNvSpPr/>
          <p:nvPr/>
        </p:nvSpPr>
        <p:spPr>
          <a:xfrm>
            <a:off x="-43200" y="6512040"/>
            <a:ext cx="51397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ssuming we have already found the node to dele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1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982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983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4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5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6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7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8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9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990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1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2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3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4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5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96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997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8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9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0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1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2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03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4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005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6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7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8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9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11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012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4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5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6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7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18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9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0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1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2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3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024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025" name="Rectangle 49"/>
          <p:cNvSpPr/>
          <p:nvPr/>
        </p:nvSpPr>
        <p:spPr>
          <a:xfrm>
            <a:off x="533520" y="1295280"/>
            <a:ext cx="40464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3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Text Box 4"/>
          <p:cNvSpPr/>
          <p:nvPr/>
        </p:nvSpPr>
        <p:spPr>
          <a:xfrm>
            <a:off x="-43200" y="6512040"/>
            <a:ext cx="51397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ssuming we have already found the node to dele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8" name="Group 5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029" name="Group 6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030" name="Line 7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1" name="Line 8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2" name="Oval 9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3" name="Oval 10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4" name="Rectangle 11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5" name="Oval 12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36" name="Group 13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037" name="Line 14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8" name="Line 15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9" name="Oval 16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Oval 17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Rectangle 18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2" name="Oval 19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3" name="Group 20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044" name="Line 21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5" name="Line 22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6" name="Oval 23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7" name="Oval 24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8" name="Rectangle 25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9" name="Rectangle 26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50" name="Rectangle 27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1" name="Group 28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052" name="Line 29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3" name="Line 30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Oval 31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5" name="Oval 32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6" name="Rectangle 33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7" name="Oval 34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58" name="Group 35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059" name="Line 36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0" name="Line 37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Oval 38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Oval 39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3" name="Rectangle 40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4" name="Oval 41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65" name="Line 42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6" name="Line 43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7" name="Oval 44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8" name="Oval 45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9" name="Rectangle 46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Rectangle 47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1" name="Rectangle 48"/>
          <p:cNvSpPr/>
          <p:nvPr/>
        </p:nvSpPr>
        <p:spPr>
          <a:xfrm>
            <a:off x="5257800" y="3352680"/>
            <a:ext cx="152388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Text Box 49"/>
          <p:cNvSpPr/>
          <p:nvPr/>
        </p:nvSpPr>
        <p:spPr>
          <a:xfrm>
            <a:off x="7738560" y="4343400"/>
            <a:ext cx="1179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ubsum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Line 50"/>
          <p:cNvSpPr/>
          <p:nvPr/>
        </p:nvSpPr>
        <p:spPr>
          <a:xfrm flipH="1">
            <a:off x="69343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4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52"/>
          <p:cNvSpPr/>
          <p:nvPr/>
        </p:nvSpPr>
        <p:spPr>
          <a:xfrm>
            <a:off x="533520" y="1295280"/>
            <a:ext cx="40464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7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078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079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0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1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2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3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4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85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086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7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0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1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92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093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4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5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6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7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8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99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00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101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2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3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4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5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6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07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108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9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0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1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2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3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14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0" name="Rectangle 48"/>
          <p:cNvSpPr/>
          <p:nvPr/>
        </p:nvSpPr>
        <p:spPr>
          <a:xfrm>
            <a:off x="1905120" y="335268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Rectangle 49"/>
          <p:cNvSpPr/>
          <p:nvPr/>
        </p:nvSpPr>
        <p:spPr>
          <a:xfrm>
            <a:off x="5181480" y="3352680"/>
            <a:ext cx="1524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2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123" name="Rectangle 1"/>
          <p:cNvSpPr/>
          <p:nvPr/>
        </p:nvSpPr>
        <p:spPr>
          <a:xfrm>
            <a:off x="533520" y="1523880"/>
            <a:ext cx="769608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Freeform 94"/>
          <p:cNvSpPr/>
          <p:nvPr/>
        </p:nvSpPr>
        <p:spPr>
          <a:xfrm>
            <a:off x="5715000" y="3657600"/>
            <a:ext cx="685800" cy="622440"/>
          </a:xfrm>
          <a:custGeom>
            <a:avLst/>
            <a:gdLst>
              <a:gd name="textAreaLeft" fmla="*/ 0 w 685800"/>
              <a:gd name="textAreaRight" fmla="*/ 686160 w 68580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432" h="392">
                <a:moveTo>
                  <a:pt x="0" y="56"/>
                </a:moveTo>
                <a:cubicBezTo>
                  <a:pt x="132" y="28"/>
                  <a:pt x="264" y="0"/>
                  <a:pt x="336" y="56"/>
                </a:cubicBezTo>
                <a:cubicBezTo>
                  <a:pt x="408" y="112"/>
                  <a:pt x="420" y="252"/>
                  <a:pt x="432" y="3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Freeform 50"/>
          <p:cNvSpPr/>
          <p:nvPr/>
        </p:nvSpPr>
        <p:spPr>
          <a:xfrm>
            <a:off x="2286000" y="3568680"/>
            <a:ext cx="685800" cy="622440"/>
          </a:xfrm>
          <a:custGeom>
            <a:avLst/>
            <a:gdLst>
              <a:gd name="textAreaLeft" fmla="*/ 0 w 685800"/>
              <a:gd name="textAreaRight" fmla="*/ 686160 w 68580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432" h="392">
                <a:moveTo>
                  <a:pt x="0" y="56"/>
                </a:moveTo>
                <a:cubicBezTo>
                  <a:pt x="132" y="28"/>
                  <a:pt x="264" y="0"/>
                  <a:pt x="336" y="56"/>
                </a:cubicBezTo>
                <a:cubicBezTo>
                  <a:pt x="408" y="112"/>
                  <a:pt x="420" y="252"/>
                  <a:pt x="432" y="3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Rectangle 48"/>
          <p:cNvSpPr/>
          <p:nvPr/>
        </p:nvSpPr>
        <p:spPr>
          <a:xfrm>
            <a:off x="1905120" y="335268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Rectangle 49"/>
          <p:cNvSpPr/>
          <p:nvPr/>
        </p:nvSpPr>
        <p:spPr>
          <a:xfrm>
            <a:off x="5181480" y="3352680"/>
            <a:ext cx="1524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9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130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131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2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3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4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5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6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37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138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9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0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1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2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3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44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145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6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7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8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9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0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51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2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153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7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8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59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160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3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5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66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7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8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9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1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172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52"/>
          <p:cNvSpPr/>
          <p:nvPr/>
        </p:nvSpPr>
        <p:spPr>
          <a:xfrm>
            <a:off x="533520" y="1523880"/>
            <a:ext cx="769608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5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176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177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8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83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184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5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6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7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9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90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191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2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4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5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6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97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98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199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05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206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12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3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4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5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6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7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8" name="Rectangle 48"/>
          <p:cNvSpPr/>
          <p:nvPr/>
        </p:nvSpPr>
        <p:spPr>
          <a:xfrm>
            <a:off x="3581280" y="3352680"/>
            <a:ext cx="1524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Rectangle 50"/>
          <p:cNvSpPr/>
          <p:nvPr/>
        </p:nvSpPr>
        <p:spPr>
          <a:xfrm>
            <a:off x="5334120" y="335268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0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221" name="Rectangle 50"/>
          <p:cNvSpPr/>
          <p:nvPr/>
        </p:nvSpPr>
        <p:spPr>
          <a:xfrm>
            <a:off x="779400" y="1792440"/>
            <a:ext cx="7696440" cy="43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Freeform 52"/>
          <p:cNvSpPr/>
          <p:nvPr/>
        </p:nvSpPr>
        <p:spPr>
          <a:xfrm>
            <a:off x="5715000" y="3733920"/>
            <a:ext cx="317520" cy="457200"/>
          </a:xfrm>
          <a:custGeom>
            <a:avLst/>
            <a:gdLst>
              <a:gd name="textAreaLeft" fmla="*/ 0 w 317520"/>
              <a:gd name="textAreaRight" fmla="*/ 317880 w 317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0" h="288">
                <a:moveTo>
                  <a:pt x="0" y="0"/>
                </a:moveTo>
                <a:cubicBezTo>
                  <a:pt x="92" y="0"/>
                  <a:pt x="184" y="0"/>
                  <a:pt x="192" y="48"/>
                </a:cubicBezTo>
                <a:cubicBezTo>
                  <a:pt x="200" y="96"/>
                  <a:pt x="124" y="192"/>
                  <a:pt x="4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Freeform 51"/>
          <p:cNvSpPr/>
          <p:nvPr/>
        </p:nvSpPr>
        <p:spPr>
          <a:xfrm>
            <a:off x="4114800" y="3733920"/>
            <a:ext cx="317520" cy="457200"/>
          </a:xfrm>
          <a:custGeom>
            <a:avLst/>
            <a:gdLst>
              <a:gd name="textAreaLeft" fmla="*/ 0 w 317520"/>
              <a:gd name="textAreaRight" fmla="*/ 317880 w 317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0" h="288">
                <a:moveTo>
                  <a:pt x="0" y="0"/>
                </a:moveTo>
                <a:cubicBezTo>
                  <a:pt x="92" y="0"/>
                  <a:pt x="184" y="0"/>
                  <a:pt x="192" y="48"/>
                </a:cubicBezTo>
                <a:cubicBezTo>
                  <a:pt x="200" y="96"/>
                  <a:pt x="124" y="192"/>
                  <a:pt x="4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5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226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227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8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0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1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2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3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234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5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8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9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40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241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2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3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4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47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48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249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1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2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55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256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7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9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0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1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62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3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4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5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6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7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8" name="Rectangle 48"/>
          <p:cNvSpPr/>
          <p:nvPr/>
        </p:nvSpPr>
        <p:spPr>
          <a:xfrm>
            <a:off x="3581280" y="3352680"/>
            <a:ext cx="1524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Rectangle 49"/>
          <p:cNvSpPr/>
          <p:nvPr/>
        </p:nvSpPr>
        <p:spPr>
          <a:xfrm>
            <a:off x="5334120" y="335268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0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52"/>
          <p:cNvSpPr/>
          <p:nvPr/>
        </p:nvSpPr>
        <p:spPr>
          <a:xfrm>
            <a:off x="779400" y="1792440"/>
            <a:ext cx="7696440" cy="43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70D2-7265-4B62-83CC-99FD044EE1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73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274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275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0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81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282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4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5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6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7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88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289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0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1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2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3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4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95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6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297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8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9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0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03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304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5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6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7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8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9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10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2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3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5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6" name="Rectangle 48"/>
          <p:cNvSpPr/>
          <p:nvPr/>
        </p:nvSpPr>
        <p:spPr>
          <a:xfrm>
            <a:off x="190512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Rectangle 49"/>
          <p:cNvSpPr/>
          <p:nvPr/>
        </p:nvSpPr>
        <p:spPr>
          <a:xfrm>
            <a:off x="525780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8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319" name="Rectangle 50"/>
          <p:cNvSpPr/>
          <p:nvPr/>
        </p:nvSpPr>
        <p:spPr>
          <a:xfrm>
            <a:off x="803160" y="2041560"/>
            <a:ext cx="769644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Freeform 52"/>
          <p:cNvSpPr/>
          <p:nvPr/>
        </p:nvSpPr>
        <p:spPr>
          <a:xfrm>
            <a:off x="6019920" y="5029200"/>
            <a:ext cx="152280" cy="457200"/>
          </a:xfrm>
          <a:custGeom>
            <a:avLst/>
            <a:gdLst>
              <a:gd name="textAreaLeft" fmla="*/ 0 w 152280"/>
              <a:gd name="textAreaRight" fmla="*/ 152640 w 152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96" h="288">
                <a:moveTo>
                  <a:pt x="96" y="0"/>
                </a:moveTo>
                <a:cubicBezTo>
                  <a:pt x="48" y="48"/>
                  <a:pt x="0" y="96"/>
                  <a:pt x="0" y="144"/>
                </a:cubicBezTo>
                <a:cubicBezTo>
                  <a:pt x="0" y="192"/>
                  <a:pt x="48" y="240"/>
                  <a:pt x="96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Freeform 51"/>
          <p:cNvSpPr/>
          <p:nvPr/>
        </p:nvSpPr>
        <p:spPr>
          <a:xfrm>
            <a:off x="2819520" y="4876920"/>
            <a:ext cx="228600" cy="533160"/>
          </a:xfrm>
          <a:custGeom>
            <a:avLst/>
            <a:gdLst>
              <a:gd name="textAreaLeft" fmla="*/ 0 w 228600"/>
              <a:gd name="textAreaRight" fmla="*/ 228960 w 2286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48" h="336">
                <a:moveTo>
                  <a:pt x="248" y="0"/>
                </a:moveTo>
                <a:cubicBezTo>
                  <a:pt x="132" y="68"/>
                  <a:pt x="16" y="136"/>
                  <a:pt x="8" y="192"/>
                </a:cubicBezTo>
                <a:cubicBezTo>
                  <a:pt x="0" y="248"/>
                  <a:pt x="100" y="292"/>
                  <a:pt x="20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3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324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325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6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7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8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9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0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31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332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3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4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5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6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7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38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339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0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1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2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3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4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45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46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347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8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9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0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1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2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53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354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5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6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7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8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9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60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1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2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3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4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5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66" name="Rectangle 48"/>
          <p:cNvSpPr/>
          <p:nvPr/>
        </p:nvSpPr>
        <p:spPr>
          <a:xfrm>
            <a:off x="190512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Rectangle 49"/>
          <p:cNvSpPr/>
          <p:nvPr/>
        </p:nvSpPr>
        <p:spPr>
          <a:xfrm>
            <a:off x="525780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8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369" name="Rectangle 52"/>
          <p:cNvSpPr/>
          <p:nvPr/>
        </p:nvSpPr>
        <p:spPr>
          <a:xfrm>
            <a:off x="803160" y="2041560"/>
            <a:ext cx="769644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1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372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373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4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5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6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7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8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79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380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1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2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3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4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5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86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387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0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1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2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93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94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395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6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7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8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9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0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01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402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3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4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5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6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7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08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9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0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1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2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3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4" name="Rectangle 48"/>
          <p:cNvSpPr/>
          <p:nvPr/>
        </p:nvSpPr>
        <p:spPr>
          <a:xfrm>
            <a:off x="350532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Rectangle 49"/>
          <p:cNvSpPr/>
          <p:nvPr/>
        </p:nvSpPr>
        <p:spPr>
          <a:xfrm>
            <a:off x="525780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6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50"/>
          <p:cNvSpPr/>
          <p:nvPr/>
        </p:nvSpPr>
        <p:spPr>
          <a:xfrm>
            <a:off x="803160" y="2475000"/>
            <a:ext cx="769644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Freeform 50"/>
          <p:cNvSpPr/>
          <p:nvPr/>
        </p:nvSpPr>
        <p:spPr>
          <a:xfrm>
            <a:off x="3962520" y="4863960"/>
            <a:ext cx="609480" cy="622440"/>
          </a:xfrm>
          <a:custGeom>
            <a:avLst/>
            <a:gdLst>
              <a:gd name="textAreaLeft" fmla="*/ 0 w 609480"/>
              <a:gd name="textAreaRight" fmla="*/ 609840 w 60948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384" h="392">
                <a:moveTo>
                  <a:pt x="384" y="56"/>
                </a:moveTo>
                <a:cubicBezTo>
                  <a:pt x="272" y="28"/>
                  <a:pt x="160" y="0"/>
                  <a:pt x="96" y="56"/>
                </a:cubicBezTo>
                <a:cubicBezTo>
                  <a:pt x="32" y="112"/>
                  <a:pt x="16" y="252"/>
                  <a:pt x="0" y="3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Freeform 51"/>
          <p:cNvSpPr/>
          <p:nvPr/>
        </p:nvSpPr>
        <p:spPr>
          <a:xfrm>
            <a:off x="5562720" y="4876920"/>
            <a:ext cx="609480" cy="622080"/>
          </a:xfrm>
          <a:custGeom>
            <a:avLst/>
            <a:gdLst>
              <a:gd name="textAreaLeft" fmla="*/ 0 w 609480"/>
              <a:gd name="textAreaRight" fmla="*/ 609840 w 60948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384" h="392">
                <a:moveTo>
                  <a:pt x="384" y="56"/>
                </a:moveTo>
                <a:cubicBezTo>
                  <a:pt x="272" y="28"/>
                  <a:pt x="160" y="0"/>
                  <a:pt x="96" y="56"/>
                </a:cubicBezTo>
                <a:cubicBezTo>
                  <a:pt x="32" y="112"/>
                  <a:pt x="16" y="252"/>
                  <a:pt x="0" y="3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1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422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423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4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5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6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7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8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29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430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1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2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3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4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5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36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437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8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9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0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1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2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43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44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445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6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7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8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9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0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51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452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3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4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5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6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7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58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9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0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4" name="Rectangle 48"/>
          <p:cNvSpPr/>
          <p:nvPr/>
        </p:nvSpPr>
        <p:spPr>
          <a:xfrm>
            <a:off x="350532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Rectangle 49"/>
          <p:cNvSpPr/>
          <p:nvPr/>
        </p:nvSpPr>
        <p:spPr>
          <a:xfrm>
            <a:off x="525780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6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467" name="Rectangle 52"/>
          <p:cNvSpPr/>
          <p:nvPr/>
        </p:nvSpPr>
        <p:spPr>
          <a:xfrm>
            <a:off x="803160" y="2475000"/>
            <a:ext cx="769644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Picture 5" descr="austinPowers01"/>
          <p:cNvPicPr/>
          <p:nvPr/>
        </p:nvPicPr>
        <p:blipFill>
          <a:blip r:embed="rId1"/>
          <a:stretch/>
        </p:blipFill>
        <p:spPr>
          <a:xfrm>
            <a:off x="238932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Text Box 4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0" name="Group 20"/>
          <p:cNvGrpSpPr/>
          <p:nvPr/>
        </p:nvGrpSpPr>
        <p:grpSpPr>
          <a:xfrm>
            <a:off x="990720" y="685800"/>
            <a:ext cx="1447560" cy="1523880"/>
            <a:chOff x="990720" y="685800"/>
            <a:chExt cx="1447560" cy="1523880"/>
          </a:xfrm>
        </p:grpSpPr>
        <p:sp>
          <p:nvSpPr>
            <p:cNvPr id="1471" name="Line 13"/>
            <p:cNvSpPr/>
            <p:nvPr/>
          </p:nvSpPr>
          <p:spPr>
            <a:xfrm flipH="1">
              <a:off x="1219320" y="14479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2" name="Line 14"/>
            <p:cNvSpPr/>
            <p:nvPr/>
          </p:nvSpPr>
          <p:spPr>
            <a:xfrm>
              <a:off x="1143000" y="838080"/>
              <a:ext cx="1143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3" name="Oval 15"/>
            <p:cNvSpPr/>
            <p:nvPr/>
          </p:nvSpPr>
          <p:spPr>
            <a:xfrm>
              <a:off x="990720" y="6858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4" name="Oval 16"/>
            <p:cNvSpPr/>
            <p:nvPr/>
          </p:nvSpPr>
          <p:spPr>
            <a:xfrm>
              <a:off x="1523880" y="12952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5" name="Oval 18"/>
            <p:cNvSpPr/>
            <p:nvPr/>
          </p:nvSpPr>
          <p:spPr>
            <a:xfrm>
              <a:off x="2057400" y="18288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6" name="Oval 19"/>
            <p:cNvSpPr/>
            <p:nvPr/>
          </p:nvSpPr>
          <p:spPr>
            <a:xfrm>
              <a:off x="1066680" y="18288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7" name="Group 28"/>
          <p:cNvGrpSpPr/>
          <p:nvPr/>
        </p:nvGrpSpPr>
        <p:grpSpPr>
          <a:xfrm>
            <a:off x="4495680" y="838080"/>
            <a:ext cx="1447920" cy="1524240"/>
            <a:chOff x="4495680" y="838080"/>
            <a:chExt cx="1447920" cy="1524240"/>
          </a:xfrm>
        </p:grpSpPr>
        <p:sp>
          <p:nvSpPr>
            <p:cNvPr id="1478" name="Line 22"/>
            <p:cNvSpPr/>
            <p:nvPr/>
          </p:nvSpPr>
          <p:spPr>
            <a:xfrm flipH="1">
              <a:off x="4647960" y="1066680"/>
              <a:ext cx="10666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9" name="Line 23"/>
            <p:cNvSpPr/>
            <p:nvPr/>
          </p:nvSpPr>
          <p:spPr>
            <a:xfrm>
              <a:off x="5105520" y="160020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0" name="Oval 24"/>
            <p:cNvSpPr/>
            <p:nvPr/>
          </p:nvSpPr>
          <p:spPr>
            <a:xfrm>
              <a:off x="5562720" y="8380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1" name="Oval 25"/>
            <p:cNvSpPr/>
            <p:nvPr/>
          </p:nvSpPr>
          <p:spPr>
            <a:xfrm>
              <a:off x="4952880" y="1447920"/>
              <a:ext cx="38124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2" name="Oval 26"/>
            <p:cNvSpPr/>
            <p:nvPr/>
          </p:nvSpPr>
          <p:spPr>
            <a:xfrm>
              <a:off x="5486400" y="19810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3" name="Oval 27"/>
            <p:cNvSpPr/>
            <p:nvPr/>
          </p:nvSpPr>
          <p:spPr>
            <a:xfrm>
              <a:off x="4495680" y="1981080"/>
              <a:ext cx="38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84" name="Text Box 30"/>
          <p:cNvSpPr/>
          <p:nvPr/>
        </p:nvSpPr>
        <p:spPr>
          <a:xfrm>
            <a:off x="6354000" y="6481800"/>
            <a:ext cx="2777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Only 2 cases to consi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86" name="Group 19"/>
          <p:cNvGrpSpPr/>
          <p:nvPr/>
        </p:nvGrpSpPr>
        <p:grpSpPr>
          <a:xfrm>
            <a:off x="990720" y="685800"/>
            <a:ext cx="4952880" cy="1676520"/>
            <a:chOff x="990720" y="685800"/>
            <a:chExt cx="4952880" cy="1676520"/>
          </a:xfrm>
        </p:grpSpPr>
        <p:grpSp>
          <p:nvGrpSpPr>
            <p:cNvPr id="1487" name="Group 3"/>
            <p:cNvGrpSpPr/>
            <p:nvPr/>
          </p:nvGrpSpPr>
          <p:grpSpPr>
            <a:xfrm>
              <a:off x="990720" y="685800"/>
              <a:ext cx="1447560" cy="1523880"/>
              <a:chOff x="990720" y="685800"/>
              <a:chExt cx="1447560" cy="1523880"/>
            </a:xfrm>
          </p:grpSpPr>
          <p:sp>
            <p:nvSpPr>
              <p:cNvPr id="1488" name="Line 4"/>
              <p:cNvSpPr/>
              <p:nvPr/>
            </p:nvSpPr>
            <p:spPr>
              <a:xfrm flipH="1">
                <a:off x="1219320" y="14479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9" name="Line 5"/>
              <p:cNvSpPr/>
              <p:nvPr/>
            </p:nvSpPr>
            <p:spPr>
              <a:xfrm>
                <a:off x="1143000" y="838080"/>
                <a:ext cx="114300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0" name="Oval 6"/>
              <p:cNvSpPr/>
              <p:nvPr/>
            </p:nvSpPr>
            <p:spPr>
              <a:xfrm>
                <a:off x="990720" y="68580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1" name="Oval 7"/>
              <p:cNvSpPr/>
              <p:nvPr/>
            </p:nvSpPr>
            <p:spPr>
              <a:xfrm>
                <a:off x="1523880" y="12952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2" name="Oval 8"/>
              <p:cNvSpPr/>
              <p:nvPr/>
            </p:nvSpPr>
            <p:spPr>
              <a:xfrm>
                <a:off x="2057400" y="182880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3" name="Oval 9"/>
              <p:cNvSpPr/>
              <p:nvPr/>
            </p:nvSpPr>
            <p:spPr>
              <a:xfrm>
                <a:off x="1066680" y="1828800"/>
                <a:ext cx="38124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94" name="Group 10"/>
            <p:cNvGrpSpPr/>
            <p:nvPr/>
          </p:nvGrpSpPr>
          <p:grpSpPr>
            <a:xfrm>
              <a:off x="4495680" y="838080"/>
              <a:ext cx="1447920" cy="1524240"/>
              <a:chOff x="4495680" y="838080"/>
              <a:chExt cx="1447920" cy="1524240"/>
            </a:xfrm>
          </p:grpSpPr>
          <p:sp>
            <p:nvSpPr>
              <p:cNvPr id="1495" name="Line 11"/>
              <p:cNvSpPr/>
              <p:nvPr/>
            </p:nvSpPr>
            <p:spPr>
              <a:xfrm flipH="1">
                <a:off x="4647960" y="1066680"/>
                <a:ext cx="106668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6" name="Line 12"/>
              <p:cNvSpPr/>
              <p:nvPr/>
            </p:nvSpPr>
            <p:spPr>
              <a:xfrm>
                <a:off x="5105520" y="160020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Oval 13"/>
              <p:cNvSpPr/>
              <p:nvPr/>
            </p:nvSpPr>
            <p:spPr>
              <a:xfrm>
                <a:off x="5562720" y="838080"/>
                <a:ext cx="38088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8" name="Oval 14"/>
              <p:cNvSpPr/>
              <p:nvPr/>
            </p:nvSpPr>
            <p:spPr>
              <a:xfrm>
                <a:off x="4952880" y="144792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9" name="Oval 15"/>
              <p:cNvSpPr/>
              <p:nvPr/>
            </p:nvSpPr>
            <p:spPr>
              <a:xfrm>
                <a:off x="5486400" y="1981080"/>
                <a:ext cx="38088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0" name="Oval 16"/>
              <p:cNvSpPr/>
              <p:nvPr/>
            </p:nvSpPr>
            <p:spPr>
              <a:xfrm>
                <a:off x="4495680" y="1981080"/>
                <a:ext cx="38124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01" name="Text Box 18"/>
          <p:cNvSpPr/>
          <p:nvPr/>
        </p:nvSpPr>
        <p:spPr>
          <a:xfrm>
            <a:off x="5611680" y="6481800"/>
            <a:ext cx="35319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ctually only 1 case to consi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Text Box 29"/>
          <p:cNvSpPr/>
          <p:nvPr/>
        </p:nvSpPr>
        <p:spPr>
          <a:xfrm>
            <a:off x="33120" y="6491160"/>
            <a:ext cx="2335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Internal – 2 child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Text Box 5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Text Box 8"/>
          <p:cNvSpPr/>
          <p:nvPr/>
        </p:nvSpPr>
        <p:spPr>
          <a:xfrm>
            <a:off x="1350720" y="1600200"/>
            <a:ext cx="4976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Line 25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Line 26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Oval 27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Oval 28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AutoShape 40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AutoShape 43"/>
          <p:cNvSpPr/>
          <p:nvPr/>
        </p:nvSpPr>
        <p:spPr>
          <a:xfrm>
            <a:off x="3657600" y="45720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Text Box 3"/>
          <p:cNvSpPr/>
          <p:nvPr/>
        </p:nvSpPr>
        <p:spPr>
          <a:xfrm>
            <a:off x="1350720" y="1600200"/>
            <a:ext cx="4976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Line 4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Line 5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Oval 6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Oval 7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AutoShape 8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AutoShape 9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AutoShape 10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Line 11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Line 12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Oval 13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Line 4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Line 5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Oval 6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Oval 7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AutoShape 8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AutoShape 9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AutoShape 10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Line 11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Line 12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Oval 13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Text Box 14"/>
          <p:cNvSpPr/>
          <p:nvPr/>
        </p:nvSpPr>
        <p:spPr>
          <a:xfrm>
            <a:off x="1347840" y="1600200"/>
            <a:ext cx="6127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77D8-D56C-4608-BC03-05E9726CF3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Text Box 13"/>
          <p:cNvSpPr/>
          <p:nvPr/>
        </p:nvSpPr>
        <p:spPr>
          <a:xfrm>
            <a:off x="1347840" y="1600200"/>
            <a:ext cx="6127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Oval 16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Text Box 13"/>
          <p:cNvSpPr/>
          <p:nvPr/>
        </p:nvSpPr>
        <p:spPr>
          <a:xfrm>
            <a:off x="1347840" y="1600200"/>
            <a:ext cx="6127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Oval 16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Oval 14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Text Box 15"/>
          <p:cNvSpPr/>
          <p:nvPr/>
        </p:nvSpPr>
        <p:spPr>
          <a:xfrm>
            <a:off x="1347840" y="1600200"/>
            <a:ext cx="61275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place what’s in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with what’s in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Oval 13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Text Box 14"/>
          <p:cNvSpPr/>
          <p:nvPr/>
        </p:nvSpPr>
        <p:spPr>
          <a:xfrm>
            <a:off x="1347840" y="1600200"/>
            <a:ext cx="61275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place what’s in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with what’s in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Oval 13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Text Box 15"/>
          <p:cNvSpPr/>
          <p:nvPr/>
        </p:nvSpPr>
        <p:spPr>
          <a:xfrm>
            <a:off x="1347840" y="1600200"/>
            <a:ext cx="61275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place what’s in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with what’s in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y is not-internal, delete it (as befor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Oval 13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Text Box 15"/>
          <p:cNvSpPr/>
          <p:nvPr/>
        </p:nvSpPr>
        <p:spPr>
          <a:xfrm>
            <a:off x="1347840" y="1600200"/>
            <a:ext cx="61275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place what’s in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with what’s in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y is not-internal, delete it (as befor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Text Box 3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Text Box 8"/>
          <p:cNvSpPr/>
          <p:nvPr/>
        </p:nvSpPr>
        <p:spPr>
          <a:xfrm>
            <a:off x="281160" y="533520"/>
            <a:ext cx="61275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place what’s in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with what’s in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y is not-internal, delete it (as befor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5" name="Picture 6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8001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Picture 2" descr="austinPowers02"/>
          <p:cNvPicPr/>
          <p:nvPr/>
        </p:nvPicPr>
        <p:blipFill>
          <a:blip r:embed="rId1"/>
          <a:stretch/>
        </p:blipFill>
        <p:spPr>
          <a:xfrm>
            <a:off x="457200" y="111276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1617" name="AutoShape 3"/>
          <p:cNvSpPr/>
          <p:nvPr/>
        </p:nvSpPr>
        <p:spPr>
          <a:xfrm>
            <a:off x="2438280" y="533520"/>
            <a:ext cx="3429000" cy="838080"/>
          </a:xfrm>
          <a:prstGeom prst="wedgeRoundRectCallout">
            <a:avLst>
              <a:gd name="adj1" fmla="val 51481"/>
              <a:gd name="adj2" fmla="val 112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oovey. But what if the node is the roo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Text Box 4"/>
          <p:cNvSpPr/>
          <p:nvPr/>
        </p:nvSpPr>
        <p:spPr>
          <a:xfrm>
            <a:off x="6991560" y="0"/>
            <a:ext cx="21636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Text Box 5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Line 16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Line 17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Oval 18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Oval 19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Line 22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Line 23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Oval 24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Oval 26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8" name="Group 27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629" name="Line 28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0" name="Line 29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1" name="Oval 30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2" name="Oval 31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Oval 32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4" name="Line 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Line 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Oval 11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Rectangle 33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Rectangle 34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Rectangle 36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Rectangle 37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Text Box 39"/>
          <p:cNvSpPr/>
          <p:nvPr/>
        </p:nvSpPr>
        <p:spPr>
          <a:xfrm>
            <a:off x="6354000" y="6481800"/>
            <a:ext cx="2777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Only 4 cases to consi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Text Box 2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Line 3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Line 4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Oval 5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Oval 6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Line 7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Line 8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Oval 9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Oval 10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1" name="Group 11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652" name="Line 12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3" name="Line 13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4" name="Oval 14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5" name="Oval 15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6" name="Oval 16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7" name="Line 17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Line 18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Oval 19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Rectangle 20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Rectangle 21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Rectangle 22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Rectangle 23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Text Box 24"/>
          <p:cNvSpPr/>
          <p:nvPr/>
        </p:nvSpPr>
        <p:spPr>
          <a:xfrm>
            <a:off x="4829760" y="6481800"/>
            <a:ext cx="427572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Only 4 cases to consider … or is the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6B89-D197-4CEE-9116-9C73210A8E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Text Box 3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Line 4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Line 5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Oval 6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Oval 7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Line 8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Line 9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Oval 10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Oval 11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4" name="Group 12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675" name="Line 13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6" name="Line 14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7" name="Oval 15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8" name="Oval 16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9" name="Oval 17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0" name="Line 1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Line 1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Oval 20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Rectangle 21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Rectangle 22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Rectangle 23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Rectangle 24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7" name="Picture 26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1048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Text Box 3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Line 4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Line 5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Oval 6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Oval 7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Line 8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Line 9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Oval 10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Oval 11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7" name="Group 12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698" name="Line 13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9" name="Line 14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0" name="Oval 15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1" name="Oval 16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2" name="Oval 17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3" name="Line 1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Line 1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Oval 20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Rectangle 21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Rectangle 22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Rectangle 23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Rectangle 24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Rectangle 26"/>
          <p:cNvSpPr/>
          <p:nvPr/>
        </p:nvSpPr>
        <p:spPr>
          <a:xfrm>
            <a:off x="762120" y="1066680"/>
            <a:ext cx="1904760" cy="144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1" name="Picture 26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10480" cy="2757240"/>
          </a:xfrm>
          <a:prstGeom prst="rect">
            <a:avLst/>
          </a:prstGeom>
          <a:ln w="0">
            <a:noFill/>
          </a:ln>
        </p:spPr>
      </p:pic>
      <p:sp>
        <p:nvSpPr>
          <p:cNvPr id="1712" name="Rectangle 26"/>
          <p:cNvSpPr/>
          <p:nvPr/>
        </p:nvSpPr>
        <p:spPr>
          <a:xfrm>
            <a:off x="914400" y="4419720"/>
            <a:ext cx="7315200" cy="23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Text Box 3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Line 4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Line 5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Oval 6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Oval 7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Line 8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Line 9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Oval 10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Oval 11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22" name="Group 12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723" name="Line 13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Line 14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Oval 15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Oval 16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7" name="Oval 17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8" name="Line 1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Line 1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Oval 20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Rectangle 21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Rectangle 22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3" name="Rectangle 23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Rectangle 24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Rectangle 26"/>
          <p:cNvSpPr/>
          <p:nvPr/>
        </p:nvSpPr>
        <p:spPr>
          <a:xfrm>
            <a:off x="2819520" y="1066680"/>
            <a:ext cx="1904760" cy="144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6" name="Picture 26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10480" cy="2757240"/>
          </a:xfrm>
          <a:prstGeom prst="rect">
            <a:avLst/>
          </a:prstGeom>
          <a:ln w="0">
            <a:noFill/>
          </a:ln>
        </p:spPr>
      </p:pic>
      <p:sp>
        <p:nvSpPr>
          <p:cNvPr id="1737" name="Rectangle 26"/>
          <p:cNvSpPr/>
          <p:nvPr/>
        </p:nvSpPr>
        <p:spPr>
          <a:xfrm>
            <a:off x="914400" y="4656240"/>
            <a:ext cx="7315200" cy="23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Text Box 3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9" name="Line 4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Line 5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Oval 6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Oval 7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Line 8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Line 9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Oval 10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Oval 11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7" name="Group 12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748" name="Line 13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9" name="Line 14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0" name="Oval 15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1" name="Oval 16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2" name="Oval 17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53" name="Line 1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Line 1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Oval 20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Rectangle 21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Rectangle 22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Rectangle 23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Rectangle 24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Rectangle 26"/>
          <p:cNvSpPr/>
          <p:nvPr/>
        </p:nvSpPr>
        <p:spPr>
          <a:xfrm>
            <a:off x="4800600" y="1066680"/>
            <a:ext cx="1905120" cy="144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1" name="Picture 26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10480" cy="2757240"/>
          </a:xfrm>
          <a:prstGeom prst="rect">
            <a:avLst/>
          </a:prstGeom>
          <a:ln w="0">
            <a:noFill/>
          </a:ln>
        </p:spPr>
      </p:pic>
      <p:sp>
        <p:nvSpPr>
          <p:cNvPr id="1762" name="Rectangle 26"/>
          <p:cNvSpPr/>
          <p:nvPr/>
        </p:nvSpPr>
        <p:spPr>
          <a:xfrm>
            <a:off x="838080" y="4952880"/>
            <a:ext cx="7315200" cy="23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Text Box 3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Line 4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Line 5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Oval 6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Oval 7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Line 8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Line 9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Oval 10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Oval 11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2" name="Group 12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773" name="Line 13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4" name="Line 14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5" name="Oval 15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6" name="Oval 16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7" name="Oval 17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8" name="Line 1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Line 1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Oval 20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Rectangle 21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Rectangle 22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Rectangle 23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Rectangle 24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Rectangle 26"/>
          <p:cNvSpPr/>
          <p:nvPr/>
        </p:nvSpPr>
        <p:spPr>
          <a:xfrm>
            <a:off x="6553080" y="1066680"/>
            <a:ext cx="1905120" cy="144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6" name="Picture 26" descr=""/>
          <p:cNvPicPr/>
          <p:nvPr/>
        </p:nvPicPr>
        <p:blipFill>
          <a:blip r:embed="rId1"/>
          <a:stretch/>
        </p:blipFill>
        <p:spPr>
          <a:xfrm>
            <a:off x="228600" y="3265560"/>
            <a:ext cx="8610480" cy="2757240"/>
          </a:xfrm>
          <a:prstGeom prst="rect">
            <a:avLst/>
          </a:prstGeom>
          <a:ln w="0">
            <a:noFill/>
          </a:ln>
        </p:spPr>
      </p:pic>
      <p:sp>
        <p:nvSpPr>
          <p:cNvPr id="1787" name="Rectangle 26"/>
          <p:cNvSpPr/>
          <p:nvPr/>
        </p:nvSpPr>
        <p:spPr>
          <a:xfrm flipV="1">
            <a:off x="838080" y="5180400"/>
            <a:ext cx="6477120" cy="204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Text Box 6"/>
          <p:cNvSpPr/>
          <p:nvPr/>
        </p:nvSpPr>
        <p:spPr>
          <a:xfrm>
            <a:off x="6991560" y="0"/>
            <a:ext cx="21636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Text Box 7"/>
          <p:cNvSpPr/>
          <p:nvPr/>
        </p:nvSpPr>
        <p:spPr>
          <a:xfrm>
            <a:off x="-2160" y="0"/>
            <a:ext cx="26892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the node to dele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0" name="Picture 5" descr=""/>
          <p:cNvPicPr/>
          <p:nvPr/>
        </p:nvPicPr>
        <p:blipFill>
          <a:blip r:embed="rId1"/>
          <a:stretch/>
        </p:blipFill>
        <p:spPr>
          <a:xfrm>
            <a:off x="304920" y="2328840"/>
            <a:ext cx="8534160" cy="2419200"/>
          </a:xfrm>
          <a:prstGeom prst="rect">
            <a:avLst/>
          </a:prstGeom>
          <a:ln w="0">
            <a:noFill/>
          </a:ln>
        </p:spPr>
      </p:pic>
      <p:sp>
        <p:nvSpPr>
          <p:cNvPr id="1791" name="TextBox 1"/>
          <p:cNvSpPr/>
          <p:nvPr/>
        </p:nvSpPr>
        <p:spPr>
          <a:xfrm>
            <a:off x="2089440" y="5562720"/>
            <a:ext cx="13039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s before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Text Box 4"/>
          <p:cNvSpPr/>
          <p:nvPr/>
        </p:nvSpPr>
        <p:spPr>
          <a:xfrm>
            <a:off x="3079080" y="326556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l of the code for dele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Text Box 4"/>
          <p:cNvSpPr/>
          <p:nvPr/>
        </p:nvSpPr>
        <p:spPr>
          <a:xfrm>
            <a:off x="6991560" y="0"/>
            <a:ext cx="21636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4" name="Text Box 5"/>
          <p:cNvSpPr/>
          <p:nvPr/>
        </p:nvSpPr>
        <p:spPr>
          <a:xfrm>
            <a:off x="36000" y="0"/>
            <a:ext cx="15372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l of the c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5" name="Picture 5" descr=""/>
          <p:cNvPicPr/>
          <p:nvPr/>
        </p:nvPicPr>
        <p:blipFill>
          <a:blip r:embed="rId1"/>
          <a:stretch/>
        </p:blipFill>
        <p:spPr>
          <a:xfrm>
            <a:off x="119160" y="566640"/>
            <a:ext cx="890568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6" name="Picture 4" descr="austinPowers01"/>
          <p:cNvPicPr/>
          <p:nvPr/>
        </p:nvPicPr>
        <p:blipFill>
          <a:blip r:embed="rId1"/>
          <a:stretch/>
        </p:blipFill>
        <p:spPr>
          <a:xfrm>
            <a:off x="238932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7" name="Picture 5" descr="Dr_Evil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4270320"/>
          </a:xfrm>
          <a:prstGeom prst="rect">
            <a:avLst/>
          </a:prstGeom>
          <a:ln w="0">
            <a:noFill/>
          </a:ln>
        </p:spPr>
      </p:pic>
      <p:sp>
        <p:nvSpPr>
          <p:cNvPr id="1798" name="AutoShape 7"/>
          <p:cNvSpPr/>
          <p:nvPr/>
        </p:nvSpPr>
        <p:spPr>
          <a:xfrm>
            <a:off x="6553080" y="228600"/>
            <a:ext cx="2133720" cy="1295280"/>
          </a:xfrm>
          <a:prstGeom prst="cloudCallout">
            <a:avLst>
              <a:gd name="adj1" fmla="val -85638"/>
              <a:gd name="adj2" fmla="val 46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s there a demo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DF31-312E-4605-9331-6A41BE19D4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877480" y="5229360"/>
            <a:ext cx="15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ails to 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3" name="Straight Arrow Connector 5"/>
          <p:cNvCxnSpPr/>
          <p:nvPr/>
        </p:nvCxnSpPr>
        <p:spPr>
          <a:xfrm flipV="1">
            <a:off x="3657600" y="4647600"/>
            <a:ext cx="457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9" name="Picture 2" descr=""/>
          <p:cNvPicPr/>
          <p:nvPr/>
        </p:nvPicPr>
        <p:blipFill>
          <a:blip r:embed="rId1"/>
          <a:stretch/>
        </p:blipFill>
        <p:spPr>
          <a:xfrm>
            <a:off x="119160" y="566640"/>
            <a:ext cx="8905680" cy="572472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5" descr="Dr_Evil"/>
          <p:cNvPicPr/>
          <p:nvPr/>
        </p:nvPicPr>
        <p:blipFill>
          <a:blip r:embed="rId2"/>
          <a:stretch/>
        </p:blipFill>
        <p:spPr>
          <a:xfrm>
            <a:off x="-15840" y="0"/>
            <a:ext cx="228600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Picture 5" descr="Dr_Evil"/>
          <p:cNvPicPr/>
          <p:nvPr/>
        </p:nvPicPr>
        <p:blipFill>
          <a:blip r:embed="rId1"/>
          <a:stretch/>
        </p:blipFill>
        <p:spPr>
          <a:xfrm>
            <a:off x="-15840" y="0"/>
            <a:ext cx="2286000" cy="118584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2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88632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3" name="Picture 1" descr="mouse-mission-impossible"/>
          <p:cNvPicPr/>
          <p:nvPr/>
        </p:nvPicPr>
        <p:blipFill>
          <a:blip r:embed="rId1"/>
          <a:srcRect l="15001" t="12038" r="26818" b="50006"/>
          <a:stretch/>
        </p:blipFill>
        <p:spPr>
          <a:xfrm>
            <a:off x="0" y="0"/>
            <a:ext cx="4054320" cy="1905120"/>
          </a:xfrm>
          <a:prstGeom prst="rect">
            <a:avLst/>
          </a:prstGeom>
          <a:ln w="0">
            <a:noFill/>
          </a:ln>
        </p:spPr>
      </p:pic>
      <p:sp>
        <p:nvSpPr>
          <p:cNvPr id="1804" name="TextBox 3"/>
          <p:cNvSpPr/>
          <p:nvPr/>
        </p:nvSpPr>
        <p:spPr>
          <a:xfrm>
            <a:off x="1980360" y="3200400"/>
            <a:ext cx="461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our mission, should you choose to accept it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5" name="Picture 2" descr="http://neilojwilliams.net/missioncreep/wp-content/uploads/2009/02/dtp_mission_102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56080" y="5181480"/>
            <a:ext cx="5587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6" name="Picture 1" descr="mouse-mission-impossible"/>
          <p:cNvPicPr/>
          <p:nvPr/>
        </p:nvPicPr>
        <p:blipFill>
          <a:blip r:embed="rId1"/>
          <a:srcRect l="15001" t="12038" r="26818" b="50006"/>
          <a:stretch/>
        </p:blipFill>
        <p:spPr>
          <a:xfrm>
            <a:off x="0" y="0"/>
            <a:ext cx="4054320" cy="1905120"/>
          </a:xfrm>
          <a:prstGeom prst="rect">
            <a:avLst/>
          </a:prstGeom>
          <a:ln w="0">
            <a:noFill/>
          </a:ln>
        </p:spPr>
      </p:pic>
      <p:sp>
        <p:nvSpPr>
          <p:cNvPr id="1807" name="TextBox 3"/>
          <p:cNvSpPr/>
          <p:nvPr/>
        </p:nvSpPr>
        <p:spPr>
          <a:xfrm>
            <a:off x="2076120" y="3200400"/>
            <a:ext cx="57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mplement insert, find , height, the traversals, bfs, dfs, …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8" name="Picture 2" descr="http://neilojwilliams.net/missioncreep/wp-content/uploads/2009/02/dtp_mission_102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56080" y="5181480"/>
            <a:ext cx="5587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Picture 4" descr="austin4b"/>
          <p:cNvPicPr/>
          <p:nvPr/>
        </p:nvPicPr>
        <p:blipFill>
          <a:blip r:embed="rId1"/>
          <a:stretch/>
        </p:blipFill>
        <p:spPr>
          <a:xfrm>
            <a:off x="2548080" y="271440"/>
            <a:ext cx="40478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EF11-65B0-4730-A558-806252E529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serting a new n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0880" y="1066680"/>
            <a:ext cx="815364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method works whether we are using the tree to implement a set, sequence etc. as long as it is an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injectiv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inary search tre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80880" y="2057400"/>
            <a:ext cx="8229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serting a new node in general we mus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dd to bottom of tree at all times (add a leaf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eep the search tree property (left less than righ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52E9-849F-4336-81DD-94CF14EF9E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E6A9-6A7A-413D-B20D-10C6ACAB60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8068680" y="0"/>
            <a:ext cx="1028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3612-83E1-47E9-B71B-79BBAF5140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8068680" y="0"/>
            <a:ext cx="1028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CF60-4960-413C-BE3C-8A5872C0E9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8068680" y="0"/>
            <a:ext cx="1028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B624-2814-4236-AB12-37A57878AC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ary search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inary search tree is a binary tree wher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all elements in the left subtree are less than elements in the right sub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C95D-D586-4FA7-A14D-C1084EA31D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8068680" y="0"/>
            <a:ext cx="1028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8420-EDB8-4481-BBAE-C85DB8C1C7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8068680" y="0"/>
            <a:ext cx="1028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4"/>
          <p:cNvCxnSpPr/>
          <p:nvPr/>
        </p:nvCxnSpPr>
        <p:spPr>
          <a:xfrm flipH="1" flipV="1">
            <a:off x="4342680" y="457128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4564-459F-46A7-8991-88D47C3BA2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789280" y="3103560"/>
            <a:ext cx="33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other illustration of insertion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1C46-DFE6-4590-AA8E-64ABF6C7AC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2362320" y="2286000"/>
            <a:ext cx="4114800" cy="2206800"/>
            <a:chOff x="2362320" y="2286000"/>
            <a:chExt cx="4114800" cy="2206800"/>
          </a:xfrm>
        </p:grpSpPr>
        <p:sp>
          <p:nvSpPr>
            <p:cNvPr id="122" name="AutoShape 5"/>
            <p:cNvSpPr/>
            <p:nvPr/>
          </p:nvSpPr>
          <p:spPr>
            <a:xfrm>
              <a:off x="2362320" y="2286000"/>
              <a:ext cx="4114800" cy="22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5964120" y="3105000"/>
              <a:ext cx="43992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617148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>
              <a:off x="4729320" y="2455920"/>
              <a:ext cx="43812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>
              <a:off x="4934880" y="2577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3622680" y="3105000"/>
              <a:ext cx="43956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382860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Oval 12"/>
            <p:cNvSpPr/>
            <p:nvPr/>
          </p:nvSpPr>
          <p:spPr>
            <a:xfrm>
              <a:off x="2971800" y="3657600"/>
              <a:ext cx="43956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31791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>
              <a:off x="5378400" y="3689280"/>
              <a:ext cx="43992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55857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H="1">
              <a:off x="3989160" y="2739960"/>
              <a:ext cx="7318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 flipH="1">
              <a:off x="3403440" y="3470400"/>
              <a:ext cx="29232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H="1">
              <a:off x="5744880" y="3470400"/>
              <a:ext cx="29196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>
              <a:off x="5159520" y="2739960"/>
              <a:ext cx="8776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7" name="Text Box 20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280C-BF72-4796-A9E5-54FA04E710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362320" y="2286000"/>
            <a:ext cx="4114800" cy="2206800"/>
            <a:chOff x="2362320" y="2286000"/>
            <a:chExt cx="4114800" cy="2206800"/>
          </a:xfrm>
        </p:grpSpPr>
        <p:sp>
          <p:nvSpPr>
            <p:cNvPr id="141" name="AutoShape 5"/>
            <p:cNvSpPr/>
            <p:nvPr/>
          </p:nvSpPr>
          <p:spPr>
            <a:xfrm>
              <a:off x="2362320" y="2286000"/>
              <a:ext cx="4114800" cy="22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5964120" y="3105000"/>
              <a:ext cx="43992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617148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>
              <a:off x="4729320" y="2455920"/>
              <a:ext cx="438120" cy="43812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4934880" y="2577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3622680" y="3105000"/>
              <a:ext cx="43956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382860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2971800" y="3657600"/>
              <a:ext cx="43956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31791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5378400" y="3689280"/>
              <a:ext cx="43992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55857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16"/>
            <p:cNvSpPr/>
            <p:nvPr/>
          </p:nvSpPr>
          <p:spPr>
            <a:xfrm flipH="1">
              <a:off x="3989160" y="2739960"/>
              <a:ext cx="7318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 flipH="1">
              <a:off x="3403440" y="3470400"/>
              <a:ext cx="29232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 flipH="1">
              <a:off x="5744880" y="3470400"/>
              <a:ext cx="29196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>
              <a:off x="5159520" y="2739960"/>
              <a:ext cx="8776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1364040" y="4913280"/>
            <a:ext cx="247572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5 with nod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&gt; 3 so go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057E-040E-45D4-8E79-D217563950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2362320" y="2286000"/>
            <a:ext cx="4114800" cy="2206800"/>
            <a:chOff x="2362320" y="2286000"/>
            <a:chExt cx="4114800" cy="2206800"/>
          </a:xfrm>
        </p:grpSpPr>
        <p:sp>
          <p:nvSpPr>
            <p:cNvPr id="161" name="AutoShape 5"/>
            <p:cNvSpPr/>
            <p:nvPr/>
          </p:nvSpPr>
          <p:spPr>
            <a:xfrm>
              <a:off x="2362320" y="2286000"/>
              <a:ext cx="4114800" cy="22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6"/>
            <p:cNvSpPr/>
            <p:nvPr/>
          </p:nvSpPr>
          <p:spPr>
            <a:xfrm>
              <a:off x="5964120" y="3105000"/>
              <a:ext cx="439920" cy="43848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617148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729320" y="2455920"/>
              <a:ext cx="438120" cy="43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9"/>
            <p:cNvSpPr/>
            <p:nvPr/>
          </p:nvSpPr>
          <p:spPr>
            <a:xfrm>
              <a:off x="4934880" y="2577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3622680" y="3105000"/>
              <a:ext cx="43956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382860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12"/>
            <p:cNvSpPr/>
            <p:nvPr/>
          </p:nvSpPr>
          <p:spPr>
            <a:xfrm>
              <a:off x="2971800" y="3657600"/>
              <a:ext cx="43956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1791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Oval 14"/>
            <p:cNvSpPr/>
            <p:nvPr/>
          </p:nvSpPr>
          <p:spPr>
            <a:xfrm>
              <a:off x="5378400" y="3689280"/>
              <a:ext cx="43992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55857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 flipH="1">
              <a:off x="3989160" y="2739960"/>
              <a:ext cx="7318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3403440" y="3470400"/>
              <a:ext cx="29232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H="1">
              <a:off x="5744880" y="3470400"/>
              <a:ext cx="29196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>
              <a:off x="5159520" y="2739960"/>
              <a:ext cx="8776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6" name="Text Box 20"/>
          <p:cNvSpPr/>
          <p:nvPr/>
        </p:nvSpPr>
        <p:spPr>
          <a:xfrm>
            <a:off x="1364040" y="4913280"/>
            <a:ext cx="247572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5 with nod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&lt; 6 so go le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D5EC-4657-476F-9617-7E7E94E2E2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2362320" y="2286000"/>
            <a:ext cx="4114800" cy="2206800"/>
            <a:chOff x="2362320" y="2286000"/>
            <a:chExt cx="4114800" cy="2206800"/>
          </a:xfrm>
        </p:grpSpPr>
        <p:sp>
          <p:nvSpPr>
            <p:cNvPr id="181" name="AutoShape 5"/>
            <p:cNvSpPr/>
            <p:nvPr/>
          </p:nvSpPr>
          <p:spPr>
            <a:xfrm>
              <a:off x="2362320" y="2286000"/>
              <a:ext cx="4114800" cy="22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6"/>
            <p:cNvSpPr/>
            <p:nvPr/>
          </p:nvSpPr>
          <p:spPr>
            <a:xfrm>
              <a:off x="5964120" y="3105000"/>
              <a:ext cx="439920" cy="43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Rectangle 7"/>
            <p:cNvSpPr/>
            <p:nvPr/>
          </p:nvSpPr>
          <p:spPr>
            <a:xfrm>
              <a:off x="617148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4729320" y="2455920"/>
              <a:ext cx="438120" cy="43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4934880" y="2577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0"/>
            <p:cNvSpPr/>
            <p:nvPr/>
          </p:nvSpPr>
          <p:spPr>
            <a:xfrm>
              <a:off x="3622680" y="3105000"/>
              <a:ext cx="43956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382860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2"/>
            <p:cNvSpPr/>
            <p:nvPr/>
          </p:nvSpPr>
          <p:spPr>
            <a:xfrm>
              <a:off x="2971800" y="3657600"/>
              <a:ext cx="43956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Rectangle 13"/>
            <p:cNvSpPr/>
            <p:nvPr/>
          </p:nvSpPr>
          <p:spPr>
            <a:xfrm>
              <a:off x="31791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4"/>
            <p:cNvSpPr/>
            <p:nvPr/>
          </p:nvSpPr>
          <p:spPr>
            <a:xfrm>
              <a:off x="5378400" y="3689280"/>
              <a:ext cx="439920" cy="43812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55857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H="1">
              <a:off x="3989160" y="2739960"/>
              <a:ext cx="7318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>
              <a:off x="3403440" y="3470400"/>
              <a:ext cx="29232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 flipH="1">
              <a:off x="5744880" y="3470400"/>
              <a:ext cx="29196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>
              <a:off x="5159520" y="2739960"/>
              <a:ext cx="8776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6" name="Text Box 20"/>
          <p:cNvSpPr/>
          <p:nvPr/>
        </p:nvSpPr>
        <p:spPr>
          <a:xfrm>
            <a:off x="1364040" y="4913280"/>
            <a:ext cx="247572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5 with nod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&gt; 4 so go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19F0-6576-418C-AE57-1DCCB83FB4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362320" y="2286000"/>
            <a:ext cx="411480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5964120" y="3105000"/>
            <a:ext cx="439920" cy="438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119280" y="3225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4729320" y="2455920"/>
            <a:ext cx="438120" cy="43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882680" y="2577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3622680" y="3105000"/>
            <a:ext cx="439560" cy="4384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3776400" y="3225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2971800" y="3657600"/>
            <a:ext cx="439560" cy="438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3126960" y="3778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5378400" y="3689280"/>
            <a:ext cx="439920" cy="43812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533560" y="3778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3989160" y="2739960"/>
            <a:ext cx="731880" cy="438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6"/>
          <p:cNvSpPr/>
          <p:nvPr/>
        </p:nvSpPr>
        <p:spPr>
          <a:xfrm flipH="1">
            <a:off x="3403440" y="3470400"/>
            <a:ext cx="292320" cy="291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17"/>
          <p:cNvSpPr/>
          <p:nvPr/>
        </p:nvSpPr>
        <p:spPr>
          <a:xfrm flipH="1">
            <a:off x="5744880" y="3470400"/>
            <a:ext cx="291960" cy="291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159520" y="2739960"/>
            <a:ext cx="877680" cy="438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1363320" y="4913280"/>
            <a:ext cx="35946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go right as that is nu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node right of here, as a lea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>
            <a:off x="5638680" y="3886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F364-AAA8-4893-887A-D6A75DC676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2362320" y="2286000"/>
            <a:ext cx="411480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5964120" y="3105000"/>
            <a:ext cx="439920" cy="438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6119280" y="3225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8"/>
          <p:cNvSpPr/>
          <p:nvPr/>
        </p:nvSpPr>
        <p:spPr>
          <a:xfrm>
            <a:off x="4729320" y="2455920"/>
            <a:ext cx="438120" cy="43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882680" y="2577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622680" y="3105000"/>
            <a:ext cx="439560" cy="4384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776400" y="3225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2971800" y="3657600"/>
            <a:ext cx="439560" cy="438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3126960" y="3778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4"/>
          <p:cNvSpPr/>
          <p:nvPr/>
        </p:nvSpPr>
        <p:spPr>
          <a:xfrm>
            <a:off x="5378400" y="3689280"/>
            <a:ext cx="439920" cy="43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5533560" y="3778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6"/>
          <p:cNvSpPr/>
          <p:nvPr/>
        </p:nvSpPr>
        <p:spPr>
          <a:xfrm flipH="1">
            <a:off x="3989160" y="2739960"/>
            <a:ext cx="731880" cy="438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17"/>
          <p:cNvSpPr/>
          <p:nvPr/>
        </p:nvSpPr>
        <p:spPr>
          <a:xfrm flipH="1">
            <a:off x="3403440" y="3470400"/>
            <a:ext cx="292320" cy="291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8"/>
          <p:cNvSpPr/>
          <p:nvPr/>
        </p:nvSpPr>
        <p:spPr>
          <a:xfrm flipH="1">
            <a:off x="5744880" y="3470400"/>
            <a:ext cx="291960" cy="291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5159520" y="2739960"/>
            <a:ext cx="877680" cy="438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1363320" y="4913280"/>
            <a:ext cx="3594600" cy="6426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go right as that is nu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node right of here, as a lea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21"/>
          <p:cNvSpPr/>
          <p:nvPr/>
        </p:nvSpPr>
        <p:spPr>
          <a:xfrm>
            <a:off x="6019920" y="4191120"/>
            <a:ext cx="439560" cy="438120"/>
          </a:xfrm>
          <a:prstGeom prst="ellipse">
            <a:avLst/>
          </a:prstGeom>
          <a:solidFill>
            <a:srgbClr val="cc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 rot="21187200">
            <a:off x="1621080" y="2362320"/>
            <a:ext cx="515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Why bother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E578-ECF1-4E94-B15B-1EDD477D38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ary search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inary search tree is a binary tree wher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all elements in the left subtree are less than elements in the right sub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2176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105520" y="1981080"/>
            <a:ext cx="3504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 we saw earlier, inorder traversal i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b c d e f g h i j which is in sorted or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 this is a binary search t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Who-Cares-Sticky-NotCS_original"/>
          <p:cNvPicPr/>
          <p:nvPr/>
        </p:nvPicPr>
        <p:blipFill>
          <a:blip r:embed="rId1"/>
          <a:srcRect l="5689" t="27016" r="9477" b="10553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51BA-1955-40F7-89E1-A171F0AA92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3" descr="Z:\public_html\ads2\java\treeDraw\01.jpg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67680" y="457200"/>
            <a:ext cx="4306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3, log(n+1)-1 = 1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3165-7C0B-45F3-99E7-43B559B27B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89280" y="457200"/>
            <a:ext cx="4306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7, log(n+1)-1 = 2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F1B9-9546-44F5-B4F7-23A32A703A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"/>
          <p:cNvSpPr/>
          <p:nvPr/>
        </p:nvSpPr>
        <p:spPr>
          <a:xfrm>
            <a:off x="73440" y="457200"/>
            <a:ext cx="44524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15, log(n+1)-1 = 3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224E-8ADD-4DE0-8048-70C85897AD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73440" y="457200"/>
            <a:ext cx="44524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31, log(n+1)-1 = 4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BC99-CE1A-4A0D-854F-6609E8D3B0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94680" y="457200"/>
            <a:ext cx="44524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63, log(n+1)-1 = 5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C6F3-30AD-426C-A991-EEEFB622CE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78840" y="457200"/>
            <a:ext cx="4598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127, log(n+1)-1 = 6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8153-4A06-4478-BE0D-AB196A8720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100440" y="457200"/>
            <a:ext cx="4598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255, log(n+1)-1 = 7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5091120" y="4419720"/>
            <a:ext cx="326376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(h)  log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n+1)-1 ≤ h ≤  n-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47520" y="533520"/>
            <a:ext cx="1838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d this is cruci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2819520" y="838080"/>
            <a:ext cx="236196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90040" y="5867280"/>
            <a:ext cx="54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we get it right we can access data in logarithmic time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2000" y="67464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og to the base 2 of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464840" y="1817640"/>
            <a:ext cx="1784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 =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 =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 = 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6 = 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024 = 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1E46-BFCF-4C2F-9A42-6EFE3AA73A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ary search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inary search tree is a binary tree whose inorder traversal is in sorted or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2176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105520" y="1981080"/>
            <a:ext cx="3504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 we saw earlier, inorder traversal i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b c d e f g h i j which is in sorted or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 this is a binary search t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5800" y="5029200"/>
            <a:ext cx="53341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many more (binary) search trees that have inorder traversal a b c d e f g h i 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062000" y="67464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og to the base 2 of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464840" y="1817640"/>
            <a:ext cx="1784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 =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 =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 = 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6 = 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024 = 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Picture 4" descr="logbase2"/>
          <p:cNvPicPr/>
          <p:nvPr/>
        </p:nvPicPr>
        <p:blipFill>
          <a:blip r:embed="rId1"/>
          <a:stretch/>
        </p:blipFill>
        <p:spPr>
          <a:xfrm>
            <a:off x="4191120" y="2438280"/>
            <a:ext cx="3809880" cy="18957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7325280" y="601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rilliant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08B3-D31F-4A77-BCDA-50265012C6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3706560" y="3124080"/>
            <a:ext cx="21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java implement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2696-C1B4-44A8-97EA-8F1584F6D4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3907440" y="29592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9E7-9D75-47B4-9571-9EFF8234DB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10E9-F1ED-4308-8B5E-D7C34F5299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09480" y="1295280"/>
            <a:ext cx="1981440" cy="6858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683E-BFEB-4AB0-B7F0-3ACED23CB3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573120" y="1866960"/>
            <a:ext cx="3541680" cy="3427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5829120" y="167652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fault construc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2AE2-5B95-4972-8635-52AE42BC1E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573120" y="2209680"/>
            <a:ext cx="4532400" cy="83844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5555520" y="1685880"/>
            <a:ext cx="27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arameterised construc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te use of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i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218F-46AE-4F15-9E5B-8A2A3AAE72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573120" y="3009960"/>
            <a:ext cx="4227480" cy="64764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6473160" y="31640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181F-AFAC-4BB0-8D7B-3B17373099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573120" y="3656160"/>
            <a:ext cx="6775560" cy="64764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7652880" y="38098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et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623E-1338-47D0-A23B-5C62D733D9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73120" y="4300560"/>
            <a:ext cx="5446800" cy="95724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6782040" y="461016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dica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9068-B59D-4BFE-898D-15EF3D5549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ary search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inary search tree is a binary tree whose inorder traversal is in sorted or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2176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105520" y="1981080"/>
            <a:ext cx="3504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 we saw earlier, inorder traversal i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b c d e f g h i j which is in sorted or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 this is a binary search t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85800" y="5029200"/>
            <a:ext cx="26668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 entries are uniqu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507200" y="5322960"/>
            <a:ext cx="324684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ypical use … representing </a:t>
            </a:r>
            <a:r>
              <a:rPr b="1" i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a s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6B7E-CD98-486A-821B-6339A3F5BB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596880" y="5245200"/>
            <a:ext cx="4203720" cy="3175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574960" y="522144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prin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2173320" y="2590920"/>
            <a:ext cx="41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STree cla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1"/>
          <p:cNvSpPr/>
          <p:nvPr/>
        </p:nvSpPr>
        <p:spPr>
          <a:xfrm>
            <a:off x="2895840" y="3903840"/>
            <a:ext cx="270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narySearchTree (BSTre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5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380880" y="1143000"/>
            <a:ext cx="1524240" cy="3808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5217120" y="1158840"/>
            <a:ext cx="3225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binary search tree has a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ere the root is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t also has a size, where size 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number of nodes in the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0" name="Straight Arrow Connector 4"/>
          <p:cNvCxnSpPr>
            <a:stCxn id="319" idx="1"/>
            <a:endCxn id="318" idx="3"/>
          </p:cNvCxnSpPr>
          <p:nvPr/>
        </p:nvCxnSpPr>
        <p:spPr>
          <a:xfrm flipH="1" flipV="1">
            <a:off x="1904400" y="1333080"/>
            <a:ext cx="3277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2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"/>
          <p:cNvSpPr/>
          <p:nvPr/>
        </p:nvSpPr>
        <p:spPr>
          <a:xfrm>
            <a:off x="380880" y="1447920"/>
            <a:ext cx="3162600" cy="2491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5225040" y="1158840"/>
            <a:ext cx="3475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fault constructor, an empty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ith an empty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5" name="Straight Arrow Connector 4"/>
          <p:cNvCxnSpPr>
            <a:stCxn id="324" idx="1"/>
            <a:endCxn id="323" idx="3"/>
          </p:cNvCxnSpPr>
          <p:nvPr/>
        </p:nvCxnSpPr>
        <p:spPr>
          <a:xfrm flipH="1">
            <a:off x="3543120" y="1450800"/>
            <a:ext cx="163872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7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1"/>
          <p:cNvSpPr/>
          <p:nvPr/>
        </p:nvSpPr>
        <p:spPr>
          <a:xfrm>
            <a:off x="380880" y="1784520"/>
            <a:ext cx="3733920" cy="5014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5259960" y="1158840"/>
            <a:ext cx="23446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est if tree is emp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size of the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Straight Arrow Connector 4"/>
          <p:cNvCxnSpPr>
            <a:stCxn id="329" idx="1"/>
            <a:endCxn id="328" idx="3"/>
          </p:cNvCxnSpPr>
          <p:nvPr/>
        </p:nvCxnSpPr>
        <p:spPr>
          <a:xfrm flipH="1">
            <a:off x="4114080" y="1574280"/>
            <a:ext cx="106740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2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"/>
          <p:cNvSpPr/>
          <p:nvPr/>
        </p:nvSpPr>
        <p:spPr>
          <a:xfrm>
            <a:off x="380880" y="2286000"/>
            <a:ext cx="7302600" cy="9907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Box 2"/>
          <p:cNvSpPr/>
          <p:nvPr/>
        </p:nvSpPr>
        <p:spPr>
          <a:xfrm>
            <a:off x="5874480" y="1158840"/>
            <a:ext cx="2733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string s into the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5" name="Straight Arrow Connector 4"/>
          <p:cNvCxnSpPr/>
          <p:nvPr/>
        </p:nvCxnSpPr>
        <p:spPr>
          <a:xfrm flipH="1">
            <a:off x="4032000" y="1496880"/>
            <a:ext cx="3209040" cy="78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"/>
          <p:cNvSpPr/>
          <p:nvPr/>
        </p:nvSpPr>
        <p:spPr>
          <a:xfrm>
            <a:off x="380880" y="2286000"/>
            <a:ext cx="7302600" cy="9907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5874480" y="1158840"/>
            <a:ext cx="2733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string s into the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0" name="Straight Arrow Connector 4"/>
          <p:cNvCxnSpPr/>
          <p:nvPr/>
        </p:nvCxnSpPr>
        <p:spPr>
          <a:xfrm flipH="1">
            <a:off x="4032000" y="1496880"/>
            <a:ext cx="3209040" cy="78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1" name="Rectangle 6"/>
          <p:cNvSpPr/>
          <p:nvPr/>
        </p:nvSpPr>
        <p:spPr>
          <a:xfrm>
            <a:off x="609480" y="2514600"/>
            <a:ext cx="6934320" cy="6094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"/>
          <p:cNvSpPr/>
          <p:nvPr/>
        </p:nvSpPr>
        <p:spPr>
          <a:xfrm>
            <a:off x="376200" y="3124080"/>
            <a:ext cx="7167600" cy="22860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Box 2"/>
          <p:cNvSpPr/>
          <p:nvPr/>
        </p:nvSpPr>
        <p:spPr>
          <a:xfrm>
            <a:off x="4874400" y="1158840"/>
            <a:ext cx="30808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string s into the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ooted on the current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6" name="Straight Arrow Connector 4"/>
          <p:cNvCxnSpPr/>
          <p:nvPr/>
        </p:nvCxnSpPr>
        <p:spPr>
          <a:xfrm flipH="1">
            <a:off x="3809160" y="1743120"/>
            <a:ext cx="2606040" cy="13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8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1"/>
          <p:cNvSpPr/>
          <p:nvPr/>
        </p:nvSpPr>
        <p:spPr>
          <a:xfrm>
            <a:off x="404640" y="3657600"/>
            <a:ext cx="6910560" cy="3049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Box 2"/>
          <p:cNvSpPr/>
          <p:nvPr/>
        </p:nvSpPr>
        <p:spPr>
          <a:xfrm>
            <a:off x="4908960" y="1158840"/>
            <a:ext cx="2631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in the left subtree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1" name="Straight Arrow Connector 4"/>
          <p:cNvCxnSpPr>
            <a:stCxn id="350" idx="2"/>
            <a:endCxn id="349" idx="0"/>
          </p:cNvCxnSpPr>
          <p:nvPr/>
        </p:nvCxnSpPr>
        <p:spPr>
          <a:xfrm flipH="1">
            <a:off x="3858480" y="1496880"/>
            <a:ext cx="2366280" cy="21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8319-4D84-4CCD-9E26-757C7E5896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"/>
          <p:cNvSpPr/>
          <p:nvPr/>
        </p:nvSpPr>
        <p:spPr>
          <a:xfrm>
            <a:off x="404640" y="3819600"/>
            <a:ext cx="6910560" cy="590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4815720" y="1158840"/>
            <a:ext cx="3045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in the left subtree a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need to create a new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Straight Arrow Connector 4"/>
          <p:cNvCxnSpPr>
            <a:stCxn id="355" idx="2"/>
            <a:endCxn id="354" idx="0"/>
          </p:cNvCxnSpPr>
          <p:nvPr/>
        </p:nvCxnSpPr>
        <p:spPr>
          <a:xfrm flipH="1">
            <a:off x="3858840" y="1743120"/>
            <a:ext cx="2480400" cy="20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"/>
          <p:cNvSpPr/>
          <p:nvPr/>
        </p:nvSpPr>
        <p:spPr>
          <a:xfrm>
            <a:off x="431640" y="4419720"/>
            <a:ext cx="6910560" cy="2188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4889880" y="1158840"/>
            <a:ext cx="2780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in the right subtree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Straight Arrow Connector 4"/>
          <p:cNvCxnSpPr>
            <a:stCxn id="360" idx="2"/>
            <a:endCxn id="359" idx="0"/>
          </p:cNvCxnSpPr>
          <p:nvPr/>
        </p:nvCxnSpPr>
        <p:spPr>
          <a:xfrm flipH="1">
            <a:off x="3885840" y="1496520"/>
            <a:ext cx="2394720" cy="292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"/>
          <p:cNvSpPr/>
          <p:nvPr/>
        </p:nvSpPr>
        <p:spPr>
          <a:xfrm>
            <a:off x="444600" y="4638600"/>
            <a:ext cx="6910200" cy="6192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4846680" y="1158840"/>
            <a:ext cx="3045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in the right subtree a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need to create a new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5" name="Straight Arrow Connector 4"/>
          <p:cNvCxnSpPr>
            <a:stCxn id="364" idx="2"/>
            <a:endCxn id="363" idx="0"/>
          </p:cNvCxnSpPr>
          <p:nvPr/>
        </p:nvCxnSpPr>
        <p:spPr>
          <a:xfrm flipH="1">
            <a:off x="3899880" y="1742760"/>
            <a:ext cx="2470680" cy="28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6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3638160" y="31021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04920" y="1676520"/>
            <a:ext cx="6324480" cy="61884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4866840" y="3048120"/>
            <a:ext cx="33901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string s is present in the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the tree isn’t empty and we ca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find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a node that contains 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6" name="Straight Arrow Connector 7"/>
          <p:cNvCxnSpPr>
            <a:stCxn id="375" idx="0"/>
            <a:endCxn id="374" idx="2"/>
          </p:cNvCxnSpPr>
          <p:nvPr/>
        </p:nvCxnSpPr>
        <p:spPr>
          <a:xfrm flipH="1" flipV="1">
            <a:off x="3466800" y="2294640"/>
            <a:ext cx="3094560" cy="75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341280" y="2303640"/>
            <a:ext cx="6324480" cy="14302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5232600" y="5029200"/>
            <a:ext cx="33886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string s in the subtree roo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n the current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2" name="Straight Arrow Connector 7"/>
          <p:cNvCxnSpPr>
            <a:stCxn id="381" idx="0"/>
            <a:endCxn id="380" idx="2"/>
          </p:cNvCxnSpPr>
          <p:nvPr/>
        </p:nvCxnSpPr>
        <p:spPr>
          <a:xfrm flipH="1" flipV="1">
            <a:off x="3503160" y="3733560"/>
            <a:ext cx="34250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341280" y="2590920"/>
            <a:ext cx="6059520" cy="3808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Box 6"/>
          <p:cNvSpPr/>
          <p:nvPr/>
        </p:nvSpPr>
        <p:spPr>
          <a:xfrm>
            <a:off x="5266800" y="5029200"/>
            <a:ext cx="37026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equal to the data in the cur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then return the current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s a resul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8" name="Straight Arrow Connector 7"/>
          <p:cNvCxnSpPr>
            <a:stCxn id="387" idx="0"/>
            <a:endCxn id="386" idx="2"/>
          </p:cNvCxnSpPr>
          <p:nvPr/>
        </p:nvCxnSpPr>
        <p:spPr>
          <a:xfrm flipH="1" flipV="1">
            <a:off x="3369600" y="2971440"/>
            <a:ext cx="37486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57200" y="2895480"/>
            <a:ext cx="6059520" cy="26676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4152960" y="4876920"/>
            <a:ext cx="41706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less than the data in the cur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and the current node has a left chi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n try and find s in the subtree roo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n the left chi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4" name="Straight Arrow Connector 7"/>
          <p:cNvCxnSpPr>
            <a:stCxn id="393" idx="0"/>
            <a:endCxn id="392" idx="2"/>
          </p:cNvCxnSpPr>
          <p:nvPr/>
        </p:nvCxnSpPr>
        <p:spPr>
          <a:xfrm flipH="1" flipV="1">
            <a:off x="3487320" y="3161520"/>
            <a:ext cx="27518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457200" y="3162240"/>
            <a:ext cx="6059520" cy="26676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4144320" y="4876920"/>
            <a:ext cx="429696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greater than the data in the cur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and the current node has </a:t>
            </a: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a righ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chi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n try and find s in the subtree roo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n the right chi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0" name="Straight Arrow Connector 7"/>
          <p:cNvCxnSpPr>
            <a:stCxn id="399" idx="0"/>
            <a:endCxn id="398" idx="2"/>
          </p:cNvCxnSpPr>
          <p:nvPr/>
        </p:nvCxnSpPr>
        <p:spPr>
          <a:xfrm flipH="1" flipV="1">
            <a:off x="3487320" y="3428640"/>
            <a:ext cx="280584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EFAF-80DB-4EC2-9AC6-B2685AF563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014720" y="3352680"/>
            <a:ext cx="73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38360" y="4614840"/>
            <a:ext cx="61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ebdiis.unizar.es/asignaturas/EDA/AVLTree/avltree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457200" y="3429000"/>
            <a:ext cx="3200400" cy="17316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2118240" y="4876920"/>
            <a:ext cx="52009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 is less than the current node and it has no left chi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r s is greater than the current node and it has 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ight child … deliver null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6" name="Straight Arrow Connector 7"/>
          <p:cNvCxnSpPr>
            <a:stCxn id="405" idx="0"/>
            <a:endCxn id="404" idx="2"/>
          </p:cNvCxnSpPr>
          <p:nvPr/>
        </p:nvCxnSpPr>
        <p:spPr>
          <a:xfrm flipH="1" flipV="1">
            <a:off x="2056680" y="3601440"/>
            <a:ext cx="2661480" cy="127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3489480" y="26668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Oval 10"/>
          <p:cNvSpPr/>
          <p:nvPr/>
        </p:nvSpPr>
        <p:spPr>
          <a:xfrm>
            <a:off x="99072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Straight Connector 18"/>
          <p:cNvSpPr/>
          <p:nvPr/>
        </p:nvSpPr>
        <p:spPr>
          <a:xfrm flipH="1">
            <a:off x="1294920" y="2743200"/>
            <a:ext cx="63684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99072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Straight Connector 18"/>
          <p:cNvSpPr/>
          <p:nvPr/>
        </p:nvSpPr>
        <p:spPr>
          <a:xfrm flipH="1">
            <a:off x="1294920" y="2743200"/>
            <a:ext cx="63684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Box 1"/>
          <p:cNvSpPr/>
          <p:nvPr/>
        </p:nvSpPr>
        <p:spPr>
          <a:xfrm>
            <a:off x="20520" y="28440"/>
            <a:ext cx="965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Oval 10"/>
          <p:cNvSpPr/>
          <p:nvPr/>
        </p:nvSpPr>
        <p:spPr>
          <a:xfrm>
            <a:off x="990720" y="3182760"/>
            <a:ext cx="609480" cy="446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Straight Connector 18"/>
          <p:cNvSpPr/>
          <p:nvPr/>
        </p:nvSpPr>
        <p:spPr>
          <a:xfrm flipH="1">
            <a:off x="1294920" y="2743200"/>
            <a:ext cx="63684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Box 1"/>
          <p:cNvSpPr/>
          <p:nvPr/>
        </p:nvSpPr>
        <p:spPr>
          <a:xfrm>
            <a:off x="20520" y="28440"/>
            <a:ext cx="965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4" name="Straight Arrow Connector 3"/>
          <p:cNvCxnSpPr>
            <a:stCxn id="463" idx="2"/>
            <a:endCxn id="450" idx="0"/>
          </p:cNvCxnSpPr>
          <p:nvPr/>
        </p:nvCxnSpPr>
        <p:spPr>
          <a:xfrm>
            <a:off x="503280" y="366840"/>
            <a:ext cx="792720" cy="281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20520" y="28440"/>
            <a:ext cx="965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6" name="Straight Arrow Connector 18"/>
          <p:cNvCxnSpPr>
            <a:endCxn id="504" idx="1"/>
          </p:cNvCxnSpPr>
          <p:nvPr/>
        </p:nvCxnSpPr>
        <p:spPr>
          <a:xfrm>
            <a:off x="502920" y="366480"/>
            <a:ext cx="1429560" cy="20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4" name="Curved Connector 3"/>
          <p:cNvCxnSpPr>
            <a:stCxn id="523" idx="2"/>
            <a:endCxn id="522" idx="2"/>
          </p:cNvCxnSpPr>
          <p:nvPr/>
        </p:nvCxnSpPr>
        <p:spPr>
          <a:xfrm rot="10800000">
            <a:off x="1840680" y="2583720"/>
            <a:ext cx="826200" cy="803880"/>
          </a:xfrm>
          <a:prstGeom prst="curvedConnector5">
            <a:avLst>
              <a:gd name="adj1" fmla="val 196163"/>
              <a:gd name="adj2" fmla="val 50000"/>
              <a:gd name="adj3" fmla="val 196163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535" name="TextBox 16"/>
          <p:cNvSpPr/>
          <p:nvPr/>
        </p:nvSpPr>
        <p:spPr>
          <a:xfrm>
            <a:off x="569880" y="379260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TextBox 16"/>
          <p:cNvSpPr/>
          <p:nvPr/>
        </p:nvSpPr>
        <p:spPr>
          <a:xfrm>
            <a:off x="569880" y="379260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8F62-A689-4EEE-9485-C129C71812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lementing search in a  binary search tr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n implement binary search in O(log n) time on ave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akes longer if the tree is badly balan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every node X, value in all nodes in left subtree of X are less than value in X, and value of all nodes in right subtree are greater than value in 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gorithm is simpl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x &lt; no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arch left sub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x &gt; no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arch right sub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en the tree is balanced the path length to the leaves is log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Box 16"/>
          <p:cNvSpPr/>
          <p:nvPr/>
        </p:nvSpPr>
        <p:spPr>
          <a:xfrm>
            <a:off x="569880" y="379260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Box 16"/>
          <p:cNvSpPr/>
          <p:nvPr/>
        </p:nvSpPr>
        <p:spPr>
          <a:xfrm>
            <a:off x="607680" y="379260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lea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5" name="Straight Arrow Connector 16"/>
          <p:cNvCxnSpPr>
            <a:endCxn id="622" idx="0"/>
          </p:cNvCxnSpPr>
          <p:nvPr/>
        </p:nvCxnSpPr>
        <p:spPr>
          <a:xfrm>
            <a:off x="503280" y="366480"/>
            <a:ext cx="3535920" cy="10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Box 2"/>
          <p:cNvSpPr/>
          <p:nvPr/>
        </p:nvSpPr>
        <p:spPr>
          <a:xfrm>
            <a:off x="700560" y="5199120"/>
            <a:ext cx="42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the smallest node in the right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Box 2"/>
          <p:cNvSpPr/>
          <p:nvPr/>
        </p:nvSpPr>
        <p:spPr>
          <a:xfrm>
            <a:off x="700560" y="5199120"/>
            <a:ext cx="42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the smallest node in the right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Box 2"/>
          <p:cNvSpPr/>
          <p:nvPr/>
        </p:nvSpPr>
        <p:spPr>
          <a:xfrm>
            <a:off x="700560" y="5199120"/>
            <a:ext cx="42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the smallest node in the right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Box 2"/>
          <p:cNvSpPr/>
          <p:nvPr/>
        </p:nvSpPr>
        <p:spPr>
          <a:xfrm>
            <a:off x="658080" y="5199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Box 2"/>
          <p:cNvSpPr/>
          <p:nvPr/>
        </p:nvSpPr>
        <p:spPr>
          <a:xfrm>
            <a:off x="658080" y="5199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6" name="Curved Connector 4"/>
          <p:cNvCxnSpPr>
            <a:stCxn id="707" idx="2"/>
            <a:endCxn id="702" idx="2"/>
          </p:cNvCxnSpPr>
          <p:nvPr/>
        </p:nvCxnSpPr>
        <p:spPr>
          <a:xfrm flipH="1" rot="10800000">
            <a:off x="3491280" y="1593000"/>
            <a:ext cx="242280" cy="2515320"/>
          </a:xfrm>
          <a:prstGeom prst="curvedConnector5">
            <a:avLst>
              <a:gd name="adj1" fmla="val -355505"/>
              <a:gd name="adj2" fmla="val 50000"/>
              <a:gd name="adj3" fmla="val -355505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653F-1C7A-449D-B95A-842F9E379D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Box 2"/>
          <p:cNvSpPr/>
          <p:nvPr/>
        </p:nvSpPr>
        <p:spPr>
          <a:xfrm>
            <a:off x="695160" y="51991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lea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Box 2"/>
          <p:cNvSpPr/>
          <p:nvPr/>
        </p:nvSpPr>
        <p:spPr>
          <a:xfrm>
            <a:off x="695160" y="51991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lea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Box 3"/>
          <p:cNvSpPr/>
          <p:nvPr/>
        </p:nvSpPr>
        <p:spPr>
          <a:xfrm>
            <a:off x="1239840" y="4952880"/>
            <a:ext cx="43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rocess maintains the inorder proper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Box 3"/>
          <p:cNvSpPr/>
          <p:nvPr/>
        </p:nvSpPr>
        <p:spPr>
          <a:xfrm>
            <a:off x="1239840" y="4952880"/>
            <a:ext cx="43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rocess maintains the inorder proper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Box 4"/>
          <p:cNvSpPr/>
          <p:nvPr/>
        </p:nvSpPr>
        <p:spPr>
          <a:xfrm>
            <a:off x="542520" y="5727600"/>
            <a:ext cx="81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There is a symmetric equivalent: find largest node in left branch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Box 2"/>
          <p:cNvSpPr/>
          <p:nvPr/>
        </p:nvSpPr>
        <p:spPr>
          <a:xfrm>
            <a:off x="709200" y="5199120"/>
            <a:ext cx="39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the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larges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node in the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lef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TextBox 2"/>
          <p:cNvSpPr/>
          <p:nvPr/>
        </p:nvSpPr>
        <p:spPr>
          <a:xfrm>
            <a:off x="709200" y="5199120"/>
            <a:ext cx="39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the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larges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node in the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lef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Box 2"/>
          <p:cNvSpPr/>
          <p:nvPr/>
        </p:nvSpPr>
        <p:spPr>
          <a:xfrm>
            <a:off x="658080" y="5199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4" name="Curved Connector 17"/>
          <p:cNvCxnSpPr>
            <a:stCxn id="813" idx="2"/>
            <a:endCxn id="810" idx="0"/>
          </p:cNvCxnSpPr>
          <p:nvPr/>
        </p:nvCxnSpPr>
        <p:spPr>
          <a:xfrm flipH="1" rot="10800000">
            <a:off x="1840320" y="1370880"/>
            <a:ext cx="2197800" cy="1213560"/>
          </a:xfrm>
          <a:prstGeom prst="curvedConnector5">
            <a:avLst>
              <a:gd name="adj1" fmla="val -28768"/>
              <a:gd name="adj2" fmla="val 76587"/>
              <a:gd name="adj3" fmla="val -28768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TextBox 2"/>
          <p:cNvSpPr/>
          <p:nvPr/>
        </p:nvSpPr>
        <p:spPr>
          <a:xfrm>
            <a:off x="695160" y="51991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lea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TextBox 2"/>
          <p:cNvSpPr/>
          <p:nvPr/>
        </p:nvSpPr>
        <p:spPr>
          <a:xfrm>
            <a:off x="695160" y="51991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lea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6" name="Group 3"/>
          <p:cNvGrpSpPr/>
          <p:nvPr/>
        </p:nvGrpSpPr>
        <p:grpSpPr>
          <a:xfrm>
            <a:off x="244440" y="566640"/>
            <a:ext cx="3789360" cy="2154240"/>
            <a:chOff x="244440" y="566640"/>
            <a:chExt cx="3789360" cy="2154240"/>
          </a:xfrm>
        </p:grpSpPr>
        <p:sp>
          <p:nvSpPr>
            <p:cNvPr id="857" name="Oval 6"/>
            <p:cNvSpPr/>
            <p:nvPr/>
          </p:nvSpPr>
          <p:spPr>
            <a:xfrm>
              <a:off x="3378240" y="1884240"/>
              <a:ext cx="65556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Oval 7"/>
            <p:cNvSpPr/>
            <p:nvPr/>
          </p:nvSpPr>
          <p:spPr>
            <a:xfrm>
              <a:off x="504720" y="566640"/>
              <a:ext cx="65556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Oval 8"/>
            <p:cNvSpPr/>
            <p:nvPr/>
          </p:nvSpPr>
          <p:spPr>
            <a:xfrm>
              <a:off x="904680" y="1884240"/>
              <a:ext cx="65700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Oval 9"/>
            <p:cNvSpPr/>
            <p:nvPr/>
          </p:nvSpPr>
          <p:spPr>
            <a:xfrm>
              <a:off x="2208240" y="1287360"/>
              <a:ext cx="65556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>
              <a:off x="1503360" y="2370240"/>
              <a:ext cx="65700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Oval 14"/>
            <p:cNvSpPr/>
            <p:nvPr/>
          </p:nvSpPr>
          <p:spPr>
            <a:xfrm>
              <a:off x="244440" y="2397240"/>
              <a:ext cx="65556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Straight Connector 24"/>
            <p:cNvSpPr/>
            <p:nvPr/>
          </p:nvSpPr>
          <p:spPr>
            <a:xfrm>
              <a:off x="1065240" y="842760"/>
              <a:ext cx="147168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Straight Connector 27"/>
            <p:cNvSpPr/>
            <p:nvPr/>
          </p:nvSpPr>
          <p:spPr>
            <a:xfrm flipH="1">
              <a:off x="1233360" y="1565280"/>
              <a:ext cx="1071360" cy="3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Straight Connector 30"/>
            <p:cNvSpPr/>
            <p:nvPr/>
          </p:nvSpPr>
          <p:spPr>
            <a:xfrm>
              <a:off x="2768760" y="1565280"/>
              <a:ext cx="936360" cy="3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Straight Connector 34"/>
            <p:cNvSpPr/>
            <p:nvPr/>
          </p:nvSpPr>
          <p:spPr>
            <a:xfrm flipH="1">
              <a:off x="572760" y="2162160"/>
              <a:ext cx="42840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Straight Connector 37"/>
            <p:cNvSpPr/>
            <p:nvPr/>
          </p:nvSpPr>
          <p:spPr>
            <a:xfrm>
              <a:off x="1465200" y="2162160"/>
              <a:ext cx="366480" cy="20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8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TextBox 2"/>
          <p:cNvSpPr/>
          <p:nvPr/>
        </p:nvSpPr>
        <p:spPr>
          <a:xfrm>
            <a:off x="1076040" y="3233880"/>
            <a:ext cx="6907680" cy="3373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fore we have 2 options resulting in two different trees, both vali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0" name="Group 5"/>
          <p:cNvGrpSpPr/>
          <p:nvPr/>
        </p:nvGrpSpPr>
        <p:grpSpPr>
          <a:xfrm>
            <a:off x="3236760" y="3983040"/>
            <a:ext cx="5280120" cy="2195640"/>
            <a:chOff x="3236760" y="3983040"/>
            <a:chExt cx="5280120" cy="2195640"/>
          </a:xfrm>
        </p:grpSpPr>
        <p:sp>
          <p:nvSpPr>
            <p:cNvPr id="871" name="Oval 29"/>
            <p:cNvSpPr/>
            <p:nvPr/>
          </p:nvSpPr>
          <p:spPr>
            <a:xfrm>
              <a:off x="7894800" y="534348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Oval 31"/>
            <p:cNvSpPr/>
            <p:nvPr/>
          </p:nvSpPr>
          <p:spPr>
            <a:xfrm>
              <a:off x="5168880" y="398304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Oval 32"/>
            <p:cNvSpPr/>
            <p:nvPr/>
          </p:nvSpPr>
          <p:spPr>
            <a:xfrm>
              <a:off x="5548320" y="534348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Oval 33"/>
            <p:cNvSpPr/>
            <p:nvPr/>
          </p:nvSpPr>
          <p:spPr>
            <a:xfrm>
              <a:off x="6784920" y="472752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Oval 35"/>
            <p:cNvSpPr/>
            <p:nvPr/>
          </p:nvSpPr>
          <p:spPr>
            <a:xfrm>
              <a:off x="3236760" y="472752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Oval 36"/>
            <p:cNvSpPr/>
            <p:nvPr/>
          </p:nvSpPr>
          <p:spPr>
            <a:xfrm>
              <a:off x="6116400" y="584388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Straight Connector 38"/>
            <p:cNvSpPr/>
            <p:nvPr/>
          </p:nvSpPr>
          <p:spPr>
            <a:xfrm flipH="1">
              <a:off x="3768120" y="4268520"/>
              <a:ext cx="1490760" cy="50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Straight Connector 39"/>
            <p:cNvSpPr/>
            <p:nvPr/>
          </p:nvSpPr>
          <p:spPr>
            <a:xfrm>
              <a:off x="5700600" y="4268520"/>
              <a:ext cx="1395360" cy="45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Straight Connector 40"/>
            <p:cNvSpPr/>
            <p:nvPr/>
          </p:nvSpPr>
          <p:spPr>
            <a:xfrm flipH="1">
              <a:off x="5859360" y="5013360"/>
              <a:ext cx="1015920" cy="3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Straight Connector 41"/>
            <p:cNvSpPr/>
            <p:nvPr/>
          </p:nvSpPr>
          <p:spPr>
            <a:xfrm>
              <a:off x="7316640" y="5013360"/>
              <a:ext cx="888840" cy="3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Straight Connector 42"/>
            <p:cNvSpPr/>
            <p:nvPr/>
          </p:nvSpPr>
          <p:spPr>
            <a:xfrm>
              <a:off x="6080040" y="5629320"/>
              <a:ext cx="34740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rick Prosser</dc:creator>
  <dc:description/>
  <dc:language>en-US</dc:language>
  <cp:lastModifiedBy>Patrick Prosser</cp:lastModifiedBy>
  <dcterms:modified xsi:type="dcterms:W3CDTF">2017-02-09T13:56:26Z</dcterms:modified>
  <cp:revision>3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