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8AF-85F9-438F-B7CC-4C6311E4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650-586F-40A1-8768-FFB7F004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A88-9182-486F-B2DE-4C266296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7AB-E024-44B4-BDF8-3F6E4CCA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BD4-82D4-465E-A244-4CBA4E97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2CF-5C31-4C90-A74D-DB47A0DB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72B-3202-472F-BA28-D5BCE610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833-D391-4756-AE2E-A2A4D91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3A2-9B0C-4DCB-BE4D-61B173EF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B5E-6ED3-4F59-83DE-52565270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79E-01AA-47B4-8035-195CE90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612-016B-4A66-812D-6F3592E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6369-7DC4-41A7-81F5-6B9193012E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s://www.google.co.uk/url?q=http://en.wikipedia.org/wiki/Pigeonholing&amp;sa=U&amp;ei=C0ogU9zMNYey7AaN3IHAAg&amp;ved=0CC0Q9QEwAA&amp;usg=AFQjCNEIuXozfFNsRVnvrOxg_aXTj7YtxQ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496320" y="256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ble 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87920" y="189000"/>
            <a:ext cx="1656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ble 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384920" y="2276640"/>
            <a:ext cx="6337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sorting algorithm is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stab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f for any two entries x and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f S such tha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.getKey() == y.getKey() 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 precedes y in S before 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 precedes y after S is sor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cm205-bucket"/>
          <p:cNvPicPr/>
          <p:nvPr/>
        </p:nvPicPr>
        <p:blipFill>
          <a:blip r:embed="rId1"/>
          <a:stretch/>
        </p:blipFill>
        <p:spPr>
          <a:xfrm>
            <a:off x="611280" y="836640"/>
            <a:ext cx="5479920" cy="5060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985000" y="1773360"/>
            <a:ext cx="188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cket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k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pigeonhole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cm205-bucket"/>
          <p:cNvPicPr/>
          <p:nvPr/>
        </p:nvPicPr>
        <p:blipFill>
          <a:blip r:embed="rId1"/>
          <a:stretch/>
        </p:blipFill>
        <p:spPr>
          <a:xfrm>
            <a:off x="684360" y="836640"/>
            <a:ext cx="5479920" cy="5060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985000" y="1773360"/>
            <a:ext cx="188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cket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k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pigeonhole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4"/>
          <p:cNvSpPr/>
          <p:nvPr/>
        </p:nvSpPr>
        <p:spPr>
          <a:xfrm rot="727800">
            <a:off x="1977480" y="2207880"/>
            <a:ext cx="64458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IGEONHOLE SOR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Pigeon Control in Yorkshire"/>
          <p:cNvPicPr/>
          <p:nvPr/>
        </p:nvPicPr>
        <p:blipFill>
          <a:blip r:embed="rId2"/>
          <a:stretch/>
        </p:blipFill>
        <p:spPr>
          <a:xfrm>
            <a:off x="6804000" y="4005360"/>
            <a:ext cx="215280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encrypted-tbn3.gstatic.com/images?q=tbn:ANd9GcTci4fsW5qCExuN1pFRzdDwW-wcfkJSf9YgP9QhpygsoQiUMnkzA418xtr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33360"/>
            <a:ext cx="14288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79280" y="189000"/>
            <a:ext cx="381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cket sort (aka pigeonhole sor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13720" y="836640"/>
            <a:ext cx="60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 the sey of an object as an index into a bucket arr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251720" y="1989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sume keys are in range [0,N-1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128320" y="1484280"/>
            <a:ext cx="36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sume we have n object to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" name="Group 30"/>
          <p:cNvGrpSpPr/>
          <p:nvPr/>
        </p:nvGrpSpPr>
        <p:grpSpPr>
          <a:xfrm>
            <a:off x="324000" y="2708280"/>
            <a:ext cx="7777080" cy="720720"/>
            <a:chOff x="324000" y="2708280"/>
            <a:chExt cx="7777080" cy="720720"/>
          </a:xfrm>
        </p:grpSpPr>
        <p:grpSp>
          <p:nvGrpSpPr>
            <p:cNvPr id="61" name="Group 14"/>
            <p:cNvGrpSpPr/>
            <p:nvPr/>
          </p:nvGrpSpPr>
          <p:grpSpPr>
            <a:xfrm>
              <a:off x="324000" y="2708280"/>
              <a:ext cx="1512720" cy="720720"/>
              <a:chOff x="324000" y="2708280"/>
              <a:chExt cx="1512720" cy="720720"/>
            </a:xfrm>
          </p:grpSpPr>
          <p:pic>
            <p:nvPicPr>
              <p:cNvPr id="62" name="Picture 7" descr="4303-ICE-Bucket"/>
              <p:cNvPicPr/>
              <p:nvPr/>
            </p:nvPicPr>
            <p:blipFill>
              <a:blip r:embed="rId1"/>
              <a:stretch/>
            </p:blipFill>
            <p:spPr>
              <a:xfrm>
                <a:off x="32400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3" descr="4303-ICE-Bucket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" name="Picture 15" descr="4303-ICE-Bucket"/>
            <p:cNvPicPr/>
            <p:nvPr/>
          </p:nvPicPr>
          <p:blipFill>
            <a:blip r:embed="rId3"/>
            <a:stretch/>
          </p:blipFill>
          <p:spPr>
            <a:xfrm>
              <a:off x="324000" y="270828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17"/>
            <p:cNvGrpSpPr/>
            <p:nvPr/>
          </p:nvGrpSpPr>
          <p:grpSpPr>
            <a:xfrm>
              <a:off x="1836720" y="2708280"/>
              <a:ext cx="1512720" cy="720720"/>
              <a:chOff x="1836720" y="2708280"/>
              <a:chExt cx="1512720" cy="720720"/>
            </a:xfrm>
          </p:grpSpPr>
          <p:pic>
            <p:nvPicPr>
              <p:cNvPr id="66" name="Picture 18" descr="4303-ICE-Bucket"/>
              <p:cNvPicPr/>
              <p:nvPr/>
            </p:nvPicPr>
            <p:blipFill>
              <a:blip r:embed="rId4"/>
              <a:stretch/>
            </p:blipFill>
            <p:spPr>
              <a:xfrm>
                <a:off x="183672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19" descr="4303-ICE-Bucket"/>
              <p:cNvPicPr/>
              <p:nvPr/>
            </p:nvPicPr>
            <p:blipFill>
              <a:blip r:embed="rId5"/>
              <a:stretch/>
            </p:blipFill>
            <p:spPr>
              <a:xfrm>
                <a:off x="262872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Group 20"/>
            <p:cNvGrpSpPr/>
            <p:nvPr/>
          </p:nvGrpSpPr>
          <p:grpSpPr>
            <a:xfrm>
              <a:off x="3421080" y="2708280"/>
              <a:ext cx="1512720" cy="720720"/>
              <a:chOff x="3421080" y="2708280"/>
              <a:chExt cx="1512720" cy="720720"/>
            </a:xfrm>
          </p:grpSpPr>
          <p:pic>
            <p:nvPicPr>
              <p:cNvPr id="69" name="Picture 21" descr="4303-ICE-Bucket"/>
              <p:cNvPicPr/>
              <p:nvPr/>
            </p:nvPicPr>
            <p:blipFill>
              <a:blip r:embed="rId6"/>
              <a:stretch/>
            </p:blipFill>
            <p:spPr>
              <a:xfrm>
                <a:off x="342108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22" descr="4303-ICE-Bucket"/>
              <p:cNvPicPr/>
              <p:nvPr/>
            </p:nvPicPr>
            <p:blipFill>
              <a:blip r:embed="rId7"/>
              <a:stretch/>
            </p:blipFill>
            <p:spPr>
              <a:xfrm>
                <a:off x="421308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Group 23"/>
            <p:cNvGrpSpPr/>
            <p:nvPr/>
          </p:nvGrpSpPr>
          <p:grpSpPr>
            <a:xfrm>
              <a:off x="5005440" y="2708280"/>
              <a:ext cx="1512720" cy="720720"/>
              <a:chOff x="5005440" y="2708280"/>
              <a:chExt cx="1512720" cy="720720"/>
            </a:xfrm>
          </p:grpSpPr>
          <p:pic>
            <p:nvPicPr>
              <p:cNvPr id="72" name="Picture 24" descr="4303-ICE-Bucket"/>
              <p:cNvPicPr/>
              <p:nvPr/>
            </p:nvPicPr>
            <p:blipFill>
              <a:blip r:embed="rId8"/>
              <a:stretch/>
            </p:blipFill>
            <p:spPr>
              <a:xfrm>
                <a:off x="500544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25" descr="4303-ICE-Bucket"/>
              <p:cNvPicPr/>
              <p:nvPr/>
            </p:nvPicPr>
            <p:blipFill>
              <a:blip r:embed="rId9"/>
              <a:stretch/>
            </p:blipFill>
            <p:spPr>
              <a:xfrm>
                <a:off x="579744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26"/>
            <p:cNvGrpSpPr/>
            <p:nvPr/>
          </p:nvGrpSpPr>
          <p:grpSpPr>
            <a:xfrm>
              <a:off x="6588360" y="2708280"/>
              <a:ext cx="1512720" cy="720720"/>
              <a:chOff x="6588360" y="2708280"/>
              <a:chExt cx="1512720" cy="720720"/>
            </a:xfrm>
          </p:grpSpPr>
          <p:pic>
            <p:nvPicPr>
              <p:cNvPr id="75" name="Picture 27" descr="4303-ICE-Bucket"/>
              <p:cNvPicPr/>
              <p:nvPr/>
            </p:nvPicPr>
            <p:blipFill>
              <a:blip r:embed="rId10"/>
              <a:stretch/>
            </p:blipFill>
            <p:spPr>
              <a:xfrm>
                <a:off x="658836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28" descr="4303-ICE-Bucket"/>
              <p:cNvPicPr/>
              <p:nvPr/>
            </p:nvPicPr>
            <p:blipFill>
              <a:blip r:embed="rId11"/>
              <a:stretch/>
            </p:blipFill>
            <p:spPr>
              <a:xfrm>
                <a:off x="738036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7" name="Text Box 29"/>
          <p:cNvSpPr/>
          <p:nvPr/>
        </p:nvSpPr>
        <p:spPr>
          <a:xfrm>
            <a:off x="2187720" y="400536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object e into bucket[e.getKey()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5004720" y="4581360"/>
            <a:ext cx="24361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xity is O(n+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8027640" y="189000"/>
            <a:ext cx="947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79280" y="189000"/>
            <a:ext cx="381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cket sort (aka pigeonhole sor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13720" y="836640"/>
            <a:ext cx="60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 the sey of an object as an index into a bucket arr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251720" y="1989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sume keys are in range [0,N-1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128320" y="1484280"/>
            <a:ext cx="36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sume we have n object to s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" name="Group 30"/>
          <p:cNvGrpSpPr/>
          <p:nvPr/>
        </p:nvGrpSpPr>
        <p:grpSpPr>
          <a:xfrm>
            <a:off x="324000" y="2708280"/>
            <a:ext cx="7777080" cy="720720"/>
            <a:chOff x="324000" y="2708280"/>
            <a:chExt cx="7777080" cy="720720"/>
          </a:xfrm>
        </p:grpSpPr>
        <p:grpSp>
          <p:nvGrpSpPr>
            <p:cNvPr id="85" name="Group 14"/>
            <p:cNvGrpSpPr/>
            <p:nvPr/>
          </p:nvGrpSpPr>
          <p:grpSpPr>
            <a:xfrm>
              <a:off x="324000" y="2708280"/>
              <a:ext cx="1512720" cy="720720"/>
              <a:chOff x="324000" y="2708280"/>
              <a:chExt cx="1512720" cy="720720"/>
            </a:xfrm>
          </p:grpSpPr>
          <p:pic>
            <p:nvPicPr>
              <p:cNvPr id="86" name="Picture 7" descr="4303-ICE-Bucket"/>
              <p:cNvPicPr/>
              <p:nvPr/>
            </p:nvPicPr>
            <p:blipFill>
              <a:blip r:embed="rId1"/>
              <a:stretch/>
            </p:blipFill>
            <p:spPr>
              <a:xfrm>
                <a:off x="32400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3" descr="4303-ICE-Bucket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" name="Picture 15" descr="4303-ICE-Bucket"/>
            <p:cNvPicPr/>
            <p:nvPr/>
          </p:nvPicPr>
          <p:blipFill>
            <a:blip r:embed="rId3"/>
            <a:stretch/>
          </p:blipFill>
          <p:spPr>
            <a:xfrm>
              <a:off x="324000" y="270828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7"/>
            <p:cNvGrpSpPr/>
            <p:nvPr/>
          </p:nvGrpSpPr>
          <p:grpSpPr>
            <a:xfrm>
              <a:off x="1836720" y="2708280"/>
              <a:ext cx="1512720" cy="720720"/>
              <a:chOff x="1836720" y="2708280"/>
              <a:chExt cx="1512720" cy="720720"/>
            </a:xfrm>
          </p:grpSpPr>
          <p:pic>
            <p:nvPicPr>
              <p:cNvPr id="90" name="Picture 18" descr="4303-ICE-Bucket"/>
              <p:cNvPicPr/>
              <p:nvPr/>
            </p:nvPicPr>
            <p:blipFill>
              <a:blip r:embed="rId4"/>
              <a:stretch/>
            </p:blipFill>
            <p:spPr>
              <a:xfrm>
                <a:off x="183672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9" descr="4303-ICE-Bucket"/>
              <p:cNvPicPr/>
              <p:nvPr/>
            </p:nvPicPr>
            <p:blipFill>
              <a:blip r:embed="rId5"/>
              <a:stretch/>
            </p:blipFill>
            <p:spPr>
              <a:xfrm>
                <a:off x="262872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" name="Group 20"/>
            <p:cNvGrpSpPr/>
            <p:nvPr/>
          </p:nvGrpSpPr>
          <p:grpSpPr>
            <a:xfrm>
              <a:off x="3421080" y="2708280"/>
              <a:ext cx="1512720" cy="720720"/>
              <a:chOff x="3421080" y="2708280"/>
              <a:chExt cx="1512720" cy="720720"/>
            </a:xfrm>
          </p:grpSpPr>
          <p:pic>
            <p:nvPicPr>
              <p:cNvPr id="93" name="Picture 21" descr="4303-ICE-Bucket"/>
              <p:cNvPicPr/>
              <p:nvPr/>
            </p:nvPicPr>
            <p:blipFill>
              <a:blip r:embed="rId6"/>
              <a:stretch/>
            </p:blipFill>
            <p:spPr>
              <a:xfrm>
                <a:off x="342108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22" descr="4303-ICE-Bucket"/>
              <p:cNvPicPr/>
              <p:nvPr/>
            </p:nvPicPr>
            <p:blipFill>
              <a:blip r:embed="rId7"/>
              <a:stretch/>
            </p:blipFill>
            <p:spPr>
              <a:xfrm>
                <a:off x="421308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Group 23"/>
            <p:cNvGrpSpPr/>
            <p:nvPr/>
          </p:nvGrpSpPr>
          <p:grpSpPr>
            <a:xfrm>
              <a:off x="5005440" y="2708280"/>
              <a:ext cx="1512720" cy="720720"/>
              <a:chOff x="5005440" y="2708280"/>
              <a:chExt cx="1512720" cy="720720"/>
            </a:xfrm>
          </p:grpSpPr>
          <p:pic>
            <p:nvPicPr>
              <p:cNvPr id="96" name="Picture 24" descr="4303-ICE-Bucket"/>
              <p:cNvPicPr/>
              <p:nvPr/>
            </p:nvPicPr>
            <p:blipFill>
              <a:blip r:embed="rId8"/>
              <a:stretch/>
            </p:blipFill>
            <p:spPr>
              <a:xfrm>
                <a:off x="500544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25" descr="4303-ICE-Bucket"/>
              <p:cNvPicPr/>
              <p:nvPr/>
            </p:nvPicPr>
            <p:blipFill>
              <a:blip r:embed="rId9"/>
              <a:stretch/>
            </p:blipFill>
            <p:spPr>
              <a:xfrm>
                <a:off x="579744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Group 26"/>
            <p:cNvGrpSpPr/>
            <p:nvPr/>
          </p:nvGrpSpPr>
          <p:grpSpPr>
            <a:xfrm>
              <a:off x="6588360" y="2708280"/>
              <a:ext cx="1512720" cy="720720"/>
              <a:chOff x="6588360" y="2708280"/>
              <a:chExt cx="1512720" cy="720720"/>
            </a:xfrm>
          </p:grpSpPr>
          <p:pic>
            <p:nvPicPr>
              <p:cNvPr id="99" name="Picture 27" descr="4303-ICE-Bucket"/>
              <p:cNvPicPr/>
              <p:nvPr/>
            </p:nvPicPr>
            <p:blipFill>
              <a:blip r:embed="rId10"/>
              <a:stretch/>
            </p:blipFill>
            <p:spPr>
              <a:xfrm>
                <a:off x="658836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28" descr="4303-ICE-Bucket"/>
              <p:cNvPicPr/>
              <p:nvPr/>
            </p:nvPicPr>
            <p:blipFill>
              <a:blip r:embed="rId11"/>
              <a:stretch/>
            </p:blipFill>
            <p:spPr>
              <a:xfrm>
                <a:off x="7380360" y="2708280"/>
                <a:ext cx="720720" cy="72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" name="Text Box 29"/>
          <p:cNvSpPr/>
          <p:nvPr/>
        </p:nvSpPr>
        <p:spPr>
          <a:xfrm>
            <a:off x="2187720" y="400536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object e into bucket[e.getKey()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5004720" y="4581360"/>
            <a:ext cx="24361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xity is O(n+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803160" y="5300640"/>
            <a:ext cx="4632480" cy="11912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might we do this in java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data structures would we u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it stabl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kind of data sets would be suitabl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Sorted"/>
          <p:cNvPicPr/>
          <p:nvPr/>
        </p:nvPicPr>
        <p:blipFill>
          <a:blip r:embed="rId1"/>
          <a:stretch/>
        </p:blipFill>
        <p:spPr>
          <a:xfrm>
            <a:off x="1676520" y="2843280"/>
            <a:ext cx="57909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28:37Z</dcterms:created>
  <dc:creator>pat</dc:creator>
  <dc:description/>
  <dc:language>en-US</dc:language>
  <cp:lastModifiedBy>Patrick Prosser</cp:lastModifiedBy>
  <dcterms:modified xsi:type="dcterms:W3CDTF">2017-03-09T09:49:23Z</dcterms:modified>
  <cp:revision>114</cp:revision>
  <dc:subject/>
  <dc:title>sorting</dc:title>
</cp:coreProperties>
</file>