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745-FECB-45D7-B09E-5A918BE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8D0-097F-47E3-B433-4E45B14E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DFA-F8AE-4B86-B383-EC1D8282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4F8-BD5F-419B-9698-72874441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3C21-6526-4754-A001-B0B47D1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A47-7C8A-440F-B97C-2C54943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F47-B498-4823-9B7E-6AF56C4E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09A-FB36-49EC-B72F-8978343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218-1357-474D-A885-D597E7BE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B33-63AD-4A25-BEEF-A2A36B8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191-A9A1-4DE0-8BE1-65E7ABF5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D97-E588-4E3D-80A2-7942F83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0709-871C-44B6-8B8B-582498841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hyperlink" Target="http://images.google.com/imgres?imgurl=https://venus.tue.nl/ep-cgi/ep_getimg.opl%3Frelatienr%3D19901564%26hash%3DFTJQiwqX0e6dyXlWntizjyTvwW&amp;imgrefurl=https://venus.tue.nl/ep-cgi/ep_detail.opl%3Ftaal%3DUS%26rn%3D19901564&amp;usg=__mEE7Rogx0fi0A_kX_YI5J5wcVMc=&amp;h=260&amp;w=218&amp;sz=10&amp;hl=en&amp;start=3&amp;um=1&amp;tbnid=u-Iv1qY_4zXQPM:&amp;tbnh=112&amp;tbnw=94&amp;prev=/images%3Fq%3Dwim%2Bnuijten%26hl%3Den%26rls%3Dcom.microsoft:en-US%26sa%3DN%26um%3D1" TargetMode="External"/><Relationship Id="rId6" Type="http://schemas.openxmlformats.org/officeDocument/2006/relationships/image" Target="../media/image24.jpeg"/><Relationship Id="rId7" Type="http://schemas.openxmlformats.org/officeDocument/2006/relationships/hyperlink" Target="mailto:Philippe.Baptiste@Polytechnique.fr" TargetMode="External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59840" y="321804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jobshop schedu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228600" y="1295280"/>
          <a:ext cx="121158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121158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4"/>
          <p:cNvSpPr/>
          <p:nvPr/>
        </p:nvSpPr>
        <p:spPr>
          <a:xfrm>
            <a:off x="1265400" y="5878440"/>
            <a:ext cx="3202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a long time, unsol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190960" y="1371600"/>
            <a:ext cx="4258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both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nimise makes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makespa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ximise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IT, minimise inventory lev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nimise idle time on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ximise RO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752480" y="1981080"/>
            <a:ext cx="5486040" cy="1752480"/>
            <a:chOff x="1752480" y="1981080"/>
            <a:chExt cx="5486040" cy="1752480"/>
          </a:xfrm>
        </p:grpSpPr>
        <p:grpSp>
          <p:nvGrpSpPr>
            <p:cNvPr id="175" name="Group 3"/>
            <p:cNvGrpSpPr/>
            <p:nvPr/>
          </p:nvGrpSpPr>
          <p:grpSpPr>
            <a:xfrm>
              <a:off x="1752480" y="1981080"/>
              <a:ext cx="5028480" cy="184320"/>
              <a:chOff x="1752480" y="1981080"/>
              <a:chExt cx="5028480" cy="18432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1752480" y="198108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2895120" y="198108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6"/>
              <p:cNvSpPr/>
              <p:nvPr/>
            </p:nvSpPr>
            <p:spPr>
              <a:xfrm>
                <a:off x="4667040" y="198108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7"/>
              <p:cNvSpPr/>
              <p:nvPr/>
            </p:nvSpPr>
            <p:spPr>
              <a:xfrm>
                <a:off x="5638320" y="198108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Rectangle 8"/>
            <p:cNvSpPr/>
            <p:nvPr/>
          </p:nvSpPr>
          <p:spPr>
            <a:xfrm>
              <a:off x="1752480" y="198108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1752480" y="281124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2895120" y="281124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4667040" y="281124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5638320" y="281124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1752480" y="35031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3009600" y="354924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4667040" y="350316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095520" y="350316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Rectangle 17"/>
          <p:cNvSpPr/>
          <p:nvPr/>
        </p:nvSpPr>
        <p:spPr>
          <a:xfrm>
            <a:off x="228600" y="2666880"/>
            <a:ext cx="9144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8137800" y="2590920"/>
            <a:ext cx="6379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19"/>
          <p:cNvSpPr/>
          <p:nvPr/>
        </p:nvSpPr>
        <p:spPr>
          <a:xfrm flipV="1">
            <a:off x="1143000" y="21333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1143000" y="28195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1143000" y="28195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67816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7238880" y="281916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6781680" y="205740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2698920" y="4724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ind the smallest value f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inimise makesp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10080" y="5335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an we view this as a cs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91560" y="1981080"/>
            <a:ext cx="74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operation is a vari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ain is set of start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are precedence constraints between operation in a 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s on a resource have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disjunctive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828800" y="4876920"/>
            <a:ext cx="5486040" cy="1752120"/>
            <a:chOff x="1828800" y="4876920"/>
            <a:chExt cx="5486040" cy="1752120"/>
          </a:xfrm>
        </p:grpSpPr>
        <p:grpSp>
          <p:nvGrpSpPr>
            <p:cNvPr id="201" name="Group 5"/>
            <p:cNvGrpSpPr/>
            <p:nvPr/>
          </p:nvGrpSpPr>
          <p:grpSpPr>
            <a:xfrm>
              <a:off x="1828800" y="4876920"/>
              <a:ext cx="5028480" cy="184320"/>
              <a:chOff x="1828800" y="4876920"/>
              <a:chExt cx="5028480" cy="184320"/>
            </a:xfrm>
          </p:grpSpPr>
          <p:sp>
            <p:nvSpPr>
              <p:cNvPr id="202" name="Rectangle 6"/>
              <p:cNvSpPr/>
              <p:nvPr/>
            </p:nvSpPr>
            <p:spPr>
              <a:xfrm>
                <a:off x="1828800" y="487692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Rectangle 7"/>
              <p:cNvSpPr/>
              <p:nvPr/>
            </p:nvSpPr>
            <p:spPr>
              <a:xfrm>
                <a:off x="2971440" y="487692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>
                <a:off x="4743360" y="487692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5714640" y="487692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6" name="Rectangle 10"/>
            <p:cNvSpPr/>
            <p:nvPr/>
          </p:nvSpPr>
          <p:spPr>
            <a:xfrm>
              <a:off x="1828800" y="48769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1828800" y="570708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2971440" y="570708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4743360" y="570708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14"/>
            <p:cNvSpPr/>
            <p:nvPr/>
          </p:nvSpPr>
          <p:spPr>
            <a:xfrm>
              <a:off x="5714640" y="570708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15"/>
            <p:cNvSpPr/>
            <p:nvPr/>
          </p:nvSpPr>
          <p:spPr>
            <a:xfrm>
              <a:off x="1828800" y="639864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3085920" y="644472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4743360" y="639864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6171840" y="639864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Rectangle 19"/>
          <p:cNvSpPr/>
          <p:nvPr/>
        </p:nvSpPr>
        <p:spPr>
          <a:xfrm>
            <a:off x="304920" y="5562720"/>
            <a:ext cx="9144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8214120" y="5486400"/>
            <a:ext cx="63792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219320" y="5028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1219320" y="5715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1219320" y="57150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6858000" y="57146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7315200" y="57150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6858000" y="4952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rcRect l="4489" t="14682" r="25388" b="0"/>
          <a:stretch/>
        </p:blipFill>
        <p:spPr>
          <a:xfrm>
            <a:off x="2195640" y="1268280"/>
            <a:ext cx="4398840" cy="418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rcRect l="19048" t="23186" r="37554" b="42663"/>
          <a:stretch/>
        </p:blipFill>
        <p:spPr>
          <a:xfrm>
            <a:off x="304920" y="765000"/>
            <a:ext cx="8299440" cy="511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8"/>
          <p:cNvSpPr/>
          <p:nvPr/>
        </p:nvSpPr>
        <p:spPr>
          <a:xfrm>
            <a:off x="1971360" y="2133720"/>
            <a:ext cx="549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the complexity of this problem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ume we have m resources and n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each resource we will have n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can order these in n!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fore we have O(n!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) states to expl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86920" y="30492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0"/>
              <p:cNvSpPr txBox="1"/>
              <p:nvPr/>
            </p:nvSpPr>
            <p:spPr>
              <a:xfrm>
                <a:off x="3813120" y="5029200"/>
                <a:ext cx="30416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!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35440" y="22860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we want to optimise, not satis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2001600" y="914400"/>
            <a:ext cx="37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do you optimise with C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-43200" y="1905120"/>
            <a:ext cx="411876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of decision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750120" y="2666880"/>
            <a:ext cx="4994640" cy="379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there a solution with makespan 395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there a solution with makespan 300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t me think about that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there a solution with makespan 299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ld on, … , hold 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nimum makespan is 30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783440" y="2209680"/>
            <a:ext cx="484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optimising, via a sequence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 problems, will all decisions b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qually difficult to answ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457720" y="4437000"/>
            <a:ext cx="49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does branch and bound (BnB) do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944720" y="129528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 cares about jobshop schedulin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36600" y="3657600"/>
            <a:ext cx="243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ufacturing in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1557360" y="1828800"/>
            <a:ext cx="58543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t of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t of jo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job is a sequence of operations/activ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quence the activities on the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9960" y="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ants of j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57360" y="855720"/>
            <a:ext cx="721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nnes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ety of resources can perform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cessing time dependant on resource u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t up costs, between jobs (transition co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umable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uch as gas, oil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e-emp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stop and restart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 can perform multiple operations simultaneous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atch proc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condary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eople, tools, cranes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73040" y="5661000"/>
            <a:ext cx="77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is Beck (2006) “The jssp has never been spotted in the wild.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10960" y="228600"/>
            <a:ext cx="6645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might CP be technology of choice for scheduling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815400" y="2276640"/>
            <a:ext cx="786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model rich real-world probl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dition of side constraints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corporate domain knowle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the form of variable and value ordering heu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werful reasoning/inference allied to novel search tech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315880" y="5734080"/>
            <a:ext cx="55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can get a solution up and running quick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7708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3493080" y="27813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7"/>
          <p:cNvSpPr/>
          <p:nvPr/>
        </p:nvSpPr>
        <p:spPr>
          <a:xfrm>
            <a:off x="7624800" y="133200"/>
            <a:ext cx="1395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81080" y="871560"/>
            <a:ext cx="88344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357120" y="871560"/>
            <a:ext cx="8429760" cy="51148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7624800" y="133200"/>
            <a:ext cx="1395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468360" y="2060640"/>
            <a:ext cx="1366920" cy="720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015880" y="2060640"/>
            <a:ext cx="292356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 ha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cheduled star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on a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7"/>
          <p:cNvSpPr/>
          <p:nvPr/>
        </p:nvSpPr>
        <p:spPr>
          <a:xfrm>
            <a:off x="7624800" y="133200"/>
            <a:ext cx="1395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468360" y="2708280"/>
            <a:ext cx="7488360" cy="10810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100080" y="933480"/>
            <a:ext cx="89154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00080" y="933480"/>
            <a:ext cx="8915400" cy="5167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7624800" y="133200"/>
            <a:ext cx="1395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324000" y="3716280"/>
            <a:ext cx="8496000" cy="5763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7"/>
          <p:cNvSpPr/>
          <p:nvPr/>
        </p:nvSpPr>
        <p:spPr>
          <a:xfrm>
            <a:off x="7624800" y="133200"/>
            <a:ext cx="1395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2728080" y="5373720"/>
            <a:ext cx="19209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e next sli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3554" t="65695" r="29785" b="10214"/>
          <a:stretch/>
        </p:blipFill>
        <p:spPr>
          <a:xfrm>
            <a:off x="108000" y="1628640"/>
            <a:ext cx="8907480" cy="186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1547640" y="1268280"/>
            <a:ext cx="187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4211640" y="314172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79800" y="22050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rli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7"/>
          <p:cNvSpPr/>
          <p:nvPr/>
        </p:nvSpPr>
        <p:spPr>
          <a:xfrm flipV="1">
            <a:off x="1116000" y="1700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366360" y="2205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tes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9"/>
          <p:cNvSpPr/>
          <p:nvPr/>
        </p:nvSpPr>
        <p:spPr>
          <a:xfrm flipH="1" flipV="1">
            <a:off x="3419640" y="16999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183528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3258720" y="6922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2"/>
          <p:cNvSpPr/>
          <p:nvPr/>
        </p:nvSpPr>
        <p:spPr>
          <a:xfrm flipH="1">
            <a:off x="2484000" y="907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4500720" y="321300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9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20"/>
          <p:cNvSpPr/>
          <p:nvPr/>
        </p:nvSpPr>
        <p:spPr>
          <a:xfrm>
            <a:off x="-56160" y="4653000"/>
            <a:ext cx="916596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4 resources: green, yellow, red and bl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job is a sequence of operations (precedenc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operation is executed on a resource (resourc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ch resource can do one operation at a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duration of an operation is the length of its bo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 due date, giving time windows for operations (time constrai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" name="Group 34"/>
          <p:cNvGrpSpPr/>
          <p:nvPr/>
        </p:nvGrpSpPr>
        <p:grpSpPr>
          <a:xfrm>
            <a:off x="-8640" y="1371600"/>
            <a:ext cx="8314560" cy="2971800"/>
            <a:chOff x="-8640" y="1371600"/>
            <a:chExt cx="8314560" cy="2971800"/>
          </a:xfrm>
        </p:grpSpPr>
        <p:grpSp>
          <p:nvGrpSpPr>
            <p:cNvPr id="46" name="Group 18"/>
            <p:cNvGrpSpPr/>
            <p:nvPr/>
          </p:nvGrpSpPr>
          <p:grpSpPr>
            <a:xfrm>
              <a:off x="990720" y="1447920"/>
              <a:ext cx="7315200" cy="2895480"/>
              <a:chOff x="990720" y="1447920"/>
              <a:chExt cx="7315200" cy="2895480"/>
            </a:xfrm>
          </p:grpSpPr>
          <p:grpSp>
            <p:nvGrpSpPr>
              <p:cNvPr id="47" name="Group 6"/>
              <p:cNvGrpSpPr/>
              <p:nvPr/>
            </p:nvGrpSpPr>
            <p:grpSpPr>
              <a:xfrm>
                <a:off x="990720" y="1447920"/>
                <a:ext cx="6705360" cy="304560"/>
                <a:chOff x="990720" y="1447920"/>
                <a:chExt cx="6705360" cy="304560"/>
              </a:xfrm>
            </p:grpSpPr>
            <p:sp>
              <p:nvSpPr>
                <p:cNvPr id="48" name="Rectangle 2"/>
                <p:cNvSpPr/>
                <p:nvPr/>
              </p:nvSpPr>
              <p:spPr>
                <a:xfrm>
                  <a:off x="990720" y="1447920"/>
                  <a:ext cx="990360" cy="304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Rectangle 3"/>
                <p:cNvSpPr/>
                <p:nvPr/>
              </p:nvSpPr>
              <p:spPr>
                <a:xfrm>
                  <a:off x="2514600" y="1447920"/>
                  <a:ext cx="1523880" cy="228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2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" name="Rectangle 4"/>
                <p:cNvSpPr/>
                <p:nvPr/>
              </p:nvSpPr>
              <p:spPr>
                <a:xfrm>
                  <a:off x="4876920" y="1447920"/>
                  <a:ext cx="990360" cy="3045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3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" name="Rectangle 5"/>
                <p:cNvSpPr/>
                <p:nvPr/>
              </p:nvSpPr>
              <p:spPr>
                <a:xfrm>
                  <a:off x="6172200" y="1447920"/>
                  <a:ext cx="1523880" cy="304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Comic Sans MS"/>
                    </a:rPr>
                    <a:t>Op1.4</a:t>
                  </a:r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2" name="Rectangle 7"/>
              <p:cNvSpPr/>
              <p:nvPr/>
            </p:nvSpPr>
            <p:spPr>
              <a:xfrm>
                <a:off x="990720" y="14479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Rectangle 9"/>
              <p:cNvSpPr/>
              <p:nvPr/>
            </p:nvSpPr>
            <p:spPr>
              <a:xfrm>
                <a:off x="990720" y="2819520"/>
                <a:ext cx="99036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Rectangle 10"/>
              <p:cNvSpPr/>
              <p:nvPr/>
            </p:nvSpPr>
            <p:spPr>
              <a:xfrm>
                <a:off x="2514600" y="2819520"/>
                <a:ext cx="1066680" cy="3808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" name="Rectangle 11"/>
              <p:cNvSpPr/>
              <p:nvPr/>
            </p:nvSpPr>
            <p:spPr>
              <a:xfrm>
                <a:off x="4876920" y="28195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6172200" y="2819520"/>
                <a:ext cx="21337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2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14"/>
              <p:cNvSpPr/>
              <p:nvPr/>
            </p:nvSpPr>
            <p:spPr>
              <a:xfrm>
                <a:off x="990720" y="3962520"/>
                <a:ext cx="990360" cy="304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15"/>
              <p:cNvSpPr/>
              <p:nvPr/>
            </p:nvSpPr>
            <p:spPr>
              <a:xfrm>
                <a:off x="2666880" y="4038480"/>
                <a:ext cx="1676520" cy="3049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6"/>
              <p:cNvSpPr/>
              <p:nvPr/>
            </p:nvSpPr>
            <p:spPr>
              <a:xfrm>
                <a:off x="4876920" y="3962520"/>
                <a:ext cx="15238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7"/>
              <p:cNvSpPr/>
              <p:nvPr/>
            </p:nvSpPr>
            <p:spPr>
              <a:xfrm>
                <a:off x="6781680" y="3962520"/>
                <a:ext cx="914400" cy="3045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3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1" name="Text Box 21"/>
            <p:cNvSpPr/>
            <p:nvPr/>
          </p:nvSpPr>
          <p:spPr>
            <a:xfrm>
              <a:off x="-8640" y="13716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Text Box 23"/>
            <p:cNvSpPr/>
            <p:nvPr/>
          </p:nvSpPr>
          <p:spPr>
            <a:xfrm>
              <a:off x="11880" y="27432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Text Box 24"/>
            <p:cNvSpPr/>
            <p:nvPr/>
          </p:nvSpPr>
          <p:spPr>
            <a:xfrm>
              <a:off x="11880" y="3886200"/>
              <a:ext cx="7034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job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5"/>
            <p:cNvSpPr/>
            <p:nvPr/>
          </p:nvSpPr>
          <p:spPr>
            <a:xfrm>
              <a:off x="1981080" y="16002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6"/>
            <p:cNvSpPr/>
            <p:nvPr/>
          </p:nvSpPr>
          <p:spPr>
            <a:xfrm>
              <a:off x="4038480" y="16002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7"/>
            <p:cNvSpPr/>
            <p:nvPr/>
          </p:nvSpPr>
          <p:spPr>
            <a:xfrm>
              <a:off x="5867280" y="1676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981080" y="2971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3581280" y="29718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5867280" y="2971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31"/>
            <p:cNvSpPr/>
            <p:nvPr/>
          </p:nvSpPr>
          <p:spPr>
            <a:xfrm>
              <a:off x="1981080" y="4191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32"/>
            <p:cNvSpPr/>
            <p:nvPr/>
          </p:nvSpPr>
          <p:spPr>
            <a:xfrm>
              <a:off x="4343400" y="4114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33"/>
            <p:cNvSpPr/>
            <p:nvPr/>
          </p:nvSpPr>
          <p:spPr>
            <a:xfrm>
              <a:off x="6400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211640" y="314172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719280" y="22050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arli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6"/>
          <p:cNvSpPr/>
          <p:nvPr/>
        </p:nvSpPr>
        <p:spPr>
          <a:xfrm flipV="1">
            <a:off x="1116000" y="1700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831760" y="2205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test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8"/>
          <p:cNvSpPr/>
          <p:nvPr/>
        </p:nvSpPr>
        <p:spPr>
          <a:xfrm flipH="1" flipV="1">
            <a:off x="2771280" y="169992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2627280" y="1341360"/>
            <a:ext cx="79236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258720" y="69228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11"/>
          <p:cNvSpPr/>
          <p:nvPr/>
        </p:nvSpPr>
        <p:spPr>
          <a:xfrm flipH="1">
            <a:off x="2484000" y="907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494640" y="5157720"/>
            <a:ext cx="61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trained integer variable represents star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4500720" y="321300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444960" y="32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3153600" y="328464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start() + op1.duration() ≤ op2.star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9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340000" y="1989000"/>
            <a:ext cx="1366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547640" y="1341360"/>
            <a:ext cx="79236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340000" y="206064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444960" y="32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153600" y="328464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start() + op1.duration() ≤ op2.star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5815800" y="1413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pa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83600" y="6381720"/>
            <a:ext cx="4687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 earliest start of operation 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2340000" y="1989000"/>
            <a:ext cx="1366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2700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66960" y="207324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21080" y="1214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716040" y="1982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444960" y="32846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3153600" y="3284640"/>
            <a:ext cx="49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start() + op1.duration() ≤ op2.star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2700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815800" y="141300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opa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186120" y="6381720"/>
            <a:ext cx="4464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 latest start of operation 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5608440" y="6381720"/>
            <a:ext cx="3213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effect on this inst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547640" y="1268280"/>
            <a:ext cx="1152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2024640" y="33577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2.before(op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133200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3"/>
          <p:cNvSpPr/>
          <p:nvPr/>
        </p:nvSpPr>
        <p:spPr>
          <a:xfrm>
            <a:off x="156240" y="2924280"/>
            <a:ext cx="58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 and op2 cannot be in process at same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3453480" y="5734080"/>
            <a:ext cx="4362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 easy to propagate unti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 made (disjunction broke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7667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755640" y="206280"/>
            <a:ext cx="684072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329080" cy="63230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6620400" y="336600"/>
            <a:ext cx="1959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5329080" cy="632304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6620400" y="336600"/>
            <a:ext cx="1959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 T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55342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3780000" y="281304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74" name="Group 3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75" name="Rectangle 4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Rectangle 5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9" name="Rectangle 8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Rectangle 15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" name="Text Box 17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1143000" y="3505320"/>
            <a:ext cx="16765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3505320" y="5105520"/>
            <a:ext cx="167616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4114800" y="2819520"/>
            <a:ext cx="167652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6553080" y="3962520"/>
            <a:ext cx="1676520" cy="1371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.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3.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Line 25"/>
          <p:cNvSpPr/>
          <p:nvPr/>
        </p:nvSpPr>
        <p:spPr>
          <a:xfrm flipV="1">
            <a:off x="2438280" y="320004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5410080" y="3200400"/>
            <a:ext cx="15242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Line 27"/>
          <p:cNvSpPr/>
          <p:nvPr/>
        </p:nvSpPr>
        <p:spPr>
          <a:xfrm flipH="1">
            <a:off x="4723920" y="4419720"/>
            <a:ext cx="2210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5410080" y="3581280"/>
            <a:ext cx="15242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31"/>
          <p:cNvSpPr/>
          <p:nvPr/>
        </p:nvSpPr>
        <p:spPr>
          <a:xfrm flipH="1" flipV="1">
            <a:off x="2437920" y="4190760"/>
            <a:ext cx="4419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32"/>
          <p:cNvSpPr/>
          <p:nvPr/>
        </p:nvSpPr>
        <p:spPr>
          <a:xfrm>
            <a:off x="2438280" y="42670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33"/>
          <p:cNvSpPr/>
          <p:nvPr/>
        </p:nvSpPr>
        <p:spPr>
          <a:xfrm>
            <a:off x="2340000" y="4508640"/>
            <a:ext cx="1584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34"/>
          <p:cNvSpPr/>
          <p:nvPr/>
        </p:nvSpPr>
        <p:spPr>
          <a:xfrm flipV="1">
            <a:off x="4788000" y="5013000"/>
            <a:ext cx="216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35"/>
          <p:cNvSpPr/>
          <p:nvPr/>
        </p:nvSpPr>
        <p:spPr>
          <a:xfrm flipH="1" flipV="1">
            <a:off x="5292360" y="3933720"/>
            <a:ext cx="1584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1619280" y="3716280"/>
            <a:ext cx="792000" cy="2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6948360" y="4149720"/>
            <a:ext cx="936720" cy="35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547640" y="4292640"/>
            <a:ext cx="863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7925040" y="252360"/>
            <a:ext cx="561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165240" y="847800"/>
            <a:ext cx="879624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rcRect l="1130" t="16478" r="53022" b="53208"/>
          <a:stretch/>
        </p:blipFill>
        <p:spPr>
          <a:xfrm>
            <a:off x="660240" y="981000"/>
            <a:ext cx="8067960" cy="3311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7925040" y="252360"/>
            <a:ext cx="561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Box 1"/>
          <p:cNvSpPr/>
          <p:nvPr/>
        </p:nvSpPr>
        <p:spPr>
          <a:xfrm>
            <a:off x="3231720" y="5157720"/>
            <a:ext cx="3897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b is a sequence of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1"/>
          <p:cNvSpPr/>
          <p:nvPr/>
        </p:nvSpPr>
        <p:spPr>
          <a:xfrm>
            <a:off x="7925040" y="252360"/>
            <a:ext cx="561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Box 2"/>
          <p:cNvSpPr/>
          <p:nvPr/>
        </p:nvSpPr>
        <p:spPr>
          <a:xfrm>
            <a:off x="1575720" y="5157720"/>
            <a:ext cx="50529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reating/building a job as a sequence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erations each one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rcRect l="3905" t="47176" r="26686" b="28410"/>
          <a:stretch/>
        </p:blipFill>
        <p:spPr>
          <a:xfrm>
            <a:off x="189000" y="1557360"/>
            <a:ext cx="85708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1"/>
          <p:cNvSpPr/>
          <p:nvPr/>
        </p:nvSpPr>
        <p:spPr>
          <a:xfrm>
            <a:off x="3484440" y="27082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547640" y="1268280"/>
            <a:ext cx="215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2005200" y="4437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i]1.before(op[j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0480" y="3716280"/>
            <a:ext cx="52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se a 0/1 decision variable d[i][j] as fol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911600" y="501336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j]1.before(op[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1547640" y="1268280"/>
            <a:ext cx="215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2005200" y="4437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i]1.before(op[j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6282000" y="4441680"/>
            <a:ext cx="2015640" cy="39888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 before 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547640" y="1268280"/>
            <a:ext cx="215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2340000" y="1989000"/>
            <a:ext cx="1366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547640" y="1341360"/>
            <a:ext cx="79236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340000" y="206208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005200" y="443700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0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i]1.before(op[j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6282000" y="4441680"/>
            <a:ext cx="2015640" cy="39888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 before 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547640" y="1268280"/>
            <a:ext cx="2159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169236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2050920" y="2062080"/>
            <a:ext cx="129564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911600" y="501336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j]1.before(op[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6282000" y="5010120"/>
            <a:ext cx="2015640" cy="39888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 before 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7057080" y="0"/>
            <a:ext cx="210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.before(op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149640" y="1268280"/>
            <a:ext cx="557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1835280" y="1989000"/>
            <a:ext cx="1871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49640" y="1341360"/>
            <a:ext cx="79200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-11520" y="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cture of an ope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854360" y="2062080"/>
            <a:ext cx="129528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4250160" y="119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4270680" y="1916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1911600" y="501336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[i][j] = 1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p[j]1.before(op[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6282000" y="5010120"/>
            <a:ext cx="2015640" cy="398880"/>
          </a:xfrm>
          <a:prstGeom prst="rect">
            <a:avLst/>
          </a:prstGeom>
          <a:solidFill>
            <a:srgbClr val="d2d2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2 before o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7588440" y="220680"/>
            <a:ext cx="119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299880" y="836640"/>
            <a:ext cx="85442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455960" y="0"/>
            <a:ext cx="1707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79840" y="2565360"/>
            <a:ext cx="60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sign a start time to each operation such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) no two operations are in process on the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chine at the same tim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b) temporal constraints are resp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-24840" y="6461280"/>
            <a:ext cx="3618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blem is NP comple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299880" y="836640"/>
            <a:ext cx="8544240" cy="5184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"/>
          <p:cNvSpPr/>
          <p:nvPr/>
        </p:nvSpPr>
        <p:spPr>
          <a:xfrm>
            <a:off x="7588440" y="220680"/>
            <a:ext cx="119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Box 2"/>
          <p:cNvSpPr/>
          <p:nvPr/>
        </p:nvSpPr>
        <p:spPr>
          <a:xfrm>
            <a:off x="240120" y="4697280"/>
            <a:ext cx="393264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ecision is essentially a tri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zero/one variable (th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operation op_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operation op_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4345920" y="4697280"/>
            <a:ext cx="44082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decides relative order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two operations (before or af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3488040" y="29242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7"/>
          <p:cNvSpPr/>
          <p:nvPr/>
        </p:nvSpPr>
        <p:spPr>
          <a:xfrm>
            <a:off x="7625160" y="133200"/>
            <a:ext cx="128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22400" y="957240"/>
            <a:ext cx="88423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7"/>
          <p:cNvSpPr/>
          <p:nvPr/>
        </p:nvSpPr>
        <p:spPr>
          <a:xfrm>
            <a:off x="7625160" y="133200"/>
            <a:ext cx="128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Box 2"/>
          <p:cNvSpPr/>
          <p:nvPr/>
        </p:nvSpPr>
        <p:spPr>
          <a:xfrm>
            <a:off x="677520" y="4968720"/>
            <a:ext cx="72734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 is a collection of operations and decisions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ll be made on their ordering/sequencing on this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rcRect l="1219" t="19248" r="53045" b="49100"/>
          <a:stretch/>
        </p:blipFill>
        <p:spPr>
          <a:xfrm>
            <a:off x="250920" y="765000"/>
            <a:ext cx="84326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7"/>
          <p:cNvSpPr/>
          <p:nvPr/>
        </p:nvSpPr>
        <p:spPr>
          <a:xfrm>
            <a:off x="7625160" y="133200"/>
            <a:ext cx="128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840600" y="5037120"/>
            <a:ext cx="6705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d an operation to a resource and then constrain it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rcRect l="3190" t="48260" r="3669" b="21534"/>
          <a:stretch/>
        </p:blipFill>
        <p:spPr>
          <a:xfrm>
            <a:off x="179280" y="1557360"/>
            <a:ext cx="88264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rcRect l="3190" t="48260" r="3669" b="21534"/>
          <a:stretch/>
        </p:blipFill>
        <p:spPr>
          <a:xfrm>
            <a:off x="179280" y="1557360"/>
            <a:ext cx="8826480" cy="16668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7625160" y="133200"/>
            <a:ext cx="1285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1339920" y="4149720"/>
            <a:ext cx="67734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cision = 0 implies op_i before 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cision = 1 implies op before op_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874800" y="2390760"/>
            <a:ext cx="8130960" cy="53352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3714840" y="28843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333360" y="162000"/>
            <a:ext cx="575136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TextBox 1"/>
          <p:cNvSpPr/>
          <p:nvPr/>
        </p:nvSpPr>
        <p:spPr>
          <a:xfrm>
            <a:off x="7729920" y="43974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uch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333360" y="162000"/>
            <a:ext cx="575136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1478880" y="4443480"/>
            <a:ext cx="5175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jssp is a collection of jobs and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rcRect l="1086" t="20667" r="42807" b="63107"/>
          <a:stretch/>
        </p:blipFill>
        <p:spPr>
          <a:xfrm>
            <a:off x="231840" y="1268280"/>
            <a:ext cx="89056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455960" y="0"/>
            <a:ext cx="1707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704240" y="2340000"/>
            <a:ext cx="612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ternatively … sequence operations on resour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1881720" y="4491000"/>
            <a:ext cx="5336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gives a set of solutions, and might b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idered a “least commitment approach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rcRect l="3944" t="17560" r="5974" b="9325"/>
          <a:stretch/>
        </p:blipFill>
        <p:spPr>
          <a:xfrm>
            <a:off x="101520" y="765000"/>
            <a:ext cx="88632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rcRect l="3944" t="17560" r="26372" b="55712"/>
          <a:stretch/>
        </p:blipFill>
        <p:spPr>
          <a:xfrm>
            <a:off x="101520" y="981000"/>
            <a:ext cx="88502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3944" t="17560" r="26372" b="55712"/>
          <a:stretch/>
        </p:blipFill>
        <p:spPr>
          <a:xfrm>
            <a:off x="101520" y="981000"/>
            <a:ext cx="8850240" cy="20163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341280" y="2709720"/>
            <a:ext cx="8610480" cy="4320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rcRect l="6688" t="44480" r="4456" b="14143"/>
          <a:stretch/>
        </p:blipFill>
        <p:spPr>
          <a:xfrm>
            <a:off x="-9360" y="1197000"/>
            <a:ext cx="89740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"/>
          <p:cNvPicPr/>
          <p:nvPr/>
        </p:nvPicPr>
        <p:blipFill>
          <a:blip r:embed="rId1"/>
          <a:srcRect l="6688" t="44480" r="4456" b="14143"/>
          <a:stretch/>
        </p:blipFill>
        <p:spPr>
          <a:xfrm>
            <a:off x="-9360" y="1197000"/>
            <a:ext cx="8974080" cy="24811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108000" y="1266840"/>
            <a:ext cx="6049800" cy="28908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"/>
          <p:cNvPicPr/>
          <p:nvPr/>
        </p:nvPicPr>
        <p:blipFill>
          <a:blip r:embed="rId1"/>
          <a:srcRect l="6688" t="44480" r="4456" b="14143"/>
          <a:stretch/>
        </p:blipFill>
        <p:spPr>
          <a:xfrm>
            <a:off x="-9360" y="1197000"/>
            <a:ext cx="8974080" cy="24811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50920" y="1700280"/>
            <a:ext cx="8621640" cy="1224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"/>
          <p:cNvPicPr/>
          <p:nvPr/>
        </p:nvPicPr>
        <p:blipFill>
          <a:blip r:embed="rId1"/>
          <a:srcRect l="6688" t="44480" r="4456" b="14143"/>
          <a:stretch/>
        </p:blipFill>
        <p:spPr>
          <a:xfrm>
            <a:off x="-9360" y="1197000"/>
            <a:ext cx="8974080" cy="2481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24000" y="2852640"/>
            <a:ext cx="2160360" cy="4320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"/>
          <p:cNvPicPr/>
          <p:nvPr/>
        </p:nvPicPr>
        <p:blipFill>
          <a:blip r:embed="rId1"/>
          <a:srcRect l="6688" t="44480" r="4456" b="14143"/>
          <a:stretch/>
        </p:blipFill>
        <p:spPr>
          <a:xfrm>
            <a:off x="-9360" y="1197000"/>
            <a:ext cx="8974080" cy="2481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1"/>
          <p:cNvSpPr/>
          <p:nvPr/>
        </p:nvSpPr>
        <p:spPr>
          <a:xfrm>
            <a:off x="8107560" y="181080"/>
            <a:ext cx="685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SS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08000" y="3246480"/>
            <a:ext cx="4895640" cy="43164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1"/>
          <p:cNvSpPr/>
          <p:nvPr/>
        </p:nvSpPr>
        <p:spPr>
          <a:xfrm>
            <a:off x="2877120" y="30402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1"/>
          <p:cNvSpPr/>
          <p:nvPr/>
        </p:nvSpPr>
        <p:spPr>
          <a:xfrm>
            <a:off x="6607800" y="206280"/>
            <a:ext cx="2212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ision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rcRect l="1383" t="25113" r="3815" b="6582"/>
          <a:stretch/>
        </p:blipFill>
        <p:spPr>
          <a:xfrm>
            <a:off x="214200" y="1413000"/>
            <a:ext cx="84981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26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112" name="Group 1027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113" name="Rectangle 1028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1029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Rectangle 1030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Rectangle 1031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7" name="Rectangle 1032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1033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Rectangle 1034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1035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1036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037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038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Rectangle 1039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Rectangle 1040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Text Box 1041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" name="Group 1060"/>
          <p:cNvGrpSpPr/>
          <p:nvPr/>
        </p:nvGrpSpPr>
        <p:grpSpPr>
          <a:xfrm>
            <a:off x="1066680" y="2209680"/>
            <a:ext cx="5867640" cy="3504960"/>
            <a:chOff x="1066680" y="2209680"/>
            <a:chExt cx="5867640" cy="3504960"/>
          </a:xfrm>
        </p:grpSpPr>
        <p:sp>
          <p:nvSpPr>
            <p:cNvPr id="128" name="Rectangle 1053"/>
            <p:cNvSpPr/>
            <p:nvPr/>
          </p:nvSpPr>
          <p:spPr>
            <a:xfrm>
              <a:off x="1066680" y="2209680"/>
              <a:ext cx="5867640" cy="350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1054"/>
            <p:cNvSpPr/>
            <p:nvPr/>
          </p:nvSpPr>
          <p:spPr>
            <a:xfrm>
              <a:off x="1981080" y="281916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Oval 1055"/>
            <p:cNvSpPr/>
            <p:nvPr/>
          </p:nvSpPr>
          <p:spPr>
            <a:xfrm>
              <a:off x="4572000" y="297144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Oval 1056"/>
            <p:cNvSpPr/>
            <p:nvPr/>
          </p:nvSpPr>
          <p:spPr>
            <a:xfrm>
              <a:off x="3352680" y="4495680"/>
              <a:ext cx="91440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1057"/>
            <p:cNvSpPr/>
            <p:nvPr/>
          </p:nvSpPr>
          <p:spPr>
            <a:xfrm>
              <a:off x="2895480" y="33526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1058"/>
            <p:cNvSpPr/>
            <p:nvPr/>
          </p:nvSpPr>
          <p:spPr>
            <a:xfrm>
              <a:off x="2666880" y="3581280"/>
              <a:ext cx="7621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1059"/>
            <p:cNvSpPr/>
            <p:nvPr/>
          </p:nvSpPr>
          <p:spPr>
            <a:xfrm flipV="1">
              <a:off x="4267080" y="373356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5" name="Text Box 1061"/>
          <p:cNvSpPr/>
          <p:nvPr/>
        </p:nvSpPr>
        <p:spPr>
          <a:xfrm>
            <a:off x="1189080" y="596124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the “green” resource, put a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dire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n the ar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062"/>
          <p:cNvSpPr/>
          <p:nvPr/>
        </p:nvSpPr>
        <p:spPr>
          <a:xfrm>
            <a:off x="6669360" y="6461280"/>
            <a:ext cx="246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isjunctive gra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"/>
          <p:cNvPicPr/>
          <p:nvPr/>
        </p:nvPicPr>
        <p:blipFill>
          <a:blip r:embed="rId1"/>
          <a:srcRect l="1095" t="22956" r="3852" b="3238"/>
          <a:stretch/>
        </p:blipFill>
        <p:spPr>
          <a:xfrm>
            <a:off x="324000" y="403200"/>
            <a:ext cx="8251560" cy="6176880"/>
          </a:xfrm>
          <a:prstGeom prst="rect">
            <a:avLst/>
          </a:prstGeom>
          <a:ln w="0">
            <a:noFill/>
          </a:ln>
        </p:spPr>
      </p:pic>
      <p:sp>
        <p:nvSpPr>
          <p:cNvPr id="455" name="TextBox 1"/>
          <p:cNvSpPr/>
          <p:nvPr/>
        </p:nvSpPr>
        <p:spPr>
          <a:xfrm>
            <a:off x="7287480" y="203040"/>
            <a:ext cx="12582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7" descr="Photo%20CLP"/>
          <p:cNvPicPr/>
          <p:nvPr/>
        </p:nvPicPr>
        <p:blipFill>
          <a:blip r:embed="rId1"/>
          <a:stretch/>
        </p:blipFill>
        <p:spPr>
          <a:xfrm>
            <a:off x="1979640" y="4076640"/>
            <a:ext cx="2995560" cy="23972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sfs_300dpi"/>
          <p:cNvPicPr/>
          <p:nvPr/>
        </p:nvPicPr>
        <p:blipFill>
          <a:blip r:embed="rId2"/>
          <a:stretch/>
        </p:blipFill>
        <p:spPr>
          <a:xfrm>
            <a:off x="900000" y="40464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beck"/>
          <p:cNvPicPr/>
          <p:nvPr/>
        </p:nvPicPr>
        <p:blipFill>
          <a:blip r:embed="rId3"/>
          <a:stretch/>
        </p:blipFill>
        <p:spPr>
          <a:xfrm>
            <a:off x="5364000" y="476280"/>
            <a:ext cx="2143440" cy="2809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Norman%20Sadeh_Locaccino_Web"/>
          <p:cNvPicPr/>
          <p:nvPr/>
        </p:nvPicPr>
        <p:blipFill>
          <a:blip r:embed="rId4"/>
          <a:stretch/>
        </p:blipFill>
        <p:spPr>
          <a:xfrm>
            <a:off x="4859280" y="3860640"/>
            <a:ext cx="3867120" cy="2657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ep_getim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4437000"/>
            <a:ext cx="1388880" cy="1656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5" descr="m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04640"/>
            <a:ext cx="1724040" cy="2583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9" descr="Amadeus_FrancoisLaburthe_150sh"/>
          <p:cNvPicPr/>
          <p:nvPr/>
        </p:nvPicPr>
        <p:blipFill>
          <a:blip r:embed="rId9"/>
          <a:stretch/>
        </p:blipFill>
        <p:spPr>
          <a:xfrm>
            <a:off x="7524720" y="189000"/>
            <a:ext cx="1619280" cy="2286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0"/>
          <p:cNvSpPr/>
          <p:nvPr/>
        </p:nvSpPr>
        <p:spPr>
          <a:xfrm>
            <a:off x="41400" y="0"/>
            <a:ext cx="285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ot!? No heuristics!?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4" name="Picture 11" descr="My photo"/>
          <p:cNvPicPr/>
          <p:nvPr/>
        </p:nvPicPr>
        <p:blipFill>
          <a:blip r:embed="rId10"/>
          <a:stretch/>
        </p:blipFill>
        <p:spPr>
          <a:xfrm>
            <a:off x="7821720" y="2448000"/>
            <a:ext cx="1025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657600" y="228600"/>
            <a:ext cx="5486040" cy="1752120"/>
            <a:chOff x="3657600" y="228600"/>
            <a:chExt cx="5486040" cy="1752120"/>
          </a:xfrm>
        </p:grpSpPr>
        <p:grpSp>
          <p:nvGrpSpPr>
            <p:cNvPr id="138" name="Group 3"/>
            <p:cNvGrpSpPr/>
            <p:nvPr/>
          </p:nvGrpSpPr>
          <p:grpSpPr>
            <a:xfrm>
              <a:off x="3657600" y="228600"/>
              <a:ext cx="5028480" cy="184320"/>
              <a:chOff x="3657600" y="228600"/>
              <a:chExt cx="5028480" cy="184320"/>
            </a:xfrm>
          </p:grpSpPr>
          <p:sp>
            <p:nvSpPr>
              <p:cNvPr id="139" name="Rectangle 4"/>
              <p:cNvSpPr/>
              <p:nvPr/>
            </p:nvSpPr>
            <p:spPr>
              <a:xfrm>
                <a:off x="3657600" y="228600"/>
                <a:ext cx="742680" cy="1843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1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Rectangle 5"/>
              <p:cNvSpPr/>
              <p:nvPr/>
            </p:nvSpPr>
            <p:spPr>
              <a:xfrm>
                <a:off x="4800240" y="228600"/>
                <a:ext cx="1142640" cy="13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2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Rectangle 6"/>
              <p:cNvSpPr/>
              <p:nvPr/>
            </p:nvSpPr>
            <p:spPr>
              <a:xfrm>
                <a:off x="6572160" y="228600"/>
                <a:ext cx="742680" cy="184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3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Rectangle 7"/>
              <p:cNvSpPr/>
              <p:nvPr/>
            </p:nvSpPr>
            <p:spPr>
              <a:xfrm>
                <a:off x="7543440" y="228600"/>
                <a:ext cx="1142640" cy="184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Op1.4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3" name="Rectangle 8"/>
            <p:cNvSpPr/>
            <p:nvPr/>
          </p:nvSpPr>
          <p:spPr>
            <a:xfrm>
              <a:off x="3657600" y="22860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657600" y="1058760"/>
              <a:ext cx="7426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4800240" y="1058760"/>
              <a:ext cx="799920" cy="230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>
              <a:off x="6572160" y="105876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7543440" y="1058760"/>
              <a:ext cx="160020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3657600" y="1750320"/>
              <a:ext cx="742680" cy="184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4914720" y="1796400"/>
              <a:ext cx="1257120" cy="184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6572160" y="1750320"/>
              <a:ext cx="1142640" cy="1843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8000640" y="1750320"/>
              <a:ext cx="6858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" name="Text Box 17"/>
          <p:cNvSpPr/>
          <p:nvPr/>
        </p:nvSpPr>
        <p:spPr>
          <a:xfrm>
            <a:off x="11880" y="2286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ample: 3 x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Group 18"/>
          <p:cNvGrpSpPr/>
          <p:nvPr/>
        </p:nvGrpSpPr>
        <p:grpSpPr>
          <a:xfrm>
            <a:off x="1066680" y="2209680"/>
            <a:ext cx="5867640" cy="3504960"/>
            <a:chOff x="1066680" y="2209680"/>
            <a:chExt cx="5867640" cy="3504960"/>
          </a:xfrm>
        </p:grpSpPr>
        <p:sp>
          <p:nvSpPr>
            <p:cNvPr id="154" name="Rectangle 19"/>
            <p:cNvSpPr/>
            <p:nvPr/>
          </p:nvSpPr>
          <p:spPr>
            <a:xfrm>
              <a:off x="1066680" y="2209680"/>
              <a:ext cx="5867640" cy="350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20"/>
            <p:cNvSpPr/>
            <p:nvPr/>
          </p:nvSpPr>
          <p:spPr>
            <a:xfrm>
              <a:off x="1981080" y="281916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1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1"/>
            <p:cNvSpPr/>
            <p:nvPr/>
          </p:nvSpPr>
          <p:spPr>
            <a:xfrm>
              <a:off x="4572000" y="2971440"/>
              <a:ext cx="914400" cy="76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2.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22"/>
            <p:cNvSpPr/>
            <p:nvPr/>
          </p:nvSpPr>
          <p:spPr>
            <a:xfrm>
              <a:off x="3352680" y="4495680"/>
              <a:ext cx="914400" cy="76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Op3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3"/>
            <p:cNvSpPr/>
            <p:nvPr/>
          </p:nvSpPr>
          <p:spPr>
            <a:xfrm>
              <a:off x="2895480" y="33526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2666880" y="3581280"/>
              <a:ext cx="7621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 flipV="1">
              <a:off x="4267080" y="373356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Text Box 26"/>
          <p:cNvSpPr/>
          <p:nvPr/>
        </p:nvSpPr>
        <p:spPr>
          <a:xfrm>
            <a:off x="1189080" y="596124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the “green” resource, put a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dire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n the arr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6669360" y="6461280"/>
            <a:ext cx="246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disjunctive grap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584360" y="1413000"/>
            <a:ext cx="501948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do not bind operations to start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3307680" y="2349360"/>
            <a:ext cx="478620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take a least commitment approa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1434240" y="3933720"/>
            <a:ext cx="484416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sequently we get a set of solu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3"/>
          <p:cNvGraphicFramePr/>
          <p:nvPr/>
        </p:nvGraphicFramePr>
        <p:xfrm>
          <a:off x="380880" y="907920"/>
          <a:ext cx="8763120" cy="48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07920"/>
                    <a:ext cx="876312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4"/>
          <p:cNvSpPr/>
          <p:nvPr/>
        </p:nvSpPr>
        <p:spPr>
          <a:xfrm>
            <a:off x="309960" y="169920"/>
            <a:ext cx="6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x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485320" y="1268280"/>
            <a:ext cx="2434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at is makespan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09:37:29Z</dcterms:created>
  <dc:creator>Patrick Prosser</dc:creator>
  <dc:description/>
  <dc:language>en-US</dc:language>
  <cp:lastModifiedBy>Patrick Prosser</cp:lastModifiedBy>
  <dcterms:modified xsi:type="dcterms:W3CDTF">2018-02-14T17:44:24Z</dcterms:modified>
  <cp:revision>62</cp:revision>
  <dc:subject/>
  <dc:title>No Slide Title</dc:title>
</cp:coreProperties>
</file>