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BBA-5C08-40D1-AC3C-89DBABD2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B2E6-F0A3-4F01-893A-9A32FE03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C61-48A7-4025-AF93-9BDA4369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D79-211D-4489-8C78-4807ADF2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68B-06AA-4528-AC27-4250DF6E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C24-2F63-4089-9826-87475C85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9A0-97B0-4404-8C95-27A473B5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58A-7AAF-4495-B5FF-56DA2B44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85D-CCC1-417E-9EA0-B8694F69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34F-5918-4D4C-BA75-C4DD4613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B6D-D35D-42B0-8342-FCDE79F8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EE7-0A30-4DA1-849C-485DD952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1267-FB07-4BF1-9318-A31FBC8EF2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716920" y="2362320"/>
            <a:ext cx="3821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lack-based Heuristics for JS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5274360" y="328464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rcRect l="4102" t="66388" r="41634" b="25317"/>
          <a:stretch/>
        </p:blipFill>
        <p:spPr>
          <a:xfrm>
            <a:off x="235080" y="1341360"/>
            <a:ext cx="88326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547640" y="1268280"/>
            <a:ext cx="1872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4211640" y="3141720"/>
            <a:ext cx="1871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79800" y="220500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rliest st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1116000" y="1700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359880" y="220500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test 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9"/>
          <p:cNvSpPr/>
          <p:nvPr/>
        </p:nvSpPr>
        <p:spPr>
          <a:xfrm flipH="1" flipV="1">
            <a:off x="3419640" y="169992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1835280" y="1341360"/>
            <a:ext cx="792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3258720" y="69228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2484000" y="907920"/>
            <a:ext cx="792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4500720" y="3213000"/>
            <a:ext cx="129528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547640" y="1268280"/>
            <a:ext cx="1152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211640" y="3141720"/>
            <a:ext cx="1871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719280" y="220500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rliest st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6"/>
          <p:cNvSpPr/>
          <p:nvPr/>
        </p:nvSpPr>
        <p:spPr>
          <a:xfrm flipV="1">
            <a:off x="1116000" y="1700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831760" y="2205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test st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8"/>
          <p:cNvSpPr/>
          <p:nvPr/>
        </p:nvSpPr>
        <p:spPr>
          <a:xfrm flipH="1" flipV="1">
            <a:off x="2771280" y="169992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627280" y="1341360"/>
            <a:ext cx="79236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3258720" y="69228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1"/>
          <p:cNvSpPr/>
          <p:nvPr/>
        </p:nvSpPr>
        <p:spPr>
          <a:xfrm flipH="1">
            <a:off x="2484000" y="907920"/>
            <a:ext cx="792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494640" y="5157720"/>
            <a:ext cx="61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strained integer variable represents start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14"/>
          <p:cNvSpPr/>
          <p:nvPr/>
        </p:nvSpPr>
        <p:spPr>
          <a:xfrm>
            <a:off x="4500720" y="3213000"/>
            <a:ext cx="129528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547640" y="1268280"/>
            <a:ext cx="1152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835280" y="1989000"/>
            <a:ext cx="1871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692360" y="1341360"/>
            <a:ext cx="792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2050920" y="2062080"/>
            <a:ext cx="129564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4250160" y="119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4270680" y="1916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444960" y="328464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3153600" y="3284640"/>
            <a:ext cx="49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start() + op1.duration() ≤ op2.start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270036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547640" y="1268280"/>
            <a:ext cx="1152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340000" y="1989000"/>
            <a:ext cx="1366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547640" y="1341360"/>
            <a:ext cx="79236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2340000" y="2060640"/>
            <a:ext cx="129528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4250160" y="119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4270680" y="1916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44960" y="328464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3153600" y="3284640"/>
            <a:ext cx="49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start() + op1.duration() ≤ op2.start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12"/>
          <p:cNvSpPr/>
          <p:nvPr/>
        </p:nvSpPr>
        <p:spPr>
          <a:xfrm>
            <a:off x="270036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5815800" y="141300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opag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547640" y="1268280"/>
            <a:ext cx="1152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835280" y="1989000"/>
            <a:ext cx="1871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692360" y="1341360"/>
            <a:ext cx="792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2050920" y="2062080"/>
            <a:ext cx="129564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250160" y="119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4270680" y="1916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024640" y="3357720"/>
            <a:ext cx="45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p2.before(op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133200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156240" y="2924280"/>
            <a:ext cx="58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 and op2 cannot be in process at same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3453480" y="5734080"/>
            <a:ext cx="436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 easy to propagate unti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ision made (disjunction broke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547640" y="1268280"/>
            <a:ext cx="1152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835280" y="1989000"/>
            <a:ext cx="1871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692360" y="1341360"/>
            <a:ext cx="792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2050920" y="2062080"/>
            <a:ext cx="129564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4250160" y="119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4270680" y="1916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2005200" y="443700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[i][j] = 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p[i]1.before(op[j]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510480" y="3716280"/>
            <a:ext cx="52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se a 0/1 decision variable d[i][j] as foll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1911600" y="501336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[i][j] = 1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p[j]1.before(op[i]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3867480" y="299736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uris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3330360" y="292572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UST ONE EXAM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3290040" y="2565360"/>
            <a:ext cx="24256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uristics in cho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riable orde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lue orde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5"/>
          <p:cNvSpPr/>
          <p:nvPr/>
        </p:nvSpPr>
        <p:spPr>
          <a:xfrm>
            <a:off x="4788000" y="1052640"/>
            <a:ext cx="3816360" cy="165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"/>
          <p:cNvSpPr/>
          <p:nvPr/>
        </p:nvSpPr>
        <p:spPr>
          <a:xfrm>
            <a:off x="4716360" y="3429000"/>
            <a:ext cx="3816360" cy="201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4643280" y="1557360"/>
            <a:ext cx="4032360" cy="3384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684360" y="2133720"/>
            <a:ext cx="3958920" cy="718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4500720" y="3573360"/>
            <a:ext cx="3958920" cy="2519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4500720" y="1916280"/>
            <a:ext cx="3958920" cy="21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611280" y="1125360"/>
            <a:ext cx="4248000" cy="4967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903120" y="3213000"/>
            <a:ext cx="1575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ssp refre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"/>
          <p:cNvPicPr/>
          <p:nvPr/>
        </p:nvPicPr>
        <p:blipFill>
          <a:blip r:embed="rId1"/>
          <a:srcRect l="1517" t="7060" r="4427" b="4003"/>
          <a:stretch/>
        </p:blipFill>
        <p:spPr>
          <a:xfrm>
            <a:off x="324000" y="135000"/>
            <a:ext cx="7402320" cy="66070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056720" y="115920"/>
            <a:ext cx="18709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inSlackHeurist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7086240" y="1197000"/>
            <a:ext cx="18784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Variable Order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"/>
          <p:cNvSpPr/>
          <p:nvPr/>
        </p:nvSpPr>
        <p:spPr>
          <a:xfrm>
            <a:off x="7056720" y="115920"/>
            <a:ext cx="18709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inSlackHeurist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rcRect l="1239" t="10270" r="3756" b="5149"/>
          <a:stretch/>
        </p:blipFill>
        <p:spPr>
          <a:xfrm>
            <a:off x="163440" y="981000"/>
            <a:ext cx="8656560" cy="51800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"/>
          <p:cNvSpPr/>
          <p:nvPr/>
        </p:nvSpPr>
        <p:spPr>
          <a:xfrm>
            <a:off x="135000" y="160200"/>
            <a:ext cx="1628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Value Order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"/>
          <p:cNvPicPr/>
          <p:nvPr/>
        </p:nvPicPr>
        <p:blipFill>
          <a:blip r:embed="rId1"/>
          <a:srcRect l="961" t="23433" r="3585" b="3420"/>
          <a:stretch/>
        </p:blipFill>
        <p:spPr>
          <a:xfrm>
            <a:off x="193680" y="177840"/>
            <a:ext cx="8472600" cy="63752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"/>
          <p:cNvSpPr/>
          <p:nvPr/>
        </p:nvSpPr>
        <p:spPr>
          <a:xfrm>
            <a:off x="7025040" y="115920"/>
            <a:ext cx="10404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ptimiz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1726560" y="2565360"/>
            <a:ext cx="60418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yway, will the variable ordering heuristic make a differ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n it’s own? Admittedly the heuristic is rather expensive 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un so will it reduce search effort to the point that it reduc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un time (the bottom lin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4"/>
          <p:cNvSpPr/>
          <p:nvPr/>
        </p:nvSpPr>
        <p:spPr>
          <a:xfrm>
            <a:off x="3246480" y="2852640"/>
            <a:ext cx="2274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o some experim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"/>
          <p:cNvPicPr/>
          <p:nvPr/>
        </p:nvPicPr>
        <p:blipFill>
          <a:blip r:embed="rId1"/>
          <a:srcRect l="1148" t="21219" r="3516" b="3999"/>
          <a:stretch/>
        </p:blipFill>
        <p:spPr>
          <a:xfrm>
            <a:off x="355680" y="150840"/>
            <a:ext cx="8462880" cy="65181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2"/>
          <p:cNvSpPr/>
          <p:nvPr/>
        </p:nvSpPr>
        <p:spPr>
          <a:xfrm>
            <a:off x="7121160" y="2349360"/>
            <a:ext cx="137700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uby Restar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"/>
          <p:cNvPicPr/>
          <p:nvPr/>
        </p:nvPicPr>
        <p:blipFill>
          <a:blip r:embed="rId1"/>
          <a:srcRect l="31544" t="11611" r="30064" b="22439"/>
          <a:stretch/>
        </p:blipFill>
        <p:spPr>
          <a:xfrm>
            <a:off x="1617840" y="0"/>
            <a:ext cx="532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26"/>
          <p:cNvSpPr/>
          <p:nvPr/>
        </p:nvSpPr>
        <p:spPr>
          <a:xfrm>
            <a:off x="1557360" y="1828800"/>
            <a:ext cx="58543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set of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set of job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job is a sequence of operations/activ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quence the activities on the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9"/>
          <p:cNvSpPr/>
          <p:nvPr/>
        </p:nvSpPr>
        <p:spPr>
          <a:xfrm>
            <a:off x="11880" y="22860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example: 3 x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-56160" y="4653000"/>
            <a:ext cx="9165960" cy="1923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4 resources: green, yellow, red and bl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job is a sequence of operations (precedence constrain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ch operation is executed on a resource (resource constrain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ch resource can do one operation at a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duration of an operation is the length of its bo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a due date, giving time windows for operations (time constrain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" name="Group 34"/>
          <p:cNvGrpSpPr/>
          <p:nvPr/>
        </p:nvGrpSpPr>
        <p:grpSpPr>
          <a:xfrm>
            <a:off x="-8640" y="1371600"/>
            <a:ext cx="8314560" cy="2971800"/>
            <a:chOff x="-8640" y="1371600"/>
            <a:chExt cx="8314560" cy="2971800"/>
          </a:xfrm>
        </p:grpSpPr>
        <p:grpSp>
          <p:nvGrpSpPr>
            <p:cNvPr id="48" name="Group 18"/>
            <p:cNvGrpSpPr/>
            <p:nvPr/>
          </p:nvGrpSpPr>
          <p:grpSpPr>
            <a:xfrm>
              <a:off x="990720" y="1447920"/>
              <a:ext cx="7315200" cy="2895480"/>
              <a:chOff x="990720" y="1447920"/>
              <a:chExt cx="7315200" cy="2895480"/>
            </a:xfrm>
          </p:grpSpPr>
          <p:grpSp>
            <p:nvGrpSpPr>
              <p:cNvPr id="49" name="Group 6"/>
              <p:cNvGrpSpPr/>
              <p:nvPr/>
            </p:nvGrpSpPr>
            <p:grpSpPr>
              <a:xfrm>
                <a:off x="990720" y="1447920"/>
                <a:ext cx="6705360" cy="304560"/>
                <a:chOff x="990720" y="1447920"/>
                <a:chExt cx="6705360" cy="304560"/>
              </a:xfrm>
            </p:grpSpPr>
            <p:sp>
              <p:nvSpPr>
                <p:cNvPr id="50" name="Rectangle 2"/>
                <p:cNvSpPr/>
                <p:nvPr/>
              </p:nvSpPr>
              <p:spPr>
                <a:xfrm>
                  <a:off x="990720" y="1447920"/>
                  <a:ext cx="990360" cy="3045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mic Sans MS"/>
                    </a:rPr>
                    <a:t>Op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" name="Rectangle 3"/>
                <p:cNvSpPr/>
                <p:nvPr/>
              </p:nvSpPr>
              <p:spPr>
                <a:xfrm>
                  <a:off x="2514600" y="1447920"/>
                  <a:ext cx="1523880" cy="228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mic Sans MS"/>
                    </a:rPr>
                    <a:t>Op1.2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" name="Rectangle 4"/>
                <p:cNvSpPr/>
                <p:nvPr/>
              </p:nvSpPr>
              <p:spPr>
                <a:xfrm>
                  <a:off x="4876920" y="1447920"/>
                  <a:ext cx="990360" cy="3045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mic Sans MS"/>
                    </a:rPr>
                    <a:t>Op1.3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" name="Rectangle 5"/>
                <p:cNvSpPr/>
                <p:nvPr/>
              </p:nvSpPr>
              <p:spPr>
                <a:xfrm>
                  <a:off x="6172200" y="1447920"/>
                  <a:ext cx="1523880" cy="304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mic Sans MS"/>
                    </a:rPr>
                    <a:t>Op1.4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4" name="Rectangle 7"/>
              <p:cNvSpPr/>
              <p:nvPr/>
            </p:nvSpPr>
            <p:spPr>
              <a:xfrm>
                <a:off x="990720" y="1447920"/>
                <a:ext cx="99036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" name="Rectangle 9"/>
              <p:cNvSpPr/>
              <p:nvPr/>
            </p:nvSpPr>
            <p:spPr>
              <a:xfrm>
                <a:off x="990720" y="2819520"/>
                <a:ext cx="990360" cy="304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2.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10"/>
              <p:cNvSpPr/>
              <p:nvPr/>
            </p:nvSpPr>
            <p:spPr>
              <a:xfrm>
                <a:off x="2514600" y="2819520"/>
                <a:ext cx="1066680" cy="3808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2.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4876920" y="2819520"/>
                <a:ext cx="99036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2.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6172200" y="2819520"/>
                <a:ext cx="21337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2.4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4"/>
              <p:cNvSpPr/>
              <p:nvPr/>
            </p:nvSpPr>
            <p:spPr>
              <a:xfrm>
                <a:off x="990720" y="3962520"/>
                <a:ext cx="99036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3.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5"/>
              <p:cNvSpPr/>
              <p:nvPr/>
            </p:nvSpPr>
            <p:spPr>
              <a:xfrm>
                <a:off x="2666880" y="4038480"/>
                <a:ext cx="1676520" cy="3049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3.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6"/>
              <p:cNvSpPr/>
              <p:nvPr/>
            </p:nvSpPr>
            <p:spPr>
              <a:xfrm>
                <a:off x="4876920" y="3962520"/>
                <a:ext cx="15238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3.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7"/>
              <p:cNvSpPr/>
              <p:nvPr/>
            </p:nvSpPr>
            <p:spPr>
              <a:xfrm>
                <a:off x="6781680" y="3962520"/>
                <a:ext cx="914400" cy="304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3.4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3" name="Text Box 21"/>
            <p:cNvSpPr/>
            <p:nvPr/>
          </p:nvSpPr>
          <p:spPr>
            <a:xfrm>
              <a:off x="-8640" y="1371600"/>
              <a:ext cx="7034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job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Text Box 23"/>
            <p:cNvSpPr/>
            <p:nvPr/>
          </p:nvSpPr>
          <p:spPr>
            <a:xfrm>
              <a:off x="11880" y="2743200"/>
              <a:ext cx="7034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job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Text Box 24"/>
            <p:cNvSpPr/>
            <p:nvPr/>
          </p:nvSpPr>
          <p:spPr>
            <a:xfrm>
              <a:off x="11880" y="3886200"/>
              <a:ext cx="7034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job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" name="Line 25"/>
            <p:cNvSpPr/>
            <p:nvPr/>
          </p:nvSpPr>
          <p:spPr>
            <a:xfrm>
              <a:off x="1981080" y="1600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" name="Line 26"/>
            <p:cNvSpPr/>
            <p:nvPr/>
          </p:nvSpPr>
          <p:spPr>
            <a:xfrm>
              <a:off x="4038480" y="16002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5867280" y="1676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1981080" y="2971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Line 29"/>
            <p:cNvSpPr/>
            <p:nvPr/>
          </p:nvSpPr>
          <p:spPr>
            <a:xfrm>
              <a:off x="3581280" y="29718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Line 30"/>
            <p:cNvSpPr/>
            <p:nvPr/>
          </p:nvSpPr>
          <p:spPr>
            <a:xfrm>
              <a:off x="586728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Line 31"/>
            <p:cNvSpPr/>
            <p:nvPr/>
          </p:nvSpPr>
          <p:spPr>
            <a:xfrm>
              <a:off x="1981080" y="4191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>
              <a:off x="4343400" y="4114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>
              <a:off x="6400800" y="4114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3657600" y="228600"/>
            <a:ext cx="5486040" cy="1752120"/>
            <a:chOff x="3657600" y="228600"/>
            <a:chExt cx="5486040" cy="1752120"/>
          </a:xfrm>
        </p:grpSpPr>
        <p:grpSp>
          <p:nvGrpSpPr>
            <p:cNvPr id="76" name="Group 3"/>
            <p:cNvGrpSpPr/>
            <p:nvPr/>
          </p:nvGrpSpPr>
          <p:grpSpPr>
            <a:xfrm>
              <a:off x="3657600" y="228600"/>
              <a:ext cx="5028480" cy="184320"/>
              <a:chOff x="3657600" y="228600"/>
              <a:chExt cx="5028480" cy="184320"/>
            </a:xfrm>
          </p:grpSpPr>
          <p:sp>
            <p:nvSpPr>
              <p:cNvPr id="77" name="Rectangle 4"/>
              <p:cNvSpPr/>
              <p:nvPr/>
            </p:nvSpPr>
            <p:spPr>
              <a:xfrm>
                <a:off x="3657600" y="228600"/>
                <a:ext cx="742680" cy="184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" name="Rectangle 5"/>
              <p:cNvSpPr/>
              <p:nvPr/>
            </p:nvSpPr>
            <p:spPr>
              <a:xfrm>
                <a:off x="4800240" y="228600"/>
                <a:ext cx="1142640" cy="138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" name="Rectangle 6"/>
              <p:cNvSpPr/>
              <p:nvPr/>
            </p:nvSpPr>
            <p:spPr>
              <a:xfrm>
                <a:off x="6572160" y="228600"/>
                <a:ext cx="742680" cy="1843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" name="Rectangle 7"/>
              <p:cNvSpPr/>
              <p:nvPr/>
            </p:nvSpPr>
            <p:spPr>
              <a:xfrm>
                <a:off x="7543440" y="228600"/>
                <a:ext cx="1142640" cy="184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4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1" name="Rectangle 8"/>
            <p:cNvSpPr/>
            <p:nvPr/>
          </p:nvSpPr>
          <p:spPr>
            <a:xfrm>
              <a:off x="3657600" y="22860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1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Rectangle 9"/>
            <p:cNvSpPr/>
            <p:nvPr/>
          </p:nvSpPr>
          <p:spPr>
            <a:xfrm>
              <a:off x="3657600" y="1058760"/>
              <a:ext cx="7426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Rectangle 10"/>
            <p:cNvSpPr/>
            <p:nvPr/>
          </p:nvSpPr>
          <p:spPr>
            <a:xfrm>
              <a:off x="4800240" y="1058760"/>
              <a:ext cx="799920" cy="230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6572160" y="105876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Rectangle 12"/>
            <p:cNvSpPr/>
            <p:nvPr/>
          </p:nvSpPr>
          <p:spPr>
            <a:xfrm>
              <a:off x="7543440" y="1058760"/>
              <a:ext cx="1600200" cy="184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Rectangle 13"/>
            <p:cNvSpPr/>
            <p:nvPr/>
          </p:nvSpPr>
          <p:spPr>
            <a:xfrm>
              <a:off x="3657600" y="175032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Rectangle 14"/>
            <p:cNvSpPr/>
            <p:nvPr/>
          </p:nvSpPr>
          <p:spPr>
            <a:xfrm>
              <a:off x="4914720" y="1796400"/>
              <a:ext cx="1257120" cy="184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Rectangle 15"/>
            <p:cNvSpPr/>
            <p:nvPr/>
          </p:nvSpPr>
          <p:spPr>
            <a:xfrm>
              <a:off x="6572160" y="1750320"/>
              <a:ext cx="1142640" cy="184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Rectangle 16"/>
            <p:cNvSpPr/>
            <p:nvPr/>
          </p:nvSpPr>
          <p:spPr>
            <a:xfrm>
              <a:off x="8000640" y="1750320"/>
              <a:ext cx="6858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0" name="Text Box 17"/>
          <p:cNvSpPr/>
          <p:nvPr/>
        </p:nvSpPr>
        <p:spPr>
          <a:xfrm>
            <a:off x="11880" y="22860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example: 3 x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1143000" y="3505320"/>
            <a:ext cx="16765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.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3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21"/>
          <p:cNvSpPr/>
          <p:nvPr/>
        </p:nvSpPr>
        <p:spPr>
          <a:xfrm>
            <a:off x="3505320" y="5105520"/>
            <a:ext cx="167616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.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3.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4114800" y="2819520"/>
            <a:ext cx="167652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3.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6553080" y="3962520"/>
            <a:ext cx="1676520" cy="1371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.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3.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Line 25"/>
          <p:cNvSpPr/>
          <p:nvPr/>
        </p:nvSpPr>
        <p:spPr>
          <a:xfrm flipV="1">
            <a:off x="2438280" y="320004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Line 26"/>
          <p:cNvSpPr/>
          <p:nvPr/>
        </p:nvSpPr>
        <p:spPr>
          <a:xfrm>
            <a:off x="5410080" y="3200400"/>
            <a:ext cx="15242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Line 27"/>
          <p:cNvSpPr/>
          <p:nvPr/>
        </p:nvSpPr>
        <p:spPr>
          <a:xfrm flipH="1">
            <a:off x="4723920" y="4419720"/>
            <a:ext cx="22100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30"/>
          <p:cNvSpPr/>
          <p:nvPr/>
        </p:nvSpPr>
        <p:spPr>
          <a:xfrm>
            <a:off x="5410080" y="3581280"/>
            <a:ext cx="15242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31"/>
          <p:cNvSpPr/>
          <p:nvPr/>
        </p:nvSpPr>
        <p:spPr>
          <a:xfrm flipH="1" flipV="1">
            <a:off x="2437920" y="4190760"/>
            <a:ext cx="4419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2438280" y="42670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33"/>
          <p:cNvSpPr/>
          <p:nvPr/>
        </p:nvSpPr>
        <p:spPr>
          <a:xfrm>
            <a:off x="2340000" y="4508640"/>
            <a:ext cx="158436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34"/>
          <p:cNvSpPr/>
          <p:nvPr/>
        </p:nvSpPr>
        <p:spPr>
          <a:xfrm flipV="1">
            <a:off x="4788000" y="5013000"/>
            <a:ext cx="2160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35"/>
          <p:cNvSpPr/>
          <p:nvPr/>
        </p:nvSpPr>
        <p:spPr>
          <a:xfrm flipH="1" flipV="1">
            <a:off x="5292360" y="3933720"/>
            <a:ext cx="1584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36"/>
          <p:cNvSpPr/>
          <p:nvPr/>
        </p:nvSpPr>
        <p:spPr>
          <a:xfrm>
            <a:off x="1619280" y="3716280"/>
            <a:ext cx="792000" cy="289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37"/>
          <p:cNvSpPr/>
          <p:nvPr/>
        </p:nvSpPr>
        <p:spPr>
          <a:xfrm>
            <a:off x="4500720" y="3357720"/>
            <a:ext cx="936360" cy="358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Rectangle 38"/>
          <p:cNvSpPr/>
          <p:nvPr/>
        </p:nvSpPr>
        <p:spPr>
          <a:xfrm>
            <a:off x="1547640" y="4292640"/>
            <a:ext cx="86364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7455960" y="0"/>
            <a:ext cx="1707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79840" y="2565360"/>
            <a:ext cx="60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sign a start time to each operation such th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 no two operations are in process on the s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chine at the same time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b) time constraints are respec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-24840" y="6461280"/>
            <a:ext cx="3618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problem is NP comple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026"/>
          <p:cNvGrpSpPr/>
          <p:nvPr/>
        </p:nvGrpSpPr>
        <p:grpSpPr>
          <a:xfrm>
            <a:off x="3657600" y="228600"/>
            <a:ext cx="5486040" cy="1752120"/>
            <a:chOff x="3657600" y="228600"/>
            <a:chExt cx="5486040" cy="1752120"/>
          </a:xfrm>
        </p:grpSpPr>
        <p:grpSp>
          <p:nvGrpSpPr>
            <p:cNvPr id="111" name="Group 1027"/>
            <p:cNvGrpSpPr/>
            <p:nvPr/>
          </p:nvGrpSpPr>
          <p:grpSpPr>
            <a:xfrm>
              <a:off x="3657600" y="228600"/>
              <a:ext cx="5028480" cy="184320"/>
              <a:chOff x="3657600" y="228600"/>
              <a:chExt cx="5028480" cy="184320"/>
            </a:xfrm>
          </p:grpSpPr>
          <p:sp>
            <p:nvSpPr>
              <p:cNvPr id="112" name="Rectangle 1028"/>
              <p:cNvSpPr/>
              <p:nvPr/>
            </p:nvSpPr>
            <p:spPr>
              <a:xfrm>
                <a:off x="3657600" y="228600"/>
                <a:ext cx="742680" cy="184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Rectangle 1029"/>
              <p:cNvSpPr/>
              <p:nvPr/>
            </p:nvSpPr>
            <p:spPr>
              <a:xfrm>
                <a:off x="4800240" y="228600"/>
                <a:ext cx="1142640" cy="138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Rectangle 1030"/>
              <p:cNvSpPr/>
              <p:nvPr/>
            </p:nvSpPr>
            <p:spPr>
              <a:xfrm>
                <a:off x="6572160" y="228600"/>
                <a:ext cx="742680" cy="1843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" name="Rectangle 1031"/>
              <p:cNvSpPr/>
              <p:nvPr/>
            </p:nvSpPr>
            <p:spPr>
              <a:xfrm>
                <a:off x="7543440" y="228600"/>
                <a:ext cx="1142640" cy="184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4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6" name="Rectangle 1032"/>
            <p:cNvSpPr/>
            <p:nvPr/>
          </p:nvSpPr>
          <p:spPr>
            <a:xfrm>
              <a:off x="3657600" y="22860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1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1033"/>
            <p:cNvSpPr/>
            <p:nvPr/>
          </p:nvSpPr>
          <p:spPr>
            <a:xfrm>
              <a:off x="3657600" y="1058760"/>
              <a:ext cx="7426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1034"/>
            <p:cNvSpPr/>
            <p:nvPr/>
          </p:nvSpPr>
          <p:spPr>
            <a:xfrm>
              <a:off x="4800240" y="1058760"/>
              <a:ext cx="799920" cy="230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Rectangle 1035"/>
            <p:cNvSpPr/>
            <p:nvPr/>
          </p:nvSpPr>
          <p:spPr>
            <a:xfrm>
              <a:off x="6572160" y="105876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Rectangle 1036"/>
            <p:cNvSpPr/>
            <p:nvPr/>
          </p:nvSpPr>
          <p:spPr>
            <a:xfrm>
              <a:off x="7543440" y="1058760"/>
              <a:ext cx="1600200" cy="184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1037"/>
            <p:cNvSpPr/>
            <p:nvPr/>
          </p:nvSpPr>
          <p:spPr>
            <a:xfrm>
              <a:off x="3657600" y="175032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1038"/>
            <p:cNvSpPr/>
            <p:nvPr/>
          </p:nvSpPr>
          <p:spPr>
            <a:xfrm>
              <a:off x="4914720" y="1796400"/>
              <a:ext cx="1257120" cy="184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1039"/>
            <p:cNvSpPr/>
            <p:nvPr/>
          </p:nvSpPr>
          <p:spPr>
            <a:xfrm>
              <a:off x="6572160" y="1750320"/>
              <a:ext cx="1142640" cy="184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Rectangle 1040"/>
            <p:cNvSpPr/>
            <p:nvPr/>
          </p:nvSpPr>
          <p:spPr>
            <a:xfrm>
              <a:off x="8000640" y="1750320"/>
              <a:ext cx="6858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5" name="Text Box 1041"/>
          <p:cNvSpPr/>
          <p:nvPr/>
        </p:nvSpPr>
        <p:spPr>
          <a:xfrm>
            <a:off x="11880" y="22860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example: 3 x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6" name="Group 1060"/>
          <p:cNvGrpSpPr/>
          <p:nvPr/>
        </p:nvGrpSpPr>
        <p:grpSpPr>
          <a:xfrm>
            <a:off x="1066680" y="2209680"/>
            <a:ext cx="5867640" cy="3504960"/>
            <a:chOff x="1066680" y="2209680"/>
            <a:chExt cx="5867640" cy="3504960"/>
          </a:xfrm>
        </p:grpSpPr>
        <p:sp>
          <p:nvSpPr>
            <p:cNvPr id="127" name="Rectangle 1053"/>
            <p:cNvSpPr/>
            <p:nvPr/>
          </p:nvSpPr>
          <p:spPr>
            <a:xfrm>
              <a:off x="1066680" y="2209680"/>
              <a:ext cx="5867640" cy="3504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Oval 1054"/>
            <p:cNvSpPr/>
            <p:nvPr/>
          </p:nvSpPr>
          <p:spPr>
            <a:xfrm>
              <a:off x="1981080" y="2819160"/>
              <a:ext cx="91440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1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Oval 1055"/>
            <p:cNvSpPr/>
            <p:nvPr/>
          </p:nvSpPr>
          <p:spPr>
            <a:xfrm>
              <a:off x="4572000" y="2971440"/>
              <a:ext cx="91440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Oval 1056"/>
            <p:cNvSpPr/>
            <p:nvPr/>
          </p:nvSpPr>
          <p:spPr>
            <a:xfrm>
              <a:off x="3352680" y="4495680"/>
              <a:ext cx="914400" cy="76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1057"/>
            <p:cNvSpPr/>
            <p:nvPr/>
          </p:nvSpPr>
          <p:spPr>
            <a:xfrm>
              <a:off x="2895480" y="335268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1058"/>
            <p:cNvSpPr/>
            <p:nvPr/>
          </p:nvSpPr>
          <p:spPr>
            <a:xfrm>
              <a:off x="2666880" y="3581280"/>
              <a:ext cx="7621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1059"/>
            <p:cNvSpPr/>
            <p:nvPr/>
          </p:nvSpPr>
          <p:spPr>
            <a:xfrm flipV="1">
              <a:off x="4267080" y="3733560"/>
              <a:ext cx="6098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4" name="Text Box 1061"/>
          <p:cNvSpPr/>
          <p:nvPr/>
        </p:nvSpPr>
        <p:spPr>
          <a:xfrm>
            <a:off x="1189080" y="5961240"/>
            <a:ext cx="66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 the “green” resource, put a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direc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n the arr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1062"/>
          <p:cNvSpPr/>
          <p:nvPr/>
        </p:nvSpPr>
        <p:spPr>
          <a:xfrm>
            <a:off x="6669360" y="6461280"/>
            <a:ext cx="2469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disjunctive grap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3657600" y="228600"/>
            <a:ext cx="5486040" cy="1752120"/>
            <a:chOff x="3657600" y="228600"/>
            <a:chExt cx="5486040" cy="1752120"/>
          </a:xfrm>
        </p:grpSpPr>
        <p:grpSp>
          <p:nvGrpSpPr>
            <p:cNvPr id="137" name="Group 3"/>
            <p:cNvGrpSpPr/>
            <p:nvPr/>
          </p:nvGrpSpPr>
          <p:grpSpPr>
            <a:xfrm>
              <a:off x="3657600" y="228600"/>
              <a:ext cx="5028480" cy="184320"/>
              <a:chOff x="3657600" y="228600"/>
              <a:chExt cx="5028480" cy="1843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3657600" y="228600"/>
                <a:ext cx="742680" cy="184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4800240" y="228600"/>
                <a:ext cx="1142640" cy="138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6572160" y="228600"/>
                <a:ext cx="742680" cy="1843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7543440" y="228600"/>
                <a:ext cx="1142640" cy="184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4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2" name="Rectangle 8"/>
            <p:cNvSpPr/>
            <p:nvPr/>
          </p:nvSpPr>
          <p:spPr>
            <a:xfrm>
              <a:off x="3657600" y="22860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1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>
              <a:off x="3657600" y="1058760"/>
              <a:ext cx="7426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>
              <a:off x="4800240" y="1058760"/>
              <a:ext cx="799920" cy="230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>
              <a:off x="6572160" y="105876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Rectangle 12"/>
            <p:cNvSpPr/>
            <p:nvPr/>
          </p:nvSpPr>
          <p:spPr>
            <a:xfrm>
              <a:off x="7543440" y="1058760"/>
              <a:ext cx="1600200" cy="184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Rectangle 13"/>
            <p:cNvSpPr/>
            <p:nvPr/>
          </p:nvSpPr>
          <p:spPr>
            <a:xfrm>
              <a:off x="3657600" y="175032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14"/>
            <p:cNvSpPr/>
            <p:nvPr/>
          </p:nvSpPr>
          <p:spPr>
            <a:xfrm>
              <a:off x="4914720" y="1796400"/>
              <a:ext cx="1257120" cy="184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Rectangle 15"/>
            <p:cNvSpPr/>
            <p:nvPr/>
          </p:nvSpPr>
          <p:spPr>
            <a:xfrm>
              <a:off x="6572160" y="1750320"/>
              <a:ext cx="1142640" cy="184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8000640" y="1750320"/>
              <a:ext cx="6858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" name="Text Box 17"/>
          <p:cNvSpPr/>
          <p:nvPr/>
        </p:nvSpPr>
        <p:spPr>
          <a:xfrm>
            <a:off x="11880" y="22860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example: 3 x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18"/>
          <p:cNvGrpSpPr/>
          <p:nvPr/>
        </p:nvGrpSpPr>
        <p:grpSpPr>
          <a:xfrm>
            <a:off x="1066680" y="2209680"/>
            <a:ext cx="5867640" cy="3504960"/>
            <a:chOff x="1066680" y="2209680"/>
            <a:chExt cx="5867640" cy="3504960"/>
          </a:xfrm>
        </p:grpSpPr>
        <p:sp>
          <p:nvSpPr>
            <p:cNvPr id="153" name="Rectangle 19"/>
            <p:cNvSpPr/>
            <p:nvPr/>
          </p:nvSpPr>
          <p:spPr>
            <a:xfrm>
              <a:off x="1066680" y="2209680"/>
              <a:ext cx="5867640" cy="3504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20"/>
            <p:cNvSpPr/>
            <p:nvPr/>
          </p:nvSpPr>
          <p:spPr>
            <a:xfrm>
              <a:off x="1981080" y="2819160"/>
              <a:ext cx="91440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1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21"/>
            <p:cNvSpPr/>
            <p:nvPr/>
          </p:nvSpPr>
          <p:spPr>
            <a:xfrm>
              <a:off x="4572000" y="2971440"/>
              <a:ext cx="91440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22"/>
            <p:cNvSpPr/>
            <p:nvPr/>
          </p:nvSpPr>
          <p:spPr>
            <a:xfrm>
              <a:off x="3352680" y="4495680"/>
              <a:ext cx="914400" cy="76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>
              <a:off x="2895480" y="335268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24"/>
            <p:cNvSpPr/>
            <p:nvPr/>
          </p:nvSpPr>
          <p:spPr>
            <a:xfrm>
              <a:off x="2666880" y="3581280"/>
              <a:ext cx="7621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25"/>
            <p:cNvSpPr/>
            <p:nvPr/>
          </p:nvSpPr>
          <p:spPr>
            <a:xfrm flipV="1">
              <a:off x="4267080" y="3733560"/>
              <a:ext cx="6098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0" name="Text Box 26"/>
          <p:cNvSpPr/>
          <p:nvPr/>
        </p:nvSpPr>
        <p:spPr>
          <a:xfrm>
            <a:off x="1189080" y="5961240"/>
            <a:ext cx="66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 the “green” resource, put a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direc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n the arr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6669360" y="6461280"/>
            <a:ext cx="2469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disjunctive grap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1584360" y="1413000"/>
            <a:ext cx="5019480" cy="3988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do not bind operations to start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3307680" y="2349360"/>
            <a:ext cx="4786200" cy="3988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take a least commitment approa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1434240" y="3933720"/>
            <a:ext cx="4844160" cy="3988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sequently we get a set of solution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09:37:29Z</dcterms:created>
  <dc:creator>Patrick Prosser</dc:creator>
  <dc:description/>
  <dc:language>en-US</dc:language>
  <cp:lastModifiedBy>Patrick Prosser</cp:lastModifiedBy>
  <dcterms:modified xsi:type="dcterms:W3CDTF">2018-02-14T17:40:34Z</dcterms:modified>
  <cp:revision>100</cp:revision>
  <dc:subject/>
  <dc:title>No Slide Title</dc:title>
</cp:coreProperties>
</file>