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FA01-AADB-48BA-A2E5-0F9FE0E6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05EE-8FA2-4593-B629-AB2312C7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7B21-F112-41F7-99CC-D16419B68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62B-70C2-4E0A-8840-0A536C93B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8C2-A933-443F-9526-743140D3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8D6-F9C2-4682-A9CE-B02AED9A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89D-CD77-4BD2-B291-84FACB59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614-2FE8-42E5-83B7-782DAC5C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A27A-5E1D-4E4D-8DBF-5FC50C85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73D-50D0-4956-80E6-DD6F8DC0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B8A-062A-4FA7-914B-09CCD9D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371-2CF9-415E-9454-38E3C60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624C-F735-4CF0-AFBE-D4350D96D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 Sequenc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258920" y="2060640"/>
            <a:ext cx="6842160" cy="1368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32000" y="2421000"/>
            <a:ext cx="6480000" cy="2879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45680" y="1916280"/>
            <a:ext cx="1256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45680" y="1916280"/>
            <a:ext cx="1256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759400" y="3141720"/>
            <a:ext cx="34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MS paper is well worth a l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9120" y="345276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 is #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86480" y="30686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Using ifOnly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79840" y="3789360"/>
            <a:ext cx="61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OnlyIf(S[i] = c, and(O[i][0] =o[c][0], …, O[i][m]=o[c][m]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2040" y="0"/>
            <a:ext cx="2264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Link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60960" y="2492280"/>
            <a:ext cx="3527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at happens if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ropagation some O[i][j] is se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36040" y="4365720"/>
            <a:ext cx="17215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Q is fal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42720" y="1581120"/>
            <a:ext cx="332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F S[i] =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0 ≤ j ≤ m O[i][j] = o[c][j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14640" y="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08360" y="306864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ing im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54560" y="3789360"/>
            <a:ext cx="354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0]=o[c][0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mplies(S[i] = c, O[i][m]=o[c][m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91640" y="1989000"/>
            <a:ext cx="252612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many of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straints are t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47840" y="429264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56960" y="335772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ave a look at the p/q constra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14640" y="0"/>
            <a:ext cx="25491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big is the mod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83920" y="0"/>
            <a:ext cx="228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models link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05720" y="323676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S, a sequence of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4389480"/>
            <a:ext cx="54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has an array of cars allocated 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40" y="6491160"/>
            <a:ext cx="37544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might allow better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789320" y="0"/>
            <a:ext cx="1409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ann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00680" y="292428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647040" y="0"/>
            <a:ext cx="2466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to certify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6560" y="172548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09520" y="30686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ertifica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419240" y="0"/>
            <a:ext cx="17460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s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62640" y="165276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e have a directory of eas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19880" y="3357720"/>
            <a:ext cx="26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w were these ma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86040" y="4749840"/>
            <a:ext cx="36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y do we need easy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3240"/>
            <a:ext cx="856908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87280" y="2276640"/>
            <a:ext cx="6985080" cy="1008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876440" y="0"/>
            <a:ext cx="12459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35640" y="1725480"/>
            <a:ext cx="557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ariable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oose time slot that can accept least classes (sd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8840" y="2949480"/>
            <a:ext cx="565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alue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at class should we put in that sl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with least op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where product of (nonzero) options is l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 class of least dema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042920" y="4076640"/>
            <a:ext cx="7345440" cy="20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0:08:06Z</dcterms:created>
  <dc:creator>pat</dc:creator>
  <dc:description/>
  <dc:language>en-US</dc:language>
  <cp:lastModifiedBy>pat</cp:lastModifiedBy>
  <dcterms:modified xsi:type="dcterms:W3CDTF">2009-11-06T11:38:15Z</dcterms:modified>
  <cp:revision>19</cp:revision>
  <dc:subject/>
  <dc:title>Car Sequencing Problem</dc:title>
</cp:coreProperties>
</file>