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67BFF-03D2-4A68-AE8B-20C48F1C2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EE232-8167-49BD-9539-12F6F2ED0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397BE-7372-491C-9EE4-07F1403CF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64613-0CCA-47F6-B5CE-3C4AE71A2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C0C68-580C-4F7C-871C-BB949A4EF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9E405-D7DC-4BAF-8A4B-FA41D8185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3B619-0601-4C6F-A3EC-00CFDFAD5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E22AF-4891-4B52-97AA-81E7EA7CF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90499-602B-415E-A306-6AE51E8C9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BF71A-8FBD-42B4-BAA5-6AC8A3CBB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3D5E6-CBD3-4656-9F68-EDDADC868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DFF75-EDD6-4F2C-8FDC-14E575A2E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FE592-15B4-448B-80DE-8AD28CFACF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r Sequencing Probl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upd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1258920" y="2060640"/>
            <a:ext cx="6842160" cy="136836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1332000" y="2421000"/>
            <a:ext cx="6480000" cy="287964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645680" y="1916280"/>
            <a:ext cx="125676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nd so 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7645680" y="1916280"/>
            <a:ext cx="125676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nd so 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759400" y="3141720"/>
            <a:ext cx="347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MS paper is well worth a lo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42720" y="1581120"/>
            <a:ext cx="3327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IF S[i] =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T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for 0 ≤ j ≤ m O[i][j] = o[c][j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72040" y="0"/>
            <a:ext cx="226404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he Link Constra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239120" y="3452760"/>
            <a:ext cx="170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m is # op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1242720" y="1581120"/>
            <a:ext cx="3327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IF S[i] =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T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for 0 ≤ j ≤ m O[i][j] = o[c][j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872040" y="0"/>
            <a:ext cx="226404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he Link Constra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086480" y="3068640"/>
            <a:ext cx="165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Using ifOnlyI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779840" y="3789360"/>
            <a:ext cx="613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ifOnlyIf(S[i] = c, and(O[i][0] =o[c][0], …, O[i][m]=o[c][m])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1242720" y="1581120"/>
            <a:ext cx="3327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IF S[i] =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T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for 0 ≤ j ≤ m O[i][j] = o[c][j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872040" y="0"/>
            <a:ext cx="226404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he Link Constra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008360" y="3068640"/>
            <a:ext cx="163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sing impl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654560" y="3789360"/>
            <a:ext cx="3544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implies(S[i] = c, O[i][0]=o[c][0]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implies(S[i] = c, O[i][m]=o[c][m]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242720" y="1581120"/>
            <a:ext cx="3327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IF S[i] =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T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for 0 ≤ j ≤ m O[i][j] = o[c][j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872040" y="0"/>
            <a:ext cx="226404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he Link Constra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008360" y="3068640"/>
            <a:ext cx="163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sing impl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654560" y="3789360"/>
            <a:ext cx="3544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implies(S[i] = c, O[i][0]=o[c][0]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implies(S[i] = c, O[i][m]=o[c][m]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160960" y="2492280"/>
            <a:ext cx="352728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What happens if due 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propagation some O[i][j] is se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836040" y="4365720"/>
            <a:ext cx="172152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nd Q is fals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242720" y="1581120"/>
            <a:ext cx="3327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IF S[i] =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T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for 0 ≤ j ≤ m O[i][j] = o[c][j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614640" y="0"/>
            <a:ext cx="254916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ow big is the model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008360" y="3068640"/>
            <a:ext cx="163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sing impl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654560" y="3789360"/>
            <a:ext cx="3544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implies(S[i] = c, O[i][0]=o[c][0]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implies(S[i] = c, O[i][m]=o[c][m]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191640" y="1989000"/>
            <a:ext cx="252612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ow many of the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straints are ther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847840" y="4292640"/>
            <a:ext cx="254916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ow big is the model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856960" y="3357720"/>
            <a:ext cx="368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Have a look at the p/q constra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614640" y="0"/>
            <a:ext cx="254916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ow big is the model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6883920" y="0"/>
            <a:ext cx="228672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wo models linke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305720" y="3236760"/>
            <a:ext cx="368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One has S, a sequence of cla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195640" y="4389480"/>
            <a:ext cx="546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he other has an array of cars allocated posi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8440" y="6491160"/>
            <a:ext cx="375444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his might allow better heuris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7789320" y="0"/>
            <a:ext cx="140904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Channe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4000680" y="292428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Question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6647040" y="0"/>
            <a:ext cx="246672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ow to certify 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96560" y="1725480"/>
            <a:ext cx="194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ndard 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109520" y="3068640"/>
            <a:ext cx="231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he Certificate cl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7419240" y="0"/>
            <a:ext cx="174600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asy Probl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962640" y="1652760"/>
            <a:ext cx="421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We have a directory of easy probl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019880" y="3357720"/>
            <a:ext cx="268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ow were these mad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86040" y="4749840"/>
            <a:ext cx="368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Why do we need easy problem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50920" y="3240"/>
            <a:ext cx="8569080" cy="685476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187280" y="2276640"/>
            <a:ext cx="6985080" cy="100800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7876440" y="0"/>
            <a:ext cx="124596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euris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935640" y="1725480"/>
            <a:ext cx="5578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Variable ord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Choose time slot that can accept least classes (sdf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88840" y="2949480"/>
            <a:ext cx="5651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Value ord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What class should we put in that slo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- class with least option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- class where product of (nonzero) options is low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- class of least deman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042920" y="4076640"/>
            <a:ext cx="7345440" cy="208908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6T10:08:06Z</dcterms:created>
  <dc:creator>pat</dc:creator>
  <dc:description/>
  <dc:language>en-US</dc:language>
  <cp:lastModifiedBy>pat</cp:lastModifiedBy>
  <dcterms:modified xsi:type="dcterms:W3CDTF">2009-11-06T11:38:15Z</dcterms:modified>
  <cp:revision>19</cp:revision>
  <dc:subject/>
  <dc:title>Car Sequencing Problem</dc:title>
</cp:coreProperties>
</file>