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76FF-3580-4242-A684-217099B44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272E-E881-4396-901E-B1002610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C7E3-E4C9-407A-950C-CF0B62E95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818E-17E3-41A7-832D-78A63D148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5D02-128F-4080-BAC3-0E2B1C38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CE59-EBC7-439E-917A-94AF356C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821D-2A2A-40AE-BA8C-48754645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228B-3C9C-4354-8AE1-15406B17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F086-1F4D-4DB9-9A0C-D2095D13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9067-B1A7-41B4-A96B-0CF296E2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48CD-07B9-43E0-B377-741BDCFA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0C86-C7C4-4DD2-96EB-75B79DA7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7223-9F95-4997-91C6-F225D3803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 Sequencing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258920" y="2060640"/>
            <a:ext cx="6842160" cy="1368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332000" y="2421000"/>
            <a:ext cx="6480000" cy="2879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645680" y="1916280"/>
            <a:ext cx="12567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d so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645680" y="1916280"/>
            <a:ext cx="12567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d so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759400" y="3141720"/>
            <a:ext cx="34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MS paper is well worth a l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42720" y="1581120"/>
            <a:ext cx="332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F S[i] 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or 0 ≤ j ≤ m O[i][j] = o[c][j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2040" y="0"/>
            <a:ext cx="22640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Link Constra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39120" y="345276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 is #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242720" y="1581120"/>
            <a:ext cx="332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F S[i] 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or 0 ≤ j ≤ m O[i][j] = o[c][j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2040" y="0"/>
            <a:ext cx="22640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Link Constra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86480" y="306864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Using ifOnly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79840" y="3789360"/>
            <a:ext cx="61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fOnlyIf(S[i] = c, and(O[i][0] =o[c][0], …, O[i][m]=o[c][m]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242720" y="1581120"/>
            <a:ext cx="332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F S[i] 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or 0 ≤ j ≤ m O[i][j] = o[c][j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2040" y="0"/>
            <a:ext cx="22640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Link Constra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08360" y="306864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ing imp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54560" y="3789360"/>
            <a:ext cx="3544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mplies(S[i] = c, O[i][0]=o[c][0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mplies(S[i] = c, O[i][m]=o[c][m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242720" y="1581120"/>
            <a:ext cx="332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F S[i] 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or 0 ≤ j ≤ m O[i][j] = o[c][j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72040" y="0"/>
            <a:ext cx="22640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Link Constra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08360" y="306864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ing imp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54560" y="3789360"/>
            <a:ext cx="3544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mplies(S[i] = c, O[i][0]=o[c][0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mplies(S[i] = c, O[i][m]=o[c][m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60960" y="2492280"/>
            <a:ext cx="35272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at happens if due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ropagation some O[i][j] is s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36040" y="4365720"/>
            <a:ext cx="17215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d Q is fal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42720" y="1581120"/>
            <a:ext cx="332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F S[i] 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or 0 ≤ j ≤ m O[i][j] = o[c][j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14640" y="0"/>
            <a:ext cx="2549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ow big is the mode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08360" y="306864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ing imp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54560" y="3789360"/>
            <a:ext cx="3544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mplies(S[i] = c, O[i][0]=o[c][0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mplies(S[i] = c, O[i][m]=o[c][m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91640" y="1989000"/>
            <a:ext cx="2526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ow many of th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straints are th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47840" y="4292640"/>
            <a:ext cx="2549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ow big is the mode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856960" y="3357720"/>
            <a:ext cx="36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ave a look at the p/q constra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614640" y="0"/>
            <a:ext cx="2549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ow big is the mode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83920" y="0"/>
            <a:ext cx="2286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wo models link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05720" y="3236760"/>
            <a:ext cx="36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ne has S, a sequence of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95640" y="4389480"/>
            <a:ext cx="546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other has an array of cars allocated 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440" y="6491160"/>
            <a:ext cx="37544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s might allow better heu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789320" y="0"/>
            <a:ext cx="14090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hann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000680" y="292428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es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647040" y="0"/>
            <a:ext cx="2466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ow to certify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96560" y="172548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ndard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09520" y="306864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Certificat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419240" y="0"/>
            <a:ext cx="1746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asy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62640" y="1652760"/>
            <a:ext cx="42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have a directory of easy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19880" y="3357720"/>
            <a:ext cx="26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ow were these mad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86040" y="4749840"/>
            <a:ext cx="36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y do we need easy problem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3240"/>
            <a:ext cx="8569080" cy="6854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87280" y="2276640"/>
            <a:ext cx="6985080" cy="1008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876440" y="0"/>
            <a:ext cx="12459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u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35640" y="1725480"/>
            <a:ext cx="55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Variable ord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hoose time slot that can accept least classes (sd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88840" y="2949480"/>
            <a:ext cx="565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lue ord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at class should we put in that sl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class with least op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class where product of (nonzero) options is l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class of least dema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042920" y="4076640"/>
            <a:ext cx="7345440" cy="20890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10:08:06Z</dcterms:created>
  <dc:creator>pat</dc:creator>
  <dc:description/>
  <dc:language>en-US</dc:language>
  <cp:lastModifiedBy>pat</cp:lastModifiedBy>
  <dcterms:modified xsi:type="dcterms:W3CDTF">2009-11-06T11:38:15Z</dcterms:modified>
  <cp:revision>19</cp:revision>
  <dc:subject/>
  <dc:title>Car Sequencing Problem</dc:title>
</cp:coreProperties>
</file>