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6528-F53B-404D-8E03-922A42E81DD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A81B-5187-4A86-9696-ABD1A57D051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DF7A-C1E9-4B82-AD39-F201EC28C4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7320" cy="342576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ED75-1DBE-4766-AEF5-4BB292D6A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3217-91C3-499B-AB87-D10EA07B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A3CA-8509-4A52-B33F-B9F391F19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CE13-ED95-4E0D-BA3D-9C9D882F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2EBC-95B6-4127-BB94-07409FC63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6366-B041-42DB-AF63-6F463383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788-4221-4AEC-93DB-61E2565D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9AD1-3B2C-4E9A-821C-B5CB52B9E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02ED-105F-46E0-9D52-00AF90AB2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83F4-4DE7-462B-9CAE-321E91E54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4E7C-D508-4034-8864-48207880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00DB-77B3-4271-A0AE-86C090C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EFD4-625C-4707-B3EF-B0BA00AA48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13"/>
          <p:cNvSpPr/>
          <p:nvPr/>
        </p:nvSpPr>
        <p:spPr>
          <a:xfrm>
            <a:off x="3635280" y="21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Line 14"/>
          <p:cNvSpPr/>
          <p:nvPr/>
        </p:nvSpPr>
        <p:spPr>
          <a:xfrm>
            <a:off x="363528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3635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1979640" y="321300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Line 17"/>
          <p:cNvSpPr/>
          <p:nvPr/>
        </p:nvSpPr>
        <p:spPr>
          <a:xfrm flipV="1">
            <a:off x="1979640" y="206028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97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Oval 5"/>
          <p:cNvSpPr/>
          <p:nvPr/>
        </p:nvSpPr>
        <p:spPr>
          <a:xfrm>
            <a:off x="1547640" y="2781360"/>
            <a:ext cx="792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Line 19"/>
          <p:cNvSpPr/>
          <p:nvPr/>
        </p:nvSpPr>
        <p:spPr>
          <a:xfrm>
            <a:off x="320364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Line 20"/>
          <p:cNvSpPr/>
          <p:nvPr/>
        </p:nvSpPr>
        <p:spPr>
          <a:xfrm>
            <a:off x="3203640" y="2060640"/>
            <a:ext cx="172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Line 21"/>
          <p:cNvSpPr/>
          <p:nvPr/>
        </p:nvSpPr>
        <p:spPr>
          <a:xfrm flipV="1">
            <a:off x="3203640" y="3212640"/>
            <a:ext cx="17287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Line 22"/>
          <p:cNvSpPr/>
          <p:nvPr/>
        </p:nvSpPr>
        <p:spPr>
          <a:xfrm flipV="1">
            <a:off x="5003640" y="206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Line 24"/>
          <p:cNvSpPr/>
          <p:nvPr/>
        </p:nvSpPr>
        <p:spPr>
          <a:xfrm flipV="1">
            <a:off x="3203640" y="2060280"/>
            <a:ext cx="180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932360" y="32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Line 26"/>
          <p:cNvSpPr/>
          <p:nvPr/>
        </p:nvSpPr>
        <p:spPr>
          <a:xfrm flipH="1" flipV="1">
            <a:off x="5003640" y="2060280"/>
            <a:ext cx="14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Line 27"/>
          <p:cNvSpPr/>
          <p:nvPr/>
        </p:nvSpPr>
        <p:spPr>
          <a:xfrm flipH="1">
            <a:off x="500364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Oval 6"/>
          <p:cNvSpPr/>
          <p:nvPr/>
        </p:nvSpPr>
        <p:spPr>
          <a:xfrm>
            <a:off x="2843280" y="4005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Oval 12"/>
          <p:cNvSpPr/>
          <p:nvPr/>
        </p:nvSpPr>
        <p:spPr>
          <a:xfrm>
            <a:off x="601200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Oval 10"/>
          <p:cNvSpPr/>
          <p:nvPr/>
        </p:nvSpPr>
        <p:spPr>
          <a:xfrm>
            <a:off x="457200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Line 23"/>
          <p:cNvSpPr/>
          <p:nvPr/>
        </p:nvSpPr>
        <p:spPr>
          <a:xfrm flipH="1" flipV="1">
            <a:off x="3203640" y="3213000"/>
            <a:ext cx="180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Oval 7"/>
          <p:cNvSpPr/>
          <p:nvPr/>
        </p:nvSpPr>
        <p:spPr>
          <a:xfrm>
            <a:off x="284328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Oval 11"/>
          <p:cNvSpPr/>
          <p:nvPr/>
        </p:nvSpPr>
        <p:spPr>
          <a:xfrm>
            <a:off x="4572000" y="170028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Oval 8"/>
          <p:cNvSpPr/>
          <p:nvPr/>
        </p:nvSpPr>
        <p:spPr>
          <a:xfrm>
            <a:off x="2843280" y="170028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Oval 9"/>
          <p:cNvSpPr/>
          <p:nvPr/>
        </p:nvSpPr>
        <p:spPr>
          <a:xfrm>
            <a:off x="4572000" y="4005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1549440" y="5805360"/>
            <a:ext cx="60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t a different number in each circle (1 to 8)  su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adjacent circles cannot take consecutive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276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284" name="AutoShape 12"/>
            <p:cNvCxnSpPr>
              <a:stCxn id="283" idx="7"/>
              <a:endCxn id="276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85" name="AutoShape 13"/>
            <p:cNvCxnSpPr>
              <a:stCxn id="283" idx="6"/>
              <a:endCxn id="277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86" name="AutoShape 14"/>
            <p:cNvCxnSpPr>
              <a:stCxn id="281" idx="6"/>
              <a:endCxn id="282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87" name="AutoShape 15"/>
            <p:cNvCxnSpPr>
              <a:stCxn id="279" idx="6"/>
              <a:endCxn id="282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88" name="AutoShape 16"/>
            <p:cNvCxnSpPr>
              <a:stCxn id="277" idx="6"/>
              <a:endCxn id="280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89" name="AutoShape 17"/>
            <p:cNvCxnSpPr>
              <a:endCxn id="280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0" name="AutoShape 18"/>
            <p:cNvCxnSpPr>
              <a:stCxn id="276" idx="6"/>
              <a:endCxn id="279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1" name="AutoShape 19"/>
            <p:cNvCxnSpPr>
              <a:stCxn id="277" idx="6"/>
              <a:endCxn id="279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2" name="AutoShape 20"/>
            <p:cNvCxnSpPr>
              <a:stCxn id="278" idx="6"/>
              <a:endCxn id="281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3" name="AutoShape 21"/>
            <p:cNvCxnSpPr>
              <a:stCxn id="280" idx="6"/>
              <a:endCxn id="282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4" name="AutoShape 22"/>
            <p:cNvCxnSpPr>
              <a:stCxn id="283" idx="5"/>
              <a:endCxn id="278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5" name="AutoShape 23"/>
            <p:cNvCxnSpPr>
              <a:stCxn id="280" idx="2"/>
              <a:endCxn id="276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6" name="AutoShape 24"/>
            <p:cNvCxnSpPr>
              <a:stCxn id="281" idx="2"/>
              <a:endCxn id="277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7" name="AutoShape 25"/>
            <p:cNvCxnSpPr>
              <a:stCxn id="280" idx="0"/>
              <a:endCxn id="279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8" name="AutoShape 26"/>
            <p:cNvCxnSpPr>
              <a:stCxn id="281" idx="0"/>
              <a:endCxn id="280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99" name="AutoShape 27"/>
            <p:cNvCxnSpPr>
              <a:stCxn id="278" idx="0"/>
              <a:endCxn id="277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00" name="AutoShape 28"/>
            <p:cNvCxnSpPr>
              <a:stCxn id="277" idx="0"/>
              <a:endCxn id="276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301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30"/>
          <p:cNvSpPr/>
          <p:nvPr/>
        </p:nvSpPr>
        <p:spPr>
          <a:xfrm>
            <a:off x="2439720" y="1676520"/>
            <a:ext cx="22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2,3,4,5,6,7,8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305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6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7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8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12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313" name="AutoShape 12"/>
            <p:cNvCxnSpPr>
              <a:stCxn id="312" idx="7"/>
              <a:endCxn id="305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4" name="AutoShape 13"/>
            <p:cNvCxnSpPr>
              <a:stCxn id="312" idx="6"/>
              <a:endCxn id="306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5" name="AutoShape 14"/>
            <p:cNvCxnSpPr>
              <a:stCxn id="310" idx="6"/>
              <a:endCxn id="311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6" name="AutoShape 15"/>
            <p:cNvCxnSpPr>
              <a:stCxn id="308" idx="6"/>
              <a:endCxn id="311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7" name="AutoShape 16"/>
            <p:cNvCxnSpPr>
              <a:stCxn id="306" idx="6"/>
              <a:endCxn id="309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8" name="AutoShape 17"/>
            <p:cNvCxnSpPr>
              <a:endCxn id="309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19" name="AutoShape 18"/>
            <p:cNvCxnSpPr>
              <a:stCxn id="305" idx="6"/>
              <a:endCxn id="308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0" name="AutoShape 19"/>
            <p:cNvCxnSpPr>
              <a:stCxn id="306" idx="6"/>
              <a:endCxn id="308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1" name="AutoShape 20"/>
            <p:cNvCxnSpPr>
              <a:stCxn id="307" idx="6"/>
              <a:endCxn id="310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2" name="AutoShape 21"/>
            <p:cNvCxnSpPr>
              <a:stCxn id="309" idx="6"/>
              <a:endCxn id="311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3" name="AutoShape 22"/>
            <p:cNvCxnSpPr>
              <a:stCxn id="312" idx="5"/>
              <a:endCxn id="307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4" name="AutoShape 23"/>
            <p:cNvCxnSpPr>
              <a:stCxn id="309" idx="2"/>
              <a:endCxn id="305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5" name="AutoShape 24"/>
            <p:cNvCxnSpPr>
              <a:stCxn id="310" idx="2"/>
              <a:endCxn id="306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6" name="AutoShape 25"/>
            <p:cNvCxnSpPr>
              <a:stCxn id="309" idx="0"/>
              <a:endCxn id="308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7" name="AutoShape 26"/>
            <p:cNvCxnSpPr>
              <a:stCxn id="310" idx="0"/>
              <a:endCxn id="309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8" name="AutoShape 27"/>
            <p:cNvCxnSpPr>
              <a:stCxn id="307" idx="0"/>
              <a:endCxn id="306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29" name="AutoShape 28"/>
            <p:cNvCxnSpPr>
              <a:stCxn id="306" idx="0"/>
              <a:endCxn id="305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330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Text Box 30"/>
          <p:cNvSpPr/>
          <p:nvPr/>
        </p:nvSpPr>
        <p:spPr>
          <a:xfrm>
            <a:off x="2666880" y="1660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1447920" y="2286000"/>
            <a:ext cx="6290640" cy="3317040"/>
            <a:chOff x="1447920" y="2286000"/>
            <a:chExt cx="6290640" cy="3317040"/>
          </a:xfrm>
        </p:grpSpPr>
        <p:sp>
          <p:nvSpPr>
            <p:cNvPr id="334" name="Oval 4"/>
            <p:cNvSpPr/>
            <p:nvPr/>
          </p:nvSpPr>
          <p:spPr>
            <a:xfrm>
              <a:off x="3163320" y="2286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5"/>
            <p:cNvSpPr/>
            <p:nvPr/>
          </p:nvSpPr>
          <p:spPr>
            <a:xfrm>
              <a:off x="31633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6"/>
            <p:cNvSpPr/>
            <p:nvPr/>
          </p:nvSpPr>
          <p:spPr>
            <a:xfrm>
              <a:off x="3163320" y="48027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7"/>
            <p:cNvSpPr/>
            <p:nvPr/>
          </p:nvSpPr>
          <p:spPr>
            <a:xfrm>
              <a:off x="5222160" y="2286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Oval 8"/>
            <p:cNvSpPr/>
            <p:nvPr/>
          </p:nvSpPr>
          <p:spPr>
            <a:xfrm>
              <a:off x="522216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Oval 9"/>
            <p:cNvSpPr/>
            <p:nvPr/>
          </p:nvSpPr>
          <p:spPr>
            <a:xfrm>
              <a:off x="5222160" y="48027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Oval 10"/>
            <p:cNvSpPr/>
            <p:nvPr/>
          </p:nvSpPr>
          <p:spPr>
            <a:xfrm>
              <a:off x="69379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Oval 11"/>
            <p:cNvSpPr/>
            <p:nvPr/>
          </p:nvSpPr>
          <p:spPr>
            <a:xfrm>
              <a:off x="14479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342" name="AutoShape 12"/>
            <p:cNvCxnSpPr>
              <a:stCxn id="341" idx="7"/>
              <a:endCxn id="334" idx="2"/>
            </p:cNvCxnSpPr>
            <p:nvPr/>
          </p:nvCxnSpPr>
          <p:spPr>
            <a:xfrm flipV="1">
              <a:off x="2131560" y="26856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3" name="AutoShape 13"/>
            <p:cNvCxnSpPr>
              <a:stCxn id="341" idx="6"/>
              <a:endCxn id="335" idx="2"/>
            </p:cNvCxnSpPr>
            <p:nvPr/>
          </p:nvCxnSpPr>
          <p:spPr>
            <a:xfrm>
              <a:off x="227736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4" name="AutoShape 14"/>
            <p:cNvCxnSpPr>
              <a:stCxn id="339" idx="6"/>
              <a:endCxn id="340" idx="3"/>
            </p:cNvCxnSpPr>
            <p:nvPr/>
          </p:nvCxnSpPr>
          <p:spPr>
            <a:xfrm flipV="1">
              <a:off x="6051240" y="42566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5" name="AutoShape 15"/>
            <p:cNvCxnSpPr>
              <a:stCxn id="337" idx="6"/>
              <a:endCxn id="340" idx="1"/>
            </p:cNvCxnSpPr>
            <p:nvPr/>
          </p:nvCxnSpPr>
          <p:spPr>
            <a:xfrm>
              <a:off x="6051240" y="26859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6" name="AutoShape 16"/>
            <p:cNvCxnSpPr>
              <a:stCxn id="335" idx="6"/>
              <a:endCxn id="338" idx="2"/>
            </p:cNvCxnSpPr>
            <p:nvPr/>
          </p:nvCxnSpPr>
          <p:spPr>
            <a:xfrm>
              <a:off x="3992400" y="39441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7" name="AutoShape 17"/>
            <p:cNvCxnSpPr>
              <a:endCxn id="338" idx="2"/>
            </p:cNvCxnSpPr>
            <p:nvPr/>
          </p:nvCxnSpPr>
          <p:spPr>
            <a:xfrm flipV="1">
              <a:off x="399240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8" name="AutoShape 18"/>
            <p:cNvCxnSpPr>
              <a:stCxn id="334" idx="6"/>
              <a:endCxn id="337" idx="2"/>
            </p:cNvCxnSpPr>
            <p:nvPr/>
          </p:nvCxnSpPr>
          <p:spPr>
            <a:xfrm>
              <a:off x="3992400" y="26859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49" name="AutoShape 19"/>
            <p:cNvCxnSpPr>
              <a:stCxn id="335" idx="6"/>
              <a:endCxn id="337" idx="2"/>
            </p:cNvCxnSpPr>
            <p:nvPr/>
          </p:nvCxnSpPr>
          <p:spPr>
            <a:xfrm flipV="1">
              <a:off x="399240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0" name="AutoShape 20"/>
            <p:cNvCxnSpPr>
              <a:stCxn id="336" idx="6"/>
              <a:endCxn id="339" idx="2"/>
            </p:cNvCxnSpPr>
            <p:nvPr/>
          </p:nvCxnSpPr>
          <p:spPr>
            <a:xfrm>
              <a:off x="3992400" y="52030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1" name="AutoShape 21"/>
            <p:cNvCxnSpPr>
              <a:stCxn id="338" idx="6"/>
              <a:endCxn id="340" idx="2"/>
            </p:cNvCxnSpPr>
            <p:nvPr/>
          </p:nvCxnSpPr>
          <p:spPr>
            <a:xfrm>
              <a:off x="605160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2" name="AutoShape 22"/>
            <p:cNvCxnSpPr>
              <a:stCxn id="341" idx="5"/>
              <a:endCxn id="336" idx="2"/>
            </p:cNvCxnSpPr>
            <p:nvPr/>
          </p:nvCxnSpPr>
          <p:spPr>
            <a:xfrm>
              <a:off x="2131560" y="42570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3" name="AutoShape 23"/>
            <p:cNvCxnSpPr>
              <a:stCxn id="338" idx="2"/>
              <a:endCxn id="334" idx="6"/>
            </p:cNvCxnSpPr>
            <p:nvPr/>
          </p:nvCxnSpPr>
          <p:spPr>
            <a:xfrm flipH="1" flipV="1">
              <a:off x="399204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4" name="AutoShape 24"/>
            <p:cNvCxnSpPr>
              <a:stCxn id="339" idx="2"/>
              <a:endCxn id="335" idx="6"/>
            </p:cNvCxnSpPr>
            <p:nvPr/>
          </p:nvCxnSpPr>
          <p:spPr>
            <a:xfrm flipH="1" flipV="1">
              <a:off x="399204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5" name="AutoShape 25"/>
            <p:cNvCxnSpPr>
              <a:stCxn id="338" idx="0"/>
              <a:endCxn id="337" idx="4"/>
            </p:cNvCxnSpPr>
            <p:nvPr/>
          </p:nvCxnSpPr>
          <p:spPr>
            <a:xfrm flipV="1">
              <a:off x="562212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6" name="AutoShape 26"/>
            <p:cNvCxnSpPr>
              <a:stCxn id="339" idx="0"/>
              <a:endCxn id="338" idx="4"/>
            </p:cNvCxnSpPr>
            <p:nvPr/>
          </p:nvCxnSpPr>
          <p:spPr>
            <a:xfrm flipV="1">
              <a:off x="562212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7" name="AutoShape 27"/>
            <p:cNvCxnSpPr>
              <a:stCxn id="336" idx="0"/>
              <a:endCxn id="335" idx="4"/>
            </p:cNvCxnSpPr>
            <p:nvPr/>
          </p:nvCxnSpPr>
          <p:spPr>
            <a:xfrm flipV="1">
              <a:off x="356328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58" name="AutoShape 28"/>
            <p:cNvCxnSpPr>
              <a:stCxn id="335" idx="0"/>
              <a:endCxn id="334" idx="4"/>
            </p:cNvCxnSpPr>
            <p:nvPr/>
          </p:nvCxnSpPr>
          <p:spPr>
            <a:xfrm flipV="1">
              <a:off x="356328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359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363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371" name="AutoShape 12"/>
            <p:cNvCxnSpPr>
              <a:stCxn id="370" idx="7"/>
              <a:endCxn id="363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2" name="AutoShape 13"/>
            <p:cNvCxnSpPr>
              <a:stCxn id="370" idx="6"/>
              <a:endCxn id="364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3" name="AutoShape 14"/>
            <p:cNvCxnSpPr>
              <a:stCxn id="368" idx="6"/>
              <a:endCxn id="369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4" name="AutoShape 15"/>
            <p:cNvCxnSpPr>
              <a:stCxn id="366" idx="6"/>
              <a:endCxn id="369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5" name="AutoShape 16"/>
            <p:cNvCxnSpPr>
              <a:stCxn id="364" idx="6"/>
              <a:endCxn id="367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6" name="AutoShape 17"/>
            <p:cNvCxnSpPr>
              <a:endCxn id="367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7" name="AutoShape 18"/>
            <p:cNvCxnSpPr>
              <a:stCxn id="363" idx="6"/>
              <a:endCxn id="366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8" name="AutoShape 19"/>
            <p:cNvCxnSpPr>
              <a:stCxn id="364" idx="6"/>
              <a:endCxn id="366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79" name="AutoShape 20"/>
            <p:cNvCxnSpPr>
              <a:stCxn id="365" idx="6"/>
              <a:endCxn id="368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0" name="AutoShape 21"/>
            <p:cNvCxnSpPr>
              <a:stCxn id="367" idx="6"/>
              <a:endCxn id="369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1" name="AutoShape 22"/>
            <p:cNvCxnSpPr>
              <a:stCxn id="370" idx="5"/>
              <a:endCxn id="365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2" name="AutoShape 23"/>
            <p:cNvCxnSpPr>
              <a:stCxn id="367" idx="2"/>
              <a:endCxn id="363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3" name="AutoShape 24"/>
            <p:cNvCxnSpPr>
              <a:stCxn id="368" idx="2"/>
              <a:endCxn id="364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4" name="AutoShape 25"/>
            <p:cNvCxnSpPr>
              <a:stCxn id="367" idx="0"/>
              <a:endCxn id="366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5" name="AutoShape 26"/>
            <p:cNvCxnSpPr>
              <a:stCxn id="368" idx="0"/>
              <a:endCxn id="367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6" name="AutoShape 27"/>
            <p:cNvCxnSpPr>
              <a:stCxn id="365" idx="0"/>
              <a:endCxn id="364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387" name="AutoShape 28"/>
            <p:cNvCxnSpPr>
              <a:stCxn id="364" idx="0"/>
              <a:endCxn id="363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388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Text Box 31"/>
          <p:cNvSpPr/>
          <p:nvPr/>
        </p:nvSpPr>
        <p:spPr>
          <a:xfrm>
            <a:off x="670320" y="615636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ymm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394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7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8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9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0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01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402" name="AutoShape 12"/>
            <p:cNvCxnSpPr>
              <a:stCxn id="401" idx="7"/>
              <a:endCxn id="394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3" name="AutoShape 13"/>
            <p:cNvCxnSpPr>
              <a:stCxn id="401" idx="6"/>
              <a:endCxn id="395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4" name="AutoShape 14"/>
            <p:cNvCxnSpPr>
              <a:stCxn id="399" idx="6"/>
              <a:endCxn id="400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5" name="AutoShape 15"/>
            <p:cNvCxnSpPr>
              <a:stCxn id="397" idx="6"/>
              <a:endCxn id="400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6" name="AutoShape 16"/>
            <p:cNvCxnSpPr>
              <a:stCxn id="395" idx="6"/>
              <a:endCxn id="398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7" name="AutoShape 17"/>
            <p:cNvCxnSpPr>
              <a:endCxn id="398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8" name="AutoShape 18"/>
            <p:cNvCxnSpPr>
              <a:stCxn id="394" idx="6"/>
              <a:endCxn id="397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09" name="AutoShape 19"/>
            <p:cNvCxnSpPr>
              <a:stCxn id="395" idx="6"/>
              <a:endCxn id="397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0" name="AutoShape 20"/>
            <p:cNvCxnSpPr>
              <a:stCxn id="396" idx="6"/>
              <a:endCxn id="399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1" name="AutoShape 21"/>
            <p:cNvCxnSpPr>
              <a:stCxn id="398" idx="6"/>
              <a:endCxn id="400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2" name="AutoShape 22"/>
            <p:cNvCxnSpPr>
              <a:stCxn id="401" idx="5"/>
              <a:endCxn id="396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3" name="AutoShape 23"/>
            <p:cNvCxnSpPr>
              <a:stCxn id="398" idx="2"/>
              <a:endCxn id="394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4" name="AutoShape 24"/>
            <p:cNvCxnSpPr>
              <a:stCxn id="399" idx="2"/>
              <a:endCxn id="395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5" name="AutoShape 25"/>
            <p:cNvCxnSpPr>
              <a:stCxn id="398" idx="0"/>
              <a:endCxn id="397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6" name="AutoShape 26"/>
            <p:cNvCxnSpPr>
              <a:stCxn id="399" idx="0"/>
              <a:endCxn id="398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7" name="AutoShape 27"/>
            <p:cNvCxnSpPr>
              <a:stCxn id="396" idx="0"/>
              <a:endCxn id="395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18" name="AutoShape 28"/>
            <p:cNvCxnSpPr>
              <a:stCxn id="395" idx="0"/>
              <a:endCxn id="394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419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Text Box 31"/>
          <p:cNvSpPr/>
          <p:nvPr/>
        </p:nvSpPr>
        <p:spPr>
          <a:xfrm>
            <a:off x="669960" y="615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4495680" y="166068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1,2,3,4,5,6,7,8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426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8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29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0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1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2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3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434" name="AutoShape 12"/>
            <p:cNvCxnSpPr>
              <a:stCxn id="433" idx="7"/>
              <a:endCxn id="426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35" name="AutoShape 13"/>
            <p:cNvCxnSpPr>
              <a:stCxn id="433" idx="6"/>
              <a:endCxn id="427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36" name="AutoShape 14"/>
            <p:cNvCxnSpPr>
              <a:stCxn id="431" idx="6"/>
              <a:endCxn id="432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37" name="AutoShape 15"/>
            <p:cNvCxnSpPr>
              <a:stCxn id="429" idx="6"/>
              <a:endCxn id="432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38" name="AutoShape 16"/>
            <p:cNvCxnSpPr>
              <a:stCxn id="427" idx="6"/>
              <a:endCxn id="430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39" name="AutoShape 17"/>
            <p:cNvCxnSpPr>
              <a:endCxn id="430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0" name="AutoShape 18"/>
            <p:cNvCxnSpPr>
              <a:stCxn id="426" idx="6"/>
              <a:endCxn id="429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1" name="AutoShape 19"/>
            <p:cNvCxnSpPr>
              <a:stCxn id="427" idx="6"/>
              <a:endCxn id="429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2" name="AutoShape 20"/>
            <p:cNvCxnSpPr>
              <a:stCxn id="428" idx="6"/>
              <a:endCxn id="431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3" name="AutoShape 21"/>
            <p:cNvCxnSpPr>
              <a:stCxn id="430" idx="6"/>
              <a:endCxn id="432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4" name="AutoShape 22"/>
            <p:cNvCxnSpPr>
              <a:stCxn id="433" idx="5"/>
              <a:endCxn id="428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5" name="AutoShape 23"/>
            <p:cNvCxnSpPr>
              <a:stCxn id="430" idx="2"/>
              <a:endCxn id="426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6" name="AutoShape 24"/>
            <p:cNvCxnSpPr>
              <a:stCxn id="431" idx="2"/>
              <a:endCxn id="427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7" name="AutoShape 25"/>
            <p:cNvCxnSpPr>
              <a:stCxn id="430" idx="0"/>
              <a:endCxn id="429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8" name="AutoShape 26"/>
            <p:cNvCxnSpPr>
              <a:stCxn id="431" idx="0"/>
              <a:endCxn id="430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49" name="AutoShape 27"/>
            <p:cNvCxnSpPr>
              <a:stCxn id="428" idx="0"/>
              <a:endCxn id="427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50" name="AutoShape 28"/>
            <p:cNvCxnSpPr>
              <a:stCxn id="427" idx="0"/>
              <a:endCxn id="426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451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Text Box 31"/>
          <p:cNvSpPr/>
          <p:nvPr/>
        </p:nvSpPr>
        <p:spPr>
          <a:xfrm>
            <a:off x="669960" y="615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Text Box 33"/>
          <p:cNvSpPr/>
          <p:nvPr/>
        </p:nvSpPr>
        <p:spPr>
          <a:xfrm>
            <a:off x="4800600" y="1660680"/>
            <a:ext cx="23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458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9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0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1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2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3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4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5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466" name="AutoShape 12"/>
            <p:cNvCxnSpPr>
              <a:stCxn id="465" idx="7"/>
              <a:endCxn id="458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67" name="AutoShape 13"/>
            <p:cNvCxnSpPr>
              <a:stCxn id="465" idx="6"/>
              <a:endCxn id="459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68" name="AutoShape 14"/>
            <p:cNvCxnSpPr>
              <a:stCxn id="463" idx="6"/>
              <a:endCxn id="464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69" name="AutoShape 15"/>
            <p:cNvCxnSpPr>
              <a:stCxn id="461" idx="6"/>
              <a:endCxn id="464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0" name="AutoShape 16"/>
            <p:cNvCxnSpPr>
              <a:stCxn id="459" idx="6"/>
              <a:endCxn id="462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1" name="AutoShape 17"/>
            <p:cNvCxnSpPr>
              <a:endCxn id="462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2" name="AutoShape 18"/>
            <p:cNvCxnSpPr>
              <a:stCxn id="458" idx="6"/>
              <a:endCxn id="461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3" name="AutoShape 19"/>
            <p:cNvCxnSpPr>
              <a:stCxn id="459" idx="6"/>
              <a:endCxn id="461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4" name="AutoShape 20"/>
            <p:cNvCxnSpPr>
              <a:stCxn id="460" idx="6"/>
              <a:endCxn id="463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5" name="AutoShape 21"/>
            <p:cNvCxnSpPr>
              <a:stCxn id="462" idx="6"/>
              <a:endCxn id="464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6" name="AutoShape 22"/>
            <p:cNvCxnSpPr>
              <a:stCxn id="465" idx="5"/>
              <a:endCxn id="460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7" name="AutoShape 23"/>
            <p:cNvCxnSpPr>
              <a:stCxn id="462" idx="2"/>
              <a:endCxn id="458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8" name="AutoShape 24"/>
            <p:cNvCxnSpPr>
              <a:stCxn id="463" idx="2"/>
              <a:endCxn id="459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79" name="AutoShape 25"/>
            <p:cNvCxnSpPr>
              <a:stCxn id="462" idx="0"/>
              <a:endCxn id="461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80" name="AutoShape 26"/>
            <p:cNvCxnSpPr>
              <a:stCxn id="463" idx="0"/>
              <a:endCxn id="462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81" name="AutoShape 27"/>
            <p:cNvCxnSpPr>
              <a:stCxn id="460" idx="0"/>
              <a:endCxn id="459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82" name="AutoShape 28"/>
            <p:cNvCxnSpPr>
              <a:stCxn id="459" idx="0"/>
              <a:endCxn id="458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483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Text Box 31"/>
          <p:cNvSpPr/>
          <p:nvPr/>
        </p:nvSpPr>
        <p:spPr>
          <a:xfrm>
            <a:off x="669960" y="615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490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1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2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3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4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5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6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7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498" name="AutoShape 12"/>
            <p:cNvCxnSpPr>
              <a:stCxn id="497" idx="7"/>
              <a:endCxn id="490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499" name="AutoShape 13"/>
            <p:cNvCxnSpPr>
              <a:stCxn id="497" idx="6"/>
              <a:endCxn id="491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0" name="AutoShape 14"/>
            <p:cNvCxnSpPr>
              <a:stCxn id="495" idx="6"/>
              <a:endCxn id="496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1" name="AutoShape 15"/>
            <p:cNvCxnSpPr>
              <a:stCxn id="493" idx="6"/>
              <a:endCxn id="496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2" name="AutoShape 16"/>
            <p:cNvCxnSpPr>
              <a:stCxn id="491" idx="6"/>
              <a:endCxn id="494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3" name="AutoShape 17"/>
            <p:cNvCxnSpPr>
              <a:endCxn id="494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4" name="AutoShape 18"/>
            <p:cNvCxnSpPr>
              <a:stCxn id="490" idx="6"/>
              <a:endCxn id="493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5" name="AutoShape 19"/>
            <p:cNvCxnSpPr>
              <a:stCxn id="491" idx="6"/>
              <a:endCxn id="493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6" name="AutoShape 20"/>
            <p:cNvCxnSpPr>
              <a:stCxn id="492" idx="6"/>
              <a:endCxn id="495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7" name="AutoShape 21"/>
            <p:cNvCxnSpPr>
              <a:stCxn id="494" idx="6"/>
              <a:endCxn id="496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8" name="AutoShape 22"/>
            <p:cNvCxnSpPr>
              <a:stCxn id="497" idx="5"/>
              <a:endCxn id="492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09" name="AutoShape 23"/>
            <p:cNvCxnSpPr>
              <a:stCxn id="494" idx="2"/>
              <a:endCxn id="490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10" name="AutoShape 24"/>
            <p:cNvCxnSpPr>
              <a:stCxn id="495" idx="2"/>
              <a:endCxn id="491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11" name="AutoShape 25"/>
            <p:cNvCxnSpPr>
              <a:stCxn id="494" idx="0"/>
              <a:endCxn id="493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12" name="AutoShape 26"/>
            <p:cNvCxnSpPr>
              <a:stCxn id="495" idx="0"/>
              <a:endCxn id="494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13" name="AutoShape 27"/>
            <p:cNvCxnSpPr>
              <a:stCxn id="492" idx="0"/>
              <a:endCxn id="491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14" name="AutoShape 28"/>
            <p:cNvCxnSpPr>
              <a:stCxn id="491" idx="0"/>
              <a:endCxn id="490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515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Text Box 31"/>
          <p:cNvSpPr/>
          <p:nvPr/>
        </p:nvSpPr>
        <p:spPr>
          <a:xfrm>
            <a:off x="670320" y="615636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symmet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Text Box 34"/>
          <p:cNvSpPr/>
          <p:nvPr/>
        </p:nvSpPr>
        <p:spPr>
          <a:xfrm>
            <a:off x="5030640" y="55627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523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4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5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6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7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8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9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0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531" name="AutoShape 12"/>
            <p:cNvCxnSpPr>
              <a:stCxn id="530" idx="7"/>
              <a:endCxn id="523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2" name="AutoShape 13"/>
            <p:cNvCxnSpPr>
              <a:stCxn id="530" idx="6"/>
              <a:endCxn id="524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3" name="AutoShape 14"/>
            <p:cNvCxnSpPr>
              <a:stCxn id="528" idx="6"/>
              <a:endCxn id="529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4" name="AutoShape 15"/>
            <p:cNvCxnSpPr>
              <a:stCxn id="526" idx="6"/>
              <a:endCxn id="529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5" name="AutoShape 16"/>
            <p:cNvCxnSpPr>
              <a:stCxn id="524" idx="6"/>
              <a:endCxn id="527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6" name="AutoShape 17"/>
            <p:cNvCxnSpPr>
              <a:endCxn id="527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7" name="AutoShape 18"/>
            <p:cNvCxnSpPr>
              <a:stCxn id="523" idx="6"/>
              <a:endCxn id="526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8" name="AutoShape 19"/>
            <p:cNvCxnSpPr>
              <a:stCxn id="524" idx="6"/>
              <a:endCxn id="526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39" name="AutoShape 20"/>
            <p:cNvCxnSpPr>
              <a:stCxn id="525" idx="6"/>
              <a:endCxn id="528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0" name="AutoShape 21"/>
            <p:cNvCxnSpPr>
              <a:stCxn id="527" idx="6"/>
              <a:endCxn id="529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1" name="AutoShape 22"/>
            <p:cNvCxnSpPr>
              <a:stCxn id="530" idx="5"/>
              <a:endCxn id="525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2" name="AutoShape 23"/>
            <p:cNvCxnSpPr>
              <a:stCxn id="527" idx="2"/>
              <a:endCxn id="523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3" name="AutoShape 24"/>
            <p:cNvCxnSpPr>
              <a:stCxn id="528" idx="2"/>
              <a:endCxn id="524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4" name="AutoShape 25"/>
            <p:cNvCxnSpPr>
              <a:stCxn id="527" idx="0"/>
              <a:endCxn id="526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5" name="AutoShape 26"/>
            <p:cNvCxnSpPr>
              <a:stCxn id="528" idx="0"/>
              <a:endCxn id="527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6" name="AutoShape 27"/>
            <p:cNvCxnSpPr>
              <a:stCxn id="525" idx="0"/>
              <a:endCxn id="524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47" name="AutoShape 28"/>
            <p:cNvCxnSpPr>
              <a:stCxn id="524" idx="0"/>
              <a:endCxn id="523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548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Text Box 31"/>
          <p:cNvSpPr/>
          <p:nvPr/>
        </p:nvSpPr>
        <p:spPr>
          <a:xfrm>
            <a:off x="687240" y="4419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Text Box 34"/>
          <p:cNvSpPr/>
          <p:nvPr/>
        </p:nvSpPr>
        <p:spPr>
          <a:xfrm>
            <a:off x="5030640" y="55627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Text Box 35"/>
          <p:cNvSpPr/>
          <p:nvPr/>
        </p:nvSpPr>
        <p:spPr>
          <a:xfrm>
            <a:off x="6919920" y="440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557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8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9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0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1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2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3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4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565" name="AutoShape 12"/>
            <p:cNvCxnSpPr>
              <a:stCxn id="564" idx="7"/>
              <a:endCxn id="557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66" name="AutoShape 13"/>
            <p:cNvCxnSpPr>
              <a:stCxn id="564" idx="6"/>
              <a:endCxn id="558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67" name="AutoShape 14"/>
            <p:cNvCxnSpPr>
              <a:stCxn id="562" idx="6"/>
              <a:endCxn id="563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68" name="AutoShape 15"/>
            <p:cNvCxnSpPr>
              <a:stCxn id="560" idx="6"/>
              <a:endCxn id="563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69" name="AutoShape 16"/>
            <p:cNvCxnSpPr>
              <a:stCxn id="558" idx="6"/>
              <a:endCxn id="561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0" name="AutoShape 17"/>
            <p:cNvCxnSpPr>
              <a:endCxn id="561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1" name="AutoShape 18"/>
            <p:cNvCxnSpPr>
              <a:stCxn id="557" idx="6"/>
              <a:endCxn id="560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2" name="AutoShape 19"/>
            <p:cNvCxnSpPr>
              <a:stCxn id="558" idx="6"/>
              <a:endCxn id="560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3" name="AutoShape 20"/>
            <p:cNvCxnSpPr>
              <a:stCxn id="559" idx="6"/>
              <a:endCxn id="562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4" name="AutoShape 21"/>
            <p:cNvCxnSpPr>
              <a:stCxn id="561" idx="6"/>
              <a:endCxn id="563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5" name="AutoShape 22"/>
            <p:cNvCxnSpPr>
              <a:stCxn id="564" idx="5"/>
              <a:endCxn id="559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6" name="AutoShape 23"/>
            <p:cNvCxnSpPr>
              <a:stCxn id="561" idx="2"/>
              <a:endCxn id="557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7" name="AutoShape 24"/>
            <p:cNvCxnSpPr>
              <a:stCxn id="562" idx="2"/>
              <a:endCxn id="558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8" name="AutoShape 25"/>
            <p:cNvCxnSpPr>
              <a:stCxn id="561" idx="0"/>
              <a:endCxn id="560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79" name="AutoShape 26"/>
            <p:cNvCxnSpPr>
              <a:stCxn id="562" idx="0"/>
              <a:endCxn id="561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80" name="AutoShape 27"/>
            <p:cNvCxnSpPr>
              <a:stCxn id="559" idx="0"/>
              <a:endCxn id="558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581" name="AutoShape 28"/>
            <p:cNvCxnSpPr>
              <a:stCxn id="558" idx="0"/>
              <a:endCxn id="557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582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31"/>
          <p:cNvSpPr/>
          <p:nvPr/>
        </p:nvSpPr>
        <p:spPr>
          <a:xfrm>
            <a:off x="687240" y="4419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34"/>
          <p:cNvSpPr/>
          <p:nvPr/>
        </p:nvSpPr>
        <p:spPr>
          <a:xfrm>
            <a:off x="5030640" y="55627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35"/>
          <p:cNvSpPr/>
          <p:nvPr/>
        </p:nvSpPr>
        <p:spPr>
          <a:xfrm>
            <a:off x="6919920" y="440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36"/>
          <p:cNvSpPr/>
          <p:nvPr/>
        </p:nvSpPr>
        <p:spPr>
          <a:xfrm>
            <a:off x="513000" y="6308640"/>
            <a:ext cx="68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2 and 7 are left in just one variable domain ea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1003320" y="1757520"/>
            <a:ext cx="713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traint Programm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Introdu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y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th help from Toby Walsh, Chris Beck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arbara Smith, Peter van Beek, Edward Tsang, 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592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00" name="AutoShape 12"/>
            <p:cNvCxnSpPr>
              <a:stCxn id="599" idx="7"/>
              <a:endCxn id="592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1" name="AutoShape 13"/>
            <p:cNvCxnSpPr>
              <a:stCxn id="599" idx="6"/>
              <a:endCxn id="593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2" name="AutoShape 14"/>
            <p:cNvCxnSpPr>
              <a:stCxn id="597" idx="6"/>
              <a:endCxn id="598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3" name="AutoShape 15"/>
            <p:cNvCxnSpPr>
              <a:stCxn id="595" idx="6"/>
              <a:endCxn id="598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4" name="AutoShape 16"/>
            <p:cNvCxnSpPr>
              <a:stCxn id="593" idx="6"/>
              <a:endCxn id="596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5" name="AutoShape 17"/>
            <p:cNvCxnSpPr>
              <a:endCxn id="596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6" name="AutoShape 18"/>
            <p:cNvCxnSpPr>
              <a:stCxn id="592" idx="6"/>
              <a:endCxn id="595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7" name="AutoShape 19"/>
            <p:cNvCxnSpPr>
              <a:stCxn id="593" idx="6"/>
              <a:endCxn id="595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8" name="AutoShape 20"/>
            <p:cNvCxnSpPr>
              <a:stCxn id="594" idx="6"/>
              <a:endCxn id="597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09" name="AutoShape 21"/>
            <p:cNvCxnSpPr>
              <a:stCxn id="596" idx="6"/>
              <a:endCxn id="598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0" name="AutoShape 22"/>
            <p:cNvCxnSpPr>
              <a:stCxn id="599" idx="5"/>
              <a:endCxn id="594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1" name="AutoShape 23"/>
            <p:cNvCxnSpPr>
              <a:stCxn id="596" idx="2"/>
              <a:endCxn id="592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2" name="AutoShape 24"/>
            <p:cNvCxnSpPr>
              <a:stCxn id="597" idx="2"/>
              <a:endCxn id="593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3" name="AutoShape 25"/>
            <p:cNvCxnSpPr>
              <a:stCxn id="596" idx="0"/>
              <a:endCxn id="595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4" name="AutoShape 26"/>
            <p:cNvCxnSpPr>
              <a:stCxn id="597" idx="0"/>
              <a:endCxn id="596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5" name="AutoShape 27"/>
            <p:cNvCxnSpPr>
              <a:stCxn id="594" idx="0"/>
              <a:endCxn id="593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16" name="AutoShape 28"/>
            <p:cNvCxnSpPr>
              <a:stCxn id="593" idx="0"/>
              <a:endCxn id="592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617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Text Box 31"/>
          <p:cNvSpPr/>
          <p:nvPr/>
        </p:nvSpPr>
        <p:spPr>
          <a:xfrm>
            <a:off x="687240" y="4419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Text Box 32"/>
          <p:cNvSpPr/>
          <p:nvPr/>
        </p:nvSpPr>
        <p:spPr>
          <a:xfrm>
            <a:off x="2805120" y="554688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34"/>
          <p:cNvSpPr/>
          <p:nvPr/>
        </p:nvSpPr>
        <p:spPr>
          <a:xfrm>
            <a:off x="5030640" y="55627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35"/>
          <p:cNvSpPr/>
          <p:nvPr/>
        </p:nvSpPr>
        <p:spPr>
          <a:xfrm>
            <a:off x="6919920" y="440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36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627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8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9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0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1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35" name="AutoShape 12"/>
            <p:cNvCxnSpPr>
              <a:stCxn id="634" idx="7"/>
              <a:endCxn id="627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6" name="AutoShape 13"/>
            <p:cNvCxnSpPr>
              <a:stCxn id="634" idx="6"/>
              <a:endCxn id="628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7" name="AutoShape 14"/>
            <p:cNvCxnSpPr>
              <a:stCxn id="632" idx="6"/>
              <a:endCxn id="633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8" name="AutoShape 15"/>
            <p:cNvCxnSpPr>
              <a:stCxn id="630" idx="6"/>
              <a:endCxn id="633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39" name="AutoShape 16"/>
            <p:cNvCxnSpPr>
              <a:stCxn id="628" idx="6"/>
              <a:endCxn id="631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0" name="AutoShape 17"/>
            <p:cNvCxnSpPr>
              <a:endCxn id="631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1" name="AutoShape 18"/>
            <p:cNvCxnSpPr>
              <a:stCxn id="627" idx="6"/>
              <a:endCxn id="630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2" name="AutoShape 19"/>
            <p:cNvCxnSpPr>
              <a:stCxn id="628" idx="6"/>
              <a:endCxn id="630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3" name="AutoShape 20"/>
            <p:cNvCxnSpPr>
              <a:stCxn id="629" idx="6"/>
              <a:endCxn id="632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4" name="AutoShape 21"/>
            <p:cNvCxnSpPr>
              <a:stCxn id="631" idx="6"/>
              <a:endCxn id="633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5" name="AutoShape 22"/>
            <p:cNvCxnSpPr>
              <a:stCxn id="634" idx="5"/>
              <a:endCxn id="629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6" name="AutoShape 23"/>
            <p:cNvCxnSpPr>
              <a:stCxn id="631" idx="2"/>
              <a:endCxn id="627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7" name="AutoShape 24"/>
            <p:cNvCxnSpPr>
              <a:stCxn id="632" idx="2"/>
              <a:endCxn id="628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8" name="AutoShape 25"/>
            <p:cNvCxnSpPr>
              <a:stCxn id="631" idx="0"/>
              <a:endCxn id="630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49" name="AutoShape 26"/>
            <p:cNvCxnSpPr>
              <a:stCxn id="632" idx="0"/>
              <a:endCxn id="631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50" name="AutoShape 27"/>
            <p:cNvCxnSpPr>
              <a:stCxn id="629" idx="0"/>
              <a:endCxn id="628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51" name="AutoShape 28"/>
            <p:cNvCxnSpPr>
              <a:stCxn id="628" idx="0"/>
              <a:endCxn id="627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652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31"/>
          <p:cNvSpPr/>
          <p:nvPr/>
        </p:nvSpPr>
        <p:spPr>
          <a:xfrm>
            <a:off x="687240" y="4419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32"/>
          <p:cNvSpPr/>
          <p:nvPr/>
        </p:nvSpPr>
        <p:spPr>
          <a:xfrm>
            <a:off x="2805120" y="5546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33"/>
          <p:cNvSpPr/>
          <p:nvPr/>
        </p:nvSpPr>
        <p:spPr>
          <a:xfrm>
            <a:off x="5029200" y="1660680"/>
            <a:ext cx="21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Text Box 34"/>
          <p:cNvSpPr/>
          <p:nvPr/>
        </p:nvSpPr>
        <p:spPr>
          <a:xfrm>
            <a:off x="5030640" y="556272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8" name="Text Box 35"/>
          <p:cNvSpPr/>
          <p:nvPr/>
        </p:nvSpPr>
        <p:spPr>
          <a:xfrm>
            <a:off x="6919920" y="440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9" name="Text Box 36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1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662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3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4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5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6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7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8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9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670" name="AutoShape 12"/>
            <p:cNvCxnSpPr>
              <a:stCxn id="669" idx="7"/>
              <a:endCxn id="662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1" name="AutoShape 13"/>
            <p:cNvCxnSpPr>
              <a:stCxn id="669" idx="6"/>
              <a:endCxn id="663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2" name="AutoShape 14"/>
            <p:cNvCxnSpPr>
              <a:stCxn id="667" idx="6"/>
              <a:endCxn id="668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3" name="AutoShape 15"/>
            <p:cNvCxnSpPr>
              <a:stCxn id="665" idx="6"/>
              <a:endCxn id="668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4" name="AutoShape 16"/>
            <p:cNvCxnSpPr>
              <a:stCxn id="663" idx="6"/>
              <a:endCxn id="666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5" name="AutoShape 17"/>
            <p:cNvCxnSpPr>
              <a:endCxn id="666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6" name="AutoShape 18"/>
            <p:cNvCxnSpPr>
              <a:stCxn id="662" idx="6"/>
              <a:endCxn id="665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7" name="AutoShape 19"/>
            <p:cNvCxnSpPr>
              <a:stCxn id="663" idx="6"/>
              <a:endCxn id="665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8" name="AutoShape 20"/>
            <p:cNvCxnSpPr>
              <a:stCxn id="664" idx="6"/>
              <a:endCxn id="667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79" name="AutoShape 21"/>
            <p:cNvCxnSpPr>
              <a:stCxn id="666" idx="6"/>
              <a:endCxn id="668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0" name="AutoShape 22"/>
            <p:cNvCxnSpPr>
              <a:stCxn id="669" idx="5"/>
              <a:endCxn id="664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1" name="AutoShape 23"/>
            <p:cNvCxnSpPr>
              <a:stCxn id="666" idx="2"/>
              <a:endCxn id="662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2" name="AutoShape 24"/>
            <p:cNvCxnSpPr>
              <a:stCxn id="667" idx="2"/>
              <a:endCxn id="663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3" name="AutoShape 25"/>
            <p:cNvCxnSpPr>
              <a:stCxn id="666" idx="0"/>
              <a:endCxn id="665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4" name="AutoShape 26"/>
            <p:cNvCxnSpPr>
              <a:stCxn id="667" idx="0"/>
              <a:endCxn id="666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5" name="AutoShape 27"/>
            <p:cNvCxnSpPr>
              <a:stCxn id="664" idx="0"/>
              <a:endCxn id="663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686" name="AutoShape 28"/>
            <p:cNvCxnSpPr>
              <a:stCxn id="663" idx="0"/>
              <a:endCxn id="662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687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Text Box 31"/>
          <p:cNvSpPr/>
          <p:nvPr/>
        </p:nvSpPr>
        <p:spPr>
          <a:xfrm>
            <a:off x="687240" y="441972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,6,7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Text Box 32"/>
          <p:cNvSpPr/>
          <p:nvPr/>
        </p:nvSpPr>
        <p:spPr>
          <a:xfrm>
            <a:off x="2805120" y="5546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Text Box 33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Text Box 34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Text Box 35"/>
          <p:cNvSpPr/>
          <p:nvPr/>
        </p:nvSpPr>
        <p:spPr>
          <a:xfrm>
            <a:off x="6919920" y="44038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2,3,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4" name="Text Box 36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697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8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9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0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1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2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3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4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05" name="AutoShape 12"/>
            <p:cNvCxnSpPr>
              <a:stCxn id="704" idx="7"/>
              <a:endCxn id="697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06" name="AutoShape 13"/>
            <p:cNvCxnSpPr>
              <a:stCxn id="704" idx="6"/>
              <a:endCxn id="698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07" name="AutoShape 14"/>
            <p:cNvCxnSpPr>
              <a:stCxn id="702" idx="6"/>
              <a:endCxn id="703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08" name="AutoShape 15"/>
            <p:cNvCxnSpPr>
              <a:stCxn id="700" idx="6"/>
              <a:endCxn id="703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09" name="AutoShape 16"/>
            <p:cNvCxnSpPr>
              <a:stCxn id="698" idx="6"/>
              <a:endCxn id="701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0" name="AutoShape 17"/>
            <p:cNvCxnSpPr>
              <a:endCxn id="701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1" name="AutoShape 18"/>
            <p:cNvCxnSpPr>
              <a:stCxn id="697" idx="6"/>
              <a:endCxn id="700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2" name="AutoShape 19"/>
            <p:cNvCxnSpPr>
              <a:stCxn id="698" idx="6"/>
              <a:endCxn id="700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3" name="AutoShape 20"/>
            <p:cNvCxnSpPr>
              <a:stCxn id="699" idx="6"/>
              <a:endCxn id="702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4" name="AutoShape 21"/>
            <p:cNvCxnSpPr>
              <a:stCxn id="701" idx="6"/>
              <a:endCxn id="703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5" name="AutoShape 22"/>
            <p:cNvCxnSpPr>
              <a:stCxn id="704" idx="5"/>
              <a:endCxn id="699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6" name="AutoShape 23"/>
            <p:cNvCxnSpPr>
              <a:stCxn id="701" idx="2"/>
              <a:endCxn id="697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7" name="AutoShape 24"/>
            <p:cNvCxnSpPr>
              <a:stCxn id="702" idx="2"/>
              <a:endCxn id="698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8" name="AutoShape 25"/>
            <p:cNvCxnSpPr>
              <a:stCxn id="701" idx="0"/>
              <a:endCxn id="700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19" name="AutoShape 26"/>
            <p:cNvCxnSpPr>
              <a:stCxn id="702" idx="0"/>
              <a:endCxn id="701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20" name="AutoShape 27"/>
            <p:cNvCxnSpPr>
              <a:stCxn id="699" idx="0"/>
              <a:endCxn id="698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21" name="AutoShape 28"/>
            <p:cNvCxnSpPr>
              <a:stCxn id="698" idx="0"/>
              <a:endCxn id="697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722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3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Text Box 31"/>
          <p:cNvSpPr/>
          <p:nvPr/>
        </p:nvSpPr>
        <p:spPr>
          <a:xfrm>
            <a:off x="2805120" y="5546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5" name="Text Box 32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Text Box 33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7" name="Text Box 34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Text Box 35"/>
          <p:cNvSpPr/>
          <p:nvPr/>
        </p:nvSpPr>
        <p:spPr>
          <a:xfrm>
            <a:off x="515160" y="630864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 a value, but be prepared to backtrack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0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731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2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3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4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5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6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7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8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39" name="AutoShape 12"/>
            <p:cNvCxnSpPr>
              <a:stCxn id="738" idx="7"/>
              <a:endCxn id="731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0" name="AutoShape 13"/>
            <p:cNvCxnSpPr>
              <a:stCxn id="738" idx="6"/>
              <a:endCxn id="732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1" name="AutoShape 14"/>
            <p:cNvCxnSpPr>
              <a:stCxn id="736" idx="6"/>
              <a:endCxn id="737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2" name="AutoShape 15"/>
            <p:cNvCxnSpPr>
              <a:stCxn id="734" idx="6"/>
              <a:endCxn id="737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3" name="AutoShape 16"/>
            <p:cNvCxnSpPr>
              <a:stCxn id="732" idx="6"/>
              <a:endCxn id="735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4" name="AutoShape 17"/>
            <p:cNvCxnSpPr>
              <a:endCxn id="735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5" name="AutoShape 18"/>
            <p:cNvCxnSpPr>
              <a:stCxn id="731" idx="6"/>
              <a:endCxn id="734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6" name="AutoShape 19"/>
            <p:cNvCxnSpPr>
              <a:stCxn id="732" idx="6"/>
              <a:endCxn id="734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7" name="AutoShape 20"/>
            <p:cNvCxnSpPr>
              <a:stCxn id="733" idx="6"/>
              <a:endCxn id="736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8" name="AutoShape 21"/>
            <p:cNvCxnSpPr>
              <a:stCxn id="735" idx="6"/>
              <a:endCxn id="737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49" name="AutoShape 22"/>
            <p:cNvCxnSpPr>
              <a:stCxn id="738" idx="5"/>
              <a:endCxn id="733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0" name="AutoShape 23"/>
            <p:cNvCxnSpPr>
              <a:stCxn id="735" idx="2"/>
              <a:endCxn id="731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1" name="AutoShape 24"/>
            <p:cNvCxnSpPr>
              <a:stCxn id="736" idx="2"/>
              <a:endCxn id="732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2" name="AutoShape 25"/>
            <p:cNvCxnSpPr>
              <a:stCxn id="735" idx="0"/>
              <a:endCxn id="734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3" name="AutoShape 26"/>
            <p:cNvCxnSpPr>
              <a:stCxn id="736" idx="0"/>
              <a:endCxn id="735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4" name="AutoShape 27"/>
            <p:cNvCxnSpPr>
              <a:stCxn id="733" idx="0"/>
              <a:endCxn id="732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55" name="AutoShape 28"/>
            <p:cNvCxnSpPr>
              <a:stCxn id="732" idx="0"/>
              <a:endCxn id="731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756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8" name="Text Box 31"/>
          <p:cNvSpPr/>
          <p:nvPr/>
        </p:nvSpPr>
        <p:spPr>
          <a:xfrm>
            <a:off x="2805120" y="5546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Text Box 32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Text Box 33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Text Box 35"/>
          <p:cNvSpPr/>
          <p:nvPr/>
        </p:nvSpPr>
        <p:spPr>
          <a:xfrm>
            <a:off x="515160" y="6308640"/>
            <a:ext cx="588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 a value, but be prepared to backtrack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765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6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7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8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9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0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1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2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773" name="AutoShape 12"/>
            <p:cNvCxnSpPr>
              <a:stCxn id="772" idx="7"/>
              <a:endCxn id="765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4" name="AutoShape 13"/>
            <p:cNvCxnSpPr>
              <a:stCxn id="772" idx="6"/>
              <a:endCxn id="766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5" name="AutoShape 14"/>
            <p:cNvCxnSpPr>
              <a:stCxn id="770" idx="6"/>
              <a:endCxn id="771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6" name="AutoShape 15"/>
            <p:cNvCxnSpPr>
              <a:stCxn id="768" idx="6"/>
              <a:endCxn id="771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7" name="AutoShape 16"/>
            <p:cNvCxnSpPr>
              <a:stCxn id="766" idx="6"/>
              <a:endCxn id="769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8" name="AutoShape 17"/>
            <p:cNvCxnSpPr>
              <a:endCxn id="769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79" name="AutoShape 18"/>
            <p:cNvCxnSpPr>
              <a:stCxn id="765" idx="6"/>
              <a:endCxn id="768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0" name="AutoShape 19"/>
            <p:cNvCxnSpPr>
              <a:stCxn id="766" idx="6"/>
              <a:endCxn id="768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1" name="AutoShape 20"/>
            <p:cNvCxnSpPr>
              <a:stCxn id="767" idx="6"/>
              <a:endCxn id="770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2" name="AutoShape 21"/>
            <p:cNvCxnSpPr>
              <a:stCxn id="769" idx="6"/>
              <a:endCxn id="771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3" name="AutoShape 22"/>
            <p:cNvCxnSpPr>
              <a:stCxn id="772" idx="5"/>
              <a:endCxn id="767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4" name="AutoShape 23"/>
            <p:cNvCxnSpPr>
              <a:stCxn id="769" idx="2"/>
              <a:endCxn id="765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5" name="AutoShape 24"/>
            <p:cNvCxnSpPr>
              <a:stCxn id="770" idx="2"/>
              <a:endCxn id="766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6" name="AutoShape 25"/>
            <p:cNvCxnSpPr>
              <a:stCxn id="769" idx="0"/>
              <a:endCxn id="768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7" name="AutoShape 26"/>
            <p:cNvCxnSpPr>
              <a:stCxn id="770" idx="0"/>
              <a:endCxn id="769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8" name="AutoShape 27"/>
            <p:cNvCxnSpPr>
              <a:stCxn id="767" idx="0"/>
              <a:endCxn id="766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789" name="AutoShape 28"/>
            <p:cNvCxnSpPr>
              <a:stCxn id="766" idx="0"/>
              <a:endCxn id="765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790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1" name="Text Box 30"/>
          <p:cNvSpPr/>
          <p:nvPr/>
        </p:nvSpPr>
        <p:spPr>
          <a:xfrm>
            <a:off x="2895480" y="1660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2" name="Text Box 31"/>
          <p:cNvSpPr/>
          <p:nvPr/>
        </p:nvSpPr>
        <p:spPr>
          <a:xfrm>
            <a:off x="2805120" y="5546880"/>
            <a:ext cx="10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3,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3" name="Text Box 32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4" name="Text Box 33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5" name="Text Box 34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6" name="Text Box 35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799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0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1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2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3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4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5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6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07" name="AutoShape 12"/>
            <p:cNvCxnSpPr>
              <a:stCxn id="806" idx="7"/>
              <a:endCxn id="799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08" name="AutoShape 13"/>
            <p:cNvCxnSpPr>
              <a:stCxn id="806" idx="6"/>
              <a:endCxn id="800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09" name="AutoShape 14"/>
            <p:cNvCxnSpPr>
              <a:stCxn id="804" idx="6"/>
              <a:endCxn id="805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0" name="AutoShape 15"/>
            <p:cNvCxnSpPr>
              <a:stCxn id="802" idx="6"/>
              <a:endCxn id="805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1" name="AutoShape 16"/>
            <p:cNvCxnSpPr>
              <a:stCxn id="800" idx="6"/>
              <a:endCxn id="803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2" name="AutoShape 17"/>
            <p:cNvCxnSpPr>
              <a:endCxn id="803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3" name="AutoShape 18"/>
            <p:cNvCxnSpPr>
              <a:stCxn id="799" idx="6"/>
              <a:endCxn id="802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4" name="AutoShape 19"/>
            <p:cNvCxnSpPr>
              <a:stCxn id="800" idx="6"/>
              <a:endCxn id="802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5" name="AutoShape 20"/>
            <p:cNvCxnSpPr>
              <a:stCxn id="801" idx="6"/>
              <a:endCxn id="804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6" name="AutoShape 21"/>
            <p:cNvCxnSpPr>
              <a:stCxn id="803" idx="6"/>
              <a:endCxn id="805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7" name="AutoShape 22"/>
            <p:cNvCxnSpPr>
              <a:stCxn id="806" idx="5"/>
              <a:endCxn id="801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8" name="AutoShape 23"/>
            <p:cNvCxnSpPr>
              <a:stCxn id="803" idx="2"/>
              <a:endCxn id="799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19" name="AutoShape 24"/>
            <p:cNvCxnSpPr>
              <a:stCxn id="804" idx="2"/>
              <a:endCxn id="800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20" name="AutoShape 25"/>
            <p:cNvCxnSpPr>
              <a:stCxn id="803" idx="0"/>
              <a:endCxn id="802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21" name="AutoShape 26"/>
            <p:cNvCxnSpPr>
              <a:stCxn id="804" idx="0"/>
              <a:endCxn id="803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22" name="AutoShape 27"/>
            <p:cNvCxnSpPr>
              <a:stCxn id="801" idx="0"/>
              <a:endCxn id="800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23" name="AutoShape 28"/>
            <p:cNvCxnSpPr>
              <a:stCxn id="800" idx="0"/>
              <a:endCxn id="799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824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5" name="Text Box 30"/>
          <p:cNvSpPr/>
          <p:nvPr/>
        </p:nvSpPr>
        <p:spPr>
          <a:xfrm>
            <a:off x="2805120" y="55468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6" name="Text Box 31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7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Text Box 34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832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3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4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5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6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7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8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9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40" name="AutoShape 12"/>
            <p:cNvCxnSpPr>
              <a:stCxn id="839" idx="7"/>
              <a:endCxn id="832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1" name="AutoShape 13"/>
            <p:cNvCxnSpPr>
              <a:stCxn id="839" idx="6"/>
              <a:endCxn id="833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2" name="AutoShape 14"/>
            <p:cNvCxnSpPr>
              <a:stCxn id="837" idx="6"/>
              <a:endCxn id="838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3" name="AutoShape 15"/>
            <p:cNvCxnSpPr>
              <a:stCxn id="835" idx="6"/>
              <a:endCxn id="838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4" name="AutoShape 16"/>
            <p:cNvCxnSpPr>
              <a:stCxn id="833" idx="6"/>
              <a:endCxn id="836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5" name="AutoShape 17"/>
            <p:cNvCxnSpPr>
              <a:endCxn id="836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6" name="AutoShape 18"/>
            <p:cNvCxnSpPr>
              <a:stCxn id="832" idx="6"/>
              <a:endCxn id="835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7" name="AutoShape 19"/>
            <p:cNvCxnSpPr>
              <a:stCxn id="833" idx="6"/>
              <a:endCxn id="835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8" name="AutoShape 20"/>
            <p:cNvCxnSpPr>
              <a:stCxn id="834" idx="6"/>
              <a:endCxn id="837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49" name="AutoShape 21"/>
            <p:cNvCxnSpPr>
              <a:stCxn id="836" idx="6"/>
              <a:endCxn id="838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0" name="AutoShape 22"/>
            <p:cNvCxnSpPr>
              <a:stCxn id="839" idx="5"/>
              <a:endCxn id="834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1" name="AutoShape 23"/>
            <p:cNvCxnSpPr>
              <a:stCxn id="836" idx="2"/>
              <a:endCxn id="832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2" name="AutoShape 24"/>
            <p:cNvCxnSpPr>
              <a:stCxn id="837" idx="2"/>
              <a:endCxn id="833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3" name="AutoShape 25"/>
            <p:cNvCxnSpPr>
              <a:stCxn id="836" idx="0"/>
              <a:endCxn id="835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4" name="AutoShape 26"/>
            <p:cNvCxnSpPr>
              <a:stCxn id="837" idx="0"/>
              <a:endCxn id="836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5" name="AutoShape 27"/>
            <p:cNvCxnSpPr>
              <a:stCxn id="834" idx="0"/>
              <a:endCxn id="833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6" name="AutoShape 28"/>
            <p:cNvCxnSpPr>
              <a:stCxn id="833" idx="0"/>
              <a:endCxn id="832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857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8" name="Text Box 30"/>
          <p:cNvSpPr/>
          <p:nvPr/>
        </p:nvSpPr>
        <p:spPr>
          <a:xfrm>
            <a:off x="2805120" y="55468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9" name="Text Box 31"/>
          <p:cNvSpPr/>
          <p:nvPr/>
        </p:nvSpPr>
        <p:spPr>
          <a:xfrm>
            <a:off x="5181480" y="1660680"/>
            <a:ext cx="19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0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1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2" name="Text Box 34"/>
          <p:cNvSpPr/>
          <p:nvPr/>
        </p:nvSpPr>
        <p:spPr>
          <a:xfrm>
            <a:off x="517680" y="630864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 another valu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4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865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6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7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8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9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0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1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2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73" name="AutoShape 12"/>
            <p:cNvCxnSpPr>
              <a:stCxn id="872" idx="7"/>
              <a:endCxn id="865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4" name="AutoShape 13"/>
            <p:cNvCxnSpPr>
              <a:stCxn id="872" idx="6"/>
              <a:endCxn id="866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5" name="AutoShape 14"/>
            <p:cNvCxnSpPr>
              <a:stCxn id="870" idx="6"/>
              <a:endCxn id="871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6" name="AutoShape 15"/>
            <p:cNvCxnSpPr>
              <a:stCxn id="868" idx="6"/>
              <a:endCxn id="871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7" name="AutoShape 16"/>
            <p:cNvCxnSpPr>
              <a:stCxn id="866" idx="6"/>
              <a:endCxn id="869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8" name="AutoShape 17"/>
            <p:cNvCxnSpPr>
              <a:endCxn id="869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9" name="AutoShape 18"/>
            <p:cNvCxnSpPr>
              <a:stCxn id="865" idx="6"/>
              <a:endCxn id="868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0" name="AutoShape 19"/>
            <p:cNvCxnSpPr>
              <a:stCxn id="866" idx="6"/>
              <a:endCxn id="868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1" name="AutoShape 20"/>
            <p:cNvCxnSpPr>
              <a:stCxn id="867" idx="6"/>
              <a:endCxn id="870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2" name="AutoShape 21"/>
            <p:cNvCxnSpPr>
              <a:stCxn id="869" idx="6"/>
              <a:endCxn id="871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3" name="AutoShape 22"/>
            <p:cNvCxnSpPr>
              <a:stCxn id="872" idx="5"/>
              <a:endCxn id="867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4" name="AutoShape 23"/>
            <p:cNvCxnSpPr>
              <a:stCxn id="869" idx="2"/>
              <a:endCxn id="865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5" name="AutoShape 24"/>
            <p:cNvCxnSpPr>
              <a:stCxn id="870" idx="2"/>
              <a:endCxn id="866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6" name="AutoShape 25"/>
            <p:cNvCxnSpPr>
              <a:stCxn id="869" idx="0"/>
              <a:endCxn id="868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7" name="AutoShape 26"/>
            <p:cNvCxnSpPr>
              <a:stCxn id="870" idx="0"/>
              <a:endCxn id="869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8" name="AutoShape 27"/>
            <p:cNvCxnSpPr>
              <a:stCxn id="867" idx="0"/>
              <a:endCxn id="866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9" name="AutoShape 28"/>
            <p:cNvCxnSpPr>
              <a:stCxn id="866" idx="0"/>
              <a:endCxn id="865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890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1" name="Text Box 30"/>
          <p:cNvSpPr/>
          <p:nvPr/>
        </p:nvSpPr>
        <p:spPr>
          <a:xfrm>
            <a:off x="2805120" y="55468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2" name="Text Box 31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3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4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5" name="Text Box 34"/>
          <p:cNvSpPr/>
          <p:nvPr/>
        </p:nvSpPr>
        <p:spPr>
          <a:xfrm>
            <a:off x="517680" y="6308640"/>
            <a:ext cx="30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ess another valu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7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898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9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0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1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2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3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4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5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06" name="AutoShape 12"/>
            <p:cNvCxnSpPr>
              <a:stCxn id="905" idx="7"/>
              <a:endCxn id="898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07" name="AutoShape 13"/>
            <p:cNvCxnSpPr>
              <a:stCxn id="905" idx="6"/>
              <a:endCxn id="899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08" name="AutoShape 14"/>
            <p:cNvCxnSpPr>
              <a:stCxn id="903" idx="6"/>
              <a:endCxn id="904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09" name="AutoShape 15"/>
            <p:cNvCxnSpPr>
              <a:stCxn id="901" idx="6"/>
              <a:endCxn id="904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0" name="AutoShape 16"/>
            <p:cNvCxnSpPr>
              <a:stCxn id="899" idx="6"/>
              <a:endCxn id="902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1" name="AutoShape 17"/>
            <p:cNvCxnSpPr>
              <a:endCxn id="902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2" name="AutoShape 18"/>
            <p:cNvCxnSpPr>
              <a:stCxn id="898" idx="6"/>
              <a:endCxn id="901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3" name="AutoShape 19"/>
            <p:cNvCxnSpPr>
              <a:stCxn id="899" idx="6"/>
              <a:endCxn id="901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4" name="AutoShape 20"/>
            <p:cNvCxnSpPr>
              <a:stCxn id="900" idx="6"/>
              <a:endCxn id="903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5" name="AutoShape 21"/>
            <p:cNvCxnSpPr>
              <a:stCxn id="902" idx="6"/>
              <a:endCxn id="904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6" name="AutoShape 22"/>
            <p:cNvCxnSpPr>
              <a:stCxn id="905" idx="5"/>
              <a:endCxn id="900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7" name="AutoShape 23"/>
            <p:cNvCxnSpPr>
              <a:stCxn id="902" idx="2"/>
              <a:endCxn id="898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8" name="AutoShape 24"/>
            <p:cNvCxnSpPr>
              <a:stCxn id="903" idx="2"/>
              <a:endCxn id="899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9" name="AutoShape 25"/>
            <p:cNvCxnSpPr>
              <a:stCxn id="902" idx="0"/>
              <a:endCxn id="901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20" name="AutoShape 26"/>
            <p:cNvCxnSpPr>
              <a:stCxn id="903" idx="0"/>
              <a:endCxn id="902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21" name="AutoShape 27"/>
            <p:cNvCxnSpPr>
              <a:stCxn id="900" idx="0"/>
              <a:endCxn id="899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22" name="AutoShape 28"/>
            <p:cNvCxnSpPr>
              <a:stCxn id="899" idx="0"/>
              <a:endCxn id="898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923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4" name="Text Box 30"/>
          <p:cNvSpPr/>
          <p:nvPr/>
        </p:nvSpPr>
        <p:spPr>
          <a:xfrm>
            <a:off x="2805120" y="5546880"/>
            <a:ext cx="85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5" name="Text Box 31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6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5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7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8" name="Text Box 34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A Puzz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562880" cy="13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Place numbers 1 through 8 on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ach number appears exactly o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Group 4"/>
          <p:cNvGrpSpPr/>
          <p:nvPr/>
        </p:nvGrpSpPr>
        <p:grpSpPr>
          <a:xfrm>
            <a:off x="2743200" y="3132000"/>
            <a:ext cx="6290640" cy="3317400"/>
            <a:chOff x="2743200" y="3132000"/>
            <a:chExt cx="6290640" cy="3317400"/>
          </a:xfrm>
        </p:grpSpPr>
        <p:sp>
          <p:nvSpPr>
            <p:cNvPr id="76" name="Oval 5"/>
            <p:cNvSpPr/>
            <p:nvPr/>
          </p:nvSpPr>
          <p:spPr>
            <a:xfrm>
              <a:off x="4458600" y="3132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6"/>
            <p:cNvSpPr/>
            <p:nvPr/>
          </p:nvSpPr>
          <p:spPr>
            <a:xfrm>
              <a:off x="4458600" y="4390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7"/>
            <p:cNvSpPr/>
            <p:nvPr/>
          </p:nvSpPr>
          <p:spPr>
            <a:xfrm>
              <a:off x="4458600" y="564912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6517440" y="3132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9"/>
            <p:cNvSpPr/>
            <p:nvPr/>
          </p:nvSpPr>
          <p:spPr>
            <a:xfrm>
              <a:off x="6517440" y="4390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Oval 10"/>
            <p:cNvSpPr/>
            <p:nvPr/>
          </p:nvSpPr>
          <p:spPr>
            <a:xfrm>
              <a:off x="6517440" y="564912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Oval 11"/>
            <p:cNvSpPr/>
            <p:nvPr/>
          </p:nvSpPr>
          <p:spPr>
            <a:xfrm>
              <a:off x="8233200" y="4390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12"/>
            <p:cNvSpPr/>
            <p:nvPr/>
          </p:nvSpPr>
          <p:spPr>
            <a:xfrm>
              <a:off x="2743200" y="4390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84" name="AutoShape 13"/>
            <p:cNvCxnSpPr>
              <a:stCxn id="83" idx="7"/>
              <a:endCxn id="76" idx="2"/>
            </p:cNvCxnSpPr>
            <p:nvPr/>
          </p:nvCxnSpPr>
          <p:spPr>
            <a:xfrm flipV="1">
              <a:off x="3426840" y="35316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5" name="AutoShape 14"/>
            <p:cNvCxnSpPr>
              <a:stCxn id="83" idx="6"/>
              <a:endCxn id="77" idx="2"/>
            </p:cNvCxnSpPr>
            <p:nvPr/>
          </p:nvCxnSpPr>
          <p:spPr>
            <a:xfrm>
              <a:off x="3572640" y="479052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6" name="AutoShape 15"/>
            <p:cNvCxnSpPr>
              <a:stCxn id="81" idx="6"/>
              <a:endCxn id="82" idx="3"/>
            </p:cNvCxnSpPr>
            <p:nvPr/>
          </p:nvCxnSpPr>
          <p:spPr>
            <a:xfrm flipV="1">
              <a:off x="7346880" y="5102640"/>
              <a:ext cx="1003320" cy="947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7" name="AutoShape 16"/>
            <p:cNvCxnSpPr>
              <a:stCxn id="79" idx="6"/>
              <a:endCxn id="82" idx="1"/>
            </p:cNvCxnSpPr>
            <p:nvPr/>
          </p:nvCxnSpPr>
          <p:spPr>
            <a:xfrm>
              <a:off x="7346880" y="35319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8" name="AutoShape 17"/>
            <p:cNvCxnSpPr>
              <a:stCxn id="77" idx="6"/>
              <a:endCxn id="80" idx="2"/>
            </p:cNvCxnSpPr>
            <p:nvPr/>
          </p:nvCxnSpPr>
          <p:spPr>
            <a:xfrm>
              <a:off x="5288040" y="479052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89" name="AutoShape 18"/>
            <p:cNvCxnSpPr>
              <a:endCxn id="80" idx="2"/>
            </p:cNvCxnSpPr>
            <p:nvPr/>
          </p:nvCxnSpPr>
          <p:spPr>
            <a:xfrm flipV="1">
              <a:off x="5288040" y="4790160"/>
              <a:ext cx="1201320" cy="12596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0" name="AutoShape 19"/>
            <p:cNvCxnSpPr>
              <a:stCxn id="76" idx="6"/>
              <a:endCxn id="79" idx="2"/>
            </p:cNvCxnSpPr>
            <p:nvPr/>
          </p:nvCxnSpPr>
          <p:spPr>
            <a:xfrm>
              <a:off x="5288040" y="35319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1" name="AutoShape 20"/>
            <p:cNvCxnSpPr>
              <a:stCxn id="77" idx="6"/>
              <a:endCxn id="79" idx="2"/>
            </p:cNvCxnSpPr>
            <p:nvPr/>
          </p:nvCxnSpPr>
          <p:spPr>
            <a:xfrm flipV="1">
              <a:off x="5288040" y="3531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2" name="AutoShape 21"/>
            <p:cNvCxnSpPr>
              <a:stCxn id="78" idx="6"/>
              <a:endCxn id="81" idx="2"/>
            </p:cNvCxnSpPr>
            <p:nvPr/>
          </p:nvCxnSpPr>
          <p:spPr>
            <a:xfrm>
              <a:off x="5288040" y="604944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3" name="AutoShape 22"/>
            <p:cNvCxnSpPr>
              <a:stCxn id="80" idx="6"/>
              <a:endCxn id="82" idx="2"/>
            </p:cNvCxnSpPr>
            <p:nvPr/>
          </p:nvCxnSpPr>
          <p:spPr>
            <a:xfrm>
              <a:off x="7347240" y="479052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" name="AutoShape 23"/>
            <p:cNvCxnSpPr>
              <a:stCxn id="83" idx="5"/>
              <a:endCxn id="78" idx="2"/>
            </p:cNvCxnSpPr>
            <p:nvPr/>
          </p:nvCxnSpPr>
          <p:spPr>
            <a:xfrm>
              <a:off x="3426840" y="5103000"/>
              <a:ext cx="1003320" cy="947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" name="AutoShape 24"/>
            <p:cNvCxnSpPr>
              <a:stCxn id="80" idx="2"/>
              <a:endCxn id="76" idx="6"/>
            </p:cNvCxnSpPr>
            <p:nvPr/>
          </p:nvCxnSpPr>
          <p:spPr>
            <a:xfrm flipH="1" flipV="1">
              <a:off x="5287680" y="3531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6" name="AutoShape 25"/>
            <p:cNvCxnSpPr>
              <a:stCxn id="81" idx="2"/>
              <a:endCxn id="77" idx="6"/>
            </p:cNvCxnSpPr>
            <p:nvPr/>
          </p:nvCxnSpPr>
          <p:spPr>
            <a:xfrm flipH="1" flipV="1">
              <a:off x="5287680" y="4790160"/>
              <a:ext cx="1201320" cy="12596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" name="AutoShape 26"/>
            <p:cNvCxnSpPr>
              <a:stCxn id="80" idx="0"/>
              <a:endCxn id="79" idx="4"/>
            </p:cNvCxnSpPr>
            <p:nvPr/>
          </p:nvCxnSpPr>
          <p:spPr>
            <a:xfrm flipV="1">
              <a:off x="6917760" y="3960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" name="AutoShape 27"/>
            <p:cNvCxnSpPr>
              <a:stCxn id="81" idx="0"/>
              <a:endCxn id="80" idx="4"/>
            </p:cNvCxnSpPr>
            <p:nvPr/>
          </p:nvCxnSpPr>
          <p:spPr>
            <a:xfrm flipV="1">
              <a:off x="6917760" y="521964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9" name="AutoShape 28"/>
            <p:cNvCxnSpPr>
              <a:stCxn id="78" idx="0"/>
              <a:endCxn id="77" idx="4"/>
            </p:cNvCxnSpPr>
            <p:nvPr/>
          </p:nvCxnSpPr>
          <p:spPr>
            <a:xfrm flipV="1">
              <a:off x="4858920" y="521964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0" name="AutoShape 29"/>
            <p:cNvCxnSpPr>
              <a:stCxn id="77" idx="0"/>
              <a:endCxn id="76" idx="4"/>
            </p:cNvCxnSpPr>
            <p:nvPr/>
          </p:nvCxnSpPr>
          <p:spPr>
            <a:xfrm flipV="1">
              <a:off x="4858920" y="3960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101" name="Rectangle 30"/>
          <p:cNvSpPr/>
          <p:nvPr/>
        </p:nvSpPr>
        <p:spPr>
          <a:xfrm>
            <a:off x="380880" y="3038400"/>
            <a:ext cx="327672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Arial"/>
              </a:rPr>
              <a:t>No connected nodes have consecutive numbers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Rectangle 31"/>
          <p:cNvSpPr/>
          <p:nvPr/>
        </p:nvSpPr>
        <p:spPr>
          <a:xfrm>
            <a:off x="228600" y="5715000"/>
            <a:ext cx="2743200" cy="838080"/>
          </a:xfrm>
          <a:prstGeom prst="rect">
            <a:avLst/>
          </a:prstGeom>
          <a:solidFill>
            <a:srgbClr val="80808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You hav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8 minutes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931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2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3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4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5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6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7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8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39" name="AutoShape 12"/>
            <p:cNvCxnSpPr>
              <a:stCxn id="938" idx="7"/>
              <a:endCxn id="931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0" name="AutoShape 13"/>
            <p:cNvCxnSpPr>
              <a:stCxn id="938" idx="6"/>
              <a:endCxn id="932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1" name="AutoShape 14"/>
            <p:cNvCxnSpPr>
              <a:stCxn id="936" idx="6"/>
              <a:endCxn id="937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2" name="AutoShape 15"/>
            <p:cNvCxnSpPr>
              <a:stCxn id="934" idx="6"/>
              <a:endCxn id="937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3" name="AutoShape 16"/>
            <p:cNvCxnSpPr>
              <a:stCxn id="932" idx="6"/>
              <a:endCxn id="935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4" name="AutoShape 17"/>
            <p:cNvCxnSpPr>
              <a:endCxn id="935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5" name="AutoShape 18"/>
            <p:cNvCxnSpPr>
              <a:stCxn id="931" idx="6"/>
              <a:endCxn id="934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6" name="AutoShape 19"/>
            <p:cNvCxnSpPr>
              <a:stCxn id="932" idx="6"/>
              <a:endCxn id="934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7" name="AutoShape 20"/>
            <p:cNvCxnSpPr>
              <a:stCxn id="933" idx="6"/>
              <a:endCxn id="936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8" name="AutoShape 21"/>
            <p:cNvCxnSpPr>
              <a:stCxn id="935" idx="6"/>
              <a:endCxn id="937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49" name="AutoShape 22"/>
            <p:cNvCxnSpPr>
              <a:stCxn id="938" idx="5"/>
              <a:endCxn id="933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0" name="AutoShape 23"/>
            <p:cNvCxnSpPr>
              <a:stCxn id="935" idx="2"/>
              <a:endCxn id="931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1" name="AutoShape 24"/>
            <p:cNvCxnSpPr>
              <a:stCxn id="936" idx="2"/>
              <a:endCxn id="932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2" name="AutoShape 25"/>
            <p:cNvCxnSpPr>
              <a:stCxn id="935" idx="0"/>
              <a:endCxn id="934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3" name="AutoShape 26"/>
            <p:cNvCxnSpPr>
              <a:stCxn id="936" idx="0"/>
              <a:endCxn id="935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4" name="AutoShape 27"/>
            <p:cNvCxnSpPr>
              <a:stCxn id="933" idx="0"/>
              <a:endCxn id="932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55" name="AutoShape 28"/>
            <p:cNvCxnSpPr>
              <a:stCxn id="932" idx="0"/>
              <a:endCxn id="931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956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7" name="Text Box 30"/>
          <p:cNvSpPr/>
          <p:nvPr/>
        </p:nvSpPr>
        <p:spPr>
          <a:xfrm>
            <a:off x="2805120" y="55468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8" name="Text Box 31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9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0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1" name="Text Box 34"/>
          <p:cNvSpPr/>
          <p:nvPr/>
        </p:nvSpPr>
        <p:spPr>
          <a:xfrm>
            <a:off x="518760" y="630864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propagate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964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5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6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7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8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9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0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1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972" name="AutoShape 12"/>
            <p:cNvCxnSpPr>
              <a:stCxn id="971" idx="7"/>
              <a:endCxn id="964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3" name="AutoShape 13"/>
            <p:cNvCxnSpPr>
              <a:stCxn id="971" idx="6"/>
              <a:endCxn id="965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4" name="AutoShape 14"/>
            <p:cNvCxnSpPr>
              <a:stCxn id="969" idx="6"/>
              <a:endCxn id="970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5" name="AutoShape 15"/>
            <p:cNvCxnSpPr>
              <a:stCxn id="967" idx="6"/>
              <a:endCxn id="970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6" name="AutoShape 16"/>
            <p:cNvCxnSpPr>
              <a:stCxn id="965" idx="6"/>
              <a:endCxn id="968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7" name="AutoShape 17"/>
            <p:cNvCxnSpPr>
              <a:endCxn id="968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8" name="AutoShape 18"/>
            <p:cNvCxnSpPr>
              <a:stCxn id="964" idx="6"/>
              <a:endCxn id="967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79" name="AutoShape 19"/>
            <p:cNvCxnSpPr>
              <a:stCxn id="965" idx="6"/>
              <a:endCxn id="967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0" name="AutoShape 20"/>
            <p:cNvCxnSpPr>
              <a:stCxn id="966" idx="6"/>
              <a:endCxn id="969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1" name="AutoShape 21"/>
            <p:cNvCxnSpPr>
              <a:stCxn id="968" idx="6"/>
              <a:endCxn id="970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2" name="AutoShape 22"/>
            <p:cNvCxnSpPr>
              <a:stCxn id="971" idx="5"/>
              <a:endCxn id="966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3" name="AutoShape 23"/>
            <p:cNvCxnSpPr>
              <a:stCxn id="968" idx="2"/>
              <a:endCxn id="964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4" name="AutoShape 24"/>
            <p:cNvCxnSpPr>
              <a:stCxn id="969" idx="2"/>
              <a:endCxn id="965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5" name="AutoShape 25"/>
            <p:cNvCxnSpPr>
              <a:stCxn id="968" idx="0"/>
              <a:endCxn id="967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6" name="AutoShape 26"/>
            <p:cNvCxnSpPr>
              <a:stCxn id="969" idx="0"/>
              <a:endCxn id="968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7" name="AutoShape 27"/>
            <p:cNvCxnSpPr>
              <a:stCxn id="966" idx="0"/>
              <a:endCxn id="965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988" name="AutoShape 28"/>
            <p:cNvCxnSpPr>
              <a:stCxn id="965" idx="0"/>
              <a:endCxn id="964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989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0" name="Text Box 30"/>
          <p:cNvSpPr/>
          <p:nvPr/>
        </p:nvSpPr>
        <p:spPr>
          <a:xfrm>
            <a:off x="2805120" y="55468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1" name="Text Box 31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2" name="Text Box 32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4,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3" name="Text Box 33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Text Box 34"/>
          <p:cNvSpPr/>
          <p:nvPr/>
        </p:nvSpPr>
        <p:spPr>
          <a:xfrm>
            <a:off x="515880" y="6308640"/>
            <a:ext cx="508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node has only a single value left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6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997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8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9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0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1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2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3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4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005" name="AutoShape 12"/>
            <p:cNvCxnSpPr>
              <a:stCxn id="1004" idx="7"/>
              <a:endCxn id="997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06" name="AutoShape 13"/>
            <p:cNvCxnSpPr>
              <a:stCxn id="1004" idx="6"/>
              <a:endCxn id="998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07" name="AutoShape 14"/>
            <p:cNvCxnSpPr>
              <a:stCxn id="1002" idx="6"/>
              <a:endCxn id="1003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08" name="AutoShape 15"/>
            <p:cNvCxnSpPr>
              <a:stCxn id="1000" idx="6"/>
              <a:endCxn id="1003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09" name="AutoShape 16"/>
            <p:cNvCxnSpPr>
              <a:stCxn id="998" idx="6"/>
              <a:endCxn id="1001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0" name="AutoShape 17"/>
            <p:cNvCxnSpPr>
              <a:endCxn id="1001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1" name="AutoShape 18"/>
            <p:cNvCxnSpPr>
              <a:stCxn id="997" idx="6"/>
              <a:endCxn id="1000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2" name="AutoShape 19"/>
            <p:cNvCxnSpPr>
              <a:stCxn id="998" idx="6"/>
              <a:endCxn id="1000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3" name="AutoShape 20"/>
            <p:cNvCxnSpPr>
              <a:stCxn id="999" idx="6"/>
              <a:endCxn id="1002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4" name="AutoShape 21"/>
            <p:cNvCxnSpPr>
              <a:stCxn id="1001" idx="6"/>
              <a:endCxn id="1003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5" name="AutoShape 22"/>
            <p:cNvCxnSpPr>
              <a:stCxn id="1004" idx="5"/>
              <a:endCxn id="999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6" name="AutoShape 23"/>
            <p:cNvCxnSpPr>
              <a:stCxn id="1001" idx="2"/>
              <a:endCxn id="997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7" name="AutoShape 24"/>
            <p:cNvCxnSpPr>
              <a:stCxn id="1002" idx="2"/>
              <a:endCxn id="998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8" name="AutoShape 25"/>
            <p:cNvCxnSpPr>
              <a:stCxn id="1001" idx="0"/>
              <a:endCxn id="1000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19" name="AutoShape 26"/>
            <p:cNvCxnSpPr>
              <a:stCxn id="1002" idx="0"/>
              <a:endCxn id="1001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20" name="AutoShape 27"/>
            <p:cNvCxnSpPr>
              <a:stCxn id="999" idx="0"/>
              <a:endCxn id="998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21" name="AutoShape 28"/>
            <p:cNvCxnSpPr>
              <a:stCxn id="998" idx="0"/>
              <a:endCxn id="997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1022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3" name="Text Box 30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4" name="Text Box 31"/>
          <p:cNvSpPr/>
          <p:nvPr/>
        </p:nvSpPr>
        <p:spPr>
          <a:xfrm>
            <a:off x="5105520" y="55627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{6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5" name="Text Box 32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6" name="Text Box 33"/>
          <p:cNvSpPr/>
          <p:nvPr/>
        </p:nvSpPr>
        <p:spPr>
          <a:xfrm>
            <a:off x="51768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1029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0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1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2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3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4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5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6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037" name="AutoShape 12"/>
            <p:cNvCxnSpPr>
              <a:stCxn id="1036" idx="7"/>
              <a:endCxn id="1029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38" name="AutoShape 13"/>
            <p:cNvCxnSpPr>
              <a:stCxn id="1036" idx="6"/>
              <a:endCxn id="1030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39" name="AutoShape 14"/>
            <p:cNvCxnSpPr>
              <a:stCxn id="1034" idx="6"/>
              <a:endCxn id="1035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0" name="AutoShape 15"/>
            <p:cNvCxnSpPr>
              <a:stCxn id="1032" idx="6"/>
              <a:endCxn id="1035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1" name="AutoShape 16"/>
            <p:cNvCxnSpPr>
              <a:stCxn id="1030" idx="6"/>
              <a:endCxn id="1033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2" name="AutoShape 17"/>
            <p:cNvCxnSpPr>
              <a:endCxn id="1033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3" name="AutoShape 18"/>
            <p:cNvCxnSpPr>
              <a:stCxn id="1029" idx="6"/>
              <a:endCxn id="1032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4" name="AutoShape 19"/>
            <p:cNvCxnSpPr>
              <a:stCxn id="1030" idx="6"/>
              <a:endCxn id="1032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5" name="AutoShape 20"/>
            <p:cNvCxnSpPr>
              <a:stCxn id="1031" idx="6"/>
              <a:endCxn id="1034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6" name="AutoShape 21"/>
            <p:cNvCxnSpPr>
              <a:stCxn id="1033" idx="6"/>
              <a:endCxn id="1035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7" name="AutoShape 22"/>
            <p:cNvCxnSpPr>
              <a:stCxn id="1036" idx="5"/>
              <a:endCxn id="1031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8" name="AutoShape 23"/>
            <p:cNvCxnSpPr>
              <a:stCxn id="1033" idx="2"/>
              <a:endCxn id="1029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49" name="AutoShape 24"/>
            <p:cNvCxnSpPr>
              <a:stCxn id="1034" idx="2"/>
              <a:endCxn id="1030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50" name="AutoShape 25"/>
            <p:cNvCxnSpPr>
              <a:stCxn id="1033" idx="0"/>
              <a:endCxn id="1032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51" name="AutoShape 26"/>
            <p:cNvCxnSpPr>
              <a:stCxn id="1034" idx="0"/>
              <a:endCxn id="1033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52" name="AutoShape 27"/>
            <p:cNvCxnSpPr>
              <a:stCxn id="1031" idx="0"/>
              <a:endCxn id="1030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53" name="AutoShape 28"/>
            <p:cNvCxnSpPr>
              <a:stCxn id="1030" idx="0"/>
              <a:endCxn id="1029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1054" name="Text Box 29"/>
          <p:cNvSpPr/>
          <p:nvPr/>
        </p:nvSpPr>
        <p:spPr>
          <a:xfrm>
            <a:off x="6324480" y="5943600"/>
            <a:ext cx="3343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5" name="Text Box 30"/>
          <p:cNvSpPr/>
          <p:nvPr/>
        </p:nvSpPr>
        <p:spPr>
          <a:xfrm>
            <a:off x="5181480" y="1660680"/>
            <a:ext cx="19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6" name="Text Box 31"/>
          <p:cNvSpPr/>
          <p:nvPr/>
        </p:nvSpPr>
        <p:spPr>
          <a:xfrm>
            <a:off x="5105520" y="55627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7" name="Text Box 32"/>
          <p:cNvSpPr/>
          <p:nvPr/>
        </p:nvSpPr>
        <p:spPr>
          <a:xfrm>
            <a:off x="6918480" y="4403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8" name="Text Box 33"/>
          <p:cNvSpPr/>
          <p:nvPr/>
        </p:nvSpPr>
        <p:spPr>
          <a:xfrm>
            <a:off x="517680" y="6308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49320" y="404640"/>
            <a:ext cx="8986680" cy="583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2" descr=""/>
          <p:cNvPicPr/>
          <p:nvPr/>
        </p:nvPicPr>
        <p:blipFill>
          <a:blip r:embed="rId1"/>
          <a:stretch/>
        </p:blipFill>
        <p:spPr>
          <a:xfrm>
            <a:off x="2843280" y="260280"/>
            <a:ext cx="518004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1" name="Picture 2" descr=""/>
          <p:cNvPicPr/>
          <p:nvPr/>
        </p:nvPicPr>
        <p:blipFill>
          <a:blip r:embed="rId1"/>
          <a:stretch/>
        </p:blipFill>
        <p:spPr>
          <a:xfrm>
            <a:off x="204840" y="765000"/>
            <a:ext cx="873432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The Core of Constraint Compu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ciding on variables/domains/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Sym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acktrac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mercial Re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110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-tier software vendors use CP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6" name="Picture 4" descr="sap_logo"/>
          <p:cNvPicPr/>
          <p:nvPr/>
        </p:nvPicPr>
        <p:blipFill>
          <a:blip r:embed="rId1"/>
          <a:stretch/>
        </p:blipFill>
        <p:spPr>
          <a:xfrm>
            <a:off x="2173320" y="2878200"/>
            <a:ext cx="834840" cy="42228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5" descr="oralogo"/>
          <p:cNvPicPr/>
          <p:nvPr/>
        </p:nvPicPr>
        <p:blipFill>
          <a:blip r:embed="rId2"/>
          <a:stretch/>
        </p:blipFill>
        <p:spPr>
          <a:xfrm>
            <a:off x="3276720" y="2979720"/>
            <a:ext cx="2000160" cy="32076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6" descr="jde_logo"/>
          <p:cNvPicPr/>
          <p:nvPr/>
        </p:nvPicPr>
        <p:blipFill>
          <a:blip r:embed="rId3"/>
          <a:stretch/>
        </p:blipFill>
        <p:spPr>
          <a:xfrm>
            <a:off x="4686480" y="3809880"/>
            <a:ext cx="1600200" cy="52560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7" descr=""/>
          <p:cNvPicPr/>
          <p:nvPr/>
        </p:nvPicPr>
        <p:blipFill>
          <a:blip r:embed="rId4"/>
          <a:stretch/>
        </p:blipFill>
        <p:spPr>
          <a:xfrm>
            <a:off x="5638680" y="2681280"/>
            <a:ext cx="1059120" cy="77940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8" descr="i2_homepage_masthead_logo"/>
          <p:cNvPicPr/>
          <p:nvPr/>
        </p:nvPicPr>
        <p:blipFill>
          <a:blip r:embed="rId5"/>
          <a:stretch/>
        </p:blipFill>
        <p:spPr>
          <a:xfrm>
            <a:off x="2438280" y="3648240"/>
            <a:ext cx="14860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n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uzzle is actually a hard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P-comp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Group 4"/>
          <p:cNvGrpSpPr/>
          <p:nvPr/>
        </p:nvGrpSpPr>
        <p:grpSpPr>
          <a:xfrm>
            <a:off x="5105520" y="4267080"/>
            <a:ext cx="3657240" cy="1925280"/>
            <a:chOff x="5105520" y="4267080"/>
            <a:chExt cx="3657240" cy="1925280"/>
          </a:xfrm>
        </p:grpSpPr>
        <p:sp>
          <p:nvSpPr>
            <p:cNvPr id="1074" name="Oval 5"/>
            <p:cNvSpPr/>
            <p:nvPr/>
          </p:nvSpPr>
          <p:spPr>
            <a:xfrm>
              <a:off x="6102720" y="426708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5" name="Oval 6"/>
            <p:cNvSpPr/>
            <p:nvPr/>
          </p:nvSpPr>
          <p:spPr>
            <a:xfrm>
              <a:off x="6102720" y="499716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6" name="Oval 7"/>
            <p:cNvSpPr/>
            <p:nvPr/>
          </p:nvSpPr>
          <p:spPr>
            <a:xfrm>
              <a:off x="6102720" y="5727960"/>
              <a:ext cx="465480" cy="4644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7" name="Oval 8"/>
            <p:cNvSpPr/>
            <p:nvPr/>
          </p:nvSpPr>
          <p:spPr>
            <a:xfrm>
              <a:off x="7299720" y="426708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8" name="Oval 9"/>
            <p:cNvSpPr/>
            <p:nvPr/>
          </p:nvSpPr>
          <p:spPr>
            <a:xfrm>
              <a:off x="7299720" y="499716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9" name="Oval 10"/>
            <p:cNvSpPr/>
            <p:nvPr/>
          </p:nvSpPr>
          <p:spPr>
            <a:xfrm>
              <a:off x="7299720" y="5727960"/>
              <a:ext cx="465480" cy="4644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0" name="Oval 11"/>
            <p:cNvSpPr/>
            <p:nvPr/>
          </p:nvSpPr>
          <p:spPr>
            <a:xfrm>
              <a:off x="8297280" y="499716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1" name="Oval 12"/>
            <p:cNvSpPr/>
            <p:nvPr/>
          </p:nvSpPr>
          <p:spPr>
            <a:xfrm>
              <a:off x="5105520" y="4997160"/>
              <a:ext cx="465480" cy="4647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082" name="AutoShape 13"/>
            <p:cNvCxnSpPr>
              <a:stCxn id="1081" idx="7"/>
              <a:endCxn id="1074" idx="2"/>
            </p:cNvCxnSpPr>
            <p:nvPr/>
          </p:nvCxnSpPr>
          <p:spPr>
            <a:xfrm flipV="1">
              <a:off x="5502600" y="4498560"/>
              <a:ext cx="583560" cy="549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3" name="AutoShape 14"/>
            <p:cNvCxnSpPr>
              <a:stCxn id="1081" idx="6"/>
              <a:endCxn id="1075" idx="2"/>
            </p:cNvCxnSpPr>
            <p:nvPr/>
          </p:nvCxnSpPr>
          <p:spPr>
            <a:xfrm>
              <a:off x="5587560" y="5229360"/>
              <a:ext cx="49896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4" name="AutoShape 15"/>
            <p:cNvCxnSpPr>
              <a:stCxn id="1079" idx="6"/>
              <a:endCxn id="1080" idx="3"/>
            </p:cNvCxnSpPr>
            <p:nvPr/>
          </p:nvCxnSpPr>
          <p:spPr>
            <a:xfrm flipV="1">
              <a:off x="7781760" y="5410440"/>
              <a:ext cx="583560" cy="549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5" name="AutoShape 16"/>
            <p:cNvCxnSpPr>
              <a:stCxn id="1077" idx="6"/>
              <a:endCxn id="1080" idx="1"/>
            </p:cNvCxnSpPr>
            <p:nvPr/>
          </p:nvCxnSpPr>
          <p:spPr>
            <a:xfrm>
              <a:off x="7781760" y="4498920"/>
              <a:ext cx="583560" cy="549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6" name="AutoShape 17"/>
            <p:cNvCxnSpPr>
              <a:stCxn id="1075" idx="6"/>
              <a:endCxn id="1078" idx="2"/>
            </p:cNvCxnSpPr>
            <p:nvPr/>
          </p:nvCxnSpPr>
          <p:spPr>
            <a:xfrm>
              <a:off x="6584760" y="5229360"/>
              <a:ext cx="69876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7" name="AutoShape 18"/>
            <p:cNvCxnSpPr>
              <a:endCxn id="1078" idx="2"/>
            </p:cNvCxnSpPr>
            <p:nvPr/>
          </p:nvCxnSpPr>
          <p:spPr>
            <a:xfrm flipV="1">
              <a:off x="6584760" y="5229000"/>
              <a:ext cx="698760" cy="731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8" name="AutoShape 19"/>
            <p:cNvCxnSpPr>
              <a:stCxn id="1074" idx="6"/>
              <a:endCxn id="1077" idx="2"/>
            </p:cNvCxnSpPr>
            <p:nvPr/>
          </p:nvCxnSpPr>
          <p:spPr>
            <a:xfrm>
              <a:off x="6584760" y="4498920"/>
              <a:ext cx="69876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89" name="AutoShape 20"/>
            <p:cNvCxnSpPr>
              <a:stCxn id="1075" idx="6"/>
              <a:endCxn id="1077" idx="2"/>
            </p:cNvCxnSpPr>
            <p:nvPr/>
          </p:nvCxnSpPr>
          <p:spPr>
            <a:xfrm flipV="1">
              <a:off x="6584760" y="4498920"/>
              <a:ext cx="698760" cy="730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0" name="AutoShape 21"/>
            <p:cNvCxnSpPr>
              <a:stCxn id="1076" idx="6"/>
              <a:endCxn id="1079" idx="2"/>
            </p:cNvCxnSpPr>
            <p:nvPr/>
          </p:nvCxnSpPr>
          <p:spPr>
            <a:xfrm>
              <a:off x="6584760" y="5960160"/>
              <a:ext cx="69876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1" name="AutoShape 22"/>
            <p:cNvCxnSpPr>
              <a:stCxn id="1078" idx="6"/>
              <a:endCxn id="1080" idx="2"/>
            </p:cNvCxnSpPr>
            <p:nvPr/>
          </p:nvCxnSpPr>
          <p:spPr>
            <a:xfrm>
              <a:off x="7782120" y="5229360"/>
              <a:ext cx="49896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2" name="AutoShape 23"/>
            <p:cNvCxnSpPr>
              <a:stCxn id="1081" idx="5"/>
              <a:endCxn id="1076" idx="2"/>
            </p:cNvCxnSpPr>
            <p:nvPr/>
          </p:nvCxnSpPr>
          <p:spPr>
            <a:xfrm>
              <a:off x="5502600" y="5410800"/>
              <a:ext cx="583560" cy="549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3" name="AutoShape 24"/>
            <p:cNvCxnSpPr>
              <a:stCxn id="1078" idx="2"/>
              <a:endCxn id="1074" idx="6"/>
            </p:cNvCxnSpPr>
            <p:nvPr/>
          </p:nvCxnSpPr>
          <p:spPr>
            <a:xfrm flipH="1" flipV="1">
              <a:off x="6584400" y="4498920"/>
              <a:ext cx="698760" cy="730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4" name="AutoShape 25"/>
            <p:cNvCxnSpPr>
              <a:stCxn id="1079" idx="2"/>
              <a:endCxn id="1075" idx="6"/>
            </p:cNvCxnSpPr>
            <p:nvPr/>
          </p:nvCxnSpPr>
          <p:spPr>
            <a:xfrm flipH="1" flipV="1">
              <a:off x="6584400" y="5229000"/>
              <a:ext cx="698760" cy="7311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5" name="AutoShape 26"/>
            <p:cNvCxnSpPr>
              <a:stCxn id="1078" idx="0"/>
              <a:endCxn id="1077" idx="4"/>
            </p:cNvCxnSpPr>
            <p:nvPr/>
          </p:nvCxnSpPr>
          <p:spPr>
            <a:xfrm flipV="1">
              <a:off x="7532280" y="4748040"/>
              <a:ext cx="1080" cy="2325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6" name="AutoShape 27"/>
            <p:cNvCxnSpPr>
              <a:stCxn id="1079" idx="0"/>
              <a:endCxn id="1078" idx="4"/>
            </p:cNvCxnSpPr>
            <p:nvPr/>
          </p:nvCxnSpPr>
          <p:spPr>
            <a:xfrm flipV="1">
              <a:off x="7532280" y="5478120"/>
              <a:ext cx="1080" cy="232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7" name="AutoShape 28"/>
            <p:cNvCxnSpPr>
              <a:stCxn id="1076" idx="0"/>
              <a:endCxn id="1075" idx="4"/>
            </p:cNvCxnSpPr>
            <p:nvPr/>
          </p:nvCxnSpPr>
          <p:spPr>
            <a:xfrm flipV="1">
              <a:off x="6335280" y="5478120"/>
              <a:ext cx="1080" cy="232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098" name="AutoShape 29"/>
            <p:cNvCxnSpPr>
              <a:stCxn id="1075" idx="0"/>
              <a:endCxn id="1074" idx="4"/>
            </p:cNvCxnSpPr>
            <p:nvPr/>
          </p:nvCxnSpPr>
          <p:spPr>
            <a:xfrm flipV="1">
              <a:off x="6335280" y="4748040"/>
              <a:ext cx="1080" cy="2325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885960" y="1542960"/>
            <a:ext cx="61560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08080"/>
                </a:solidFill>
                <a:latin typeface="Times New Roman"/>
              </a:rPr>
              <a:t>Which nodes are hardest to numb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1447920" y="2286000"/>
            <a:ext cx="6290640" cy="3317040"/>
            <a:chOff x="1447920" y="2286000"/>
            <a:chExt cx="6290640" cy="3317040"/>
          </a:xfrm>
        </p:grpSpPr>
        <p:sp>
          <p:nvSpPr>
            <p:cNvPr id="106" name="Oval 5"/>
            <p:cNvSpPr/>
            <p:nvPr/>
          </p:nvSpPr>
          <p:spPr>
            <a:xfrm>
              <a:off x="3163320" y="2286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31633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3163320" y="48027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8"/>
            <p:cNvSpPr/>
            <p:nvPr/>
          </p:nvSpPr>
          <p:spPr>
            <a:xfrm>
              <a:off x="5222160" y="22860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Oval 9"/>
            <p:cNvSpPr/>
            <p:nvPr/>
          </p:nvSpPr>
          <p:spPr>
            <a:xfrm>
              <a:off x="522216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222160" y="48027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11"/>
            <p:cNvSpPr/>
            <p:nvPr/>
          </p:nvSpPr>
          <p:spPr>
            <a:xfrm>
              <a:off x="69379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12"/>
            <p:cNvSpPr/>
            <p:nvPr/>
          </p:nvSpPr>
          <p:spPr>
            <a:xfrm>
              <a:off x="1447920" y="35442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4" name="AutoShape 13"/>
            <p:cNvCxnSpPr>
              <a:stCxn id="113" idx="7"/>
              <a:endCxn id="106" idx="2"/>
            </p:cNvCxnSpPr>
            <p:nvPr/>
          </p:nvCxnSpPr>
          <p:spPr>
            <a:xfrm flipV="1">
              <a:off x="2131560" y="26856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5" name="AutoShape 14"/>
            <p:cNvCxnSpPr>
              <a:stCxn id="113" idx="6"/>
              <a:endCxn id="107" idx="2"/>
            </p:cNvCxnSpPr>
            <p:nvPr/>
          </p:nvCxnSpPr>
          <p:spPr>
            <a:xfrm>
              <a:off x="227736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6" name="AutoShape 15"/>
            <p:cNvCxnSpPr>
              <a:stCxn id="111" idx="6"/>
              <a:endCxn id="112" idx="3"/>
            </p:cNvCxnSpPr>
            <p:nvPr/>
          </p:nvCxnSpPr>
          <p:spPr>
            <a:xfrm flipV="1">
              <a:off x="6051240" y="42566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7" name="AutoShape 16"/>
            <p:cNvCxnSpPr>
              <a:stCxn id="109" idx="6"/>
              <a:endCxn id="112" idx="1"/>
            </p:cNvCxnSpPr>
            <p:nvPr/>
          </p:nvCxnSpPr>
          <p:spPr>
            <a:xfrm>
              <a:off x="6051240" y="26859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8" name="AutoShape 17"/>
            <p:cNvCxnSpPr>
              <a:stCxn id="107" idx="6"/>
              <a:endCxn id="110" idx="2"/>
            </p:cNvCxnSpPr>
            <p:nvPr/>
          </p:nvCxnSpPr>
          <p:spPr>
            <a:xfrm>
              <a:off x="3992400" y="39441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9" name="AutoShape 18"/>
            <p:cNvCxnSpPr>
              <a:endCxn id="110" idx="2"/>
            </p:cNvCxnSpPr>
            <p:nvPr/>
          </p:nvCxnSpPr>
          <p:spPr>
            <a:xfrm flipV="1">
              <a:off x="399240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0" name="AutoShape 19"/>
            <p:cNvCxnSpPr>
              <a:stCxn id="106" idx="6"/>
              <a:endCxn id="109" idx="2"/>
            </p:cNvCxnSpPr>
            <p:nvPr/>
          </p:nvCxnSpPr>
          <p:spPr>
            <a:xfrm>
              <a:off x="3992400" y="26859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1" name="AutoShape 20"/>
            <p:cNvCxnSpPr>
              <a:stCxn id="107" idx="6"/>
              <a:endCxn id="109" idx="2"/>
            </p:cNvCxnSpPr>
            <p:nvPr/>
          </p:nvCxnSpPr>
          <p:spPr>
            <a:xfrm flipV="1">
              <a:off x="399240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2" name="AutoShape 21"/>
            <p:cNvCxnSpPr>
              <a:stCxn id="108" idx="6"/>
              <a:endCxn id="111" idx="2"/>
            </p:cNvCxnSpPr>
            <p:nvPr/>
          </p:nvCxnSpPr>
          <p:spPr>
            <a:xfrm>
              <a:off x="3992400" y="52030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3" name="AutoShape 22"/>
            <p:cNvCxnSpPr>
              <a:stCxn id="110" idx="6"/>
              <a:endCxn id="112" idx="2"/>
            </p:cNvCxnSpPr>
            <p:nvPr/>
          </p:nvCxnSpPr>
          <p:spPr>
            <a:xfrm>
              <a:off x="605160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4" name="AutoShape 23"/>
            <p:cNvCxnSpPr>
              <a:stCxn id="113" idx="5"/>
              <a:endCxn id="108" idx="2"/>
            </p:cNvCxnSpPr>
            <p:nvPr/>
          </p:nvCxnSpPr>
          <p:spPr>
            <a:xfrm>
              <a:off x="2131560" y="42570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5" name="AutoShape 24"/>
            <p:cNvCxnSpPr>
              <a:stCxn id="110" idx="2"/>
              <a:endCxn id="106" idx="6"/>
            </p:cNvCxnSpPr>
            <p:nvPr/>
          </p:nvCxnSpPr>
          <p:spPr>
            <a:xfrm flipH="1" flipV="1">
              <a:off x="399204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6" name="AutoShape 25"/>
            <p:cNvCxnSpPr>
              <a:stCxn id="111" idx="2"/>
              <a:endCxn id="107" idx="6"/>
            </p:cNvCxnSpPr>
            <p:nvPr/>
          </p:nvCxnSpPr>
          <p:spPr>
            <a:xfrm flipH="1" flipV="1">
              <a:off x="399204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7" name="AutoShape 26"/>
            <p:cNvCxnSpPr>
              <a:stCxn id="110" idx="0"/>
              <a:endCxn id="109" idx="4"/>
            </p:cNvCxnSpPr>
            <p:nvPr/>
          </p:nvCxnSpPr>
          <p:spPr>
            <a:xfrm flipV="1">
              <a:off x="562212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8" name="AutoShape 27"/>
            <p:cNvCxnSpPr>
              <a:stCxn id="111" idx="0"/>
              <a:endCxn id="110" idx="4"/>
            </p:cNvCxnSpPr>
            <p:nvPr/>
          </p:nvCxnSpPr>
          <p:spPr>
            <a:xfrm flipV="1">
              <a:off x="562212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29" name="AutoShape 28"/>
            <p:cNvCxnSpPr>
              <a:stCxn id="108" idx="0"/>
              <a:endCxn id="107" idx="4"/>
            </p:cNvCxnSpPr>
            <p:nvPr/>
          </p:nvCxnSpPr>
          <p:spPr>
            <a:xfrm flipV="1">
              <a:off x="356328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30" name="AutoShape 29"/>
            <p:cNvCxnSpPr>
              <a:stCxn id="107" idx="0"/>
              <a:endCxn id="106" idx="4"/>
            </p:cNvCxnSpPr>
            <p:nvPr/>
          </p:nvCxnSpPr>
          <p:spPr>
            <a:xfrm flipV="1">
              <a:off x="356328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raint progra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 problem by specifying constraints on acceptabl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variables and do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 constraints on these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mental assignment / backtracking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 assignments / stochastic sear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 satisf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aint satisfaction problem (CSP) is a triple &lt;V,D,C&gt; whe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 is set of vari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X in V has set of values, D_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ssume finite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{true,false}, {red,blue,green}, [0,10],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is set of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al: find assignment of values to variables to satisfy all the constrai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Text Box 4"/>
          <p:cNvSpPr/>
          <p:nvPr/>
        </p:nvSpPr>
        <p:spPr>
          <a:xfrm>
            <a:off x="3166920" y="2924280"/>
            <a:ext cx="225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complex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Text Box 4"/>
          <p:cNvSpPr/>
          <p:nvPr/>
        </p:nvSpPr>
        <p:spPr>
          <a:xfrm>
            <a:off x="2064600" y="1557360"/>
            <a:ext cx="5663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ssu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 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ch with a domian size of 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ow many states might we conside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Example CS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10000"/>
                </a:solidFill>
                <a:latin typeface="Times New Roman"/>
              </a:rPr>
              <a:t>Variable,</a:t>
            </a:r>
            <a:r>
              <a:rPr b="0" lang="en-IE" sz="2400" spc="-1" strike="noStrike">
                <a:solidFill>
                  <a:srgbClr val="66ff66"/>
                </a:solidFill>
                <a:latin typeface="Times New Roman"/>
              </a:rPr>
              <a:t>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IE" sz="2400" spc="-1" strike="noStrike">
                <a:solidFill>
                  <a:srgbClr val="010000"/>
                </a:solidFill>
                <a:latin typeface="Times New Roman"/>
              </a:rPr>
              <a:t>for each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10000"/>
                </a:solidFill>
                <a:latin typeface="Times New Roman"/>
              </a:rPr>
              <a:t>Domain of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{1, …, 8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All valu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Different(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4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6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7 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No consecutive numbers for adjoining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| 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|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- v</a:t>
            </a:r>
            <a:r>
              <a:rPr b="0" lang="en-IE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 | &gt;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7" name="Group 4"/>
          <p:cNvGrpSpPr/>
          <p:nvPr/>
        </p:nvGrpSpPr>
        <p:grpSpPr>
          <a:xfrm>
            <a:off x="609480" y="2971800"/>
            <a:ext cx="3885840" cy="2619000"/>
            <a:chOff x="609480" y="2971800"/>
            <a:chExt cx="3885840" cy="2619000"/>
          </a:xfrm>
        </p:grpSpPr>
        <p:sp>
          <p:nvSpPr>
            <p:cNvPr id="1108" name="Oval 5"/>
            <p:cNvSpPr/>
            <p:nvPr/>
          </p:nvSpPr>
          <p:spPr>
            <a:xfrm>
              <a:off x="1669320" y="297180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9" name="Oval 6"/>
            <p:cNvSpPr/>
            <p:nvPr/>
          </p:nvSpPr>
          <p:spPr>
            <a:xfrm>
              <a:off x="1669320" y="396504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0" name="Oval 7"/>
            <p:cNvSpPr/>
            <p:nvPr/>
          </p:nvSpPr>
          <p:spPr>
            <a:xfrm>
              <a:off x="1669320" y="4959000"/>
              <a:ext cx="494640" cy="6318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1" name="Oval 8"/>
            <p:cNvSpPr/>
            <p:nvPr/>
          </p:nvSpPr>
          <p:spPr>
            <a:xfrm>
              <a:off x="2940840" y="297180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2" name="Oval 9"/>
            <p:cNvSpPr/>
            <p:nvPr/>
          </p:nvSpPr>
          <p:spPr>
            <a:xfrm>
              <a:off x="2940840" y="396504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3" name="Oval 10"/>
            <p:cNvSpPr/>
            <p:nvPr/>
          </p:nvSpPr>
          <p:spPr>
            <a:xfrm>
              <a:off x="2940840" y="4959000"/>
              <a:ext cx="494640" cy="6318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4" name="Oval 11"/>
            <p:cNvSpPr/>
            <p:nvPr/>
          </p:nvSpPr>
          <p:spPr>
            <a:xfrm>
              <a:off x="4000680" y="396504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5" name="Oval 12"/>
            <p:cNvSpPr/>
            <p:nvPr/>
          </p:nvSpPr>
          <p:spPr>
            <a:xfrm>
              <a:off x="609480" y="3965040"/>
              <a:ext cx="494640" cy="63216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116" name="AutoShape 13"/>
            <p:cNvCxnSpPr>
              <a:stCxn id="1115" idx="7"/>
              <a:endCxn id="1108" idx="2"/>
            </p:cNvCxnSpPr>
            <p:nvPr/>
          </p:nvCxnSpPr>
          <p:spPr>
            <a:xfrm flipV="1">
              <a:off x="1031760" y="3287520"/>
              <a:ext cx="619920" cy="7473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17" name="AutoShape 14"/>
            <p:cNvCxnSpPr>
              <a:stCxn id="1115" idx="6"/>
              <a:endCxn id="1109" idx="2"/>
            </p:cNvCxnSpPr>
            <p:nvPr/>
          </p:nvCxnSpPr>
          <p:spPr>
            <a:xfrm>
              <a:off x="1121400" y="4280760"/>
              <a:ext cx="53028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18" name="AutoShape 15"/>
            <p:cNvCxnSpPr>
              <a:stCxn id="1113" idx="6"/>
              <a:endCxn id="1114" idx="3"/>
            </p:cNvCxnSpPr>
            <p:nvPr/>
          </p:nvCxnSpPr>
          <p:spPr>
            <a:xfrm flipV="1">
              <a:off x="3453480" y="4527360"/>
              <a:ext cx="619920" cy="747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19" name="AutoShape 16"/>
            <p:cNvCxnSpPr>
              <a:stCxn id="1111" idx="6"/>
              <a:endCxn id="1114" idx="1"/>
            </p:cNvCxnSpPr>
            <p:nvPr/>
          </p:nvCxnSpPr>
          <p:spPr>
            <a:xfrm>
              <a:off x="3453480" y="3287880"/>
              <a:ext cx="619920" cy="7473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0" name="AutoShape 17"/>
            <p:cNvCxnSpPr>
              <a:stCxn id="1109" idx="6"/>
              <a:endCxn id="1112" idx="2"/>
            </p:cNvCxnSpPr>
            <p:nvPr/>
          </p:nvCxnSpPr>
          <p:spPr>
            <a:xfrm>
              <a:off x="2181600" y="4280760"/>
              <a:ext cx="742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1" name="AutoShape 18"/>
            <p:cNvCxnSpPr>
              <a:endCxn id="1112" idx="2"/>
            </p:cNvCxnSpPr>
            <p:nvPr/>
          </p:nvCxnSpPr>
          <p:spPr>
            <a:xfrm flipV="1">
              <a:off x="2181600" y="4281120"/>
              <a:ext cx="742320" cy="9939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2" name="AutoShape 19"/>
            <p:cNvCxnSpPr>
              <a:stCxn id="1108" idx="6"/>
              <a:endCxn id="1111" idx="2"/>
            </p:cNvCxnSpPr>
            <p:nvPr/>
          </p:nvCxnSpPr>
          <p:spPr>
            <a:xfrm>
              <a:off x="2181600" y="3287520"/>
              <a:ext cx="742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3" name="AutoShape 20"/>
            <p:cNvCxnSpPr>
              <a:stCxn id="1109" idx="6"/>
              <a:endCxn id="1111" idx="2"/>
            </p:cNvCxnSpPr>
            <p:nvPr/>
          </p:nvCxnSpPr>
          <p:spPr>
            <a:xfrm flipV="1">
              <a:off x="2181600" y="3287160"/>
              <a:ext cx="742320" cy="9939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4" name="AutoShape 21"/>
            <p:cNvCxnSpPr>
              <a:stCxn id="1110" idx="6"/>
              <a:endCxn id="1113" idx="2"/>
            </p:cNvCxnSpPr>
            <p:nvPr/>
          </p:nvCxnSpPr>
          <p:spPr>
            <a:xfrm>
              <a:off x="2181600" y="5274720"/>
              <a:ext cx="742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5" name="AutoShape 22"/>
            <p:cNvCxnSpPr>
              <a:stCxn id="1112" idx="6"/>
              <a:endCxn id="1114" idx="2"/>
            </p:cNvCxnSpPr>
            <p:nvPr/>
          </p:nvCxnSpPr>
          <p:spPr>
            <a:xfrm>
              <a:off x="3453120" y="4280760"/>
              <a:ext cx="53028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6" name="AutoShape 23"/>
            <p:cNvCxnSpPr>
              <a:stCxn id="1115" idx="5"/>
              <a:endCxn id="1110" idx="2"/>
            </p:cNvCxnSpPr>
            <p:nvPr/>
          </p:nvCxnSpPr>
          <p:spPr>
            <a:xfrm>
              <a:off x="1031760" y="4527720"/>
              <a:ext cx="619920" cy="7477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7" name="AutoShape 24"/>
            <p:cNvCxnSpPr>
              <a:stCxn id="1112" idx="2"/>
              <a:endCxn id="1108" idx="6"/>
            </p:cNvCxnSpPr>
            <p:nvPr/>
          </p:nvCxnSpPr>
          <p:spPr>
            <a:xfrm flipH="1" flipV="1">
              <a:off x="2181240" y="3287160"/>
              <a:ext cx="742320" cy="9939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8" name="AutoShape 25"/>
            <p:cNvCxnSpPr>
              <a:stCxn id="1113" idx="2"/>
              <a:endCxn id="1109" idx="6"/>
            </p:cNvCxnSpPr>
            <p:nvPr/>
          </p:nvCxnSpPr>
          <p:spPr>
            <a:xfrm flipH="1" flipV="1">
              <a:off x="2181240" y="4281120"/>
              <a:ext cx="742320" cy="99396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29" name="AutoShape 26"/>
            <p:cNvCxnSpPr>
              <a:stCxn id="1112" idx="0"/>
              <a:endCxn id="1111" idx="4"/>
            </p:cNvCxnSpPr>
            <p:nvPr/>
          </p:nvCxnSpPr>
          <p:spPr>
            <a:xfrm flipV="1">
              <a:off x="3187800" y="3625920"/>
              <a:ext cx="1080" cy="31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30" name="AutoShape 27"/>
            <p:cNvCxnSpPr>
              <a:stCxn id="1113" idx="0"/>
              <a:endCxn id="1112" idx="4"/>
            </p:cNvCxnSpPr>
            <p:nvPr/>
          </p:nvCxnSpPr>
          <p:spPr>
            <a:xfrm flipV="1">
              <a:off x="3187800" y="4619880"/>
              <a:ext cx="1080" cy="31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31" name="AutoShape 28"/>
            <p:cNvCxnSpPr>
              <a:stCxn id="1110" idx="0"/>
              <a:endCxn id="1109" idx="4"/>
            </p:cNvCxnSpPr>
            <p:nvPr/>
          </p:nvCxnSpPr>
          <p:spPr>
            <a:xfrm flipV="1">
              <a:off x="1916280" y="4619880"/>
              <a:ext cx="1080" cy="31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132" name="AutoShape 29"/>
            <p:cNvCxnSpPr>
              <a:stCxn id="1109" idx="0"/>
              <a:endCxn id="1108" idx="4"/>
            </p:cNvCxnSpPr>
            <p:nvPr/>
          </p:nvCxnSpPr>
          <p:spPr>
            <a:xfrm flipV="1">
              <a:off x="1916280" y="3625920"/>
              <a:ext cx="1080" cy="31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raints are tuples &lt;S,R&gt; w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 is the scope, [X1,X2, … Xm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of variables to which constraint ap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 is relation specifying allowed values (go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et of D_X1 x D_X2 x … x D_X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be specified intensionally or extensio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a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of goods (or for tight constraints, nogood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nsional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1 =/= X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*X1 + 6*X2 &lt; X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different([X1,X2,X3,X4])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Text Box 2"/>
          <p:cNvSpPr/>
          <p:nvPr/>
        </p:nvSpPr>
        <p:spPr>
          <a:xfrm>
            <a:off x="3155040" y="2743200"/>
            <a:ext cx="253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ore exampl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 Box 4"/>
          <p:cNvSpPr/>
          <p:nvPr/>
        </p:nvSpPr>
        <p:spPr>
          <a:xfrm>
            <a:off x="769680" y="1916280"/>
            <a:ext cx="747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 you know any constraint satisfaction problem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9" name="Text Box 5"/>
          <p:cNvSpPr/>
          <p:nvPr/>
        </p:nvSpPr>
        <p:spPr>
          <a:xfrm>
            <a:off x="3199680" y="6308640"/>
            <a:ext cx="58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 a man with a hammer, everything looks like a nai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133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4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9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0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41" name="AutoShape 12"/>
            <p:cNvCxnSpPr>
              <a:stCxn id="140" idx="7"/>
              <a:endCxn id="133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2" name="AutoShape 13"/>
            <p:cNvCxnSpPr>
              <a:stCxn id="140" idx="6"/>
              <a:endCxn id="134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3" name="AutoShape 14"/>
            <p:cNvCxnSpPr>
              <a:stCxn id="138" idx="6"/>
              <a:endCxn id="139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4" name="AutoShape 15"/>
            <p:cNvCxnSpPr>
              <a:stCxn id="136" idx="6"/>
              <a:endCxn id="139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5" name="AutoShape 16"/>
            <p:cNvCxnSpPr>
              <a:stCxn id="134" idx="6"/>
              <a:endCxn id="137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6" name="AutoShape 17"/>
            <p:cNvCxnSpPr>
              <a:endCxn id="137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7" name="AutoShape 18"/>
            <p:cNvCxnSpPr>
              <a:stCxn id="133" idx="6"/>
              <a:endCxn id="136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8" name="AutoShape 19"/>
            <p:cNvCxnSpPr>
              <a:stCxn id="134" idx="6"/>
              <a:endCxn id="136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49" name="AutoShape 20"/>
            <p:cNvCxnSpPr>
              <a:stCxn id="135" idx="6"/>
              <a:endCxn id="138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0" name="AutoShape 21"/>
            <p:cNvCxnSpPr>
              <a:stCxn id="137" idx="6"/>
              <a:endCxn id="139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1" name="AutoShape 22"/>
            <p:cNvCxnSpPr>
              <a:stCxn id="140" idx="5"/>
              <a:endCxn id="135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2" name="AutoShape 23"/>
            <p:cNvCxnSpPr>
              <a:stCxn id="137" idx="2"/>
              <a:endCxn id="133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3" name="AutoShape 24"/>
            <p:cNvCxnSpPr>
              <a:stCxn id="138" idx="2"/>
              <a:endCxn id="134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4" name="AutoShape 25"/>
            <p:cNvCxnSpPr>
              <a:stCxn id="137" idx="0"/>
              <a:endCxn id="136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5" name="AutoShape 26"/>
            <p:cNvCxnSpPr>
              <a:stCxn id="138" idx="0"/>
              <a:endCxn id="137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6" name="AutoShape 27"/>
            <p:cNvCxnSpPr>
              <a:stCxn id="135" idx="0"/>
              <a:endCxn id="134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57" name="AutoShape 28"/>
            <p:cNvCxnSpPr>
              <a:stCxn id="134" idx="0"/>
              <a:endCxn id="133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158" name="Oval 29"/>
          <p:cNvSpPr/>
          <p:nvPr/>
        </p:nvSpPr>
        <p:spPr>
          <a:xfrm>
            <a:off x="3141720" y="3532320"/>
            <a:ext cx="799920" cy="79992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Oval 30"/>
          <p:cNvSpPr/>
          <p:nvPr/>
        </p:nvSpPr>
        <p:spPr>
          <a:xfrm>
            <a:off x="5200560" y="3532320"/>
            <a:ext cx="800280" cy="799920"/>
          </a:xfrm>
          <a:prstGeom prst="ellipse">
            <a:avLst/>
          </a:prstGeom>
          <a:solidFill>
            <a:srgbClr val="66ff66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Text Box 2"/>
          <p:cNvSpPr/>
          <p:nvPr/>
        </p:nvSpPr>
        <p:spPr>
          <a:xfrm>
            <a:off x="2660400" y="278928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n-queens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2" name="Text Box 3"/>
          <p:cNvSpPr/>
          <p:nvPr/>
        </p:nvSpPr>
        <p:spPr>
          <a:xfrm>
            <a:off x="3267360" y="4419720"/>
            <a:ext cx="20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demo in O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3" name="Object 4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 Box 2"/>
          <p:cNvSpPr/>
          <p:nvPr/>
        </p:nvSpPr>
        <p:spPr>
          <a:xfrm>
            <a:off x="2154240" y="2443320"/>
            <a:ext cx="436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Exam timetabl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Text Box 2"/>
          <p:cNvSpPr/>
          <p:nvPr/>
        </p:nvSpPr>
        <p:spPr>
          <a:xfrm>
            <a:off x="4577040" y="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Example, Exam Timetab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7" name="Text Box 3"/>
          <p:cNvSpPr/>
          <p:nvPr/>
        </p:nvSpPr>
        <p:spPr>
          <a:xfrm>
            <a:off x="1676160" y="1600200"/>
            <a:ext cx="59457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omeone timetables the exa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e have a number of courses to exam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many?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ept has 36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Facul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Univers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are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a student S takes courses Cx and C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x and Cy cannot be at same time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Cy and Cz have no students in comm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y can go in room R1 if there is spa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emporal and resource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Text Box 2"/>
          <p:cNvSpPr/>
          <p:nvPr/>
        </p:nvSpPr>
        <p:spPr>
          <a:xfrm>
            <a:off x="4577040" y="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Example, Exam Timetab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9" name="Text Box 3"/>
          <p:cNvSpPr/>
          <p:nvPr/>
        </p:nvSpPr>
        <p:spPr>
          <a:xfrm>
            <a:off x="1427040" y="1523880"/>
            <a:ext cx="58010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epresent as graph colou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tices are cour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lours are tim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vertices have weight (room requirement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edge connects vertices of diff colou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complex is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we have n vertices and k tim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n n-digit number to the base k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would you solve thi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acktracking search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reed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omething el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GA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SA, TS, GLS, HC, ..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Text Box 2"/>
          <p:cNvSpPr/>
          <p:nvPr/>
        </p:nvSpPr>
        <p:spPr>
          <a:xfrm>
            <a:off x="4577040" y="0"/>
            <a:ext cx="46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 Example, Exam Timetabl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1" name="Text Box 3"/>
          <p:cNvSpPr/>
          <p:nvPr/>
        </p:nvSpPr>
        <p:spPr>
          <a:xfrm>
            <a:off x="1584720" y="2590920"/>
            <a:ext cx="5363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ow does the person solve thi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that person intelligent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s there always a solution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there isn’t, do we want to know wh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o you think they can work out “why”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2075760" y="2971800"/>
            <a:ext cx="436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ossword puzzle gener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2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5" name="Rectangle 3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6" name="Rectangle 4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7" name="Rectangle 5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8" name="Rectangle 6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9" name="Rectangle 7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0" name="Rectangle 8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1" name="Rectangle 9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2" name="Rectangle 10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3" name="Rectangle 11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4" name="Rectangle 12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5" name="Rectangle 13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6" name="Rectangle 14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7" name="Rectangle 15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8" name="Rectangle 16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9" name="Rectangle 17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0" name="Rectangle 18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Rectangle 19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2" name="Rectangle 20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3" name="Rectangle 21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4" name="Rectangle 22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5" name="Rectangle 23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6" name="Rectangle 24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7" name="Rectangle 25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8" name="Text Box 26"/>
          <p:cNvSpPr/>
          <p:nvPr/>
        </p:nvSpPr>
        <p:spPr>
          <a:xfrm>
            <a:off x="74674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9" name="Text Box 27"/>
          <p:cNvSpPr/>
          <p:nvPr/>
        </p:nvSpPr>
        <p:spPr>
          <a:xfrm>
            <a:off x="914400" y="4572000"/>
            <a:ext cx="7315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ke a crossword puzzle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iven the above grid and a dictionary, fill i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go get the clues (not my proble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2"/>
          <p:cNvSpPr/>
          <p:nvPr/>
        </p:nvSpPr>
        <p:spPr>
          <a:xfrm>
            <a:off x="1219320" y="4724280"/>
            <a:ext cx="1904760" cy="18288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1" name="Text Box 3"/>
          <p:cNvSpPr/>
          <p:nvPr/>
        </p:nvSpPr>
        <p:spPr>
          <a:xfrm>
            <a:off x="1371600" y="4724280"/>
            <a:ext cx="35053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A       1 acro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D       4 dow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D       2 dow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A       4 acro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D       7 dow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2" name="Rectangle 4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3" name="Rectangle 5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4" name="Rectangle 6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5" name="Rectangle 7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6" name="Rectangle 8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7" name="Rectangle 9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8" name="Rectangle 10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9" name="Rectangle 11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0" name="Rectangle 12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1" name="Rectangle 13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2" name="Rectangle 14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3" name="Rectangle 15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4" name="Rectangle 16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5" name="Rectangle 17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6" name="Rectangle 18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7" name="Rectangle 19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8" name="Rectangle 20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9" name="Rectangle 21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0" name="Rectangle 22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1" name="Rectangle 23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2" name="Rectangle 24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3" name="Rectangle 25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4" name="Rectangle 26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5" name="Rectangle 27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6" name="Oval 28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7" name="Oval 29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8" name="Oval 30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9" name="Oval 31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0" name="Oval 32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1" name="Line 33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2" name="Line 34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3" name="Line 35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4" name="Line 36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5" name="Line 37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6" name="Text Box 38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7" name="Text Box 39"/>
          <p:cNvSpPr/>
          <p:nvPr/>
        </p:nvSpPr>
        <p:spPr>
          <a:xfrm>
            <a:off x="3355560" y="5338800"/>
            <a:ext cx="149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Variabl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2"/>
          <p:cNvSpPr/>
          <p:nvPr/>
        </p:nvSpPr>
        <p:spPr>
          <a:xfrm>
            <a:off x="685800" y="4495680"/>
            <a:ext cx="373392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9" name="Rectangle 3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0" name="Rectangle 4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1" name="Rectangle 5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2" name="Rectangle 6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3" name="Rectangle 7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4" name="Rectangle 8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5" name="Rectangle 9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6" name="Rectangle 10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7" name="Rectangle 11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8" name="Rectangle 12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9" name="Rectangle 13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0" name="Rectangle 14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1" name="Rectangle 15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2" name="Rectangle 16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3" name="Rectangle 17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4" name="Rectangle 18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5" name="Rectangle 19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6" name="Rectangle 20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7" name="Rectangle 21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8" name="Rectangle 22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9" name="Rectangle 23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0" name="Rectangle 24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1" name="Rectangle 25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2" name="Rectangle 26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3" name="Oval 27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4" name="Oval 28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5" name="Oval 29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6" name="Oval 30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7" name="Oval 31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8" name="Line 32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9" name="Line 33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0" name="Line 34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1" name="Line 35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2" name="Line 36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3" name="Text Box 37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4" name="Text Box 38"/>
          <p:cNvSpPr/>
          <p:nvPr/>
        </p:nvSpPr>
        <p:spPr>
          <a:xfrm>
            <a:off x="838080" y="4648320"/>
            <a:ext cx="37339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A-4D: 4th of 1A equals 1st of 4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A-2D: 2nd of 1A equals 1st of 2D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D-4A: 4th of 2D equals 2nd of4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D-4A: 4th of 4A equals 4th of 4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A-7D: 7th of 4A equals 2nd of 7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5" name="Text Box 39"/>
          <p:cNvSpPr/>
          <p:nvPr/>
        </p:nvSpPr>
        <p:spPr>
          <a:xfrm>
            <a:off x="4645440" y="5334120"/>
            <a:ext cx="182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162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cc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70" name="AutoShape 12"/>
            <p:cNvCxnSpPr>
              <a:stCxn id="169" idx="7"/>
              <a:endCxn id="162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1" name="AutoShape 13"/>
            <p:cNvCxnSpPr>
              <a:stCxn id="169" idx="6"/>
              <a:endCxn id="163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2" name="AutoShape 14"/>
            <p:cNvCxnSpPr>
              <a:stCxn id="167" idx="6"/>
              <a:endCxn id="168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3" name="AutoShape 15"/>
            <p:cNvCxnSpPr>
              <a:stCxn id="165" idx="6"/>
              <a:endCxn id="168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4" name="AutoShape 16"/>
            <p:cNvCxnSpPr>
              <a:stCxn id="163" idx="6"/>
              <a:endCxn id="166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5" name="AutoShape 17"/>
            <p:cNvCxnSpPr>
              <a:endCxn id="166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6" name="AutoShape 18"/>
            <p:cNvCxnSpPr>
              <a:stCxn id="162" idx="6"/>
              <a:endCxn id="165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7" name="AutoShape 19"/>
            <p:cNvCxnSpPr>
              <a:stCxn id="163" idx="6"/>
              <a:endCxn id="165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8" name="AutoShape 20"/>
            <p:cNvCxnSpPr>
              <a:stCxn id="164" idx="6"/>
              <a:endCxn id="167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79" name="AutoShape 21"/>
            <p:cNvCxnSpPr>
              <a:stCxn id="166" idx="6"/>
              <a:endCxn id="168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0" name="AutoShape 22"/>
            <p:cNvCxnSpPr>
              <a:stCxn id="169" idx="5"/>
              <a:endCxn id="164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1" name="AutoShape 23"/>
            <p:cNvCxnSpPr>
              <a:stCxn id="166" idx="2"/>
              <a:endCxn id="162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2" name="AutoShape 24"/>
            <p:cNvCxnSpPr>
              <a:stCxn id="167" idx="2"/>
              <a:endCxn id="163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3" name="AutoShape 25"/>
            <p:cNvCxnSpPr>
              <a:stCxn id="166" idx="0"/>
              <a:endCxn id="165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4" name="AutoShape 26"/>
            <p:cNvCxnSpPr>
              <a:stCxn id="167" idx="0"/>
              <a:endCxn id="166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5" name="AutoShape 27"/>
            <p:cNvCxnSpPr>
              <a:stCxn id="164" idx="0"/>
              <a:endCxn id="163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86" name="AutoShape 28"/>
            <p:cNvCxnSpPr>
              <a:stCxn id="163" idx="0"/>
              <a:endCxn id="162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187" name="Text Box 29"/>
          <p:cNvSpPr/>
          <p:nvPr/>
        </p:nvSpPr>
        <p:spPr>
          <a:xfrm>
            <a:off x="883440" y="1542960"/>
            <a:ext cx="78310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08080"/>
                </a:solidFill>
                <a:latin typeface="Times New Roman"/>
              </a:rPr>
              <a:t>Which are the least constraining values to us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2"/>
          <p:cNvSpPr/>
          <p:nvPr/>
        </p:nvSpPr>
        <p:spPr>
          <a:xfrm>
            <a:off x="762120" y="4572000"/>
            <a:ext cx="2514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7" name="Rectangle 3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8" name="Rectangle 4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9" name="Rectangle 5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0" name="Rectangle 6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1" name="Rectangle 7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2" name="Rectangle 8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3" name="Rectangle 9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4" name="Rectangle 10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5" name="Rectangle 11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6" name="Rectangle 12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7" name="Rectangle 13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8" name="Rectangle 14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9" name="Rectangle 15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0" name="Rectangle 16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1" name="Rectangle 17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2" name="Rectangle 18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3" name="Rectangle 19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4" name="Rectangle 20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5" name="Rectangle 21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6" name="Rectangle 22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7" name="Rectangle 23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8" name="Rectangle 24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9" name="Rectangle 25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0" name="Rectangle 26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1" name="Oval 27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2" name="Oval 28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3" name="Oval 29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4" name="Oval 30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5" name="Oval 31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6" name="Line 32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7" name="Line 33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8" name="Line 34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9" name="Line 35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0" name="Line 36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1" name="Text Box 37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2" name="Text Box 38"/>
          <p:cNvSpPr/>
          <p:nvPr/>
        </p:nvSpPr>
        <p:spPr>
          <a:xfrm>
            <a:off x="838080" y="4648320"/>
            <a:ext cx="243864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A: any 6 letter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A: any 8 letter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D: any 5 letter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D: any 7 letter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D: any 3 letter wor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3" name="Text Box 39"/>
          <p:cNvSpPr/>
          <p:nvPr/>
        </p:nvSpPr>
        <p:spPr>
          <a:xfrm>
            <a:off x="3370320" y="563868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omains (also unary constraints!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2"/>
          <p:cNvSpPr/>
          <p:nvPr/>
        </p:nvSpPr>
        <p:spPr>
          <a:xfrm>
            <a:off x="762120" y="4572000"/>
            <a:ext cx="2514600" cy="2057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6" name="Rectangle 4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7" name="Rectangle 5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8" name="Rectangle 6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1" name="Rectangle 9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2" name="Rectangle 10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3" name="Rectangle 11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4" name="Rectangle 12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5" name="Rectangle 13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6" name="Rectangle 14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7" name="Rectangle 15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8" name="Rectangle 16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9" name="Rectangle 17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Rectangle 18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1" name="Rectangle 19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Rectangle 20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3" name="Rectangle 21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4" name="Rectangle 22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5" name="Rectangle 23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6" name="Rectangle 24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Rectangle 25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8" name="Rectangle 26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9" name="Oval 27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Oval 28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Oval 29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2" name="Oval 30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3" name="Oval 31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4" name="Line 32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5" name="Line 33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6" name="Line 34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7" name="Line 35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8" name="Line 36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9" name="Text Box 37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0" name="Text Box 38"/>
          <p:cNvSpPr/>
          <p:nvPr/>
        </p:nvSpPr>
        <p:spPr>
          <a:xfrm>
            <a:off x="838080" y="4648320"/>
            <a:ext cx="2286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ind an assignment of values to variables, from their domains, such that the constraints are satisfied (or show that no assignment exist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1" name="Text Box 39"/>
          <p:cNvSpPr/>
          <p:nvPr/>
        </p:nvSpPr>
        <p:spPr>
          <a:xfrm>
            <a:off x="3678840" y="5257800"/>
            <a:ext cx="10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CSP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 Box 2"/>
          <p:cNvSpPr/>
          <p:nvPr/>
        </p:nvSpPr>
        <p:spPr>
          <a:xfrm>
            <a:off x="380880" y="4572000"/>
            <a:ext cx="4724640" cy="1819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hoose a vari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ssign it a val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heck compatibilit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not compatible try a new valu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f no values remain re-assign previous variab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3" name="Rectangle 3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4" name="Rectangle 4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5" name="Rectangle 5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Rectangle 6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7" name="Rectangle 7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8" name="Rectangle 8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9" name="Rectangle 9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0" name="Rectangle 10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1" name="Rectangle 11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2" name="Rectangle 12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3" name="Rectangle 13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4" name="Rectangle 14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5" name="Rectangle 15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6" name="Rectangle 16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7" name="Rectangle 17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8" name="Rectangle 18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9" name="Rectangle 19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0" name="Rectangle 20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1" name="Rectangle 21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2" name="Rectangle 22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3" name="Rectangle 23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4" name="Rectangle 24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5" name="Rectangle 25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6" name="Rectangle 26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7" name="Oval 27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8" name="Oval 28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9" name="Oval 29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0" name="Oval 30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1" name="Oval 31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2" name="Line 32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3" name="Line 33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4" name="Line 34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5" name="Line 35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6" name="Line 36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7" name="Text Box 37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8" name="Text Box 38"/>
          <p:cNvSpPr/>
          <p:nvPr/>
        </p:nvSpPr>
        <p:spPr>
          <a:xfrm>
            <a:off x="5450040" y="609588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Good old fashioned BT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Text Box 2"/>
          <p:cNvSpPr/>
          <p:nvPr/>
        </p:nvSpPr>
        <p:spPr>
          <a:xfrm>
            <a:off x="304920" y="4572000"/>
            <a:ext cx="327636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variable should I choos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0" name="Rectangle 3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1" name="Rectangle 4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2" name="Rectangle 5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3" name="Rectangle 6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4" name="Rectangle 7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Rectangle 8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6" name="Rectangle 9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Rectangle 10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8" name="Rectangle 11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9" name="Rectangle 12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0" name="Rectangle 13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1" name="Rectangle 14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Rectangle 15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3" name="Rectangle 16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4" name="Rectangle 17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5" name="Rectangle 18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6" name="Rectangle 19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7" name="Rectangle 20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8" name="Rectangle 21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9" name="Rectangle 22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0" name="Rectangle 23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1" name="Rectangle 24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2" name="Rectangle 25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3" name="Rectangle 26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4" name="Oval 27"/>
          <p:cNvSpPr/>
          <p:nvPr/>
        </p:nvSpPr>
        <p:spPr>
          <a:xfrm>
            <a:off x="518148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5" name="Oval 28"/>
          <p:cNvSpPr/>
          <p:nvPr/>
        </p:nvSpPr>
        <p:spPr>
          <a:xfrm>
            <a:off x="7162920" y="190512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6" name="Oval 29"/>
          <p:cNvSpPr/>
          <p:nvPr/>
        </p:nvSpPr>
        <p:spPr>
          <a:xfrm>
            <a:off x="5257800" y="3657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7" name="Oval 30"/>
          <p:cNvSpPr/>
          <p:nvPr/>
        </p:nvSpPr>
        <p:spPr>
          <a:xfrm>
            <a:off x="7315200" y="4800600"/>
            <a:ext cx="68580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7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8" name="Oval 31"/>
          <p:cNvSpPr/>
          <p:nvPr/>
        </p:nvSpPr>
        <p:spPr>
          <a:xfrm>
            <a:off x="7238880" y="3581280"/>
            <a:ext cx="685800" cy="609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9" name="Line 32"/>
          <p:cNvSpPr/>
          <p:nvPr/>
        </p:nvSpPr>
        <p:spPr>
          <a:xfrm>
            <a:off x="5867280" y="22096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0" name="Line 33"/>
          <p:cNvSpPr/>
          <p:nvPr/>
        </p:nvSpPr>
        <p:spPr>
          <a:xfrm>
            <a:off x="5562720" y="25146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1" name="Line 34"/>
          <p:cNvSpPr/>
          <p:nvPr/>
        </p:nvSpPr>
        <p:spPr>
          <a:xfrm>
            <a:off x="5943600" y="39625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2" name="Line 35"/>
          <p:cNvSpPr/>
          <p:nvPr/>
        </p:nvSpPr>
        <p:spPr>
          <a:xfrm>
            <a:off x="7543800" y="25146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3" name="Line 36"/>
          <p:cNvSpPr/>
          <p:nvPr/>
        </p:nvSpPr>
        <p:spPr>
          <a:xfrm>
            <a:off x="7620120" y="41911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4" name="Text Box 37"/>
          <p:cNvSpPr/>
          <p:nvPr/>
        </p:nvSpPr>
        <p:spPr>
          <a:xfrm>
            <a:off x="7461360" y="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5" name="Text Box 38"/>
          <p:cNvSpPr/>
          <p:nvPr/>
        </p:nvSpPr>
        <p:spPr>
          <a:xfrm>
            <a:off x="6056640" y="6400800"/>
            <a:ext cx="31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cisions, decisions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6" name="Text Box 39"/>
          <p:cNvSpPr/>
          <p:nvPr/>
        </p:nvSpPr>
        <p:spPr>
          <a:xfrm>
            <a:off x="228600" y="5029200"/>
            <a:ext cx="3276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value should I choose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7" name="Text Box 40"/>
          <p:cNvSpPr/>
          <p:nvPr/>
        </p:nvSpPr>
        <p:spPr>
          <a:xfrm>
            <a:off x="228600" y="5486400"/>
            <a:ext cx="5334120" cy="580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reasoning can I do when making an assignment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8" name="Text Box 41"/>
          <p:cNvSpPr/>
          <p:nvPr/>
        </p:nvSpPr>
        <p:spPr>
          <a:xfrm>
            <a:off x="228600" y="5943600"/>
            <a:ext cx="525780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hat reasoning can I do on a dead end?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2"/>
          <p:cNvSpPr/>
          <p:nvPr/>
        </p:nvSpPr>
        <p:spPr>
          <a:xfrm>
            <a:off x="914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0" name="Rectangle 3"/>
          <p:cNvSpPr/>
          <p:nvPr/>
        </p:nvSpPr>
        <p:spPr>
          <a:xfrm>
            <a:off x="1295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1" name="Rectangle 4"/>
          <p:cNvSpPr/>
          <p:nvPr/>
        </p:nvSpPr>
        <p:spPr>
          <a:xfrm>
            <a:off x="1676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2" name="Rectangle 5"/>
          <p:cNvSpPr/>
          <p:nvPr/>
        </p:nvSpPr>
        <p:spPr>
          <a:xfrm>
            <a:off x="205740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3" name="Rectangle 6"/>
          <p:cNvSpPr/>
          <p:nvPr/>
        </p:nvSpPr>
        <p:spPr>
          <a:xfrm>
            <a:off x="2438280" y="1143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4" name="Rectangle 7"/>
          <p:cNvSpPr/>
          <p:nvPr/>
        </p:nvSpPr>
        <p:spPr>
          <a:xfrm>
            <a:off x="2819520" y="1143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5" name="Rectangle 8"/>
          <p:cNvSpPr/>
          <p:nvPr/>
        </p:nvSpPr>
        <p:spPr>
          <a:xfrm>
            <a:off x="1295280" y="1523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6" name="Rectangle 9"/>
          <p:cNvSpPr/>
          <p:nvPr/>
        </p:nvSpPr>
        <p:spPr>
          <a:xfrm>
            <a:off x="1295280" y="1905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7" name="Rectangle 10"/>
          <p:cNvSpPr/>
          <p:nvPr/>
        </p:nvSpPr>
        <p:spPr>
          <a:xfrm>
            <a:off x="1295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8" name="Rectangle 11"/>
          <p:cNvSpPr/>
          <p:nvPr/>
        </p:nvSpPr>
        <p:spPr>
          <a:xfrm>
            <a:off x="1295280" y="2666880"/>
            <a:ext cx="38124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9" name="Rectangle 12"/>
          <p:cNvSpPr/>
          <p:nvPr/>
        </p:nvSpPr>
        <p:spPr>
          <a:xfrm>
            <a:off x="1295280" y="304812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0" name="Rectangle 13"/>
          <p:cNvSpPr/>
          <p:nvPr/>
        </p:nvSpPr>
        <p:spPr>
          <a:xfrm>
            <a:off x="1295280" y="3429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1" name="Rectangle 14"/>
          <p:cNvSpPr/>
          <p:nvPr/>
        </p:nvSpPr>
        <p:spPr>
          <a:xfrm>
            <a:off x="1676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2" name="Rectangle 15"/>
          <p:cNvSpPr/>
          <p:nvPr/>
        </p:nvSpPr>
        <p:spPr>
          <a:xfrm>
            <a:off x="914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3" name="Rectangle 16"/>
          <p:cNvSpPr/>
          <p:nvPr/>
        </p:nvSpPr>
        <p:spPr>
          <a:xfrm>
            <a:off x="2057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4" name="Rectangle 17"/>
          <p:cNvSpPr/>
          <p:nvPr/>
        </p:nvSpPr>
        <p:spPr>
          <a:xfrm>
            <a:off x="2438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5" name="Rectangle 18"/>
          <p:cNvSpPr/>
          <p:nvPr/>
        </p:nvSpPr>
        <p:spPr>
          <a:xfrm>
            <a:off x="2057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6" name="Rectangle 19"/>
          <p:cNvSpPr/>
          <p:nvPr/>
        </p:nvSpPr>
        <p:spPr>
          <a:xfrm>
            <a:off x="2057400" y="1523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7" name="Rectangle 20"/>
          <p:cNvSpPr/>
          <p:nvPr/>
        </p:nvSpPr>
        <p:spPr>
          <a:xfrm>
            <a:off x="2057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8" name="Rectangle 21"/>
          <p:cNvSpPr/>
          <p:nvPr/>
        </p:nvSpPr>
        <p:spPr>
          <a:xfrm>
            <a:off x="281952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9" name="Rectangle 22"/>
          <p:cNvSpPr/>
          <p:nvPr/>
        </p:nvSpPr>
        <p:spPr>
          <a:xfrm>
            <a:off x="3200400" y="228600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0" name="Rectangle 23"/>
          <p:cNvSpPr/>
          <p:nvPr/>
        </p:nvSpPr>
        <p:spPr>
          <a:xfrm>
            <a:off x="3581280" y="2286000"/>
            <a:ext cx="3812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1" name="Rectangle 24"/>
          <p:cNvSpPr/>
          <p:nvPr/>
        </p:nvSpPr>
        <p:spPr>
          <a:xfrm>
            <a:off x="3200400" y="2666880"/>
            <a:ext cx="3808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2" name="Rectangle 25"/>
          <p:cNvSpPr/>
          <p:nvPr/>
        </p:nvSpPr>
        <p:spPr>
          <a:xfrm>
            <a:off x="3200400" y="1905120"/>
            <a:ext cx="38088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3" name="Text Box 26"/>
          <p:cNvSpPr/>
          <p:nvPr/>
        </p:nvSpPr>
        <p:spPr>
          <a:xfrm>
            <a:off x="74674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4" name="Text Box 27"/>
          <p:cNvSpPr/>
          <p:nvPr/>
        </p:nvSpPr>
        <p:spPr>
          <a:xfrm>
            <a:off x="914400" y="4572000"/>
            <a:ext cx="50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there an alternative representation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Text Box 4"/>
          <p:cNvSpPr/>
          <p:nvPr/>
        </p:nvSpPr>
        <p:spPr>
          <a:xfrm>
            <a:off x="5038560" y="0"/>
            <a:ext cx="41054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roblems of interest to 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6" name="Text Box 5"/>
          <p:cNvSpPr/>
          <p:nvPr/>
        </p:nvSpPr>
        <p:spPr>
          <a:xfrm>
            <a:off x="744120" y="692280"/>
            <a:ext cx="623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se are some of the problems that ha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een tackled by C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7" name="Text Box 7"/>
          <p:cNvSpPr/>
          <p:nvPr/>
        </p:nvSpPr>
        <p:spPr>
          <a:xfrm>
            <a:off x="1992600" y="1700280"/>
            <a:ext cx="5200200" cy="455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actory scheduling (JSS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vehicle routing (VR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cking problems (NumPart and BinPack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imetabling (exams, lectures, train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onfiguration and design (hardwar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orkforce management (call centres, et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r sequencing (assembly line schedul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upertree construction (bioinformatic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etwork design (telecoms probl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ate arrival (at airport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gistics (Desert Storm an example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craft maintenance schedu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craft crew scheduling (commercial airline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ir cover for naval fle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Text Box 5"/>
          <p:cNvSpPr/>
          <p:nvPr/>
        </p:nvSpPr>
        <p:spPr>
          <a:xfrm>
            <a:off x="360" y="0"/>
            <a:ext cx="45439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will be covered in cour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9" name="Text Box 6"/>
          <p:cNvSpPr/>
          <p:nvPr/>
        </p:nvSpPr>
        <p:spPr>
          <a:xfrm>
            <a:off x="1620000" y="2781360"/>
            <a:ext cx="590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technology behind constraint programming (cp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p in JChoco/ja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modelling and solving proble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state of the ar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MOV00575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0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21925" fill="hold"/>
                                        <p:tgtEl>
                                          <p:spTgt spid="1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" restart="whenNotActive" nodeType="interactiveSeq" fill="hold">
                <p:stCondLst>
                  <p:cond evt="onClick">
                    <p:tgtEl>
                      <p:spTgt spid="1440"/>
                    </p:tgtEl>
                  </p:cond>
                </p:stCondLst>
                <p:childTnLst>
                  <p:par>
                    <p:cTn id="193" nodeType="clickEffect" fill="hold">
                      <p:stCondLst>
                        <p:cond evt="onClick">
                          <p:tgtEl>
                            <p:spTgt spid="1440"/>
                          </p:tgtEl>
                        </p:cond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6" dur="1" fill="hold"/>
                                        <p:tgtEl>
                                          <p:spTgt spid="1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190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198" name="AutoShape 12"/>
            <p:cNvCxnSpPr>
              <a:stCxn id="197" idx="7"/>
              <a:endCxn id="190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199" name="AutoShape 13"/>
            <p:cNvCxnSpPr>
              <a:stCxn id="197" idx="6"/>
              <a:endCxn id="191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0" name="AutoShape 14"/>
            <p:cNvCxnSpPr>
              <a:stCxn id="195" idx="6"/>
              <a:endCxn id="196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1" name="AutoShape 15"/>
            <p:cNvCxnSpPr>
              <a:stCxn id="193" idx="6"/>
              <a:endCxn id="196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2" name="AutoShape 16"/>
            <p:cNvCxnSpPr>
              <a:stCxn id="191" idx="6"/>
              <a:endCxn id="194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3" name="AutoShape 17"/>
            <p:cNvCxnSpPr>
              <a:endCxn id="194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4" name="AutoShape 18"/>
            <p:cNvCxnSpPr>
              <a:stCxn id="190" idx="6"/>
              <a:endCxn id="193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5" name="AutoShape 19"/>
            <p:cNvCxnSpPr>
              <a:stCxn id="191" idx="6"/>
              <a:endCxn id="193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6" name="AutoShape 20"/>
            <p:cNvCxnSpPr>
              <a:stCxn id="192" idx="6"/>
              <a:endCxn id="195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7" name="AutoShape 21"/>
            <p:cNvCxnSpPr>
              <a:stCxn id="194" idx="6"/>
              <a:endCxn id="196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8" name="AutoShape 22"/>
            <p:cNvCxnSpPr>
              <a:stCxn id="197" idx="5"/>
              <a:endCxn id="192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09" name="AutoShape 23"/>
            <p:cNvCxnSpPr>
              <a:stCxn id="194" idx="2"/>
              <a:endCxn id="190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10" name="AutoShape 24"/>
            <p:cNvCxnSpPr>
              <a:stCxn id="195" idx="2"/>
              <a:endCxn id="191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11" name="AutoShape 25"/>
            <p:cNvCxnSpPr>
              <a:stCxn id="194" idx="0"/>
              <a:endCxn id="193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12" name="AutoShape 26"/>
            <p:cNvCxnSpPr>
              <a:stCxn id="195" idx="0"/>
              <a:endCxn id="194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13" name="AutoShape 27"/>
            <p:cNvCxnSpPr>
              <a:stCxn id="192" idx="0"/>
              <a:endCxn id="191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14" name="AutoShape 28"/>
            <p:cNvCxnSpPr>
              <a:stCxn id="191" idx="0"/>
              <a:endCxn id="190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215" name="Text Box 29"/>
          <p:cNvSpPr/>
          <p:nvPr/>
        </p:nvSpPr>
        <p:spPr>
          <a:xfrm>
            <a:off x="893520" y="1542960"/>
            <a:ext cx="262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08080"/>
                </a:solidFill>
                <a:latin typeface="Times New Roman"/>
              </a:rPr>
              <a:t>Values 1 and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Heuristic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Group 3"/>
          <p:cNvGrpSpPr/>
          <p:nvPr/>
        </p:nvGrpSpPr>
        <p:grpSpPr>
          <a:xfrm>
            <a:off x="1425600" y="2273400"/>
            <a:ext cx="6290640" cy="3317040"/>
            <a:chOff x="1425600" y="2273400"/>
            <a:chExt cx="6290640" cy="3317040"/>
          </a:xfrm>
        </p:grpSpPr>
        <p:sp>
          <p:nvSpPr>
            <p:cNvPr id="218" name="Oval 4"/>
            <p:cNvSpPr/>
            <p:nvPr/>
          </p:nvSpPr>
          <p:spPr>
            <a:xfrm>
              <a:off x="3141000" y="22734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Oval 5"/>
            <p:cNvSpPr/>
            <p:nvPr/>
          </p:nvSpPr>
          <p:spPr>
            <a:xfrm>
              <a:off x="31410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Oval 6"/>
            <p:cNvSpPr/>
            <p:nvPr/>
          </p:nvSpPr>
          <p:spPr>
            <a:xfrm>
              <a:off x="3141000" y="47901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Oval 7"/>
            <p:cNvSpPr/>
            <p:nvPr/>
          </p:nvSpPr>
          <p:spPr>
            <a:xfrm>
              <a:off x="5199840" y="22734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Oval 8"/>
            <p:cNvSpPr/>
            <p:nvPr/>
          </p:nvSpPr>
          <p:spPr>
            <a:xfrm>
              <a:off x="519984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Oval 9"/>
            <p:cNvSpPr/>
            <p:nvPr/>
          </p:nvSpPr>
          <p:spPr>
            <a:xfrm>
              <a:off x="5199840" y="47901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Oval 10"/>
            <p:cNvSpPr/>
            <p:nvPr/>
          </p:nvSpPr>
          <p:spPr>
            <a:xfrm>
              <a:off x="69156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11"/>
            <p:cNvSpPr/>
            <p:nvPr/>
          </p:nvSpPr>
          <p:spPr>
            <a:xfrm>
              <a:off x="1425600" y="35316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226" name="AutoShape 12"/>
            <p:cNvCxnSpPr>
              <a:stCxn id="225" idx="7"/>
              <a:endCxn id="218" idx="2"/>
            </p:cNvCxnSpPr>
            <p:nvPr/>
          </p:nvCxnSpPr>
          <p:spPr>
            <a:xfrm flipV="1">
              <a:off x="2109240" y="26730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27" name="AutoShape 13"/>
            <p:cNvCxnSpPr>
              <a:stCxn id="225" idx="6"/>
              <a:endCxn id="219" idx="2"/>
            </p:cNvCxnSpPr>
            <p:nvPr/>
          </p:nvCxnSpPr>
          <p:spPr>
            <a:xfrm>
              <a:off x="22550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28" name="AutoShape 14"/>
            <p:cNvCxnSpPr>
              <a:stCxn id="223" idx="6"/>
              <a:endCxn id="224" idx="3"/>
            </p:cNvCxnSpPr>
            <p:nvPr/>
          </p:nvCxnSpPr>
          <p:spPr>
            <a:xfrm flipV="1">
              <a:off x="6029280" y="42440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29" name="AutoShape 15"/>
            <p:cNvCxnSpPr>
              <a:stCxn id="221" idx="6"/>
              <a:endCxn id="224" idx="1"/>
            </p:cNvCxnSpPr>
            <p:nvPr/>
          </p:nvCxnSpPr>
          <p:spPr>
            <a:xfrm>
              <a:off x="6029280" y="26733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0" name="AutoShape 16"/>
            <p:cNvCxnSpPr>
              <a:stCxn id="219" idx="6"/>
              <a:endCxn id="222" idx="2"/>
            </p:cNvCxnSpPr>
            <p:nvPr/>
          </p:nvCxnSpPr>
          <p:spPr>
            <a:xfrm>
              <a:off x="3970440" y="39315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1" name="AutoShape 17"/>
            <p:cNvCxnSpPr>
              <a:endCxn id="222" idx="2"/>
            </p:cNvCxnSpPr>
            <p:nvPr/>
          </p:nvCxnSpPr>
          <p:spPr>
            <a:xfrm flipV="1">
              <a:off x="397044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2" name="AutoShape 18"/>
            <p:cNvCxnSpPr>
              <a:stCxn id="218" idx="6"/>
              <a:endCxn id="221" idx="2"/>
            </p:cNvCxnSpPr>
            <p:nvPr/>
          </p:nvCxnSpPr>
          <p:spPr>
            <a:xfrm>
              <a:off x="3970440" y="26733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3" name="AutoShape 19"/>
            <p:cNvCxnSpPr>
              <a:stCxn id="219" idx="6"/>
              <a:endCxn id="221" idx="2"/>
            </p:cNvCxnSpPr>
            <p:nvPr/>
          </p:nvCxnSpPr>
          <p:spPr>
            <a:xfrm flipV="1">
              <a:off x="397044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4" name="AutoShape 20"/>
            <p:cNvCxnSpPr>
              <a:stCxn id="220" idx="6"/>
              <a:endCxn id="223" idx="2"/>
            </p:cNvCxnSpPr>
            <p:nvPr/>
          </p:nvCxnSpPr>
          <p:spPr>
            <a:xfrm>
              <a:off x="3970440" y="51904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5" name="AutoShape 21"/>
            <p:cNvCxnSpPr>
              <a:stCxn id="222" idx="6"/>
              <a:endCxn id="224" idx="2"/>
            </p:cNvCxnSpPr>
            <p:nvPr/>
          </p:nvCxnSpPr>
          <p:spPr>
            <a:xfrm>
              <a:off x="6029640" y="39315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6" name="AutoShape 22"/>
            <p:cNvCxnSpPr>
              <a:stCxn id="225" idx="5"/>
              <a:endCxn id="220" idx="2"/>
            </p:cNvCxnSpPr>
            <p:nvPr/>
          </p:nvCxnSpPr>
          <p:spPr>
            <a:xfrm>
              <a:off x="2109240" y="42444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7" name="AutoShape 23"/>
            <p:cNvCxnSpPr>
              <a:stCxn id="222" idx="2"/>
              <a:endCxn id="218" idx="6"/>
            </p:cNvCxnSpPr>
            <p:nvPr/>
          </p:nvCxnSpPr>
          <p:spPr>
            <a:xfrm flipH="1" flipV="1">
              <a:off x="3970080" y="26730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8" name="AutoShape 24"/>
            <p:cNvCxnSpPr>
              <a:stCxn id="223" idx="2"/>
              <a:endCxn id="219" idx="6"/>
            </p:cNvCxnSpPr>
            <p:nvPr/>
          </p:nvCxnSpPr>
          <p:spPr>
            <a:xfrm flipH="1" flipV="1">
              <a:off x="3970080" y="39315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39" name="AutoShape 25"/>
            <p:cNvCxnSpPr>
              <a:stCxn id="222" idx="0"/>
              <a:endCxn id="221" idx="4"/>
            </p:cNvCxnSpPr>
            <p:nvPr/>
          </p:nvCxnSpPr>
          <p:spPr>
            <a:xfrm flipV="1">
              <a:off x="560016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40" name="AutoShape 26"/>
            <p:cNvCxnSpPr>
              <a:stCxn id="223" idx="0"/>
              <a:endCxn id="222" idx="4"/>
            </p:cNvCxnSpPr>
            <p:nvPr/>
          </p:nvCxnSpPr>
          <p:spPr>
            <a:xfrm flipV="1">
              <a:off x="560016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41" name="AutoShape 27"/>
            <p:cNvCxnSpPr>
              <a:stCxn id="220" idx="0"/>
              <a:endCxn id="219" idx="4"/>
            </p:cNvCxnSpPr>
            <p:nvPr/>
          </p:nvCxnSpPr>
          <p:spPr>
            <a:xfrm flipV="1">
              <a:off x="3541320" y="43606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42" name="AutoShape 28"/>
            <p:cNvCxnSpPr>
              <a:stCxn id="219" idx="0"/>
              <a:endCxn id="218" idx="4"/>
            </p:cNvCxnSpPr>
            <p:nvPr/>
          </p:nvCxnSpPr>
          <p:spPr>
            <a:xfrm flipV="1">
              <a:off x="3541320" y="31021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243" name="Text Box 29"/>
          <p:cNvSpPr/>
          <p:nvPr/>
        </p:nvSpPr>
        <p:spPr>
          <a:xfrm>
            <a:off x="893520" y="1542960"/>
            <a:ext cx="26218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08080"/>
                </a:solidFill>
                <a:latin typeface="Times New Roman"/>
              </a:rPr>
              <a:t>Values 1 and 8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30"/>
          <p:cNvSpPr/>
          <p:nvPr/>
        </p:nvSpPr>
        <p:spPr>
          <a:xfrm>
            <a:off x="895680" y="6004080"/>
            <a:ext cx="63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mmetry means we don’t need to consider:  8   1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Times New Roman"/>
              </a:rPr>
              <a:t>Inference/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1371600" y="2286000"/>
            <a:ext cx="6290640" cy="3317040"/>
            <a:chOff x="1371600" y="2286000"/>
            <a:chExt cx="6290640" cy="3317040"/>
          </a:xfrm>
        </p:grpSpPr>
        <p:sp>
          <p:nvSpPr>
            <p:cNvPr id="247" name="Oval 4"/>
            <p:cNvSpPr/>
            <p:nvPr/>
          </p:nvSpPr>
          <p:spPr>
            <a:xfrm>
              <a:off x="3087000" y="22860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5"/>
            <p:cNvSpPr/>
            <p:nvPr/>
          </p:nvSpPr>
          <p:spPr>
            <a:xfrm>
              <a:off x="3087000" y="35442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6"/>
            <p:cNvSpPr/>
            <p:nvPr/>
          </p:nvSpPr>
          <p:spPr>
            <a:xfrm>
              <a:off x="3087000" y="48027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Oval 7"/>
            <p:cNvSpPr/>
            <p:nvPr/>
          </p:nvSpPr>
          <p:spPr>
            <a:xfrm>
              <a:off x="5145840" y="22860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Oval 8"/>
            <p:cNvSpPr/>
            <p:nvPr/>
          </p:nvSpPr>
          <p:spPr>
            <a:xfrm>
              <a:off x="5145840" y="35442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8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5145840" y="4802760"/>
              <a:ext cx="800640" cy="80028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Oval 10"/>
            <p:cNvSpPr/>
            <p:nvPr/>
          </p:nvSpPr>
          <p:spPr>
            <a:xfrm>
              <a:off x="6861600" y="35442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Oval 11"/>
            <p:cNvSpPr/>
            <p:nvPr/>
          </p:nvSpPr>
          <p:spPr>
            <a:xfrm>
              <a:off x="1371600" y="3544200"/>
              <a:ext cx="800640" cy="801000"/>
            </a:xfrm>
            <a:prstGeom prst="ellipse">
              <a:avLst/>
            </a:prstGeom>
            <a:solidFill>
              <a:srgbClr val="ff0000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IE" sz="3200" spc="-1" strike="noStrike">
                  <a:solidFill>
                    <a:srgbClr val="80808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cxnSp>
          <p:nvCxnSpPr>
            <p:cNvPr id="255" name="AutoShape 12"/>
            <p:cNvCxnSpPr>
              <a:stCxn id="254" idx="7"/>
              <a:endCxn id="247" idx="2"/>
            </p:cNvCxnSpPr>
            <p:nvPr/>
          </p:nvCxnSpPr>
          <p:spPr>
            <a:xfrm flipV="1">
              <a:off x="2055240" y="268560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56" name="AutoShape 13"/>
            <p:cNvCxnSpPr>
              <a:stCxn id="254" idx="6"/>
              <a:endCxn id="248" idx="2"/>
            </p:cNvCxnSpPr>
            <p:nvPr/>
          </p:nvCxnSpPr>
          <p:spPr>
            <a:xfrm>
              <a:off x="220104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57" name="AutoShape 14"/>
            <p:cNvCxnSpPr>
              <a:stCxn id="252" idx="6"/>
              <a:endCxn id="253" idx="3"/>
            </p:cNvCxnSpPr>
            <p:nvPr/>
          </p:nvCxnSpPr>
          <p:spPr>
            <a:xfrm flipV="1">
              <a:off x="5975280" y="425664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58" name="AutoShape 15"/>
            <p:cNvCxnSpPr>
              <a:stCxn id="250" idx="6"/>
              <a:endCxn id="253" idx="1"/>
            </p:cNvCxnSpPr>
            <p:nvPr/>
          </p:nvCxnSpPr>
          <p:spPr>
            <a:xfrm>
              <a:off x="5975280" y="2685960"/>
              <a:ext cx="1003320" cy="9464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59" name="AutoShape 16"/>
            <p:cNvCxnSpPr>
              <a:stCxn id="248" idx="6"/>
              <a:endCxn id="251" idx="2"/>
            </p:cNvCxnSpPr>
            <p:nvPr/>
          </p:nvCxnSpPr>
          <p:spPr>
            <a:xfrm>
              <a:off x="3916440" y="39441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0" name="AutoShape 17"/>
            <p:cNvCxnSpPr>
              <a:endCxn id="251" idx="2"/>
            </p:cNvCxnSpPr>
            <p:nvPr/>
          </p:nvCxnSpPr>
          <p:spPr>
            <a:xfrm flipV="1">
              <a:off x="391644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1" name="AutoShape 18"/>
            <p:cNvCxnSpPr>
              <a:stCxn id="247" idx="6"/>
              <a:endCxn id="250" idx="2"/>
            </p:cNvCxnSpPr>
            <p:nvPr/>
          </p:nvCxnSpPr>
          <p:spPr>
            <a:xfrm>
              <a:off x="3916440" y="268596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2" name="AutoShape 19"/>
            <p:cNvCxnSpPr>
              <a:stCxn id="248" idx="6"/>
              <a:endCxn id="250" idx="2"/>
            </p:cNvCxnSpPr>
            <p:nvPr/>
          </p:nvCxnSpPr>
          <p:spPr>
            <a:xfrm flipV="1">
              <a:off x="391644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3" name="AutoShape 20"/>
            <p:cNvCxnSpPr>
              <a:stCxn id="249" idx="6"/>
              <a:endCxn id="252" idx="2"/>
            </p:cNvCxnSpPr>
            <p:nvPr/>
          </p:nvCxnSpPr>
          <p:spPr>
            <a:xfrm>
              <a:off x="3916440" y="5203080"/>
              <a:ext cx="120132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4" name="AutoShape 21"/>
            <p:cNvCxnSpPr>
              <a:stCxn id="251" idx="6"/>
              <a:endCxn id="253" idx="2"/>
            </p:cNvCxnSpPr>
            <p:nvPr/>
          </p:nvCxnSpPr>
          <p:spPr>
            <a:xfrm>
              <a:off x="5975640" y="3944160"/>
              <a:ext cx="858240" cy="10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5" name="AutoShape 22"/>
            <p:cNvCxnSpPr>
              <a:stCxn id="254" idx="5"/>
              <a:endCxn id="249" idx="2"/>
            </p:cNvCxnSpPr>
            <p:nvPr/>
          </p:nvCxnSpPr>
          <p:spPr>
            <a:xfrm>
              <a:off x="2055240" y="4257000"/>
              <a:ext cx="1003320" cy="94680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6" name="AutoShape 23"/>
            <p:cNvCxnSpPr>
              <a:stCxn id="251" idx="2"/>
              <a:endCxn id="247" idx="6"/>
            </p:cNvCxnSpPr>
            <p:nvPr/>
          </p:nvCxnSpPr>
          <p:spPr>
            <a:xfrm flipH="1" flipV="1">
              <a:off x="3916080" y="2685600"/>
              <a:ext cx="1201320" cy="125892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7" name="AutoShape 24"/>
            <p:cNvCxnSpPr>
              <a:stCxn id="252" idx="2"/>
              <a:endCxn id="248" idx="6"/>
            </p:cNvCxnSpPr>
            <p:nvPr/>
          </p:nvCxnSpPr>
          <p:spPr>
            <a:xfrm flipH="1" flipV="1">
              <a:off x="3916080" y="3944160"/>
              <a:ext cx="1201320" cy="12592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8" name="AutoShape 25"/>
            <p:cNvCxnSpPr>
              <a:stCxn id="251" idx="0"/>
              <a:endCxn id="250" idx="4"/>
            </p:cNvCxnSpPr>
            <p:nvPr/>
          </p:nvCxnSpPr>
          <p:spPr>
            <a:xfrm flipV="1">
              <a:off x="554616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69" name="AutoShape 26"/>
            <p:cNvCxnSpPr>
              <a:stCxn id="252" idx="0"/>
              <a:endCxn id="251" idx="4"/>
            </p:cNvCxnSpPr>
            <p:nvPr/>
          </p:nvCxnSpPr>
          <p:spPr>
            <a:xfrm flipV="1">
              <a:off x="554616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70" name="AutoShape 27"/>
            <p:cNvCxnSpPr>
              <a:stCxn id="249" idx="0"/>
              <a:endCxn id="248" idx="4"/>
            </p:cNvCxnSpPr>
            <p:nvPr/>
          </p:nvCxnSpPr>
          <p:spPr>
            <a:xfrm flipV="1">
              <a:off x="3487320" y="4373280"/>
              <a:ext cx="1080" cy="40104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  <p:cxnSp>
          <p:nvCxnSpPr>
            <p:cNvPr id="271" name="AutoShape 28"/>
            <p:cNvCxnSpPr>
              <a:stCxn id="248" idx="0"/>
              <a:endCxn id="247" idx="4"/>
            </p:cNvCxnSpPr>
            <p:nvPr/>
          </p:nvCxnSpPr>
          <p:spPr>
            <a:xfrm flipV="1">
              <a:off x="3487320" y="3114720"/>
              <a:ext cx="1080" cy="400680"/>
            </a:xfrm>
            <a:prstGeom prst="straightConnector1">
              <a:avLst/>
            </a:prstGeom>
            <a:ln w="38160">
              <a:solidFill>
                <a:srgbClr val="808080"/>
              </a:solidFill>
              <a:miter/>
            </a:ln>
          </p:spPr>
        </p:cxnSp>
      </p:grpSp>
      <p:sp>
        <p:nvSpPr>
          <p:cNvPr id="272" name="Text Box 29"/>
          <p:cNvSpPr/>
          <p:nvPr/>
        </p:nvSpPr>
        <p:spPr>
          <a:xfrm>
            <a:off x="228600" y="5943600"/>
            <a:ext cx="9439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08080"/>
                </a:solidFill>
                <a:latin typeface="Times New Roman"/>
              </a:rPr>
              <a:t>We can now eliminate many values for other no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2286000" y="1660680"/>
            <a:ext cx="267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0:33:15Z</dcterms:created>
  <dc:creator>Patrick Prosser</dc:creator>
  <dc:description/>
  <dc:language>en-US</dc:language>
  <cp:lastModifiedBy>Patrick Prosser</cp:lastModifiedBy>
  <cp:lastPrinted>2004-01-12T11:00:27Z</cp:lastPrinted>
  <dcterms:modified xsi:type="dcterms:W3CDTF">2020-01-07T14:31:16Z</dcterms:modified>
  <cp:revision>19</cp:revision>
  <dc:subject/>
  <dc:title>No Slide Title</dc:title>
</cp:coreProperties>
</file>