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EE9-765A-4EAB-94FE-04151748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C3A-767D-485A-8E87-95106115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242-AACD-448E-95DD-2B304904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EE5-D2A0-4A10-9A53-C5C2E7EE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3F4-3B5B-4255-8A25-329DC94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0F7-99FD-49CD-A162-BDA7CE4D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7DC-3035-42D2-AAE9-6371267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08C-FA01-4061-8429-A2F6D51D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617-5946-4A1F-B911-3EC70BD0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2B8-AF53-4C8D-861E-DC8698DF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A07-E84B-4D09-8058-6332E28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868-8C6E-4E39-BED8-612D0435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4AFB-8442-4A55-9EB6-96FEE67E76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31920" y="28526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20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24000" y="2205000"/>
            <a:ext cx="27352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rcRect l="0" t="13753" r="43663" b="8364"/>
          <a:stretch/>
        </p:blipFill>
        <p:spPr>
          <a:xfrm>
            <a:off x="179280" y="150840"/>
            <a:ext cx="8875800" cy="65181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1187280" y="4406760"/>
            <a:ext cx="7705800" cy="677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433680" y="2852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ile &amp; Ru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DominoGraphsO6"/>
          <p:cNvPicPr/>
          <p:nvPr/>
        </p:nvPicPr>
        <p:blipFill>
          <a:blip r:embed="rId1"/>
          <a:stretch/>
        </p:blipFill>
        <p:spPr>
          <a:xfrm>
            <a:off x="324000" y="1333440"/>
            <a:ext cx="83516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783" t="11158" r="58666" b="75218"/>
          <a:stretch/>
        </p:blipFill>
        <p:spPr>
          <a:xfrm>
            <a:off x="468360" y="2349360"/>
            <a:ext cx="8064360" cy="203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0" t="13095" r="51494" b="24206"/>
          <a:stretch/>
        </p:blipFill>
        <p:spPr>
          <a:xfrm>
            <a:off x="27000" y="260280"/>
            <a:ext cx="900900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rcRect l="0" t="13095" r="51494" b="24206"/>
          <a:stretch/>
        </p:blipFill>
        <p:spPr>
          <a:xfrm>
            <a:off x="27000" y="260280"/>
            <a:ext cx="9009000" cy="6188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1116000" y="2930400"/>
            <a:ext cx="5327640" cy="503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rcRect l="0" t="13095" r="51494" b="24206"/>
          <a:stretch/>
        </p:blipFill>
        <p:spPr>
          <a:xfrm>
            <a:off x="0" y="230040"/>
            <a:ext cx="9010800" cy="61884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187280" y="3645000"/>
            <a:ext cx="4680000" cy="792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rcRect l="0" t="13095" r="51494" b="24206"/>
          <a:stretch/>
        </p:blipFill>
        <p:spPr>
          <a:xfrm>
            <a:off x="0" y="230040"/>
            <a:ext cx="9010800" cy="6188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1187280" y="4508640"/>
            <a:ext cx="6048720" cy="576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rcRect l="0" t="13095" r="51494" b="24206"/>
          <a:stretch/>
        </p:blipFill>
        <p:spPr>
          <a:xfrm>
            <a:off x="0" y="230040"/>
            <a:ext cx="9010800" cy="6188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1187280" y="4976640"/>
            <a:ext cx="7823520" cy="468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0" t="13095" r="51494" b="24206"/>
          <a:stretch/>
        </p:blipFill>
        <p:spPr>
          <a:xfrm>
            <a:off x="0" y="230040"/>
            <a:ext cx="9010800" cy="6188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1187280" y="5589720"/>
            <a:ext cx="5472360" cy="336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723640" y="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many dominos are the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6" descr="falling_dominos_small"/>
          <p:cNvPicPr/>
          <p:nvPr/>
        </p:nvPicPr>
        <p:blipFill>
          <a:blip r:embed="rId1"/>
          <a:stretch/>
        </p:blipFill>
        <p:spPr>
          <a:xfrm>
            <a:off x="1116000" y="67464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928960" y="29242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ile &amp; Ru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577880" y="2852640"/>
            <a:ext cx="5577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ing stars and bars count number of solutions 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 + y + z = 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trees"/>
          <p:cNvPicPr/>
          <p:nvPr/>
        </p:nvPicPr>
        <p:blipFill>
          <a:blip r:embed="rId1"/>
          <a:stretch/>
        </p:blipFill>
        <p:spPr>
          <a:xfrm>
            <a:off x="2987640" y="1052640"/>
            <a:ext cx="32432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723640" y="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many dominos are the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5" descr="4876_antique_domino_set_1"/>
          <p:cNvPicPr/>
          <p:nvPr/>
        </p:nvPicPr>
        <p:blipFill>
          <a:blip r:embed="rId1"/>
          <a:stretch/>
        </p:blipFill>
        <p:spPr>
          <a:xfrm>
            <a:off x="324000" y="476280"/>
            <a:ext cx="8100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723640" y="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many dominos are the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815760" y="692280"/>
            <a:ext cx="37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ach domino has two sets of do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82560" y="198900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set of dots is in the range zero (blank)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8" descr="domino_sculpture_001_photosculpture-p153109581899556390qdjh_400"/>
          <p:cNvPicPr/>
          <p:nvPr/>
        </p:nvPicPr>
        <p:blipFill>
          <a:blip r:embed="rId1"/>
          <a:stretch/>
        </p:blipFill>
        <p:spPr>
          <a:xfrm>
            <a:off x="4427640" y="234936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723640" y="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many dominos are the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12160" y="836640"/>
            <a:ext cx="55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many pairs of numbers are there of the for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793240" y="148428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 ≤ x ≤ y ≤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9" descr="domino_sculpture_001_photosculpture-p153109581899556390qdjh_400"/>
          <p:cNvPicPr/>
          <p:nvPr/>
        </p:nvPicPr>
        <p:blipFill>
          <a:blip r:embed="rId1"/>
          <a:stretch/>
        </p:blipFill>
        <p:spPr>
          <a:xfrm>
            <a:off x="4427640" y="234936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2205000"/>
            <a:ext cx="27352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0" t="13753" r="43663" b="8364"/>
          <a:stretch/>
        </p:blipFill>
        <p:spPr>
          <a:xfrm>
            <a:off x="179280" y="150840"/>
            <a:ext cx="887580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24000" y="2205000"/>
            <a:ext cx="27352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0" t="13753" r="43663" b="8364"/>
          <a:stretch/>
        </p:blipFill>
        <p:spPr>
          <a:xfrm>
            <a:off x="179280" y="150840"/>
            <a:ext cx="8875800" cy="6518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1042920" y="2781360"/>
            <a:ext cx="4608720" cy="503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2205000"/>
            <a:ext cx="27352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rcRect l="0" t="13753" r="43663" b="8364"/>
          <a:stretch/>
        </p:blipFill>
        <p:spPr>
          <a:xfrm>
            <a:off x="179280" y="150840"/>
            <a:ext cx="8875800" cy="6518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116000" y="3409920"/>
            <a:ext cx="4608360" cy="503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24000" y="2205000"/>
            <a:ext cx="27352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rcRect l="0" t="13753" r="43663" b="8364"/>
          <a:stretch/>
        </p:blipFill>
        <p:spPr>
          <a:xfrm>
            <a:off x="179280" y="150840"/>
            <a:ext cx="8875800" cy="6518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1116000" y="3913200"/>
            <a:ext cx="3743280" cy="504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4:26:00Z</dcterms:created>
  <dc:creator>pat</dc:creator>
  <dc:description/>
  <dc:language>en-US</dc:language>
  <cp:lastModifiedBy>patrick</cp:lastModifiedBy>
  <dcterms:modified xsi:type="dcterms:W3CDTF">2020-01-29T16:08:18Z</dcterms:modified>
  <cp:revision>18</cp:revision>
  <dc:subject/>
  <dc:title>Slide 1</dc:title>
</cp:coreProperties>
</file>