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D82-02BE-4F63-BB39-E21078571A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7AC2-7A96-49B8-9028-AEE2BA461A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6174-8FD9-47AE-ACCD-4F31BC8088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2E0-CB16-4162-B9AE-BCD93886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EB0-C11F-457C-9DAC-BA554DB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664-20AB-4419-9E42-70DF7EF0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482-8C55-4F95-BA0C-656D7EB5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276-0BFE-465E-804A-C6D1A5D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C05-E4DB-4FBE-81C7-A2E6A038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972-5F66-42EF-BE7D-F882F98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732-FA46-48AF-8B9E-E54AB4D1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50B-6943-41FA-B13C-DB5AD0E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131-4A6A-4522-BC21-C92AA4F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C43-2E3F-490B-946E-E7654C4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709-97AA-40E5-B638-52953EF6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C8D-C039-47CA-A247-71B3CA8B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368880" y="2565360"/>
            <a:ext cx="288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c consistency (a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algorithm: ac3 (1977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26720" y="762120"/>
            <a:ext cx="2663280" cy="33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, is there 1-consistency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51080" y="1295280"/>
            <a:ext cx="5046480" cy="1310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we have unary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 odd(V[i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consistency, we weed out all odd values from D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ode-consistency (N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654200" y="3124080"/>
            <a:ext cx="6659280" cy="301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-consistency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ven constraints Cij and Cjk, disallow all pairs (x,z) in the constra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ik where there is no value y in Dj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ch that Cij(x,y) and Cjk(y,z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adds nogood tuples to an existing constraints, or crea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w constraint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metimes called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ath-consistency (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Given 2 variables in isolation, we can instantiate tho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istently, and pick any third variable and …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21240" y="0"/>
            <a:ext cx="3637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th-consistency (aka 3-consistenc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340000" y="4149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2340000" y="314172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4211640" y="3141720"/>
            <a:ext cx="180036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79640" y="3860640"/>
            <a:ext cx="720720" cy="648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851280" y="2781360"/>
            <a:ext cx="7207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5580000" y="3933720"/>
            <a:ext cx="7207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29560" y="5877000"/>
            <a:ext cx="38048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 might be no constraint Ci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3-consistency may create it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1596960" y="1125360"/>
                <a:ext cx="57708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z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4"/>
          <p:cNvSpPr/>
          <p:nvPr/>
        </p:nvSpPr>
        <p:spPr>
          <a:xfrm>
            <a:off x="4449600" y="4724280"/>
            <a:ext cx="4324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 may create nogood tuples {(i/x,k/z),…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increases size of model/proble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y result in more constraints to check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6084720" y="2349360"/>
                <a:ext cx="1225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6"/>
          <p:cNvSpPr/>
          <p:nvPr/>
        </p:nvSpPr>
        <p:spPr>
          <a:xfrm>
            <a:off x="6870240" y="2997360"/>
            <a:ext cx="172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. Singh, TAI-9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49280" y="14112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3: Mackworth 197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193480" y="2743200"/>
            <a:ext cx="44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an Mackworth presented ac1, ac2, and ac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1977. ac1 and ac2 were “straw men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040" y="0"/>
            <a:ext cx="37620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3: revise a constraint (pseudo cod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9280" y="1413000"/>
            <a:ext cx="878544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vise(i,j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vised := 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x in d[i]                                   // iterate over all values in d[i]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 supported := 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y in d[j] while ¬supported  // find first support in d[j] for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 supported := check(i,x,j,y)  // is v[i]=x &amp;&amp; v[j]=y consisten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¬supported                          // if no support, delete x from d[i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d[i] := d[i] \ {x}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vised := true                // and set revised to tr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turn revised                             // delivers true or 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7480" y="620640"/>
            <a:ext cx="84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iven constraint C_ij remove from the domain d_i all values that have no support in d_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5"/>
          <p:cNvGrpSpPr/>
          <p:nvPr/>
        </p:nvGrpSpPr>
        <p:grpSpPr>
          <a:xfrm>
            <a:off x="3657600" y="380880"/>
            <a:ext cx="1066680" cy="3124080"/>
            <a:chOff x="3657600" y="380880"/>
            <a:chExt cx="1066680" cy="3124080"/>
          </a:xfrm>
        </p:grpSpPr>
        <p:sp>
          <p:nvSpPr>
            <p:cNvPr id="134" name="Oval 18"/>
            <p:cNvSpPr/>
            <p:nvPr/>
          </p:nvSpPr>
          <p:spPr>
            <a:xfrm>
              <a:off x="3962520" y="25905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3962520" y="21333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3962520" y="12189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3962520" y="7617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3962520" y="16761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3657600" y="380880"/>
              <a:ext cx="1066680" cy="312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" name="Group 33"/>
          <p:cNvGrpSpPr/>
          <p:nvPr/>
        </p:nvGrpSpPr>
        <p:grpSpPr>
          <a:xfrm>
            <a:off x="1371600" y="457200"/>
            <a:ext cx="1066680" cy="3124080"/>
            <a:chOff x="1371600" y="457200"/>
            <a:chExt cx="1066680" cy="3124080"/>
          </a:xfrm>
        </p:grpSpPr>
        <p:sp>
          <p:nvSpPr>
            <p:cNvPr id="141" name="Oval 34"/>
            <p:cNvSpPr/>
            <p:nvPr/>
          </p:nvSpPr>
          <p:spPr>
            <a:xfrm>
              <a:off x="1676520" y="26668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Oval 35"/>
            <p:cNvSpPr/>
            <p:nvPr/>
          </p:nvSpPr>
          <p:spPr>
            <a:xfrm>
              <a:off x="1676520" y="2209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Oval 36"/>
            <p:cNvSpPr/>
            <p:nvPr/>
          </p:nvSpPr>
          <p:spPr>
            <a:xfrm>
              <a:off x="1676520" y="12952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37"/>
            <p:cNvSpPr/>
            <p:nvPr/>
          </p:nvSpPr>
          <p:spPr>
            <a:xfrm>
              <a:off x="1676520" y="8380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Oval 38"/>
            <p:cNvSpPr/>
            <p:nvPr/>
          </p:nvSpPr>
          <p:spPr>
            <a:xfrm>
              <a:off x="1676520" y="17524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Oval 39"/>
            <p:cNvSpPr/>
            <p:nvPr/>
          </p:nvSpPr>
          <p:spPr>
            <a:xfrm>
              <a:off x="1371600" y="457200"/>
              <a:ext cx="1066680" cy="312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Object 41"/>
              <p:cNvSpPr txBox="1"/>
              <p:nvPr/>
            </p:nvSpPr>
            <p:spPr>
              <a:xfrm>
                <a:off x="2819520" y="5105520"/>
                <a:ext cx="323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,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Line 42"/>
          <p:cNvSpPr/>
          <p:nvPr/>
        </p:nvSpPr>
        <p:spPr>
          <a:xfrm>
            <a:off x="2057400" y="1447920"/>
            <a:ext cx="190512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Line 43"/>
          <p:cNvSpPr/>
          <p:nvPr/>
        </p:nvSpPr>
        <p:spPr>
          <a:xfrm>
            <a:off x="2057400" y="1905120"/>
            <a:ext cx="1905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44"/>
          <p:cNvSpPr/>
          <p:nvPr/>
        </p:nvSpPr>
        <p:spPr>
          <a:xfrm>
            <a:off x="2057400" y="1981080"/>
            <a:ext cx="19051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47"/>
          <p:cNvSpPr/>
          <p:nvPr/>
        </p:nvSpPr>
        <p:spPr>
          <a:xfrm flipV="1">
            <a:off x="2057400" y="1905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48"/>
          <p:cNvSpPr/>
          <p:nvPr/>
        </p:nvSpPr>
        <p:spPr>
          <a:xfrm>
            <a:off x="20574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50"/>
          <p:cNvSpPr/>
          <p:nvPr/>
        </p:nvSpPr>
        <p:spPr>
          <a:xfrm>
            <a:off x="1981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51"/>
          <p:cNvSpPr/>
          <p:nvPr/>
        </p:nvSpPr>
        <p:spPr>
          <a:xfrm flipV="1">
            <a:off x="2057400" y="1523520"/>
            <a:ext cx="1905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2"/>
          <p:cNvSpPr/>
          <p:nvPr/>
        </p:nvSpPr>
        <p:spPr>
          <a:xfrm flipV="1">
            <a:off x="2057400" y="198072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53"/>
          <p:cNvSpPr/>
          <p:nvPr/>
        </p:nvSpPr>
        <p:spPr>
          <a:xfrm flipV="1">
            <a:off x="2057400" y="2438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54"/>
          <p:cNvSpPr/>
          <p:nvPr/>
        </p:nvSpPr>
        <p:spPr>
          <a:xfrm>
            <a:off x="198108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57"/>
          <p:cNvGrpSpPr/>
          <p:nvPr/>
        </p:nvGrpSpPr>
        <p:grpSpPr>
          <a:xfrm>
            <a:off x="5867280" y="2438280"/>
            <a:ext cx="2214000" cy="337320"/>
            <a:chOff x="5867280" y="2438280"/>
            <a:chExt cx="2214000" cy="337320"/>
          </a:xfrm>
        </p:grpSpPr>
        <p:sp>
          <p:nvSpPr>
            <p:cNvPr id="159" name="Line 55"/>
            <p:cNvSpPr/>
            <p:nvPr/>
          </p:nvSpPr>
          <p:spPr>
            <a:xfrm>
              <a:off x="5867280" y="25909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56"/>
            <p:cNvSpPr/>
            <p:nvPr/>
          </p:nvSpPr>
          <p:spPr>
            <a:xfrm>
              <a:off x="7149240" y="2438280"/>
              <a:ext cx="93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ppor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Text Box 60"/>
          <p:cNvSpPr/>
          <p:nvPr/>
        </p:nvSpPr>
        <p:spPr>
          <a:xfrm>
            <a:off x="6363360" y="0"/>
            <a:ext cx="2727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icro-structure of C2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61"/>
              <p:cNvSpPr txBox="1"/>
              <p:nvPr/>
            </p:nvSpPr>
            <p:spPr>
              <a:xfrm>
                <a:off x="1600200" y="3733920"/>
                <a:ext cx="488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3"/>
              <p:cNvSpPr txBox="1"/>
              <p:nvPr/>
            </p:nvSpPr>
            <p:spPr>
              <a:xfrm>
                <a:off x="3962520" y="3713040"/>
                <a:ext cx="488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" name="Text Box 64"/>
          <p:cNvSpPr/>
          <p:nvPr/>
        </p:nvSpPr>
        <p:spPr>
          <a:xfrm>
            <a:off x="26280" y="6521400"/>
            <a:ext cx="4176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vise searches for 1st support for a val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4532760" y="6521400"/>
            <a:ext cx="45057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 it a bijection? What are implications of thi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53720" y="1522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3 (pseudo cod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0920" y="1341360"/>
            <a:ext cx="8569080" cy="28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3(v,d,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istent := tru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 := c                                           // enqueue all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le q ≠ {} &amp; consis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 (i,j) := dequeue(q)                   // get a constra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revise(i,j)                           // if d_i has values remo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q := q U {(k,i) |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i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n C}  // need to revise all constraints C_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istent := d[i] ≠ {}    // stop if domain wipe 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turn consis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56960" y="1522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062960" y="47242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067280" y="2565360"/>
            <a:ext cx="4176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revise(i,j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q := q U {(k,i) | (k,i) in c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41600" y="274320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: ac3 has a queue of constraints that need revis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cause some values in the domains of the variables m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 unsupporte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476360" y="4789440"/>
            <a:ext cx="48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ember: ac3 processes a queue of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778760" y="5943600"/>
            <a:ext cx="555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 forgive me, the queue might be treated as just a  s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79360" y="2666880"/>
            <a:ext cx="465048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1 and ac2 (the straw men) essentially revis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traints over and over again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til no change …  until reaching a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ixed po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"/>
          <p:cNvGrpSpPr/>
          <p:nvPr/>
        </p:nvGrpSpPr>
        <p:grpSpPr>
          <a:xfrm>
            <a:off x="1978560" y="990000"/>
            <a:ext cx="4776840" cy="3538440"/>
            <a:chOff x="1978560" y="990000"/>
            <a:chExt cx="4776840" cy="3538440"/>
          </a:xfrm>
        </p:grpSpPr>
        <p:sp>
          <p:nvSpPr>
            <p:cNvPr id="50" name="Text Box 6"/>
            <p:cNvSpPr/>
            <p:nvPr/>
          </p:nvSpPr>
          <p:spPr>
            <a:xfrm>
              <a:off x="3892680" y="419112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= {1,2,3,4,5}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" name="Group 19"/>
            <p:cNvGrpSpPr/>
            <p:nvPr/>
          </p:nvGrpSpPr>
          <p:grpSpPr>
            <a:xfrm>
              <a:off x="1978560" y="990000"/>
              <a:ext cx="4776840" cy="2822040"/>
              <a:chOff x="1978560" y="990000"/>
              <a:chExt cx="4776840" cy="2822040"/>
            </a:xfrm>
          </p:grpSpPr>
          <p:sp>
            <p:nvSpPr>
              <p:cNvPr id="52" name="Oval 2"/>
              <p:cNvSpPr/>
              <p:nvPr/>
            </p:nvSpPr>
            <p:spPr>
              <a:xfrm>
                <a:off x="2590560" y="266688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V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" name="Oval 3"/>
              <p:cNvSpPr/>
              <p:nvPr/>
            </p:nvSpPr>
            <p:spPr>
              <a:xfrm>
                <a:off x="5638680" y="137160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V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" name="Oval 4"/>
              <p:cNvSpPr/>
              <p:nvPr/>
            </p:nvSpPr>
            <p:spPr>
              <a:xfrm>
                <a:off x="4572000" y="335268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V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" name="Oval 5"/>
              <p:cNvSpPr/>
              <p:nvPr/>
            </p:nvSpPr>
            <p:spPr>
              <a:xfrm>
                <a:off x="3429000" y="106668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V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 flipH="1">
                <a:off x="2895120" y="1523880"/>
                <a:ext cx="68580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3047760" y="3047760"/>
                <a:ext cx="1524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 flipV="1">
                <a:off x="5029200" y="1828800"/>
                <a:ext cx="83808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>
                <a:off x="3886200" y="1295280"/>
                <a:ext cx="1752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Line 12"/>
              <p:cNvSpPr/>
              <p:nvPr/>
            </p:nvSpPr>
            <p:spPr>
              <a:xfrm>
                <a:off x="3733560" y="1523880"/>
                <a:ext cx="990720" cy="18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Text Box 13"/>
              <p:cNvSpPr/>
              <p:nvPr/>
            </p:nvSpPr>
            <p:spPr>
              <a:xfrm rot="21595800">
                <a:off x="4438800" y="990360"/>
                <a:ext cx="79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4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V3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 rot="21537000">
                <a:off x="1981080" y="175212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1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V4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1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Text Box 16"/>
              <p:cNvSpPr/>
              <p:nvPr/>
            </p:nvSpPr>
            <p:spPr>
              <a:xfrm>
                <a:off x="4133520" y="1981080"/>
                <a:ext cx="108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4 + V2 = 5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Text Box 17"/>
              <p:cNvSpPr/>
              <p:nvPr/>
            </p:nvSpPr>
            <p:spPr>
              <a:xfrm>
                <a:off x="3133080" y="35049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1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 V2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" name="Text Box 18"/>
              <p:cNvSpPr/>
              <p:nvPr/>
            </p:nvSpPr>
            <p:spPr>
              <a:xfrm>
                <a:off x="5664600" y="2438280"/>
                <a:ext cx="109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V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6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246600" y="6324480"/>
            <a:ext cx="24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33 figure 18, page 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6653520" y="617220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can you inf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1017720" y="4800600"/>
            <a:ext cx="64688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ity of ac3 proved in 1985 by Mackworth &amp; Freuder (AIJ 2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791320" y="1066680"/>
                <a:ext cx="12952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 Box 7"/>
          <p:cNvSpPr/>
          <p:nvPr/>
        </p:nvSpPr>
        <p:spPr>
          <a:xfrm>
            <a:off x="1813320" y="3341520"/>
            <a:ext cx="267264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is number of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is domain s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3256560" y="4952880"/>
            <a:ext cx="34437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e it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so look at paper by Zhang &amp; Ya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1320" y="1066680"/>
                <a:ext cx="12952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5"/>
          <p:cNvSpPr/>
          <p:nvPr/>
        </p:nvSpPr>
        <p:spPr>
          <a:xfrm>
            <a:off x="1813320" y="3341520"/>
            <a:ext cx="267264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is number of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is domain s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3440" y="228600"/>
            <a:ext cx="22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complexity of ac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110000" y="22860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beautiful proo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326240" y="1905120"/>
            <a:ext cx="637524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constraint C_i,j is revised iff it enters the 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_i,j enters the Q iff some value in d[j] is dele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_i,j can enter Q at most d times (the size of domain d[j]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constraint can be revised at most  d ti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e constraints in C (the set of constrain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vise is therefore executed at most e.d ti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omplexity of revise is O(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omplexity of ac3 is then O(e.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7"/>
          <p:cNvSpPr/>
          <p:nvPr/>
        </p:nvSpPr>
        <p:spPr>
          <a:xfrm>
            <a:off x="652680" y="3962520"/>
            <a:ext cx="73893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order that we revise the constraints make no difference to the outco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 reaches the same fixed point, the same set of arc-consistent domain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714240" y="4941720"/>
            <a:ext cx="7378560" cy="33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order that we revise the constraints may make a difference to run tim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724040" y="5932440"/>
            <a:ext cx="4015080" cy="337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traint ordering heuristic, anyon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974600" y="1981080"/>
            <a:ext cx="46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vise ignored any semantics of the constra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612880" y="34290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 that dumb, or what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349440" y="5181480"/>
            <a:ext cx="329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we get round thi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OOP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lass of constraint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vise as a specialised method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32800" y="259092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4, AC6, AC7, …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385360" y="3733920"/>
            <a:ext cx="38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timal” support counting algorith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313760" y="0"/>
            <a:ext cx="1789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4, AC6, AC7, 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04920" y="0"/>
            <a:ext cx="3403080" cy="2924280"/>
            <a:chOff x="304920" y="0"/>
            <a:chExt cx="3403080" cy="2924280"/>
          </a:xfrm>
        </p:grpSpPr>
        <p:grpSp>
          <p:nvGrpSpPr>
            <p:cNvPr id="195" name="Group 4"/>
            <p:cNvGrpSpPr/>
            <p:nvPr/>
          </p:nvGrpSpPr>
          <p:grpSpPr>
            <a:xfrm>
              <a:off x="1368000" y="0"/>
              <a:ext cx="496080" cy="2274840"/>
              <a:chOff x="1368000" y="0"/>
              <a:chExt cx="496080" cy="2274840"/>
            </a:xfrm>
          </p:grpSpPr>
          <p:sp>
            <p:nvSpPr>
              <p:cNvPr id="196" name="Oval 5"/>
              <p:cNvSpPr/>
              <p:nvPr/>
            </p:nvSpPr>
            <p:spPr>
              <a:xfrm>
                <a:off x="1509840" y="160884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Oval 6"/>
              <p:cNvSpPr/>
              <p:nvPr/>
            </p:nvSpPr>
            <p:spPr>
              <a:xfrm>
                <a:off x="1509840" y="127584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Oval 7"/>
              <p:cNvSpPr/>
              <p:nvPr/>
            </p:nvSpPr>
            <p:spPr>
              <a:xfrm>
                <a:off x="1509840" y="61020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1509840" y="27720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1509840" y="94320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1368000" y="0"/>
                <a:ext cx="496080" cy="227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2" name="Group 11"/>
            <p:cNvGrpSpPr/>
            <p:nvPr/>
          </p:nvGrpSpPr>
          <p:grpSpPr>
            <a:xfrm>
              <a:off x="304920" y="55440"/>
              <a:ext cx="496080" cy="2274480"/>
              <a:chOff x="304920" y="55440"/>
              <a:chExt cx="496080" cy="2274480"/>
            </a:xfrm>
          </p:grpSpPr>
          <p:sp>
            <p:nvSpPr>
              <p:cNvPr id="203" name="Oval 12"/>
              <p:cNvSpPr/>
              <p:nvPr/>
            </p:nvSpPr>
            <p:spPr>
              <a:xfrm>
                <a:off x="446760" y="166392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446760" y="133128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Oval 14"/>
              <p:cNvSpPr/>
              <p:nvPr/>
            </p:nvSpPr>
            <p:spPr>
              <a:xfrm>
                <a:off x="446760" y="66528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Oval 15"/>
              <p:cNvSpPr/>
              <p:nvPr/>
            </p:nvSpPr>
            <p:spPr>
              <a:xfrm>
                <a:off x="446760" y="33264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Oval 16"/>
              <p:cNvSpPr/>
              <p:nvPr/>
            </p:nvSpPr>
            <p:spPr>
              <a:xfrm>
                <a:off x="446760" y="998280"/>
                <a:ext cx="177120" cy="27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Oval 17"/>
              <p:cNvSpPr/>
              <p:nvPr/>
            </p:nvSpPr>
            <p:spPr>
              <a:xfrm>
                <a:off x="304920" y="55440"/>
                <a:ext cx="496080" cy="2274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9" name="Object 18"/>
                <p:cNvSpPr txBox="1"/>
                <p:nvPr/>
              </p:nvSpPr>
              <p:spPr>
                <a:xfrm>
                  <a:off x="1881360" y="943200"/>
                  <a:ext cx="1826640" cy="52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,3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Line 19"/>
            <p:cNvSpPr/>
            <p:nvPr/>
          </p:nvSpPr>
          <p:spPr>
            <a:xfrm>
              <a:off x="623880" y="776880"/>
              <a:ext cx="885960" cy="9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>
              <a:off x="623880" y="1109520"/>
              <a:ext cx="885960" cy="27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1"/>
            <p:cNvSpPr/>
            <p:nvPr/>
          </p:nvSpPr>
          <p:spPr>
            <a:xfrm>
              <a:off x="623880" y="1164960"/>
              <a:ext cx="885960" cy="55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22"/>
            <p:cNvSpPr/>
            <p:nvPr/>
          </p:nvSpPr>
          <p:spPr>
            <a:xfrm flipV="1">
              <a:off x="623880" y="1109520"/>
              <a:ext cx="88596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23"/>
            <p:cNvSpPr/>
            <p:nvPr/>
          </p:nvSpPr>
          <p:spPr>
            <a:xfrm>
              <a:off x="623880" y="144252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>
              <a:off x="588240" y="1442520"/>
              <a:ext cx="92160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 flipV="1">
              <a:off x="623880" y="831960"/>
              <a:ext cx="885960" cy="88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 flipV="1">
              <a:off x="623880" y="1164600"/>
              <a:ext cx="850680" cy="61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 flipV="1">
              <a:off x="623880" y="1497960"/>
              <a:ext cx="88596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588240" y="188640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29"/>
                <p:cNvSpPr txBox="1"/>
                <p:nvPr/>
              </p:nvSpPr>
              <p:spPr>
                <a:xfrm>
                  <a:off x="411120" y="2441160"/>
                  <a:ext cx="2271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Object 30"/>
                <p:cNvSpPr txBox="1"/>
                <p:nvPr/>
              </p:nvSpPr>
              <p:spPr>
                <a:xfrm>
                  <a:off x="1509840" y="2426040"/>
                  <a:ext cx="22716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2" name="Text Box 31"/>
          <p:cNvSpPr/>
          <p:nvPr/>
        </p:nvSpPr>
        <p:spPr>
          <a:xfrm>
            <a:off x="4155840" y="620640"/>
            <a:ext cx="4686840" cy="1310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ociate with each value in Di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ounter supportCount[x,i,j]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number of values in Dj that support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oolean supports[x,y,j]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ue if x supports y in D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1931040" y="2276640"/>
            <a:ext cx="7055640" cy="337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st stage of the algorithm builds up the supportCount and support fla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1989000" y="2997360"/>
            <a:ext cx="6800760" cy="15541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nd st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supportCount[x,i,j] = 0    (x has no support in Dj over constraint Cij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ete(Di,x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rement supportCount[y,k,i]    (where supports[x,y,k] is tru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inue this till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.e. propagat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1648440" y="5373720"/>
            <a:ext cx="6450480" cy="580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x supports y in Dk and x is deleted from D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n support count for y in Dk over constraint Cki is decremen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Freeform 35"/>
          <p:cNvSpPr/>
          <p:nvPr/>
        </p:nvSpPr>
        <p:spPr>
          <a:xfrm>
            <a:off x="34920" y="3693960"/>
            <a:ext cx="1368360" cy="2040120"/>
          </a:xfrm>
          <a:custGeom>
            <a:avLst/>
            <a:gdLst/>
            <a:ahLst/>
            <a:rect l="l" t="t" r="r" b="b"/>
            <a:pathLst>
              <a:path w="862" h="1285">
                <a:moveTo>
                  <a:pt x="862" y="1285"/>
                </a:moveTo>
                <a:cubicBezTo>
                  <a:pt x="608" y="1198"/>
                  <a:pt x="355" y="1111"/>
                  <a:pt x="227" y="922"/>
                </a:cubicBezTo>
                <a:cubicBezTo>
                  <a:pt x="99" y="733"/>
                  <a:pt x="0" y="302"/>
                  <a:pt x="91" y="151"/>
                </a:cubicBezTo>
                <a:cubicBezTo>
                  <a:pt x="182" y="0"/>
                  <a:pt x="476" y="7"/>
                  <a:pt x="771" y="1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523880" y="1676520"/>
            <a:ext cx="59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st case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st case performance  of ac4 is the sam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3276720" y="2514600"/>
                <a:ext cx="2089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4"/>
          <p:cNvSpPr/>
          <p:nvPr/>
        </p:nvSpPr>
        <p:spPr>
          <a:xfrm>
            <a:off x="1431000" y="4255920"/>
            <a:ext cx="6940800" cy="8240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6, 7, and 8 exploit symmetries, and lazy evalu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x supports y over constraint Cij then y supports x over Cj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d the 1st support for x, and only look for more when support is l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058200" y="5562720"/>
            <a:ext cx="4354920" cy="580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3 worst case performance rarely occ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xperimental evidence due to Rick Wallac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523880" y="1676520"/>
            <a:ext cx="59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is best case and worst case performance  of ac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3276720" y="2514600"/>
                <a:ext cx="2089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4"/>
          <p:cNvSpPr/>
          <p:nvPr/>
        </p:nvSpPr>
        <p:spPr>
          <a:xfrm>
            <a:off x="4201560" y="4038480"/>
            <a:ext cx="269280" cy="337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086920" y="2057400"/>
            <a:ext cx="531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1/2/3 due to Alan Mackworth 197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4  Mohr &amp; Henderson AIJ28 19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6 , 7, 8 due to Freuder, Bessiere, Regin, and oth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AIJ, IJCAI, et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689840" y="4437000"/>
            <a:ext cx="61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wnside of ac4, ac6, ac7, and ac8 algorithms is “hard to cod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419640" y="539892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3 is easy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0680" y="651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story Less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1749600" y="1142280"/>
            <a:ext cx="4369320" cy="2668320"/>
            <a:chOff x="1749600" y="1142280"/>
            <a:chExt cx="4369320" cy="2668320"/>
          </a:xfrm>
        </p:grpSpPr>
        <p:sp>
          <p:nvSpPr>
            <p:cNvPr id="69" name="Text Box 3"/>
            <p:cNvSpPr/>
            <p:nvPr/>
          </p:nvSpPr>
          <p:spPr>
            <a:xfrm>
              <a:off x="3541680" y="347328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= {1,2,3,4,5}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Oval 5"/>
            <p:cNvSpPr/>
            <p:nvPr/>
          </p:nvSpPr>
          <p:spPr>
            <a:xfrm>
              <a:off x="2113560" y="2365560"/>
              <a:ext cx="433800" cy="33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Oval 6"/>
            <p:cNvSpPr/>
            <p:nvPr/>
          </p:nvSpPr>
          <p:spPr>
            <a:xfrm>
              <a:off x="5003280" y="1420200"/>
              <a:ext cx="433800" cy="3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Oval 7"/>
            <p:cNvSpPr/>
            <p:nvPr/>
          </p:nvSpPr>
          <p:spPr>
            <a:xfrm>
              <a:off x="3992760" y="2864880"/>
              <a:ext cx="433800" cy="3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Oval 8"/>
            <p:cNvSpPr/>
            <p:nvPr/>
          </p:nvSpPr>
          <p:spPr>
            <a:xfrm>
              <a:off x="2908800" y="1198440"/>
              <a:ext cx="433800" cy="3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2403000" y="1532160"/>
              <a:ext cx="65016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2547360" y="2642760"/>
              <a:ext cx="14454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 flipV="1">
              <a:off x="4426560" y="1753560"/>
              <a:ext cx="79344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3342600" y="1364760"/>
              <a:ext cx="166068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>
              <a:off x="3197880" y="1532160"/>
              <a:ext cx="939600" cy="13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 rot="21595800">
              <a:off x="3867840" y="114264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4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V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 rot="21537000">
              <a:off x="1752120" y="1780200"/>
              <a:ext cx="115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V4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3578040" y="186588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4 + V2 = 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2626920" y="297648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 V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5028120" y="2200680"/>
              <a:ext cx="109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2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V3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" name="Text Box 25"/>
          <p:cNvSpPr/>
          <p:nvPr/>
        </p:nvSpPr>
        <p:spPr>
          <a:xfrm>
            <a:off x="3820680" y="4572000"/>
            <a:ext cx="110880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1 = {1,2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2 = {2,3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3 = {4,5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4 = {2,3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7070760" y="62485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you agre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262080" y="617220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as that easy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3975120" y="266688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534680" y="3809880"/>
            <a:ext cx="57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generic arc-consistency algorithm and its specializ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IJ 57 (2-3) October 199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. Van Hentenryck, Y. Deville, and C.M. Te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41120" y="65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86200" y="1066680"/>
            <a:ext cx="579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5 is a “generic” ac algorithm and can be specialised 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al constraints (i.e. made more efficient when we kno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mething about the constraint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771200" y="3581280"/>
            <a:ext cx="454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5 is at the heart of constraint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676520" y="517032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traint is an object with its own propaga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1880" y="0"/>
            <a:ext cx="1780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c5, the intui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99800" y="1341360"/>
            <a:ext cx="52128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ake an OOP approa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nstraint is a class that can then be specialis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ave a method to revise a constraint obj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ow specialis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ave basic methods such 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vise when lwb incre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vise when upb decre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vise when a value is l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vise when variable instantia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vise initial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ethods take as argu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variable in the constraint that has chang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ossibly, what values have been l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218960" y="1752480"/>
            <a:ext cx="6849360" cy="301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c-consistency is at the heart of constraint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 is the inferencing step used inside sear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 has to be effici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ta structures and algorithms are crucial to suc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c is established possibly millions of times when solv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 has to be effici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have had an optimal algorithm many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c4, ac6, ac7, ac20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ase of implementation is an iss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like simple th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ut we might still resort to empirical study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odern approach is constraint as object with specialised propaga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6440" y="115920"/>
            <a:ext cx="50270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guably, arc consistency is an out-of-date con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1408680" y="2205000"/>
            <a:ext cx="6689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have specialised constraints with specialized propag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c-consistency used on explicit representation of binary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able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ut still a useful con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29600" y="115920"/>
            <a:ext cx="2172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vels of consis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512800" y="2637000"/>
            <a:ext cx="456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ized arc consistency (GA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domai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consistency versus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boun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consis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ingleton consistency (SA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968640" y="304812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662880" y="487692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’s that 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738440" y="1360440"/>
            <a:ext cx="25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intain arc-consis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277000" y="2438280"/>
            <a:ext cx="5072760" cy="1797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tantiate a variable v[i] :=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ose unary constraint d[i] = {x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ke future problem 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domain wipe 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acktrack and impose constraint d[i]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ke future 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738440" y="1360440"/>
            <a:ext cx="25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intain arc-consis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073240" y="3048120"/>
            <a:ext cx="443844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y use instantia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omain splitting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solve disjunctions firs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example  (V1 &lt; V2 OR V2 &lt; V1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762120"/>
            <a:ext cx="6264360" cy="4474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1 &lt; V2         D1 = {1,2,3,4,5}   D2 = {1,2,3,4,5}         D1 := {1,2,3,4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2 &gt; V1         D1 = {1,2,3,4}      D2 = {1,2,3,4,5}         D2 := {2,3,4,5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4 ≥ V1 + 1    D4 = {1,2,3,4,5}  D1 = {1,2,3,4}            D4 := {2,3,4,5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1 ≤ V4 - 1    D1 = {1,2,3,4}      D4 = {2,3,4,5}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2 + V3 &gt; 6   D2 = {2,3,4,5}     D3 = {1,2,3,4,5}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3 + V2 &gt; 6   D3 = {1,2,3,4,5}   D2 = {2,3,4,5}           D3 := {2,3,4,5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2 + V4 = 5   D2 = {2,3,4,5}     V4 = {2,3,4,5}           D2 = {2,3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1 &lt; V2         D1 = {1,2,3,4}       D2 = {2,3}                 D1 = {1,2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2 &gt; V1         D2 = {2,3}           D1 = {1,2} 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4 ≥ V1 + 1    D4 = {2,3,4,5}     D1 = {1,2} 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3 + V2 &gt; 6   D3 = {2,3,4,5}     D2 = {2,3}                 D3 = {4,5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2 + V3 &gt; 6   D2 = {2,3}           D3 = {4,5}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4 + V2 = 5   D4 = {2,3,4,5}     D2 = {2,3}                 D4 = {2,3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1 ≤ V4 - 1    D1  = {1,2}           D4 = {2,3}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2 + V4 = 5   D2 = {2,3}           D4 = {2,3}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4 &lt; V3         D4 = {2,3}           D3 = {4,5}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3 &gt; V4         D3 = {4,5}           D4 = {2,3}                   no chan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-8640" y="0"/>
            <a:ext cx="21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re’s the reaso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39"/>
          <p:cNvGrpSpPr/>
          <p:nvPr/>
        </p:nvGrpSpPr>
        <p:grpSpPr>
          <a:xfrm>
            <a:off x="7754760" y="0"/>
            <a:ext cx="1383120" cy="2212200"/>
            <a:chOff x="7754760" y="0"/>
            <a:chExt cx="1383120" cy="2212200"/>
          </a:xfrm>
        </p:grpSpPr>
        <p:grpSp>
          <p:nvGrpSpPr>
            <p:cNvPr id="90" name="Group 35"/>
            <p:cNvGrpSpPr/>
            <p:nvPr/>
          </p:nvGrpSpPr>
          <p:grpSpPr>
            <a:xfrm>
              <a:off x="7769880" y="0"/>
              <a:ext cx="1157760" cy="1831320"/>
              <a:chOff x="7769880" y="0"/>
              <a:chExt cx="1157760" cy="1831320"/>
            </a:xfrm>
          </p:grpSpPr>
          <p:sp>
            <p:nvSpPr>
              <p:cNvPr id="91" name="Text Box 30"/>
              <p:cNvSpPr/>
              <p:nvPr/>
            </p:nvSpPr>
            <p:spPr>
              <a:xfrm rot="21595800">
                <a:off x="7791840" y="380880"/>
                <a:ext cx="793440" cy="30708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4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V3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Text Box 31"/>
              <p:cNvSpPr/>
              <p:nvPr/>
            </p:nvSpPr>
            <p:spPr>
              <a:xfrm rot="21537000">
                <a:off x="7772400" y="1142640"/>
                <a:ext cx="1152360" cy="30708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1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V4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1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Text Box 32"/>
              <p:cNvSpPr/>
              <p:nvPr/>
            </p:nvSpPr>
            <p:spPr>
              <a:xfrm>
                <a:off x="7791120" y="1524240"/>
                <a:ext cx="1087560" cy="30708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4 + V2 = 5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Text Box 33"/>
              <p:cNvSpPr/>
              <p:nvPr/>
            </p:nvSpPr>
            <p:spPr>
              <a:xfrm>
                <a:off x="7781400" y="0"/>
                <a:ext cx="839160" cy="30708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1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 V2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Text Box 34"/>
              <p:cNvSpPr/>
              <p:nvPr/>
            </p:nvSpPr>
            <p:spPr>
              <a:xfrm>
                <a:off x="7798320" y="762120"/>
                <a:ext cx="1090800" cy="30708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V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V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6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" name="Text Box 37"/>
            <p:cNvSpPr/>
            <p:nvPr/>
          </p:nvSpPr>
          <p:spPr>
            <a:xfrm>
              <a:off x="7754760" y="1905120"/>
              <a:ext cx="1383120" cy="307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 = {1,2,3,4,5}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633760" y="281952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c consistency: so what’s that the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276560" y="549360"/>
            <a:ext cx="6393600" cy="131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onstraint Cij is arc consistent if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every value x in Di there exists a value y in Dj that supports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.e. if v[i] = x and v[j] = y then Cij hol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: we are assuming Cij is a binary constra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04600" y="2438280"/>
            <a:ext cx="348156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sp (V,D.C) is arc consistent 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 constraint is arc consisten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4"/>
          <p:cNvSpPr/>
          <p:nvPr/>
        </p:nvSpPr>
        <p:spPr>
          <a:xfrm rot="21292200">
            <a:off x="5208480" y="2590920"/>
            <a:ext cx="3157200" cy="33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is also called 2-consis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77320" y="3657600"/>
            <a:ext cx="6970320" cy="182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V,D,C) is arc consistent 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can choose any variable v[i]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ign it a value x from its domain D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can now choose any other variable v[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can find a consistent instantiation for v[j] from D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: this is in isolation, where I have only 2 variables that I instanti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994400" y="533520"/>
            <a:ext cx="6393600" cy="131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onstraint Cij is arc consistent if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every value x in Di there exists a value y in Dj that supports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.e. if v[i] = x and v[j] = y then Cij hol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: we are assuming Cij is a binary constra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04600" y="3733920"/>
            <a:ext cx="348156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sp (V,D.C) is arc consistent 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 constraint is arc consisten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2808360" y="2819520"/>
                <a:ext cx="5106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1197000" y="5257800"/>
                <a:ext cx="5148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89800" y="907920"/>
            <a:ext cx="51811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ust because a problem (V,D,C) is arc consistent do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mean that it has a solution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084040" y="3124080"/>
            <a:ext cx="503316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c-consistency processes a problem and remo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m the domains of variables values that CANN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ccur in any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496240" y="4332240"/>
            <a:ext cx="47739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guably, it makes the resultant problem easi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892160" y="5475240"/>
            <a:ext cx="58806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arc-consistent problem has the same set of solutions 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original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6566040" y="476280"/>
                <a:ext cx="15048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Text Box 8"/>
          <p:cNvSpPr/>
          <p:nvPr/>
        </p:nvSpPr>
        <p:spPr>
          <a:xfrm>
            <a:off x="2992680" y="6351480"/>
            <a:ext cx="59443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te: if constraint graph is a tree, AC is a decision proced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986200" y="2970360"/>
            <a:ext cx="30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C is not a decision proced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4:54:50Z</dcterms:created>
  <dc:creator>pat</dc:creator>
  <dc:description/>
  <dc:language>en-US</dc:language>
  <cp:lastModifiedBy>patrick</cp:lastModifiedBy>
  <dcterms:modified xsi:type="dcterms:W3CDTF">2020-01-29T12:11:32Z</dcterms:modified>
  <cp:revision>117</cp:revision>
  <dc:subject/>
  <dc:title>No Slide Title</dc:title>
</cp:coreProperties>
</file>