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161-9C71-4B00-854E-A2DC6DAE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C0E-B1E1-44CC-93B1-29CDDAB2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B72-5019-4730-A65F-86EDD0FC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B26-AAE3-474B-9A8F-5746619A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BF4-730F-48CD-BBA4-8D897E5C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16D-A8C6-41EB-BE34-FB61C09D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B30-DCA9-46CF-84E2-24A91BC0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440-6698-42CD-851E-0883D755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D03-A4DC-4E0E-A80F-CEB40781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0A84-9C98-4DA0-A51D-53AFBA68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631-9430-4F6A-8790-E539445F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2AE-FAF9-45CF-B898-F086D9E7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428A-41BC-46A3-99DA-D4C914E08F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66360" y="3213000"/>
            <a:ext cx="54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Variable &amp; Value Ordering Heuris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25560" y="141120"/>
            <a:ext cx="42087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nimum Bandwidth Ordering (MB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990240" y="836640"/>
            <a:ext cx="337644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is tha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’s its complexity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o we need it if we can jump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59800" y="3141720"/>
            <a:ext cx="836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ndwidth of a variable  is the “distance” between variables in the ordere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straint grap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ndwidth of ordering is max bandwidth of varaibles/verti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560" y="141120"/>
            <a:ext cx="42087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nimum Bandwidth Ordering (MB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-1080" y="6216480"/>
            <a:ext cx="67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ndwidth is the “distance” between variables in the ordere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straint grap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5"/>
          <p:cNvSpPr/>
          <p:nvPr/>
        </p:nvSpPr>
        <p:spPr>
          <a:xfrm flipV="1">
            <a:off x="1547640" y="1844640"/>
            <a:ext cx="72072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6"/>
          <p:cNvSpPr/>
          <p:nvPr/>
        </p:nvSpPr>
        <p:spPr>
          <a:xfrm>
            <a:off x="2195640" y="1844640"/>
            <a:ext cx="57600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7"/>
          <p:cNvSpPr/>
          <p:nvPr/>
        </p:nvSpPr>
        <p:spPr>
          <a:xfrm>
            <a:off x="2771640" y="2565360"/>
            <a:ext cx="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8"/>
          <p:cNvSpPr/>
          <p:nvPr/>
        </p:nvSpPr>
        <p:spPr>
          <a:xfrm flipV="1">
            <a:off x="2124000" y="2565360"/>
            <a:ext cx="57636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9"/>
          <p:cNvSpPr/>
          <p:nvPr/>
        </p:nvSpPr>
        <p:spPr>
          <a:xfrm flipH="1" flipV="1">
            <a:off x="1547280" y="2491920"/>
            <a:ext cx="576360" cy="7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Oval 10"/>
          <p:cNvSpPr/>
          <p:nvPr/>
        </p:nvSpPr>
        <p:spPr>
          <a:xfrm>
            <a:off x="1332000" y="2349360"/>
            <a:ext cx="360360" cy="358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11"/>
          <p:cNvSpPr/>
          <p:nvPr/>
        </p:nvSpPr>
        <p:spPr>
          <a:xfrm>
            <a:off x="2050920" y="1700280"/>
            <a:ext cx="360360" cy="3585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12"/>
          <p:cNvSpPr/>
          <p:nvPr/>
        </p:nvSpPr>
        <p:spPr>
          <a:xfrm>
            <a:off x="2556000" y="2349360"/>
            <a:ext cx="360360" cy="358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13"/>
          <p:cNvSpPr/>
          <p:nvPr/>
        </p:nvSpPr>
        <p:spPr>
          <a:xfrm>
            <a:off x="2556000" y="3068640"/>
            <a:ext cx="360360" cy="358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14"/>
          <p:cNvSpPr/>
          <p:nvPr/>
        </p:nvSpPr>
        <p:spPr>
          <a:xfrm>
            <a:off x="1908000" y="3068640"/>
            <a:ext cx="360360" cy="358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6" name="Group 15"/>
          <p:cNvGrpSpPr/>
          <p:nvPr/>
        </p:nvGrpSpPr>
        <p:grpSpPr>
          <a:xfrm>
            <a:off x="6948360" y="1413000"/>
            <a:ext cx="1930680" cy="3166920"/>
            <a:chOff x="6948360" y="1413000"/>
            <a:chExt cx="1930680" cy="3166920"/>
          </a:xfrm>
        </p:grpSpPr>
        <p:sp>
          <p:nvSpPr>
            <p:cNvPr id="97" name="Oval 16"/>
            <p:cNvSpPr/>
            <p:nvPr/>
          </p:nvSpPr>
          <p:spPr>
            <a:xfrm>
              <a:off x="6948360" y="4221000"/>
              <a:ext cx="360360" cy="3589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H="1">
              <a:off x="7093080" y="1557360"/>
              <a:ext cx="7128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>
              <a:off x="7093080" y="2421000"/>
              <a:ext cx="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>
              <a:off x="7093080" y="314172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0"/>
            <p:cNvSpPr/>
            <p:nvPr/>
          </p:nvSpPr>
          <p:spPr>
            <a:xfrm>
              <a:off x="7308720" y="1628640"/>
              <a:ext cx="1570320" cy="2808360"/>
            </a:xfrm>
            <a:custGeom>
              <a:avLst/>
              <a:gdLst>
                <a:gd name="textAreaLeft" fmla="*/ 0 w 1570320"/>
                <a:gd name="textAreaRight" fmla="*/ 1570680 w 1570320"/>
                <a:gd name="textAreaTop" fmla="*/ 0 h 2808360"/>
                <a:gd name="textAreaBottom" fmla="*/ 2808720 h 2808360"/>
              </a:gdLst>
              <a:ahLst/>
              <a:rect l="textAreaLeft" t="textAreaTop" r="textAreaRight" b="textAreaBottom"/>
              <a:pathLst>
                <a:path w="989" h="1769">
                  <a:moveTo>
                    <a:pt x="0" y="0"/>
                  </a:moveTo>
                  <a:cubicBezTo>
                    <a:pt x="314" y="106"/>
                    <a:pt x="628" y="212"/>
                    <a:pt x="771" y="454"/>
                  </a:cubicBezTo>
                  <a:cubicBezTo>
                    <a:pt x="914" y="696"/>
                    <a:pt x="989" y="1233"/>
                    <a:pt x="861" y="1452"/>
                  </a:cubicBezTo>
                  <a:cubicBezTo>
                    <a:pt x="733" y="1671"/>
                    <a:pt x="366" y="1720"/>
                    <a:pt x="0" y="176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21"/>
            <p:cNvSpPr/>
            <p:nvPr/>
          </p:nvSpPr>
          <p:spPr>
            <a:xfrm>
              <a:off x="7164360" y="1628640"/>
              <a:ext cx="995400" cy="216072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2160720"/>
                <a:gd name="textAreaBottom" fmla="*/ 2161080 h 2160720"/>
              </a:gdLst>
              <a:ahLst/>
              <a:rect l="textAreaLeft" t="textAreaTop" r="textAreaRight" b="textAreaBottom"/>
              <a:pathLst>
                <a:path w="627" h="1361">
                  <a:moveTo>
                    <a:pt x="0" y="0"/>
                  </a:moveTo>
                  <a:cubicBezTo>
                    <a:pt x="230" y="219"/>
                    <a:pt x="461" y="439"/>
                    <a:pt x="544" y="635"/>
                  </a:cubicBezTo>
                  <a:cubicBezTo>
                    <a:pt x="627" y="831"/>
                    <a:pt x="590" y="1058"/>
                    <a:pt x="499" y="1179"/>
                  </a:cubicBezTo>
                  <a:cubicBezTo>
                    <a:pt x="408" y="1300"/>
                    <a:pt x="204" y="1330"/>
                    <a:pt x="0" y="136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Oval 22"/>
            <p:cNvSpPr/>
            <p:nvPr/>
          </p:nvSpPr>
          <p:spPr>
            <a:xfrm>
              <a:off x="6948360" y="1413000"/>
              <a:ext cx="360360" cy="3585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Oval 23"/>
            <p:cNvSpPr/>
            <p:nvPr/>
          </p:nvSpPr>
          <p:spPr>
            <a:xfrm>
              <a:off x="6948360" y="2205000"/>
              <a:ext cx="360360" cy="3589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Oval 24"/>
            <p:cNvSpPr/>
            <p:nvPr/>
          </p:nvSpPr>
          <p:spPr>
            <a:xfrm>
              <a:off x="6948360" y="2924280"/>
              <a:ext cx="360360" cy="3585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Oval 25"/>
            <p:cNvSpPr/>
            <p:nvPr/>
          </p:nvSpPr>
          <p:spPr>
            <a:xfrm>
              <a:off x="6948360" y="3573360"/>
              <a:ext cx="360360" cy="3589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1447920" y="43178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ndwidth of ordering is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5436360" y="220500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w(A) =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5423040" y="292428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w(C) =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5452560" y="35002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w(E) =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5442120" y="41497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w(B)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5443200" y="14130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w(D) =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1782360" y="5157720"/>
            <a:ext cx="37378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BO is minimum of all orderin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P-hard to find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34"/>
          <p:cNvSpPr/>
          <p:nvPr/>
        </p:nvSpPr>
        <p:spPr>
          <a:xfrm>
            <a:off x="4676040" y="90792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easuring backwa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800520" y="2781360"/>
            <a:ext cx="14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DVO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50400" y="69840"/>
            <a:ext cx="36219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ynamic variable ordering (dv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925720" y="1341360"/>
            <a:ext cx="402084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ainly based on the FF princip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ainly used by MAC and FC (why?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allest domain fir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ela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om/de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235160" y="3860640"/>
            <a:ext cx="761328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Regr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each variable measure it’s regret as  (best value – next best valu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ose variable with maximum regr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79280" y="57340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il First Principle: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“To succeed, try first where you are most likely to fail”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Haralick &amp; Elliott 198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757200" y="0"/>
            <a:ext cx="242568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omain Indepent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8160" y="851040"/>
            <a:ext cx="906768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673200" y="730080"/>
            <a:ext cx="779760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73200" y="730080"/>
            <a:ext cx="7797600" cy="53978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6723360" y="176040"/>
            <a:ext cx="17535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example 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187280" y="310500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lver.setSearch(Search.minDomLBSearch(q)); // fail-fir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4536000" y="260280"/>
            <a:ext cx="4240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om over weighted degree (examp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778680" y="2205000"/>
            <a:ext cx="7572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n propagation of a constraint results in a dwo (domain wipe ou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crement the weight of that constrai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a variable v, sum up the weight of the constraints it is involved 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(v) = card(dom(v))/weightedDegree(v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lect variable with minimum h(v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6147000" y="250920"/>
            <a:ext cx="27730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me more recent dvo’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909720" y="2517840"/>
            <a:ext cx="73368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flict ordering search [cp2015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asoning from last conflict(s) [AIJ 173, 2009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oosting systematic search by weighting constraints [ECAI2004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istics for backtracking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7200" y="1676520"/>
            <a:ext cx="8215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variable to branch on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choice of variable, what order to try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 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rder to propagat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likely to fail or cheapest propagated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894760" y="291636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tset decomposi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-28080" y="0"/>
            <a:ext cx="25916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t set decomposi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07640" y="1149480"/>
            <a:ext cx="66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constraint graph is a tree then AC is  a decision proced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result due to E.C. Freuder (Gene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901520" y="3573360"/>
            <a:ext cx="5179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lect a variable that cuts the constraint grap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757200" y="0"/>
            <a:ext cx="242568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omain Indepent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2168280" y="2637000"/>
            <a:ext cx="453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Value Order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o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ordering not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olution exists, there exist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oluble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ll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234720"/>
            <a:ext cx="835956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ordering: Intuition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mi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minimize size of search space expl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at we have already chosen the next variable to instantiate, choose first the values that are most likely to suc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mi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60840" y="69840"/>
            <a:ext cx="10645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m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033560" y="1797120"/>
            <a:ext cx="568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easure promise of a value as follow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unt the number of supports in adjacent dom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ake the product of this val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oose the value with the highest amou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most promis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204200" y="4173480"/>
            <a:ext cx="409572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dual viewpoint (Geele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oose the least promising varia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ssign it the most promising val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757200" y="0"/>
            <a:ext cx="242568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omain Indepent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1" descr=""/>
          <p:cNvPicPr/>
          <p:nvPr/>
        </p:nvPicPr>
        <p:blipFill>
          <a:blip r:embed="rId1"/>
          <a:srcRect l="17756" t="47345" r="11193" b="15076"/>
          <a:stretch/>
        </p:blipFill>
        <p:spPr>
          <a:xfrm>
            <a:off x="4356000" y="4221000"/>
            <a:ext cx="453708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52"/>
          <p:cNvGrpSpPr/>
          <p:nvPr/>
        </p:nvGrpSpPr>
        <p:grpSpPr>
          <a:xfrm>
            <a:off x="0" y="189000"/>
            <a:ext cx="5184360" cy="5473080"/>
            <a:chOff x="0" y="189000"/>
            <a:chExt cx="5184360" cy="5473080"/>
          </a:xfrm>
        </p:grpSpPr>
        <p:grpSp>
          <p:nvGrpSpPr>
            <p:cNvPr id="146" name="Group 2"/>
            <p:cNvGrpSpPr/>
            <p:nvPr/>
          </p:nvGrpSpPr>
          <p:grpSpPr>
            <a:xfrm>
              <a:off x="3024000" y="3501720"/>
              <a:ext cx="1294920" cy="2160360"/>
              <a:chOff x="3024000" y="3501720"/>
              <a:chExt cx="1294920" cy="2160360"/>
            </a:xfrm>
          </p:grpSpPr>
          <p:sp>
            <p:nvSpPr>
              <p:cNvPr id="147" name="Oval 3"/>
              <p:cNvSpPr/>
              <p:nvPr/>
            </p:nvSpPr>
            <p:spPr>
              <a:xfrm>
                <a:off x="3024000" y="3501720"/>
                <a:ext cx="1294920" cy="216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Oval 4"/>
              <p:cNvSpPr/>
              <p:nvPr/>
            </p:nvSpPr>
            <p:spPr>
              <a:xfrm>
                <a:off x="3455280" y="3789000"/>
                <a:ext cx="43164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Oval 5"/>
              <p:cNvSpPr/>
              <p:nvPr/>
            </p:nvSpPr>
            <p:spPr>
              <a:xfrm>
                <a:off x="3455280" y="4365360"/>
                <a:ext cx="43164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Oval 6"/>
              <p:cNvSpPr/>
              <p:nvPr/>
            </p:nvSpPr>
            <p:spPr>
              <a:xfrm>
                <a:off x="3455280" y="4941360"/>
                <a:ext cx="431640" cy="432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1" name="Group 7"/>
            <p:cNvGrpSpPr/>
            <p:nvPr/>
          </p:nvGrpSpPr>
          <p:grpSpPr>
            <a:xfrm>
              <a:off x="3024000" y="549000"/>
              <a:ext cx="1294920" cy="2160360"/>
              <a:chOff x="3024000" y="549000"/>
              <a:chExt cx="1294920" cy="2160360"/>
            </a:xfrm>
          </p:grpSpPr>
          <p:sp>
            <p:nvSpPr>
              <p:cNvPr id="152" name="Oval 8"/>
              <p:cNvSpPr/>
              <p:nvPr/>
            </p:nvSpPr>
            <p:spPr>
              <a:xfrm>
                <a:off x="3024000" y="549000"/>
                <a:ext cx="1294920" cy="216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Oval 9"/>
              <p:cNvSpPr/>
              <p:nvPr/>
            </p:nvSpPr>
            <p:spPr>
              <a:xfrm>
                <a:off x="3455280" y="836280"/>
                <a:ext cx="43164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" name="Oval 10"/>
              <p:cNvSpPr/>
              <p:nvPr/>
            </p:nvSpPr>
            <p:spPr>
              <a:xfrm>
                <a:off x="3455280" y="1412640"/>
                <a:ext cx="43164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Oval 11"/>
              <p:cNvSpPr/>
              <p:nvPr/>
            </p:nvSpPr>
            <p:spPr>
              <a:xfrm>
                <a:off x="3455280" y="1988640"/>
                <a:ext cx="431640" cy="432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6" name="Group 12"/>
            <p:cNvGrpSpPr/>
            <p:nvPr/>
          </p:nvGrpSpPr>
          <p:grpSpPr>
            <a:xfrm>
              <a:off x="0" y="622080"/>
              <a:ext cx="1295280" cy="2160000"/>
              <a:chOff x="0" y="622080"/>
              <a:chExt cx="1295280" cy="2160000"/>
            </a:xfrm>
          </p:grpSpPr>
          <p:sp>
            <p:nvSpPr>
              <p:cNvPr id="157" name="Oval 13"/>
              <p:cNvSpPr/>
              <p:nvPr/>
            </p:nvSpPr>
            <p:spPr>
              <a:xfrm>
                <a:off x="0" y="622080"/>
                <a:ext cx="1295280" cy="21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Oval 14"/>
              <p:cNvSpPr/>
              <p:nvPr/>
            </p:nvSpPr>
            <p:spPr>
              <a:xfrm>
                <a:off x="431640" y="909000"/>
                <a:ext cx="432000" cy="431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Oval 15"/>
              <p:cNvSpPr/>
              <p:nvPr/>
            </p:nvSpPr>
            <p:spPr>
              <a:xfrm>
                <a:off x="431640" y="1485360"/>
                <a:ext cx="432000" cy="431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Oval 16"/>
              <p:cNvSpPr/>
              <p:nvPr/>
            </p:nvSpPr>
            <p:spPr>
              <a:xfrm>
                <a:off x="431640" y="2061360"/>
                <a:ext cx="43200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1" name="Group 17"/>
            <p:cNvGrpSpPr/>
            <p:nvPr/>
          </p:nvGrpSpPr>
          <p:grpSpPr>
            <a:xfrm>
              <a:off x="144360" y="3501720"/>
              <a:ext cx="1294920" cy="2160360"/>
              <a:chOff x="144360" y="3501720"/>
              <a:chExt cx="1294920" cy="2160360"/>
            </a:xfrm>
          </p:grpSpPr>
          <p:sp>
            <p:nvSpPr>
              <p:cNvPr id="162" name="Oval 18"/>
              <p:cNvSpPr/>
              <p:nvPr/>
            </p:nvSpPr>
            <p:spPr>
              <a:xfrm>
                <a:off x="144360" y="3501720"/>
                <a:ext cx="1294920" cy="216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" name="Oval 19"/>
              <p:cNvSpPr/>
              <p:nvPr/>
            </p:nvSpPr>
            <p:spPr>
              <a:xfrm>
                <a:off x="575640" y="3789000"/>
                <a:ext cx="43164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" name="Oval 20"/>
              <p:cNvSpPr/>
              <p:nvPr/>
            </p:nvSpPr>
            <p:spPr>
              <a:xfrm>
                <a:off x="575640" y="4365360"/>
                <a:ext cx="43164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" name="Oval 21"/>
              <p:cNvSpPr/>
              <p:nvPr/>
            </p:nvSpPr>
            <p:spPr>
              <a:xfrm>
                <a:off x="575640" y="4941360"/>
                <a:ext cx="431640" cy="432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6" name="Line 22"/>
            <p:cNvSpPr/>
            <p:nvPr/>
          </p:nvSpPr>
          <p:spPr>
            <a:xfrm flipH="1">
              <a:off x="863280" y="1125360"/>
              <a:ext cx="25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 flipH="1">
              <a:off x="1008000" y="1125360"/>
              <a:ext cx="2447280" cy="28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24"/>
            <p:cNvSpPr/>
            <p:nvPr/>
          </p:nvSpPr>
          <p:spPr>
            <a:xfrm flipH="1">
              <a:off x="936000" y="1125360"/>
              <a:ext cx="2518920" cy="33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Freeform 25"/>
            <p:cNvSpPr/>
            <p:nvPr/>
          </p:nvSpPr>
          <p:spPr>
            <a:xfrm>
              <a:off x="3887640" y="1053720"/>
              <a:ext cx="1009080" cy="2952360"/>
            </a:xfrm>
            <a:custGeom>
              <a:avLst/>
              <a:gdLst>
                <a:gd name="textAreaLeft" fmla="*/ 0 w 1009080"/>
                <a:gd name="textAreaRight" fmla="*/ 1009440 w 1009080"/>
                <a:gd name="textAreaTop" fmla="*/ 0 h 2952360"/>
                <a:gd name="textAreaBottom" fmla="*/ 2952720 h 2952360"/>
              </a:gdLst>
              <a:ahLst/>
              <a:rect l="textAreaLeft" t="textAreaTop" r="textAreaRight" b="textAreaBottom"/>
              <a:pathLst>
                <a:path w="636" h="1860">
                  <a:moveTo>
                    <a:pt x="0" y="0"/>
                  </a:moveTo>
                  <a:cubicBezTo>
                    <a:pt x="227" y="60"/>
                    <a:pt x="454" y="121"/>
                    <a:pt x="545" y="363"/>
                  </a:cubicBezTo>
                  <a:cubicBezTo>
                    <a:pt x="636" y="605"/>
                    <a:pt x="636" y="1202"/>
                    <a:pt x="545" y="1451"/>
                  </a:cubicBezTo>
                  <a:cubicBezTo>
                    <a:pt x="454" y="1700"/>
                    <a:pt x="227" y="1780"/>
                    <a:pt x="0" y="18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Line 26"/>
            <p:cNvSpPr/>
            <p:nvPr/>
          </p:nvSpPr>
          <p:spPr>
            <a:xfrm flipH="1">
              <a:off x="863280" y="1125360"/>
              <a:ext cx="2592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863280" y="1630080"/>
              <a:ext cx="25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28"/>
            <p:cNvSpPr/>
            <p:nvPr/>
          </p:nvSpPr>
          <p:spPr>
            <a:xfrm flipH="1" flipV="1">
              <a:off x="863280" y="1125000"/>
              <a:ext cx="259200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Freeform 29"/>
            <p:cNvSpPr/>
            <p:nvPr/>
          </p:nvSpPr>
          <p:spPr>
            <a:xfrm>
              <a:off x="3816000" y="1580760"/>
              <a:ext cx="841320" cy="292860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2928600"/>
                <a:gd name="textAreaBottom" fmla="*/ 2928960 h 2928600"/>
              </a:gdLst>
              <a:ahLst/>
              <a:rect l="textAreaLeft" t="textAreaTop" r="textAreaRight" b="textAreaBottom"/>
              <a:pathLst>
                <a:path w="530" h="1845">
                  <a:moveTo>
                    <a:pt x="45" y="31"/>
                  </a:moveTo>
                  <a:cubicBezTo>
                    <a:pt x="215" y="15"/>
                    <a:pt x="386" y="0"/>
                    <a:pt x="454" y="257"/>
                  </a:cubicBezTo>
                  <a:cubicBezTo>
                    <a:pt x="522" y="514"/>
                    <a:pt x="530" y="1308"/>
                    <a:pt x="454" y="1573"/>
                  </a:cubicBezTo>
                  <a:cubicBezTo>
                    <a:pt x="378" y="1838"/>
                    <a:pt x="189" y="1841"/>
                    <a:pt x="0" y="18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 flipH="1" flipV="1">
              <a:off x="863280" y="1125000"/>
              <a:ext cx="2592000" cy="10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31"/>
            <p:cNvSpPr/>
            <p:nvPr/>
          </p:nvSpPr>
          <p:spPr>
            <a:xfrm flipH="1" flipV="1">
              <a:off x="863280" y="1629720"/>
              <a:ext cx="2592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Freeform 32"/>
            <p:cNvSpPr/>
            <p:nvPr/>
          </p:nvSpPr>
          <p:spPr>
            <a:xfrm>
              <a:off x="3887640" y="2145960"/>
              <a:ext cx="420120" cy="1860120"/>
            </a:xfrm>
            <a:custGeom>
              <a:avLst/>
              <a:gdLst>
                <a:gd name="textAreaLeft" fmla="*/ 0 w 420120"/>
                <a:gd name="textAreaRight" fmla="*/ 420480 w 420120"/>
                <a:gd name="textAreaTop" fmla="*/ 0 h 1860120"/>
                <a:gd name="textAreaBottom" fmla="*/ 1860480 h 1860120"/>
              </a:gdLst>
              <a:ahLst/>
              <a:rect l="textAreaLeft" t="textAreaTop" r="textAreaRight" b="textAreaBottom"/>
              <a:pathLst>
                <a:path w="265" h="1172">
                  <a:moveTo>
                    <a:pt x="0" y="38"/>
                  </a:moveTo>
                  <a:cubicBezTo>
                    <a:pt x="94" y="19"/>
                    <a:pt x="189" y="0"/>
                    <a:pt x="227" y="128"/>
                  </a:cubicBezTo>
                  <a:cubicBezTo>
                    <a:pt x="265" y="256"/>
                    <a:pt x="265" y="635"/>
                    <a:pt x="227" y="809"/>
                  </a:cubicBezTo>
                  <a:cubicBezTo>
                    <a:pt x="189" y="983"/>
                    <a:pt x="94" y="1077"/>
                    <a:pt x="0" y="11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33"/>
            <p:cNvSpPr/>
            <p:nvPr/>
          </p:nvSpPr>
          <p:spPr>
            <a:xfrm flipH="1">
              <a:off x="936000" y="1630080"/>
              <a:ext cx="2518920" cy="28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Line 34"/>
            <p:cNvSpPr/>
            <p:nvPr/>
          </p:nvSpPr>
          <p:spPr>
            <a:xfrm flipH="1">
              <a:off x="936000" y="2349360"/>
              <a:ext cx="2518920" cy="26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Line 35"/>
            <p:cNvSpPr/>
            <p:nvPr/>
          </p:nvSpPr>
          <p:spPr>
            <a:xfrm flipH="1">
              <a:off x="863280" y="1125360"/>
              <a:ext cx="259200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Line 36"/>
            <p:cNvSpPr/>
            <p:nvPr/>
          </p:nvSpPr>
          <p:spPr>
            <a:xfrm flipV="1">
              <a:off x="936360" y="4006080"/>
              <a:ext cx="2518920" cy="10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Line 37"/>
            <p:cNvSpPr/>
            <p:nvPr/>
          </p:nvSpPr>
          <p:spPr>
            <a:xfrm flipV="1">
              <a:off x="936360" y="4581360"/>
              <a:ext cx="2518920" cy="43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Line 38"/>
            <p:cNvSpPr/>
            <p:nvPr/>
          </p:nvSpPr>
          <p:spPr>
            <a:xfrm>
              <a:off x="936360" y="5014440"/>
              <a:ext cx="251892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Line 39"/>
            <p:cNvSpPr/>
            <p:nvPr/>
          </p:nvSpPr>
          <p:spPr>
            <a:xfrm>
              <a:off x="1008000" y="4509720"/>
              <a:ext cx="2447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Freeform 40"/>
            <p:cNvSpPr/>
            <p:nvPr/>
          </p:nvSpPr>
          <p:spPr>
            <a:xfrm>
              <a:off x="3816000" y="887040"/>
              <a:ext cx="1236600" cy="366984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3669840"/>
                <a:gd name="textAreaBottom" fmla="*/ 3670200 h 3669840"/>
              </a:gdLst>
              <a:ahLst/>
              <a:rect l="textAreaLeft" t="textAreaTop" r="textAreaRight" b="textAreaBottom"/>
              <a:pathLst>
                <a:path w="779" h="2312">
                  <a:moveTo>
                    <a:pt x="45" y="105"/>
                  </a:moveTo>
                  <a:cubicBezTo>
                    <a:pt x="257" y="52"/>
                    <a:pt x="469" y="0"/>
                    <a:pt x="590" y="196"/>
                  </a:cubicBezTo>
                  <a:cubicBezTo>
                    <a:pt x="711" y="392"/>
                    <a:pt x="779" y="959"/>
                    <a:pt x="771" y="1284"/>
                  </a:cubicBezTo>
                  <a:cubicBezTo>
                    <a:pt x="763" y="1609"/>
                    <a:pt x="672" y="1980"/>
                    <a:pt x="544" y="2146"/>
                  </a:cubicBezTo>
                  <a:cubicBezTo>
                    <a:pt x="416" y="2312"/>
                    <a:pt x="208" y="2297"/>
                    <a:pt x="0" y="22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Freeform 41"/>
            <p:cNvSpPr/>
            <p:nvPr/>
          </p:nvSpPr>
          <p:spPr>
            <a:xfrm>
              <a:off x="3887640" y="801360"/>
              <a:ext cx="1296720" cy="4355640"/>
            </a:xfrm>
            <a:custGeom>
              <a:avLst/>
              <a:gdLst/>
              <a:ahLst/>
              <a:rect l="l" t="t" r="r" b="b"/>
              <a:pathLst>
                <a:path w="817" h="2744">
                  <a:moveTo>
                    <a:pt x="0" y="159"/>
                  </a:moveTo>
                  <a:cubicBezTo>
                    <a:pt x="148" y="79"/>
                    <a:pt x="296" y="0"/>
                    <a:pt x="409" y="23"/>
                  </a:cubicBezTo>
                  <a:cubicBezTo>
                    <a:pt x="522" y="46"/>
                    <a:pt x="613" y="68"/>
                    <a:pt x="681" y="295"/>
                  </a:cubicBezTo>
                  <a:cubicBezTo>
                    <a:pt x="749" y="522"/>
                    <a:pt x="817" y="1043"/>
                    <a:pt x="817" y="1383"/>
                  </a:cubicBezTo>
                  <a:cubicBezTo>
                    <a:pt x="817" y="1723"/>
                    <a:pt x="817" y="2109"/>
                    <a:pt x="681" y="2336"/>
                  </a:cubicBezTo>
                  <a:cubicBezTo>
                    <a:pt x="545" y="2563"/>
                    <a:pt x="272" y="2653"/>
                    <a:pt x="0" y="27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42"/>
            <p:cNvSpPr/>
            <p:nvPr/>
          </p:nvSpPr>
          <p:spPr>
            <a:xfrm flipH="1">
              <a:off x="936000" y="1125360"/>
              <a:ext cx="2518920" cy="38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43"/>
            <p:cNvSpPr/>
            <p:nvPr/>
          </p:nvSpPr>
          <p:spPr>
            <a:xfrm>
              <a:off x="1008000" y="4006440"/>
              <a:ext cx="23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Text Box 44"/>
            <p:cNvSpPr/>
            <p:nvPr/>
          </p:nvSpPr>
          <p:spPr>
            <a:xfrm>
              <a:off x="433440" y="261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45"/>
            <p:cNvSpPr/>
            <p:nvPr/>
          </p:nvSpPr>
          <p:spPr>
            <a:xfrm>
              <a:off x="3457080" y="189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Text Box 46"/>
            <p:cNvSpPr/>
            <p:nvPr/>
          </p:nvSpPr>
          <p:spPr>
            <a:xfrm>
              <a:off x="3457080" y="30700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Text Box 47"/>
            <p:cNvSpPr/>
            <p:nvPr/>
          </p:nvSpPr>
          <p:spPr>
            <a:xfrm>
              <a:off x="577440" y="3070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48"/>
            <p:cNvSpPr/>
            <p:nvPr/>
          </p:nvSpPr>
          <p:spPr>
            <a:xfrm flipH="1" flipV="1">
              <a:off x="1008000" y="4509720"/>
              <a:ext cx="237600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Line 49"/>
            <p:cNvSpPr/>
            <p:nvPr/>
          </p:nvSpPr>
          <p:spPr>
            <a:xfrm flipH="1" flipV="1">
              <a:off x="1008000" y="4006440"/>
              <a:ext cx="2376000" cy="11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50"/>
            <p:cNvSpPr/>
            <p:nvPr/>
          </p:nvSpPr>
          <p:spPr>
            <a:xfrm flipH="1">
              <a:off x="936000" y="4006440"/>
              <a:ext cx="251892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5" name="Text Box 53"/>
          <p:cNvSpPr/>
          <p:nvPr/>
        </p:nvSpPr>
        <p:spPr>
          <a:xfrm>
            <a:off x="5798160" y="404640"/>
            <a:ext cx="2948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crostructure &amp; prom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-28800" y="0"/>
            <a:ext cx="256428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n FF show Promi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161720" y="136512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ght FF actually be promising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277640" y="2517840"/>
            <a:ext cx="69458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FF is on path to a solution we would prefer promise to fail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t does FF actually do thi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891440" y="4653000"/>
            <a:ext cx="598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periments using probing suggest FF shows prom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59400" y="44280"/>
            <a:ext cx="30243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omain Specific Heuristic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706760" y="981000"/>
            <a:ext cx="455868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olomb rul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dex order (!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able marriage (maybe not a heuristi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alue ordering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obshop/Factory schedul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exture based heuristic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lack based heuristic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r Sequencing Probl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arious (see literatu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in pac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irst-fit decreas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quest goes 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"/>
          <p:cNvSpPr/>
          <p:nvPr/>
        </p:nvSpPr>
        <p:spPr>
          <a:xfrm>
            <a:off x="1304640" y="2997360"/>
            <a:ext cx="71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t remember, heuristic can play havoc with symmetry brea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 o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dependent heu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independent heu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variable 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before search 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variable 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sen during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9400" y="44280"/>
            <a:ext cx="30243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omain Specific Heuristic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847240" y="2421000"/>
            <a:ext cx="291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sider H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ifferent mode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ifferent heuristic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1374480" y="256536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33: section 5 (pages 27-29) and section 8 (pages 47-49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1232640" y="2751120"/>
            <a:ext cx="65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ig question: why do heuristics work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a heuristic similar to an umbrella lent to you by the bank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14716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a heuristic value to a variable that estimates how difficult/easy it is to find a satisfying value for that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033720" y="2589120"/>
            <a:ext cx="13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VO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9880" y="0"/>
            <a:ext cx="27896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atic variable orderin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447640" y="2205000"/>
            <a:ext cx="4179240" cy="18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sed on constraint graph topolog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nimum 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nimum induced 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ax degree orde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nimum bandwidth orde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sed on something el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863000" y="4389480"/>
            <a:ext cx="4678200" cy="95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sually for backward checking algorith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9880" y="0"/>
            <a:ext cx="27896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atic variable orderin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1547640" y="1844640"/>
            <a:ext cx="72072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195640" y="1844640"/>
            <a:ext cx="57600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2771640" y="2565360"/>
            <a:ext cx="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Line 13"/>
          <p:cNvSpPr/>
          <p:nvPr/>
        </p:nvSpPr>
        <p:spPr>
          <a:xfrm flipV="1">
            <a:off x="2124000" y="2565360"/>
            <a:ext cx="57636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14"/>
          <p:cNvSpPr/>
          <p:nvPr/>
        </p:nvSpPr>
        <p:spPr>
          <a:xfrm flipH="1" flipV="1">
            <a:off x="1547280" y="2491920"/>
            <a:ext cx="576360" cy="7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Oval 5"/>
          <p:cNvSpPr/>
          <p:nvPr/>
        </p:nvSpPr>
        <p:spPr>
          <a:xfrm>
            <a:off x="1332000" y="2349360"/>
            <a:ext cx="360360" cy="358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Oval 6"/>
          <p:cNvSpPr/>
          <p:nvPr/>
        </p:nvSpPr>
        <p:spPr>
          <a:xfrm>
            <a:off x="2050920" y="1700280"/>
            <a:ext cx="360360" cy="3585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Oval 7"/>
          <p:cNvSpPr/>
          <p:nvPr/>
        </p:nvSpPr>
        <p:spPr>
          <a:xfrm>
            <a:off x="2556000" y="2349360"/>
            <a:ext cx="360360" cy="358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Oval 9"/>
          <p:cNvSpPr/>
          <p:nvPr/>
        </p:nvSpPr>
        <p:spPr>
          <a:xfrm>
            <a:off x="2556000" y="3068640"/>
            <a:ext cx="360360" cy="358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8"/>
          <p:cNvSpPr/>
          <p:nvPr/>
        </p:nvSpPr>
        <p:spPr>
          <a:xfrm>
            <a:off x="1908000" y="3068640"/>
            <a:ext cx="360360" cy="358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209160" y="4149720"/>
            <a:ext cx="60429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nimum width orde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idth of a node is number of adjacent predecesso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idth of an ordering is maximum width of the nod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idth of a graph is minimal width of all orderin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67800" y="5686560"/>
            <a:ext cx="417780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ax degree ordering (show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 non-decreasing degree seque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5531040" y="5902200"/>
            <a:ext cx="33476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y should this work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there anything bad bout i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" name="Group 30"/>
          <p:cNvGrpSpPr/>
          <p:nvPr/>
        </p:nvGrpSpPr>
        <p:grpSpPr>
          <a:xfrm>
            <a:off x="6948360" y="1413000"/>
            <a:ext cx="1930680" cy="3166920"/>
            <a:chOff x="6948360" y="1413000"/>
            <a:chExt cx="1930680" cy="3166920"/>
          </a:xfrm>
        </p:grpSpPr>
        <p:sp>
          <p:nvSpPr>
            <p:cNvPr id="67" name="Oval 17"/>
            <p:cNvSpPr/>
            <p:nvPr/>
          </p:nvSpPr>
          <p:spPr>
            <a:xfrm>
              <a:off x="6948360" y="4221000"/>
              <a:ext cx="360360" cy="3589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" name="Line 24"/>
            <p:cNvSpPr/>
            <p:nvPr/>
          </p:nvSpPr>
          <p:spPr>
            <a:xfrm flipH="1">
              <a:off x="7093080" y="1557360"/>
              <a:ext cx="7128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7093080" y="2421000"/>
              <a:ext cx="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>
              <a:off x="7093080" y="314172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Freeform 28"/>
            <p:cNvSpPr/>
            <p:nvPr/>
          </p:nvSpPr>
          <p:spPr>
            <a:xfrm>
              <a:off x="7308720" y="1628640"/>
              <a:ext cx="1570320" cy="2808360"/>
            </a:xfrm>
            <a:custGeom>
              <a:avLst/>
              <a:gdLst>
                <a:gd name="textAreaLeft" fmla="*/ 0 w 1570320"/>
                <a:gd name="textAreaRight" fmla="*/ 1570680 w 1570320"/>
                <a:gd name="textAreaTop" fmla="*/ 0 h 2808360"/>
                <a:gd name="textAreaBottom" fmla="*/ 2808720 h 2808360"/>
              </a:gdLst>
              <a:ahLst/>
              <a:rect l="textAreaLeft" t="textAreaTop" r="textAreaRight" b="textAreaBottom"/>
              <a:pathLst>
                <a:path w="989" h="1769">
                  <a:moveTo>
                    <a:pt x="0" y="0"/>
                  </a:moveTo>
                  <a:cubicBezTo>
                    <a:pt x="314" y="106"/>
                    <a:pt x="628" y="212"/>
                    <a:pt x="771" y="454"/>
                  </a:cubicBezTo>
                  <a:cubicBezTo>
                    <a:pt x="914" y="696"/>
                    <a:pt x="989" y="1233"/>
                    <a:pt x="861" y="1452"/>
                  </a:cubicBezTo>
                  <a:cubicBezTo>
                    <a:pt x="733" y="1671"/>
                    <a:pt x="366" y="1720"/>
                    <a:pt x="0" y="176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7164360" y="1628640"/>
              <a:ext cx="995400" cy="216072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2160720"/>
                <a:gd name="textAreaBottom" fmla="*/ 2161080 h 2160720"/>
              </a:gdLst>
              <a:ahLst/>
              <a:rect l="textAreaLeft" t="textAreaTop" r="textAreaRight" b="textAreaBottom"/>
              <a:pathLst>
                <a:path w="627" h="1361">
                  <a:moveTo>
                    <a:pt x="0" y="0"/>
                  </a:moveTo>
                  <a:cubicBezTo>
                    <a:pt x="230" y="219"/>
                    <a:pt x="461" y="439"/>
                    <a:pt x="544" y="635"/>
                  </a:cubicBezTo>
                  <a:cubicBezTo>
                    <a:pt x="627" y="831"/>
                    <a:pt x="590" y="1058"/>
                    <a:pt x="499" y="1179"/>
                  </a:cubicBezTo>
                  <a:cubicBezTo>
                    <a:pt x="408" y="1300"/>
                    <a:pt x="204" y="1330"/>
                    <a:pt x="0" y="136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Oval 15"/>
            <p:cNvSpPr/>
            <p:nvPr/>
          </p:nvSpPr>
          <p:spPr>
            <a:xfrm>
              <a:off x="6948360" y="1413000"/>
              <a:ext cx="360360" cy="3585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Oval 16"/>
            <p:cNvSpPr/>
            <p:nvPr/>
          </p:nvSpPr>
          <p:spPr>
            <a:xfrm>
              <a:off x="6948360" y="2205000"/>
              <a:ext cx="360360" cy="3589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Oval 19"/>
            <p:cNvSpPr/>
            <p:nvPr/>
          </p:nvSpPr>
          <p:spPr>
            <a:xfrm>
              <a:off x="6948360" y="2924280"/>
              <a:ext cx="360360" cy="3585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Oval 18"/>
            <p:cNvSpPr/>
            <p:nvPr/>
          </p:nvSpPr>
          <p:spPr>
            <a:xfrm>
              <a:off x="6948360" y="3573360"/>
              <a:ext cx="360360" cy="3589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" name="Text Box 31"/>
          <p:cNvSpPr/>
          <p:nvPr/>
        </p:nvSpPr>
        <p:spPr>
          <a:xfrm>
            <a:off x="4192560" y="0"/>
            <a:ext cx="49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rder” the constraint graph in a certain w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2268720" y="3068640"/>
            <a:ext cx="46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nimum width aka degeneracy orde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4357080" y="189000"/>
            <a:ext cx="4635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nimum width aka degeneracy orde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1765080" y="3284640"/>
            <a:ext cx="5093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lect vertex v of maximum de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move v from graph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educe degree of vertices adjacent to v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.  If vertices remain, go to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14:55:28Z</dcterms:created>
  <dc:creator>Randy Goebel</dc:creator>
  <dc:description/>
  <dc:language>en-US</dc:language>
  <cp:lastModifiedBy>patrick</cp:lastModifiedBy>
  <cp:lastPrinted>2001-06-12T18:16:20Z</cp:lastPrinted>
  <dcterms:modified xsi:type="dcterms:W3CDTF">2020-02-05T10:52:37Z</dcterms:modified>
  <cp:revision>353</cp:revision>
  <dc:subject/>
  <dc:title>Formulating a Constraint Satisfaction Problem</dc:title>
</cp:coreProperties>
</file>