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4F7-CD35-44A3-B47C-2225D191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1C5-5CD3-4A39-83C7-73E9C60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7B4-1C9C-4164-9D24-18114AEA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912-B6C9-4E31-BE80-A8C2A216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326-28F3-43B4-987D-4BBE7390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49B-F62C-44B4-BB3E-EEB1369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196-8481-4797-A76C-3B29AA7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508-87BC-44C1-A3E8-FC832E9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658-75CE-47A4-B6C1-B16BE37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8F2-BA29-4AE0-8CBB-96B4185A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1D2-D54A-48FF-A70F-2449420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B44-8EBC-443B-AB05-79E47679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2519-47B6-4461-BEDF-F41EB71DF8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D Bin Pack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or “CP? Who cares?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3802" t="26210" r="19630" b="27924"/>
          <a:stretch/>
        </p:blipFill>
        <p:spPr>
          <a:xfrm>
            <a:off x="77760" y="620640"/>
            <a:ext cx="8993160" cy="446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68360" y="2924280"/>
            <a:ext cx="3816360" cy="1296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3802" t="26210" r="19630" b="27924"/>
          <a:stretch/>
        </p:blipFill>
        <p:spPr>
          <a:xfrm>
            <a:off x="77760" y="620640"/>
            <a:ext cx="8993160" cy="4464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68360" y="4221000"/>
            <a:ext cx="4390920" cy="863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18440" y="4076640"/>
            <a:ext cx="7221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ad[i] is the sum of the numbers in the ith 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re load[i] is a constrained integer variable with domain [0 .. C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5580000" y="115920"/>
                <a:ext cx="3386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at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71" name="Picture 5" descr=""/>
          <p:cNvPicPr/>
          <p:nvPr/>
        </p:nvPicPr>
        <p:blipFill>
          <a:blip r:embed="rId1"/>
          <a:srcRect l="8844" t="39178" r="30341" b="30411"/>
          <a:stretch/>
        </p:blipFill>
        <p:spPr>
          <a:xfrm>
            <a:off x="324000" y="1916280"/>
            <a:ext cx="837864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-1440" y="0"/>
            <a:ext cx="895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t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171160" y="263700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have n.m 0/1 constrained integer vari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925080" y="6491160"/>
            <a:ext cx="51991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How big is the potential state spa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0960" y="69840"/>
            <a:ext cx="38246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ly in one place at any one tim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81840" y="1700280"/>
            <a:ext cx="620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number data[i] can only be in one bin at any one tim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983520" y="2805120"/>
            <a:ext cx="67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fore, the number of 1’s in any column must be exactly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5580000" y="115920"/>
                <a:ext cx="3386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at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79" name="Picture 8" descr=""/>
          <p:cNvPicPr/>
          <p:nvPr/>
        </p:nvPicPr>
        <p:blipFill>
          <a:blip r:embed="rId1"/>
          <a:srcRect l="10206" t="44056" r="15726" b="14910"/>
          <a:stretch/>
        </p:blipFill>
        <p:spPr>
          <a:xfrm>
            <a:off x="57240" y="3573360"/>
            <a:ext cx="8769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5680" y="141120"/>
            <a:ext cx="1636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a bin us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59680" y="1797120"/>
            <a:ext cx="5644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there are  numbers in a bin then that bin is us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564920" y="5589720"/>
            <a:ext cx="56185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nUsed[i] = 1 iff and only if load[i] &gt;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re  binUsed is 0/1 constrained integer vari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5580000" y="115920"/>
                <a:ext cx="3386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at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84" name="Picture 7" descr=""/>
          <p:cNvPicPr/>
          <p:nvPr/>
        </p:nvPicPr>
        <p:blipFill>
          <a:blip r:embed="rId1"/>
          <a:srcRect l="8195" t="34097" r="36912" b="14374"/>
          <a:stretch/>
        </p:blipFill>
        <p:spPr>
          <a:xfrm>
            <a:off x="420840" y="2567160"/>
            <a:ext cx="80388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-47160" y="0"/>
            <a:ext cx="2930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bins are us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92920" y="1916280"/>
            <a:ext cx="6161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m up the number of bins used and ensure that th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less than or equal to the number of bins that we ha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25640" y="5661000"/>
            <a:ext cx="688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tBinsUsed is a constraint integer variable with domain [0..m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580000" y="115920"/>
                <a:ext cx="3386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at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89" name="Picture 7" descr=""/>
          <p:cNvPicPr/>
          <p:nvPr/>
        </p:nvPicPr>
        <p:blipFill>
          <a:blip r:embed="rId1"/>
          <a:srcRect l="10076" t="50008" r="33697" b="27389"/>
          <a:stretch/>
        </p:blipFill>
        <p:spPr>
          <a:xfrm>
            <a:off x="179280" y="3141720"/>
            <a:ext cx="8529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09280" y="83664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gram has the following command line inp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779120" y="1700280"/>
            <a:ext cx="57736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ame of a file containing 100  or more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(uniform) capacity of each 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umber of numbers to read from file f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umber of b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35240" y="5470560"/>
            <a:ext cx="4524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gram finds first solution and displ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mber of nodes, and the 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19440" y="2924280"/>
            <a:ext cx="734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member … we will optimise via a sequence of decision probl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87720" y="4724280"/>
            <a:ext cx="5674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ep reducing the number of bins until no 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347280" y="292428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does nothing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74480" y="46782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it do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707360" y="554184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search do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161360" y="981000"/>
            <a:ext cx="715320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SR1] 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TANCE: Finite set U of items, a size s(u) in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or each u in U,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sitive integer bin capacity B, and a positive integer 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Is there a partition of U into disjoint sets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…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ch that the sum of the sizes of the items in each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B or les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17120" y="479736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rey &amp; Johns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rs and Intractability: A guide to the theory of NP-Completenes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8400" y="69840"/>
            <a:ext cx="25779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isions, decision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729520" y="1413000"/>
            <a:ext cx="370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the decision variables?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9564" t="28538" r="56420" b="35731"/>
          <a:stretch/>
        </p:blipFill>
        <p:spPr>
          <a:xfrm>
            <a:off x="4446720" y="404640"/>
            <a:ext cx="4216320" cy="223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1" name="Picture 5" descr=""/>
          <p:cNvPicPr/>
          <p:nvPr/>
        </p:nvPicPr>
        <p:blipFill>
          <a:blip r:embed="rId2"/>
          <a:srcRect l="9950" t="50008" r="41403" b="25000"/>
          <a:stretch/>
        </p:blipFill>
        <p:spPr>
          <a:xfrm>
            <a:off x="971640" y="3968640"/>
            <a:ext cx="6811920" cy="1764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919600" y="2013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is so slow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92280" y="35971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 is it so sl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347000" y="5037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search do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-15120" y="0"/>
            <a:ext cx="18752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lue Ordering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9694" t="53255" r="44868" b="25358"/>
          <a:stretch/>
        </p:blipFill>
        <p:spPr>
          <a:xfrm>
            <a:off x="262080" y="2421000"/>
            <a:ext cx="8496000" cy="201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321360" y="29973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’s still slow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65880" y="0"/>
            <a:ext cx="22791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 heuristic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88080" y="23493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t decrea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rcRect l="0" t="0" r="89295" b="67515"/>
          <a:stretch/>
        </p:blipFill>
        <p:spPr>
          <a:xfrm>
            <a:off x="468360" y="260280"/>
            <a:ext cx="1803240" cy="4103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251960" y="1725480"/>
            <a:ext cx="3336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3 90 69 67 57 45 42 42 38 3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69880" y="3452760"/>
            <a:ext cx="875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5508720" y="2205000"/>
            <a:ext cx="215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219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181480" y="594360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16292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09680" y="59436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1532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0040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17220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228600" y="53341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Comment 25"/>
          <p:cNvSpPr/>
          <p:nvPr/>
        </p:nvSpPr>
        <p:spPr>
          <a:xfrm>
            <a:off x="990720" y="4114800"/>
            <a:ext cx="701028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 the first fit decreasing algorithm we sort the blocks into descending order firs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2860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5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16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17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9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227240" y="717480"/>
            <a:ext cx="7151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a = 42 63 67 57 93 90 38 36 45 4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     = 10                                                // 10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     = 5                                                  // 5 b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      = 150                                              // bin capacity of 150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139040" y="3141720"/>
            <a:ext cx="6651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pack the above 10 numbers into 5 bins such that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m of the numbers in each bin is less than or equal to 150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850840" y="5516640"/>
            <a:ext cx="557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te: the above 10 numbers sum to a total of  57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79/150 = 3.8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-22680" y="0"/>
            <a:ext cx="14486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676520" y="2286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2666880" y="838080"/>
            <a:ext cx="8384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676520" y="5335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8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2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3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4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6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Comment 19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" dur="1" fill="hold"/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4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Comment 1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46483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6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1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2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3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4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6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Comment 17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0" dur="1" fill="hold"/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9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10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11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12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3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5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Comment 16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365760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46483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7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8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0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11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3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Comment 14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2666880" y="1752480"/>
            <a:ext cx="83844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Comment 2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 have packed them into 5 b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676520" y="14479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rcRect l="9434" t="29046" r="47565" b="29179"/>
          <a:stretch/>
        </p:blipFill>
        <p:spPr>
          <a:xfrm>
            <a:off x="539640" y="3500280"/>
            <a:ext cx="5160960" cy="2527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rcRect l="9308" t="28796" r="46537" b="28155"/>
          <a:stretch/>
        </p:blipFill>
        <p:spPr>
          <a:xfrm>
            <a:off x="2771640" y="333360"/>
            <a:ext cx="5877000" cy="28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54720" y="69840"/>
            <a:ext cx="2713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low proving opti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610280" y="2637000"/>
            <a:ext cx="5792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n’t have a test that sum of numbers over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less than or equal to the number of bins availabl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12960" y="0"/>
            <a:ext cx="1553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370880" y="1077840"/>
            <a:ext cx="62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ymmetries that are slowing down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remove those 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840600" y="458136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the symmetries in this probl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2960" y="0"/>
            <a:ext cx="1553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606680" y="1509840"/>
            <a:ext cx="434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 not insist that load[i] &gt;= load[i+1]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857240" y="3094200"/>
            <a:ext cx="545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about “lex” ordering between rows of inBi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rcRect l="10455" t="42180" r="38103" b="11000"/>
          <a:stretch/>
        </p:blipFill>
        <p:spPr>
          <a:xfrm>
            <a:off x="125280" y="1484280"/>
            <a:ext cx="8401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249840" y="69840"/>
            <a:ext cx="27608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other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4123440" y="227664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-1440" y="0"/>
            <a:ext cx="43261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 alternative (and it’s consequences)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474560" y="1220760"/>
            <a:ext cx="572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troduce an array of constrained integer variabl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c[j] with domain [0..m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2195640" y="2781360"/>
                <a:ext cx="3992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Bi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7"/>
          <p:cNvSpPr/>
          <p:nvPr/>
        </p:nvSpPr>
        <p:spPr>
          <a:xfrm>
            <a:off x="869760" y="3886200"/>
            <a:ext cx="72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equenc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ray loc is now decision vari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 longer need to insist that sums of columns of inBin equal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3683520" y="6491160"/>
            <a:ext cx="54201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what’s the size of the state space 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9440" y="0"/>
            <a:ext cx="5436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32600" y="6444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ve we learn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999360" y="2060640"/>
            <a:ext cx="719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dentify the decision vari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the size of the state spa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the size of the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value ordering doing to the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use any heuristic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symmetries that we can brea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imple/redundant tests/constraints overlook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 alternative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61560" y="1413000"/>
            <a:ext cx="911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let’s not forget the big question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Why are we using constraint programm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7386120" y="60930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120" y="0"/>
            <a:ext cx="9428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st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967040" y="836640"/>
                <a:ext cx="4417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cala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Text Box 6"/>
          <p:cNvSpPr/>
          <p:nvPr/>
        </p:nvSpPr>
        <p:spPr>
          <a:xfrm>
            <a:off x="1271880" y="3716280"/>
            <a:ext cx="724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ad in the numbers into array called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ociate an array of constrained integer variables v with a 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1 if and only if the i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number is in that 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232600" y="26370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ypical constraint for one 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4571640" y="220464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8360" y="0"/>
            <a:ext cx="1969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re specific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2268360" y="404640"/>
                <a:ext cx="5926320" cy="23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at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Bi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  <m:e/>
                        <m:e/>
                        <m:e/>
                        <m:e/>
                        <m:e/>
                        <m:e/>
                        <m:e/>
                        <m:e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3564000" y="2924280"/>
                <a:ext cx="3384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Bi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3287880" y="3645000"/>
                <a:ext cx="390996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t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Bi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y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,scala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ata,inBin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makeIntVa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,0,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8"/>
          <p:cNvSpPr/>
          <p:nvPr/>
        </p:nvSpPr>
        <p:spPr>
          <a:xfrm>
            <a:off x="1395000" y="6093000"/>
            <a:ext cx="739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sum of the numbers in a bin is less than or equal to its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1409" t="28176" r="3810" b="45570"/>
          <a:stretch/>
        </p:blipFill>
        <p:spPr>
          <a:xfrm>
            <a:off x="250920" y="1117440"/>
            <a:ext cx="8907480" cy="2382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68360" y="1413000"/>
            <a:ext cx="7596000" cy="209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802" t="26210" r="19630" b="27924"/>
          <a:stretch/>
        </p:blipFill>
        <p:spPr>
          <a:xfrm>
            <a:off x="77760" y="620640"/>
            <a:ext cx="899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802" t="26210" r="19630" b="27924"/>
          <a:stretch/>
        </p:blipFill>
        <p:spPr>
          <a:xfrm>
            <a:off x="77760" y="620640"/>
            <a:ext cx="8993160" cy="4464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68360" y="836640"/>
            <a:ext cx="6119640" cy="216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2:33:01Z</dcterms:created>
  <dc:creator>pat</dc:creator>
  <dc:description/>
  <dc:language>en-US</dc:language>
  <cp:lastModifiedBy>Patrick Prosser</cp:lastModifiedBy>
  <dcterms:modified xsi:type="dcterms:W3CDTF">2015-10-15T14:34:35Z</dcterms:modified>
  <cp:revision>39</cp:revision>
  <dc:subject/>
  <dc:title>1D Bin Packing (or “CP? Who cares?”)</dc:title>
</cp:coreProperties>
</file>