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B86-34BE-4778-ACAF-659938EB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FA7-75D7-4B06-8966-1B2F9219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EF8-0F99-4AE0-AC58-010F71C3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40C-F079-425F-8867-1DB1DAED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D031-98D4-4EFF-A78D-AC18B08B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B3B9-7E67-4D31-82D2-FBE12368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2723-0035-4EB5-AF0C-3F43C0A1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D0F-6F0E-4F14-B398-19A3099F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E86-3649-4D47-AD3C-73313622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2D5-06D9-47C3-9423-AB8FBFB9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4639-F953-499E-9A86-EFCB06F5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90F-AC43-4716-A4E0-50255380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BF71-6B9D-4BFE-9BE5-A8B7210063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locating employees to cost cen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11280" y="162000"/>
            <a:ext cx="7993080" cy="659448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8157600" y="163440"/>
            <a:ext cx="8344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 = 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39640" y="103320"/>
            <a:ext cx="8064720" cy="6653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8157600" y="163440"/>
            <a:ext cx="8344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 = 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39640" y="103320"/>
            <a:ext cx="8064720" cy="665316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8157600" y="163440"/>
            <a:ext cx="8344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 = 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11280" y="162000"/>
            <a:ext cx="8064360" cy="66546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8157600" y="163440"/>
            <a:ext cx="8344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 = 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39640" y="103320"/>
            <a:ext cx="8045640" cy="6638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8175600" y="163440"/>
            <a:ext cx="8344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 = 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39640" y="103320"/>
            <a:ext cx="7920000" cy="6534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8175600" y="163440"/>
            <a:ext cx="8344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 = 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539640" y="103320"/>
            <a:ext cx="7920000" cy="6534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8175600" y="163440"/>
            <a:ext cx="8344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 = 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962440" y="285264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ariable &amp; value orde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1356120" y="2874960"/>
            <a:ext cx="68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are decision variables and what order are values picked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rcRect l="2656" t="54022" r="35077" b="25638"/>
          <a:stretch/>
        </p:blipFill>
        <p:spPr>
          <a:xfrm>
            <a:off x="179280" y="2060640"/>
            <a:ext cx="8780400" cy="16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325520" y="2205000"/>
            <a:ext cx="6437520" cy="201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are given a number of employees (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ere each employee has a name and a sala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are given a number of cost centres (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ere each cost centre has a budg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 cost centres have the same budg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ocate the employees to cost centres, wher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sum of salaries in a cost centre is within budg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077280" y="278136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is a classic problem 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6629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1161360" y="981000"/>
            <a:ext cx="7153200" cy="20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SR1] BIN PACK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TANCE: Finite set U of items, a size s(u) in Z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for each u in U, 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ositive integer bin capacity B, and a positive integer 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QUESTION: Is there a partition of U into disjoint sets 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…, 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ch that the sum of the sizes of the items in each 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is B or les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17120" y="4797360"/>
            <a:ext cx="80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arey &amp; Johns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uters and Intractability: A guide to the theory of NP-Completeness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1161360" y="981000"/>
            <a:ext cx="7153200" cy="20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SR1] BIN PACK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TANCE: Finite set U of items, a size s(u) in Z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for each u in U, 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ositive integer bin capacity B, and a positive integer 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QUESTION: Is there a partition of U into disjoint sets 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…, 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ch that the sum of the sizes of the items in each 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is B or les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717120" y="4797360"/>
            <a:ext cx="80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arey &amp; Johns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uters and Intractability: A guide to the theory of NP-Completeness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321280" y="314172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there a heuristic we might u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219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181480" y="5943600"/>
            <a:ext cx="83844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4191120" y="56386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7162920" y="47242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2209680" y="5943600"/>
            <a:ext cx="838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81532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200400" y="5029200"/>
            <a:ext cx="83808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172200" y="56386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14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15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16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17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Line 20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28600" y="53341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Comment 25"/>
          <p:cNvSpPr/>
          <p:nvPr/>
        </p:nvSpPr>
        <p:spPr>
          <a:xfrm>
            <a:off x="990720" y="4114800"/>
            <a:ext cx="7010280" cy="5806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th the first fit decreasing algorithm we sort the blocks into descending order first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51814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4191120" y="56386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200400" y="56386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2209680" y="5334120"/>
            <a:ext cx="83844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1219320" y="5029200"/>
            <a:ext cx="83808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4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28600" y="47242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13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16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17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19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Comment 21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51814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191120" y="56386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10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14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15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16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17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18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Comment 21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1219320" y="5029200"/>
            <a:ext cx="83808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2209680" y="5334120"/>
            <a:ext cx="83844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29"/>
          <p:cNvSpPr/>
          <p:nvPr/>
        </p:nvSpPr>
        <p:spPr>
          <a:xfrm>
            <a:off x="3200400" y="56386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51814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191120" y="56386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0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Line 14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Line 15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Line 16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Line 17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Line 18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20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Comment 21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22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2209680" y="5334120"/>
            <a:ext cx="83844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29"/>
          <p:cNvSpPr/>
          <p:nvPr/>
        </p:nvSpPr>
        <p:spPr>
          <a:xfrm>
            <a:off x="3200400" y="56386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676520" y="228600"/>
            <a:ext cx="83808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1814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91120" y="56386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10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4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15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17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Comment 21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22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2666880" y="838080"/>
            <a:ext cx="83844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27"/>
          <p:cNvSpPr/>
          <p:nvPr/>
        </p:nvSpPr>
        <p:spPr>
          <a:xfrm>
            <a:off x="3200400" y="56386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676520" y="5335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" dur="1" fill="hold"/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rcRect l="0" t="9447" r="55780" b="31069"/>
          <a:stretch/>
        </p:blipFill>
        <p:spPr>
          <a:xfrm>
            <a:off x="968400" y="620640"/>
            <a:ext cx="7251840" cy="561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1814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191120" y="56386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5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16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17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8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20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Comment 21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666880" y="1143000"/>
            <a:ext cx="83844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657600" y="144792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4648320" y="26668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676520" y="8380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0" dur="1" fill="hold"/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51814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8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12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13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14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15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16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18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Comment 19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21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24"/>
          <p:cNvSpPr/>
          <p:nvPr/>
        </p:nvSpPr>
        <p:spPr>
          <a:xfrm>
            <a:off x="4648320" y="26668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25"/>
          <p:cNvSpPr/>
          <p:nvPr/>
        </p:nvSpPr>
        <p:spPr>
          <a:xfrm>
            <a:off x="2666880" y="1143000"/>
            <a:ext cx="83844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26"/>
          <p:cNvSpPr/>
          <p:nvPr/>
        </p:nvSpPr>
        <p:spPr>
          <a:xfrm>
            <a:off x="3657600" y="144792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4648320" y="17524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1676520" y="8380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2" dur="1" fill="hold"/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7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11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12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13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Line 14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15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17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Comment 18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Rectangle 20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21"/>
          <p:cNvSpPr/>
          <p:nvPr/>
        </p:nvSpPr>
        <p:spPr>
          <a:xfrm>
            <a:off x="4648320" y="26668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Rectangle 24"/>
          <p:cNvSpPr/>
          <p:nvPr/>
        </p:nvSpPr>
        <p:spPr>
          <a:xfrm>
            <a:off x="4648320" y="17524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25"/>
          <p:cNvSpPr/>
          <p:nvPr/>
        </p:nvSpPr>
        <p:spPr>
          <a:xfrm>
            <a:off x="2666880" y="114300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26"/>
          <p:cNvSpPr/>
          <p:nvPr/>
        </p:nvSpPr>
        <p:spPr>
          <a:xfrm>
            <a:off x="3657600" y="1447920"/>
            <a:ext cx="83808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4648320" y="838080"/>
            <a:ext cx="83808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28"/>
          <p:cNvSpPr/>
          <p:nvPr/>
        </p:nvSpPr>
        <p:spPr>
          <a:xfrm>
            <a:off x="5638680" y="26668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676520" y="838080"/>
            <a:ext cx="83808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1" dur="1" fill="hold"/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6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10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Line 11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Line 12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Line 13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14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16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Comment 17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4648320" y="26668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4648320" y="17524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5638680" y="26668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2666880" y="1447920"/>
            <a:ext cx="83844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3657600" y="1752480"/>
            <a:ext cx="838080" cy="609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1676520" y="11430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Line 5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9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10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11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12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13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15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Comment 16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4648320" y="26668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4648320" y="17524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5638680" y="26668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3657600" y="1752480"/>
            <a:ext cx="838080" cy="609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1676520" y="11430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2666880" y="1447920"/>
            <a:ext cx="838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3657600" y="11430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27"/>
          <p:cNvSpPr/>
          <p:nvPr/>
        </p:nvSpPr>
        <p:spPr>
          <a:xfrm>
            <a:off x="4648320" y="11430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28"/>
          <p:cNvSpPr/>
          <p:nvPr/>
        </p:nvSpPr>
        <p:spPr>
          <a:xfrm>
            <a:off x="5638680" y="2057400"/>
            <a:ext cx="838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5" dur="1" fill="hold"/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4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7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Line 8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Line 9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10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11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13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Comment 14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Rectangle 17"/>
          <p:cNvSpPr/>
          <p:nvPr/>
        </p:nvSpPr>
        <p:spPr>
          <a:xfrm>
            <a:off x="4648320" y="26668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4648320" y="17524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5638680" y="26668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3657600" y="1752480"/>
            <a:ext cx="838080" cy="609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Rectangle 25"/>
          <p:cNvSpPr/>
          <p:nvPr/>
        </p:nvSpPr>
        <p:spPr>
          <a:xfrm>
            <a:off x="5638680" y="2057400"/>
            <a:ext cx="838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26"/>
          <p:cNvSpPr/>
          <p:nvPr/>
        </p:nvSpPr>
        <p:spPr>
          <a:xfrm>
            <a:off x="2666880" y="1752480"/>
            <a:ext cx="83844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Comment 28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e have packed them into 5 bi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1676520" y="14479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726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rcRect l="5063" t="51935" r="37163" b="12119"/>
          <a:stretch/>
        </p:blipFill>
        <p:spPr>
          <a:xfrm>
            <a:off x="341280" y="1773360"/>
            <a:ext cx="8642520" cy="3095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2195280" y="299736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y 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fit decreasing (see Perso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4"/>
          <p:cNvSpPr/>
          <p:nvPr/>
        </p:nvSpPr>
        <p:spPr>
          <a:xfrm>
            <a:off x="54720" y="69840"/>
            <a:ext cx="271368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low proving optima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610280" y="2637000"/>
            <a:ext cx="5792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on’t have a test that sum of numbers over capac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less than or equal to the number of bins availabl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rcRect l="0" t="9447" r="55780" b="31069"/>
          <a:stretch/>
        </p:blipFill>
        <p:spPr>
          <a:xfrm>
            <a:off x="968400" y="620640"/>
            <a:ext cx="7251840" cy="561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Picture 2" descr=""/>
          <p:cNvPicPr/>
          <p:nvPr/>
        </p:nvPicPr>
        <p:blipFill>
          <a:blip r:embed="rId2"/>
          <a:srcRect l="0" t="0" r="84165" b="0"/>
          <a:stretch/>
        </p:blipFill>
        <p:spPr>
          <a:xfrm>
            <a:off x="5580000" y="476280"/>
            <a:ext cx="1778040" cy="6095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4"/>
          <p:cNvSpPr/>
          <p:nvPr/>
        </p:nvSpPr>
        <p:spPr>
          <a:xfrm>
            <a:off x="12960" y="0"/>
            <a:ext cx="15537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ymmetrie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370880" y="1077840"/>
            <a:ext cx="62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e there any symmetries that are slowing down search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n we remove those symmetrie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840600" y="4581360"/>
            <a:ext cx="46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are the symmetries in this problem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/>
          <a:srcRect l="4100" t="24761" r="34033" b="31766"/>
          <a:stretch/>
        </p:blipFill>
        <p:spPr>
          <a:xfrm>
            <a:off x="108000" y="1557360"/>
            <a:ext cx="8693280" cy="35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4"/>
          <p:cNvSpPr/>
          <p:nvPr/>
        </p:nvSpPr>
        <p:spPr>
          <a:xfrm>
            <a:off x="249840" y="69840"/>
            <a:ext cx="27608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there another model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4123440" y="2276640"/>
            <a:ext cx="70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03040" y="981000"/>
            <a:ext cx="892656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514440" y="511200"/>
            <a:ext cx="81151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163440" y="260280"/>
            <a:ext cx="88153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901800" y="981000"/>
            <a:ext cx="7442280" cy="5256360"/>
          </a:xfrm>
          <a:prstGeom prst="rect">
            <a:avLst/>
          </a:prstGeom>
          <a:ln w="0">
            <a:noFill/>
          </a:ln>
        </p:spPr>
      </p:pic>
      <p:sp>
        <p:nvSpPr>
          <p:cNvPr id="332" name="TextBox 2"/>
          <p:cNvSpPr/>
          <p:nvPr/>
        </p:nvSpPr>
        <p:spPr>
          <a:xfrm>
            <a:off x="6409800" y="115920"/>
            <a:ext cx="25444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anks me ol’ mucka!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797040" y="419040"/>
            <a:ext cx="7548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758880" y="225360"/>
            <a:ext cx="762480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758880" y="225360"/>
            <a:ext cx="762480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0" t="13474" r="22958" b="47793"/>
          <a:stretch/>
        </p:blipFill>
        <p:spPr>
          <a:xfrm>
            <a:off x="142920" y="1844640"/>
            <a:ext cx="8951760" cy="259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138240" y="590400"/>
            <a:ext cx="8867520" cy="567720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"/>
          <p:cNvSpPr/>
          <p:nvPr/>
        </p:nvSpPr>
        <p:spPr>
          <a:xfrm>
            <a:off x="7175880" y="128520"/>
            <a:ext cx="1765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ee AllocateB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19440" y="0"/>
            <a:ext cx="5436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732600" y="6444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have we learned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889560" y="2276640"/>
            <a:ext cx="7196040" cy="173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dentify the decision variab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is value ordering doing to the search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n we use any heuristic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e there symmetries that we can break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e there any simple/redundant tests/constraints overlooked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there an alternative model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1747800" y="2421000"/>
            <a:ext cx="5671080" cy="173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w would we modify our model to addres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o people must be in same cost cent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o people must not be in same cost cent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st centres have a limit 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m of salaries and 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umber of employees in cost cent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1"/>
          <p:cNvSpPr/>
          <p:nvPr/>
        </p:nvSpPr>
        <p:spPr>
          <a:xfrm>
            <a:off x="3768120" y="3500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3459" t="51653" r="15094" b="13377"/>
          <a:stretch/>
        </p:blipFill>
        <p:spPr>
          <a:xfrm>
            <a:off x="179280" y="1484280"/>
            <a:ext cx="8736120" cy="21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5786" t="33678" r="36840" b="50716"/>
          <a:stretch/>
        </p:blipFill>
        <p:spPr>
          <a:xfrm>
            <a:off x="168120" y="2708280"/>
            <a:ext cx="8734680" cy="136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4983" t="24485" r="26087" b="31766"/>
          <a:stretch/>
        </p:blipFill>
        <p:spPr>
          <a:xfrm>
            <a:off x="104760" y="1844640"/>
            <a:ext cx="886464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2255" t="44411" r="20069" b="4595"/>
          <a:stretch/>
        </p:blipFill>
        <p:spPr>
          <a:xfrm>
            <a:off x="395280" y="1484280"/>
            <a:ext cx="857088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2:33:01Z</dcterms:created>
  <dc:creator>pat</dc:creator>
  <dc:description/>
  <dc:language>en-US</dc:language>
  <cp:lastModifiedBy>patrick</cp:lastModifiedBy>
  <dcterms:modified xsi:type="dcterms:W3CDTF">2020-02-05T11:55:49Z</dcterms:modified>
  <cp:revision>52</cp:revision>
  <dc:subject/>
  <dc:title>1D Bin Packing (or “CP? Who cares?”)</dc:title>
</cp:coreProperties>
</file>