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857-DD63-40A0-84BB-8DAA5FC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A9F-DC85-4D02-856C-4A71193F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FDF-F6BC-46CA-9592-79E87B2C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A7C-C1F0-4832-B476-74B51D6D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197-8F4E-455F-B0A4-3151D59F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9A8-71B2-4304-8D54-0948FB12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F30-324B-46B5-A60D-F02328D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3BC-BAC8-435F-A12C-60FA820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95B-B74B-4F56-8A21-9D7AD85B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493-AE60-4E8E-9033-3C46FBD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2E2-CAC3-4E83-9E0F-AC6B73F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CF6-073D-4446-B9E5-B68BD02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249-9FF3-435F-AC6B-803FDC3446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13840" y="2924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loph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547640" y="3213000"/>
            <a:ext cx="619308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547640" y="2205000"/>
            <a:ext cx="612000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rcRect l="10624" t="11153" r="16926" b="14328"/>
          <a:stretch/>
        </p:blipFill>
        <p:spPr>
          <a:xfrm>
            <a:off x="0" y="0"/>
            <a:ext cx="5435640" cy="419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058160" y="189000"/>
            <a:ext cx="1742760" cy="337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flect on thi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55120" y="4724280"/>
            <a:ext cx="7709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 know that sorting is at best O(n.Log(n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 know that when you increase the size of the data set (n) run time incre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is kind of what we assume: increase n, increase run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it not strange that in numPart as we increase n runtime eventually fall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2419" t="25701" r="22821" b="19101"/>
          <a:stretch/>
        </p:blipFill>
        <p:spPr>
          <a:xfrm>
            <a:off x="1359000" y="512640"/>
            <a:ext cx="74167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43082" t="59623" r="45500" b="32924"/>
          <a:stretch/>
        </p:blipFill>
        <p:spPr>
          <a:xfrm>
            <a:off x="3059280" y="5381640"/>
            <a:ext cx="3170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020840" y="2979720"/>
            <a:ext cx="15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cent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rcRect l="0" t="18800" r="24367" b="7626"/>
          <a:stretch/>
        </p:blipFill>
        <p:spPr>
          <a:xfrm>
            <a:off x="179280" y="476280"/>
            <a:ext cx="8568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0" t="15989" r="28361" b="7358"/>
          <a:stretch/>
        </p:blipFill>
        <p:spPr>
          <a:xfrm>
            <a:off x="179280" y="260280"/>
            <a:ext cx="8425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300840" y="282744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Lwb-nUpb-digits.t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105360" y="384660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ample size of 50 (very smal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378600" y="28526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 I did early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7092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278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32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60360" y="333360"/>
            <a:ext cx="84596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31760" y="765000"/>
            <a:ext cx="88804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81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8631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5240" y="2852640"/>
            <a:ext cx="372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xperiments with 25 ≤ n ≤ 100, d=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6:31:53Z</dcterms:created>
  <dc:creator>pat</dc:creator>
  <dc:description/>
  <dc:language>en-US</dc:language>
  <cp:lastModifiedBy>Patrick Prosser</cp:lastModifiedBy>
  <dcterms:modified xsi:type="dcterms:W3CDTF">2019-02-27T15:35:18Z</dcterms:modified>
  <cp:revision>22</cp:revision>
  <dc:subject/>
  <dc:title>Slide 1</dc:title>
</cp:coreProperties>
</file>