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7E0-AC1C-4172-B4A7-20850007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055-22E8-4159-8698-EFFD0B5E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E09-2CCE-41C1-8ACD-78F94AF3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2CB-7C9C-48F2-9DBF-0C78346F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9DF-C620-49D2-B925-3F3C9242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ADE-60F1-45F0-B5F4-F3E43D5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F46-0E31-4920-8A00-5CE55A1E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7CB-7945-4F0D-87B1-422268AA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968-A776-4132-B08E-19DEB0BF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DED-475C-4BDD-9E75-9F1E9619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633-14B2-446C-8E9A-52B6BBF4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9E3-88A4-4C2F-8776-B5E26DA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808C-4742-41C5-A491-2F725C7BB3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13840" y="29242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loph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547640" y="3213000"/>
            <a:ext cx="6193080" cy="144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547640" y="2205000"/>
            <a:ext cx="612000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rcRect l="10624" t="11153" r="16926" b="14328"/>
          <a:stretch/>
        </p:blipFill>
        <p:spPr>
          <a:xfrm>
            <a:off x="0" y="0"/>
            <a:ext cx="5435640" cy="419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7058160" y="189000"/>
            <a:ext cx="1742760" cy="3373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flect on this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55120" y="4724280"/>
            <a:ext cx="7709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ou know that sorting is at best O(n.Log(n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ou know that when you increase the size of the data set (n) run time increa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is kind of what we assume: increase n, increase run ti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s it not strange that in numPart as we increase n runtime eventually falls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2419" t="25701" r="22821" b="19101"/>
          <a:stretch/>
        </p:blipFill>
        <p:spPr>
          <a:xfrm>
            <a:off x="1359000" y="512640"/>
            <a:ext cx="741672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43082" t="59623" r="45500" b="32924"/>
          <a:stretch/>
        </p:blipFill>
        <p:spPr>
          <a:xfrm>
            <a:off x="3059280" y="5381640"/>
            <a:ext cx="3170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4020840" y="2979720"/>
            <a:ext cx="15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cent resul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rcRect l="0" t="18800" r="24367" b="7626"/>
          <a:stretch/>
        </p:blipFill>
        <p:spPr>
          <a:xfrm>
            <a:off x="179280" y="476280"/>
            <a:ext cx="8568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0" t="15989" r="28361" b="7358"/>
          <a:stretch/>
        </p:blipFill>
        <p:spPr>
          <a:xfrm>
            <a:off x="179280" y="260280"/>
            <a:ext cx="84250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300840" y="282744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Lwb-nUpb-digits.t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105360" y="3846600"/>
            <a:ext cx="29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ample size of 50 (very small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3378600" y="28526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at I did early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7092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2784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8329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60360" y="333360"/>
            <a:ext cx="845964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31760" y="765000"/>
            <a:ext cx="88804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8819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2080" y="260280"/>
            <a:ext cx="86310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505240" y="2852640"/>
            <a:ext cx="372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xperiments with 25 ≤ n ≤ 100, d=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6:31:53Z</dcterms:created>
  <dc:creator>pat</dc:creator>
  <dc:description/>
  <dc:language>en-US</dc:language>
  <cp:lastModifiedBy>Patrick Prosser</cp:lastModifiedBy>
  <dcterms:modified xsi:type="dcterms:W3CDTF">2019-02-27T15:35:18Z</dcterms:modified>
  <cp:revision>22</cp:revision>
  <dc:subject/>
  <dc:title>Slide 1</dc:title>
</cp:coreProperties>
</file>