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A12-116C-4580-AF38-CC9E6AC0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64D-381C-4973-9BC4-E04077FD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FB1-015D-4C8F-9829-963EA4D8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016-7169-4B08-998D-D83E9DBD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400-FE0D-489D-913C-58D0A246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A1E-95BB-496D-B08C-62FE9B1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529-0042-46ED-92C3-6E8E0AD4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ADE-91A6-4651-81D7-91E5A07D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F74-DAF1-49AA-8E32-931177F0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1DB-FBE4-4B3C-A156-D5F274F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EEF-52E3-475D-90C9-23FF245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294-3D76-46DE-8808-C331A19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728-24AF-4C81-8D09-CDF760F2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56680" y="2852640"/>
            <a:ext cx="6733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Satanick"/>
              </a:rPr>
              <a:t>Where are the hard problem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Satanick"/>
              </a:rPr>
              <a:t>20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23" t="14155" r="27188" b="0"/>
          <a:stretch/>
        </p:blipFill>
        <p:spPr>
          <a:xfrm>
            <a:off x="1301760" y="0"/>
            <a:ext cx="5681520" cy="671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mage result for looking smug"/>
          <p:cNvPicPr/>
          <p:nvPr/>
        </p:nvPicPr>
        <p:blipFill>
          <a:blip r:embed="rId2"/>
          <a:srcRect l="0" t="0" r="11755" b="0"/>
          <a:stretch/>
        </p:blipFill>
        <p:spPr>
          <a:xfrm>
            <a:off x="7524720" y="469584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901" t="28313" r="26362" b="0"/>
          <a:stretch/>
        </p:blipFill>
        <p:spPr>
          <a:xfrm>
            <a:off x="1116000" y="177840"/>
            <a:ext cx="663264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762" t="15728" r="27327" b="0"/>
          <a:stretch/>
        </p:blipFill>
        <p:spPr>
          <a:xfrm>
            <a:off x="900000" y="115920"/>
            <a:ext cx="561348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3577" t="20580" r="35216" b="5636"/>
          <a:stretch/>
        </p:blipFill>
        <p:spPr>
          <a:xfrm>
            <a:off x="1187280" y="260280"/>
            <a:ext cx="55850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8102" t="32174" r="24839" b="36226"/>
          <a:stretch/>
        </p:blipFill>
        <p:spPr>
          <a:xfrm>
            <a:off x="185760" y="907920"/>
            <a:ext cx="87789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8102" t="32174" r="24839" b="36226"/>
          <a:stretch/>
        </p:blipFill>
        <p:spPr>
          <a:xfrm>
            <a:off x="185760" y="907920"/>
            <a:ext cx="8778960" cy="469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Image result for drawing of a giant whale"/>
          <p:cNvPicPr/>
          <p:nvPr/>
        </p:nvPicPr>
        <p:blipFill>
          <a:blip r:embed="rId2"/>
          <a:srcRect l="3195" t="5570" r="1189" b="50001"/>
          <a:stretch/>
        </p:blipFill>
        <p:spPr>
          <a:xfrm>
            <a:off x="3132000" y="5445000"/>
            <a:ext cx="4746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8102" t="32174" r="24839" b="36226"/>
          <a:stretch/>
        </p:blipFill>
        <p:spPr>
          <a:xfrm>
            <a:off x="185760" y="907920"/>
            <a:ext cx="8778960" cy="4697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365840" y="5632560"/>
            <a:ext cx="64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Rockwell Extra Bold"/>
              </a:rPr>
              <a:t>In pre-rejection mod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5185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15157" r="27879" b="0"/>
          <a:stretch/>
        </p:blipFill>
        <p:spPr>
          <a:xfrm>
            <a:off x="2411280" y="260280"/>
            <a:ext cx="547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14155" r="27327" b="0"/>
          <a:stretch/>
        </p:blipFill>
        <p:spPr>
          <a:xfrm>
            <a:off x="1989000" y="333360"/>
            <a:ext cx="49896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14155" r="27327" b="0"/>
          <a:stretch/>
        </p:blipFill>
        <p:spPr>
          <a:xfrm>
            <a:off x="1989000" y="333360"/>
            <a:ext cx="4989600" cy="569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tamp, Rejected, Document, Reject, Rejection, Decline"/>
          <p:cNvPicPr/>
          <p:nvPr/>
        </p:nvPicPr>
        <p:blipFill>
          <a:blip r:embed="rId2"/>
          <a:srcRect l="8366" t="24524" r="7841" b="24705"/>
          <a:stretch/>
        </p:blipFill>
        <p:spPr>
          <a:xfrm>
            <a:off x="2928960" y="1987560"/>
            <a:ext cx="39355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6493" t="24309" r="32991" b="14881"/>
          <a:stretch/>
        </p:blipFill>
        <p:spPr>
          <a:xfrm>
            <a:off x="1185840" y="549360"/>
            <a:ext cx="5805360" cy="563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Stamp, Rejected, Document, Reject, Rejection, Decline"/>
          <p:cNvPicPr/>
          <p:nvPr/>
        </p:nvPicPr>
        <p:blipFill>
          <a:blip r:embed="rId2"/>
          <a:srcRect l="8364" t="24527" r="7860" b="24709"/>
          <a:stretch/>
        </p:blipFill>
        <p:spPr>
          <a:xfrm>
            <a:off x="324000" y="5381640"/>
            <a:ext cx="13190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4282" t="16159" r="34511" b="7342"/>
          <a:stretch/>
        </p:blipFill>
        <p:spPr>
          <a:xfrm>
            <a:off x="1835280" y="115920"/>
            <a:ext cx="5414760" cy="654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tamp, Rejected, Document, Reject, Rejection, Decline"/>
          <p:cNvPicPr/>
          <p:nvPr/>
        </p:nvPicPr>
        <p:blipFill>
          <a:blip r:embed="rId2"/>
          <a:srcRect l="8364" t="24527" r="7860" b="24709"/>
          <a:stretch/>
        </p:blipFill>
        <p:spPr>
          <a:xfrm>
            <a:off x="998640" y="3500280"/>
            <a:ext cx="13208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3314" t="15301" r="28434" b="0"/>
          <a:stretch/>
        </p:blipFill>
        <p:spPr>
          <a:xfrm>
            <a:off x="2268360" y="174600"/>
            <a:ext cx="5472360" cy="656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tamp, Rejected, Document, Reject, Rejection, Decline"/>
          <p:cNvPicPr/>
          <p:nvPr/>
        </p:nvPicPr>
        <p:blipFill>
          <a:blip r:embed="rId2"/>
          <a:srcRect l="8364" t="24527" r="7860" b="24709"/>
          <a:stretch/>
        </p:blipFill>
        <p:spPr>
          <a:xfrm>
            <a:off x="998640" y="3500280"/>
            <a:ext cx="1320840" cy="8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tamp, Rejected, Document, Reject, Rejection, Decline"/>
          <p:cNvPicPr/>
          <p:nvPr/>
        </p:nvPicPr>
        <p:blipFill>
          <a:blip r:embed="rId3"/>
          <a:srcRect l="8364" t="24527" r="7860" b="24709"/>
          <a:stretch/>
        </p:blipFill>
        <p:spPr>
          <a:xfrm rot="1024200">
            <a:off x="7596360" y="1773000"/>
            <a:ext cx="1319040" cy="79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amp, Rejected, Document, Reject, Rejection, Decline"/>
          <p:cNvPicPr/>
          <p:nvPr/>
        </p:nvPicPr>
        <p:blipFill>
          <a:blip r:embed="rId4"/>
          <a:srcRect l="8364" t="24527" r="7860" b="24709"/>
          <a:stretch/>
        </p:blipFill>
        <p:spPr>
          <a:xfrm rot="2845800">
            <a:off x="1124280" y="972000"/>
            <a:ext cx="13190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3314" t="15584" r="28986" b="0"/>
          <a:stretch/>
        </p:blipFill>
        <p:spPr>
          <a:xfrm>
            <a:off x="539640" y="130320"/>
            <a:ext cx="5472360" cy="659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Stamp, Rejected, Document, Reject, Rejection, Decline"/>
          <p:cNvPicPr/>
          <p:nvPr/>
        </p:nvPicPr>
        <p:blipFill>
          <a:blip r:embed="rId2"/>
          <a:srcRect l="8366" t="24524" r="7841" b="24705"/>
          <a:stretch/>
        </p:blipFill>
        <p:spPr>
          <a:xfrm>
            <a:off x="5006880" y="1844640"/>
            <a:ext cx="3802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2:38:58Z</dcterms:created>
  <dc:creator>pat</dc:creator>
  <dc:description/>
  <dc:language>en-US</dc:language>
  <cp:lastModifiedBy>Patrick Prosser</cp:lastModifiedBy>
  <dcterms:modified xsi:type="dcterms:W3CDTF">2019-02-27T12:35:54Z</dcterms:modified>
  <cp:revision>33</cp:revision>
  <dc:subject/>
  <dc:title>No Slide Title</dc:title>
</cp:coreProperties>
</file>