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55D-E9D2-4C76-AFBF-5470EC14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04B-DC1C-40A8-8F49-78398914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C25-35C0-4A39-8D0E-E807C490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95E-75FB-43FC-8BAE-4B370897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5ED-81CA-47CE-BDD3-524E761F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C0F-BEFA-4A74-84CB-F5F0F88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0D9-986A-4650-A606-B096381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A04-8DBE-48B7-9D81-10D66542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327-306F-40E7-83E2-AD3D9E42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193-367D-41A2-B6AF-6756CE3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D0D-7F71-4CAC-A776-D1AD1B9A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541-75F5-45EE-A216-DCB03286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92D6-B30F-4FAE-9ADA-F8E658D520E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9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leted a whistle-stop tour of programming language and C# bas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w we will write a program or two from scra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A96-9BC9-477E-B8B8-DD26512C1B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dd a method to RotatingPoi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Class View, select Rotating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ess button 2, then Add/Add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the wiz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 name is Redr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ive a description – something lik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redraw the point assuming a time interval has pas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gnore the rest, there will be no parameters and we are not returning any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e what the wizard produ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could have typed this yourself – once you have become proficient, you may find it easi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62B-88E3-4793-957E-98DD49AC20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dd a field member to the clas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Class View, with RotatingPoint sel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tton 2/Add/Add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eld Access – choos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e don't want external classes to see this va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eld Type – choos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i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integer or whole numb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eld Name – type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is going to represent the X position of the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ype in a description explaining th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ce Finished, see the addition to the code in the class'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F29-A6CA-4FD8-A3E7-5610764DD4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dd more field member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e for the point's Y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uld do this using copy and paste in the RotatingPoint wind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n change occurrences of X to 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some for centre position, angle &amp; radi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ntreX and CentreY and Angle and Rad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te that Angle will need to b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doub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not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finally another for the Canvas to draw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of type Graphics, call it Can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order for the system to understand where Graphics comes from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using System.Drawing;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fter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using System;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t the head of the class – se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nimate.c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compari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D3D-5407-4AEB-8985-D1F39EA846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tending the constructor method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en we construct a rotating point, we need to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ntre point (x,y), radius, and graphical canvas to draw 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tend constructor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 these are supplied as parame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method called Rotating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this is the construct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the following inside the () after the 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raphics g, int centreX, int centreY, int radi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ch parameter is given a type then a name, and they're all separated with com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904-8349-424E-89E4-43BCFFA325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he body of the constructo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simply assign the parameter values passed to the constructor to the corresponding internal field of the object e.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ntreX = centrex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this for all four 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so need to set starting values for X, Y and Ang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fer back to earlier pi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ggest Angle is zero, and so X is zero, Y is Radius relative to the centre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t Angle…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ngle = 0;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t X… 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 = CentreX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t Y… 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Y = CentreY + Radi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A4E-AF89-44A3-B656-0E7BAC3D9A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ake a moment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look at what you've cre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ok in the class view, at this RotatingPoint class – neat row of methods and fiel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ok in the object brow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you can navigate around the various com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694-16D8-47E4-B69E-C0915D8CBB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Now for action – Redraw method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ach time this is called we want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lank out the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n do this by drawing it in the background colo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lculate its new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raw it at this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se steps a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omment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o the body of the method (in between th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{}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comment is just some English text to help us understand what is going 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us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tart with /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wo forward facing slas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741-5867-4E25-A9E5-1D41A2DA0B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ode to blank out the poi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der the comment about blanking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ant to use one of the drawing methods available on our Can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, typ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anva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d then a d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isual Studio will show you a menu of all members available for a Graphics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hoos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FillEllips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y double clicking on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n type an open bracket, because we wish to call this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S shows you the parameters and their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may indicate there are different versions of the method to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ype in exact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imate.Background, X-1, Y-1, 3, 3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e how VS assists you as you ty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764-0279-441F-B19C-019D830F59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dd in the following co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nder the update comment, ad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gle = Angle + (2.0 * Animate.OneDegree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X = CentreX + (int)( (double)Radius * Math.Sin( Angle )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 = CentreY + (int)( (double)Radius * Math.Cos( Angle )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then repeat the drawing code for the final p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replac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ackground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Foregr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02D-6581-4CC4-AF31-06735652B7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Back in the Animate class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following code into the Main method, between the {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imationForm AF = new AnimationForm( 400, 400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otatingPoint RP = new RotatingPoint( AF.Canvas, 200, 200, 100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( int i=0; i&lt;1000; i++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P.Redraw(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F.Delay( 0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F.WaitForQuit(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first two lines creat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ocal variabl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like temporary object fields, AF and RP to hold newly created AnimationForm and RotatingPoint o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op then cycles the animation 1000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E94-009C-4B88-9980-C024A93C13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 word on program styl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ocketry is an animation, or sim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imation: drawing and redrawing graphical shapes to give the appearance of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imulation: modelling the behaviour of a real world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y other program sty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ata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ead data in, process it, output it ag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arch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ok for a solution to a problem by creating and assessing multiple different possibilities along the w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indows-based application – you're used to seeing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kes time to learn about a new 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 here, we will stick with the animation/simulation st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D71-6C17-4565-9550-5E88FE080E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You're now ready to run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tempt to Start the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you may find errors from typ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f you are unable to see where the errors have crept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ok at the solution in AnimateObjectsComple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850-A921-459E-A02F-F2B80E6FC7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urn the point into a spok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 could you now turn your rotating point into a sweeping second hand – one of the spokes of the wh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nk about it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stead of drawing a small circle on each redr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aw a line from the centre out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ry it out – you'll see there's a draw line method in Graphics.  It takes a Pen, not a Brush – you can find Pens in Graphics.Pens – there's White and Black and many others – let Visual Studio guide y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F86-7884-4CBD-9A6C-FB7B72DFB4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nd then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4 spokes – how could you do t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a rotating wh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sy, add a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a moving, rotating, wh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at centre point needs to move on each redraw also – everything'll move along f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5C5-4FAA-404D-8DDB-A979EB947A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eated first application largely from scratc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riefly started looking at the problem solving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uch more work to do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plore new program sty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ecome happy with using the kind of heuristics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954-9D39-43EE-879E-5C4E0B14ED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aw a spoked wheel rolling across the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reat.  Now wh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blem solvers apply a huge number of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heuristic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 the problem solving process.  You will learn these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'll apply some of them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BD7-7C83-4E3E-9B89-578917CE03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Heuristic 1:  Can I solve a simpler, related, problem first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ersion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raw a rotating spoked wheel, not mo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ersion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raw a single rotating spoke, like a second hand on a w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ersion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raw a dot rotating about a fixed point – the end of the spoke/second 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f I can solve each one of these in 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a relatively simple step to get to the next 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C37-B813-431D-99DF-2BBCF8387B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Heuristic 2: Play with the proble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15228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ften, take pen &amp; paper, and mess around until the light dawns – until you make connections with things you do know ab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.g. I might ge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alisations come from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play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osition of moving point i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ependent on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gle, and the radiu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f the point from the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entre of ro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ing trigonometry,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stances x and y can b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lcu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f we know the central point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e can calculate the outer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2133720"/>
            <a:ext cx="4114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2438280"/>
            <a:ext cx="3504960" cy="3505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7467120" y="3276720"/>
            <a:ext cx="228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9960" y="4038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629400" y="2895120"/>
            <a:ext cx="12193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2971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629040" y="2971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429000"/>
            <a:ext cx="304920" cy="38088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88" y="24"/>
                  <a:pt x="176" y="48"/>
                  <a:pt x="240" y="96"/>
                </a:cubicBezTo>
                <a:cubicBezTo>
                  <a:pt x="304" y="144"/>
                  <a:pt x="352" y="224"/>
                  <a:pt x="384" y="288"/>
                </a:cubicBezTo>
                <a:cubicBezTo>
                  <a:pt x="416" y="352"/>
                  <a:pt x="424" y="448"/>
                  <a:pt x="432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22040" y="4572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781680" y="36576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267080"/>
            <a:ext cx="120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ou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028840" y="3580920"/>
            <a:ext cx="6094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9080" y="243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59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216-50C8-451F-8A6B-E7EC326A0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Heuristic 3: What kind of behaviour am I considering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imarily, is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sequence of step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repetitive activi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conditional activi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's repet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peated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rase previous drawing of b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calculate the position of the b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aw in new version of b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elay a moment, so we can see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tice that primarily it's repetitive, but that on each repeat, we're performing a sequence of instru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339-EF06-47FC-B676-A57EE76E96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Heuristic 4:  What tools do I have available, and will they help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rigonometr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vailable in Math class, in System name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ood, because sine and cosine are needed to calculate the point's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imation 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contains a graphics canvas object that has drawing functions defined o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ood, because we need to go dra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petition and sequence instruction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ood, because we're doing that kind of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336-6956-45D2-A858-A87FD81E54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Heuristic 5: What objects needed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otatingPoin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can draw it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knows where it is and how to work out where to go n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Ani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r the Point to draw 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has already been written, we simply reuse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Animat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class to set it o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will run a timer, repeatedly telling the point to redraw it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ter, it could handle many o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driver or startup class (like ExecuteMiss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88D-C757-42B5-BDB3-E3D43499BC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o, how to get started on a new project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pen up AnimateObjects.s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und in AnimateObjects fol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is a bare minimum starting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tains a skeleton version of the Animate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need a new 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tating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ess mouse button 2 in the class viewer, then choose Add/Add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the Add Class wiz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ype in RotatingPoint for the name of the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d a description – manages a point rotating round a fixed centre – or somet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B3B-717A-4EC6-8018-1C16FC2194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10T12:44:10Z</dcterms:modified>
  <cp:revision>37</cp:revision>
  <dc:subject/>
  <dc:title>PowerPoint Presentation</dc:title>
</cp:coreProperties>
</file>