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A6FD-3618-4FEB-B844-BBA2524BD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urpose of this cour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use C# and Visual Studio to introduce fundamental programming concepts and provide an environment in which students can practise with these conce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livery style expec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 of this l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roduce program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dentify two fundamental skills (among the thousands!) required in order to be able to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monstrate how these skills will be taught/lear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roduce the learning framework required in order to learn how to program, and the resources that will be provided in this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ing out what the starting point is for the students… what do they think programming is all about?  Their current view point is important, I want to validat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 discussion around their answers to this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ly, programming has elements of all these activities – this slide/question is designed to open up their minds, to avoid their being stuck in a r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may be any mix of these together – airflow simulation of a wing is both a simulation, which then may be used to help solve the problem of minimising wind resistance for that wing, as its shape is adju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examples of ea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:  finding shortest path on a map, calculating flight path, encryption/decryption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:  traffic flow, VR, computer graphics in movies, simulating wind tunnel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stance:  office assistants to help with communications, document/diagram prep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idea of accuracy/purpose/building materials in the context of th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racy can be hampered by building materials – e.g. cheap toy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 dictates the accuracy required – master s-b looking to test a design – high accuracy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ce building materials can influence purpose – small computers may inhibit large forecast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teful to make a model more accurate than is required by the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is first bullet with spoken langu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all the words for love in Greek, or all the words for snow in different conditions in Iceland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make clear that spoken languages and computer languages are very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C474-2444-43E7-A6A1-6F358BC4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8BB8-618F-4B9C-BFBF-180A2DD2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859-DE06-4EEB-AB31-5CF349D8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483A-79DB-49D9-AA68-23650A14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0EF3-9D0D-4494-9C6A-8A9BA95A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0E6B-95E9-4C9D-9047-8736C35A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6149-E125-4EA1-AEDE-1529DFC2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BD6E-883F-41CF-B28B-224E6D26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B6D9-2D6C-4458-9698-22906E11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594F-0345-4D50-94C4-F72A1A0B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6530-8E0F-452C-A341-C020F9BD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A025-A171-4634-8FD8-343B40B4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Learning to Program with C# -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8432-DD93-41CF-8F87-5DBD68599E8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Learning to Program with C#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Quintin Cut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partment of Computing Sc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niversity of Glasg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2FD1-55F9-40C9-80BE-EFCC7C664AB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 Framework for Learning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ogramming is a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doing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activity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nnot be read about in boo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though fundamental concepts 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kills must be developed by practising on real exam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eparate environ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estigation/design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ing/testing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earning can/should take place both away from and in front of compu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AD6A-B316-444D-9DE1-2386BC800C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ourse Resourc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is series of sl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roduces concep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monstrates the ski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be used with an instructor or through a vie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t of notes to introduce fundamental concep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 straight after this se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quence of C# 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be used alongside the sli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92F-CAAD-4516-8A29-1B88686920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Why hasn’t C# been mentioned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ogramming skills are relatively independent of langu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could use one of a number of langua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# is a sound choice for a first language and has the benefit of upcoming popula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Your next language will be very much easier to lea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B476-93C3-44B1-8C71-6EB74712F5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any qualities required in a program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gramming involves model buil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gramming language fundamentals define what models can be bui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member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component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wo fundamental ski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ciding on the components and 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scribing them using the P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ficiency in programming requires continual practi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o if you are uncertain having worked through a given unit, work at it again, until the concepts become cl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4C4C-E50F-4319-9E0A-B41E067315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n this unit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 is programm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undamental skills for program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earning process to develop these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ow is this course structured to enable you to learn to program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2E48-92C4-4EB7-A4C8-A866AB8BEF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Designer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rtist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ngineer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Writer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nvestigator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4419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ich do you think is the most similar to a computer programm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80FF-842E-401D-BDB3-8FD4259ED0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What does a programmer do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rafts/designs/writes/engineers a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model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of some aspect of the real world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ving a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ulating an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isting us to complete some tas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understand th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spec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orough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be able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nvestigate/analys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490-DC0E-43D6-A951-B156A6002D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Model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– Description of the world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oints to consi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ccuracy of model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urpose of mod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uilding materials for mod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sider following exam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ilding toy boats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ter ship-builders mod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ather foreca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B75D-45D8-4EDE-A31D-8C7D740CC4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Models in programming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ccura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ed by the particular problem to be solved –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o ne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be more accurate than requi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d in th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roblem specific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es a mini-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ding material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D965-392F-400F-A993-101CC9E5B3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Building Materials for program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et of concepts that can be described with a programming langu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 essence, a PL supports description 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mponents of the real world scen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ctions/activities/processes that take place between those compon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PLs work in the same general 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E90-D4B0-470A-A3DF-873DC843E8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xampl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anking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ponents for accounts and for AT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ctions to update/query account balances, set overdraft levels, display info on AT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ord process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onents to represent the tex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ons to add, to delete characters from the text store, to update the displ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596-9B9F-4E1E-8A19-417DC3FC5E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wo Skills Required to Program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eciding what components and activities are requi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vestigator, Designer, Engineer, Arti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eveloping descriptions of these using the programming langu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er, Artist, Engine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backed up by fundamental concepts in the programming langu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49E5-3BA2-4C0B-9A52-79FA93D349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uintin Cutts</cp:lastModifiedBy>
  <dcterms:modified xsi:type="dcterms:W3CDTF">2002-02-10T19:05:26Z</dcterms:modified>
  <cp:revision>5</cp:revision>
  <dc:subject/>
  <dc:title>PowerPoint Presentation</dc:title>
</cp:coreProperties>
</file>