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AC42-BF22-4B63-B532-F2B85DC1B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 of this l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look at some real C# code using Visual Studio.  To identify the difference between the language and the programm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y preparing the students for the complexity of what they are abou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e up with an example of a system that needs the Solution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n this project up in V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 them the following key featu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1E4-7E33-4358-BA55-ED90A1EB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AAC-0D7F-4FE2-8F08-4EDF1EAB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FEC-5CF3-4AE6-9F68-FF066E5F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CC0-601E-4529-8F67-D61AFCCC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6AF-B5CD-488C-BE3A-E2AC12D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7D9-BA69-40AD-A6B9-7ADDF11B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0B2-2ADF-4BD8-809F-BAC3F3EA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B88-331A-41EA-A911-D815C662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412-F49A-4A82-A62F-24C891F6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D1F-205C-480E-9079-37B0291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D97-954D-4F1F-A7FD-9A0139E3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EBB-A168-4BDA-98AE-D1CA415A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3E5-6886-4831-8403-5171E4D3FD6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it 3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roduction to Visual Stu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amine the Rocket problem modelled in C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arn to make small changes to a C#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9A7-EC89-49DF-BBD6-52B43C5E9F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olution &amp; Class explor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isual Studio 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lution Explorer shows the various files required in order to make up the complete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lass Explorer is a quick way to find a required textual description, of a class or method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's hiding behind the little icon tab above the Solution Explorer t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324080" cy="45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EB0-0A5D-4A25-9D55-802496ABC8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pporting the process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arious tabbed windows at the bottom of the screen, they'll concern us more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ask List keeps track of tasks that must be performed to get your program to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utput displays output from the various processes taking 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ther tabs appear here periodic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7620120" cy="13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248-E467-45C9-8E8F-4A82D89390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Back to the Browser – let's explor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160020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lick on + next to Rocketry, then on + of Rockets to open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ckets is a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ame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ur place to keep the various C# components making up the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sted here are the major C# components of our rocket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ocket, RocketController and Arena you'll recognise from the last un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38284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1DB-08F1-4879-AE06-E0CFEDCBB4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periment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ve the mouse over the small ic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short description of the item pops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me of them a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lass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remember the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thers a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interfac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we'll talk about them s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ingle click on an i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happens at bottom &amp; right pan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member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(remember them?) of the item appear in the right pa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longer description of the item appears in the lower pa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can explore the members in just the same 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recognise some of them from the previous unit – TurnRight, Coast, IncThrustLevel in the Rocket, for examp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9BA-ABD1-4620-BAFD-3B45B51353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ploring the textual descrip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43040" y="144792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uble click on the class Rocket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new window appears, covering the brows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 the tab to switch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text describes how to creat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instanc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f rocket controllers – remember, this is what a class is f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croll around if you wi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n close it using the little cross next to the Solution Explorer t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should have just the Browser a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886200" cy="330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29E-0073-4323-A74C-8B096DE6E3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ploring the Fly method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uble click on Fly in the members window when RocketController is selected in the left pa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are taken directly to the text oppo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seque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instructions that will fly the r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ach one is executed in tur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nal one keeps window op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ow do you predict the rocket will fl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3657600" cy="31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A27-74A0-4FFA-AEB9-BD6F8361E5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Running the rocket simul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66520" y="1904760"/>
            <a:ext cx="5715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oos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Star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rom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Debu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S will do some preparatory work, and then an Animation window should appear, with the rocket in 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ressive graphics, eh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the rocket has landed, remove the window by clicking the close bo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d it fly as you expected?  Do you agree that it flew according to the instructions contained in the Fly metho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f not, run the program again, as ab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781280" cy="2176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4800600"/>
            <a:ext cx="1524240" cy="115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662-D588-4734-851F-C96DEC6BC4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Ignoring complexity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uge behind-the-scenes activity to make the rocket fly, b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ere only interested in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l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just 10 lines of c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ousands or even millions of lines of code were probably executed for the whole simulation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important to be able to ignore all the complexity that surrounds you at this s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mpare with any complex machine in your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.g. video recorder – you don't care about the inner complexity of the machine, just as long as it records your favourite program at the right 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r now we're going to experiment with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426-E6E5-4D50-A779-6F57D200F0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aking a change to a progra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're going to adjust the rocket's f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y making a change to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l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d it again in Visual Stu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'll fly off the left edge of the ar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ider what instructions might be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ed to take off, head left and just keep on go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member the model – thrust/attitude settings only have an effect when you us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oas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o give them time to ope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808-E07B-44C7-AD6B-A6DD615A96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aking the chang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imply edit the instructions to get the effect you want.  Something lik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cket.EnginesOn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cket.IncThrustLevel( 60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cket.Coast( 1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cket.TurnLeft( 90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cket.Coast( 10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You must use exactly the right syntax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ames of methods matching those seen in the object browser, correct use of brackets and semicolons – just as ab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0C4-C98E-4F97-9EDC-6268F7808B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#   vs.      Visual Studio (VS)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Programming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d to represent models developed from problems in the real 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the world of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object,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tho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0760" y="19810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Programming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tool used to enable us to manipulate models developed in a range of programming langu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nages all the administrative requirements to make the programs r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33F-3D2F-428C-A78C-62E0B757AB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o run your new version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isual Studio must check that your new flight description is legal C# c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oose Start in Debug menu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automatically saves &amp; checks your new code before trying to ru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f you have made no errors, it will r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d it do what you expect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eel free to experiment some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f you have made an error, read o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122-1DB3-473B-9885-5CADB1267A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Detecting &amp; correcting error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[if you made no error, introduce 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ay, remove a bracket from one of the instructions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en you try to run the program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S tells you there we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buil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errors, asking you if you want to contin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 NOT continue!  Click 'no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Task List window pops up showing you the errors the system f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ad the first error, then double click on it – you will be taken to the line in the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f you can see what is wrong, fix it and try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36D-495C-4AA5-8BCE-CE85AA0054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Deciphering error messag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rror messages are sometimes perfec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y removing just one semi-col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not alway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ticularly for beginners using an industrial-strength prog.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also because entirely accurate reporting is a highly skilful task, beyond a mere compu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y removing a bra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ing th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aus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f the reported error is one of the skills to lea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rst, see if the message helps you.  It may – but don't slavishly follow it, if it seems wr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f it didn't help, look very carefully in the vicinity of the reported error – can you see anything amis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195-FFAF-4297-A132-8EEDD290F4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Now experiment….!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ke changes to the flight of the r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get used to the edit/rebuild/rerun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ke some changes that you know aren't correct syntact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get practice at understanding the errors that are reported, and at fixing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tice that sometimes, one real error may cause two, three or more error reports – if you really can't see what's wrong and you've fixed an error, try rebuilding it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5D2-E118-4CAB-9135-70DB8BBF71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agine you were a rocket scientis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You've just been tinkering with your rocket controller for each new test f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tice that each time you tried out a new flight plan, you threw away the old 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[to be precise you deleted or wrote over it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way to adjust the behaviour of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mply replace the old behaviour with the new, by overwriting the old code with new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old behaviour is discar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is fine when developing a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Reflect: what have we been do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D65-0C5E-480F-93B2-E24DBA8C91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sted C# with Visual St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ed a minimum set of Visual Studio commands to get go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mented with the solution to the Rocket problem in Visual St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ed how to mak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structive upd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ld behaviour is l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al when developing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unit considers constructive upd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we wish to keep both the old &amp; the n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4B7-074D-4076-9B0E-B71F904EF9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Remember purpose at this stage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iming to gain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minimum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knowledge and skills in C# &amp; Visual St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ough to get an appreciation of programming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# and VS are very complex t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the following, aim to ignore the detail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just follow what we're suggesting for 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atch what I'm doing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'll have a chance to practice and explore later, with these slides to h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A4A-C36D-416B-B534-F8C146F608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 reminder about programming languages firs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cket model consists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number of object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at communicate with one another and change over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l this described using a textual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me imagination required to bring the flat text to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3CA-D453-4935-8514-ADC3E336F4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Need for a Prog. Environme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ould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write the entire text describing a problem in a single file, bu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't share/reuse parts of the f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ould be like requiring a different wooden spoon for every cookery recipe that required 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't update one part in isolation from ot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 the text is broken into pieces, and can be shared ar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rog. env. is required to manage all these pieces appropriat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a kind of complex word processor, for programming language text f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C7E-D12E-4017-A2C5-4B0ACF05C4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Fundamental process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sing the programming environmen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enter a description of the solution to our prob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me of it is new t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me specifies existing classes/methods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rogramming environment checks that our description matches language r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f it does not, we edit it and try a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th a successful check, we can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xecut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ur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classes, objects etc come to life, modelling whatever was in our descri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metimes we don't get what we expected – we need to go back and rework our 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FC9-649A-4240-9E6F-14FC8032D6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Visual Studio basic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S organises problems using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Solu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Solution solves a major problem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may consist of a number of smaller, stand-alone, probl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ach of these is represented using a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se individual project components may be set up for reuse in other sol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member – VS created for large 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re, we will primarily be concentrating on Solutions that contain just a single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centrate for now on the concept of a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6F1-264D-4AFF-8C39-F1D2114590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ploring:  the 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Rocketry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projec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pen the Rocketry.sln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ing opened up the project/solutio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n't panic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screen contains a lot of information, but it is well organ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fundamentally two views available through the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# view of classes, objects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Visual Studio view of solutions, projects, files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567-98D5-464A-BEFB-7474DFA5AD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he Object Brows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is the C# 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iews C# items available in this 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Key one here is the project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ock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ss on the + symbol to find out more about the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'll address the others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62120" cy="50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233-951B-4E9C-BC4A-7EF646EC41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10T10:20:03Z</dcterms:modified>
  <cp:revision>16</cp:revision>
  <dc:subject/>
  <dc:title>PowerPoint Presentation</dc:title>
</cp:coreProperties>
</file>