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D935-C42E-42C0-925F-88D0DDE7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 of this l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examine parts of a problem that has already been solved, in order to introduce some of the fundamentals – Classes, Objects, Methods and Method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 the rocket program actually flying the rocket, so they get an idea of what has been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B8B-2270-4494-9526-004D592B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E11-E905-4B0F-8D77-DA8E4794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BFB-C2CF-4CF7-A005-A21ABF9C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873-54CF-4C85-B555-650F62E8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3B1-6E13-4EC1-8AB4-69671138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B45-4230-42BB-A3EB-AFDE15B2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99D-B683-43E8-B095-4C9B9F08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924-EF0E-49A6-A370-CA21D4D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019-1355-4263-B1F1-A092EFF0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E86-2401-44F5-9A0A-17FDD995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758-5DDF-4982-B86E-3B73586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39C-6DAF-4640-88CB-1C098BF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A684-54D4-40D8-B7E5-F8E41591B0E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2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ore a problem in det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e how it can be mode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roduce the first set of fundamental C# conce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ed to model this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44E-789E-452D-8AAF-DAB0EC5B56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pplying this to the problem(2)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cket consist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sition, Attitude, Velocity, Acceleration, ThrustLevel 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cThrustLevel &amp; DecThrustLevel con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urnLeft &amp; TurnRight 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ast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gain, when these controls are activated, they are supplied with values indicating e.g. how long to coast for, how much to turn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C1F-879B-487A-852E-F937EAFFC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pplying this to the problem(3)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cketController consist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cket &amp; Arena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ly control, to control the rocket's f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ernally, this contains the precise instructions required for the desired f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F65-5ACA-497B-9A52-8B53930402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How is this represented in C#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# ha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# objects have values and controls as described here, known 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ield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– for the 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thod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– for the 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method of a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the activation of a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method of an object may internally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 method of another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may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pas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alues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parameter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to the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DE9-FA29-40B8-8C98-377F1485A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rucially, the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 Clas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may want many rockets, arenas, rocket contro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nce, we define a blueprint or factory for building each of these 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blueprint is constructed using the language constructs of the programming langu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blueprint is known as a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lass for a kind of object can produce limitles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instanc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f the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54C-A5E8-4C13-B70E-EA44720DD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nstructo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very class has a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constructor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n called, this method creates a new instance of the class, a new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8F6-58CE-4947-823A-DC636F93A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any concepts now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lueprint to describe the fields and methods of a particular kind of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s a constructor used to create new instances of its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bject in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tains values for the fields of the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ling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method defined in an object's class may be called on that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9C6-F0B3-4EB3-8622-982D32D4A2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mplex model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ick up the gist of the model 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ion of objects that can communicate with one another to make things hap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will make sense once you see it in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308-A1E4-4CA7-935C-4D3AB8828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Expressing these ideas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rogramming language allows all these concepts to be expressed in a textual 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ading the flat textual description, then breathing life into it in your mind in order to understand what it will do when oper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C13-42B6-478A-8559-6F4C7D8281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amined a problem – flying a r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ists of three major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mmunicate with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roduced C# fundamentals that can be used to build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asses, objects, fields, methods, method calls, parame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x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ok at the C# solution to this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Visual Studio to explore it, adjust it, see it ru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014-C49D-4EC8-9B24-B5B33870D3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mulate a rocket f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play flight in a window using simple graph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154-BD2B-409F-AA2E-71CCC1792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at must be included in the rocket model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r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ine thrust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ttitude of r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eed and direction of tra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rols to adjust these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crease/decrease thrust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just at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ast along for a given time under current set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cket flies in a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arena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1D9-E2B6-4966-B068-29074231C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ren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an ar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ze of the space in which the rocket can f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ord of where the ground is and where other obstacles 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rocket can interrogate the arena to determine wh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has hit the 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has attempted to fly out of known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has collided with another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400-4ED1-46E0-95E9-79BA73755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Rocket Controll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thing must be in charge of the controls of the rocket, submitting appropriate instructions to gain the required fl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the Rocket Contro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C36-52BF-49A9-8995-0A2C2F1346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ree fundamental components: Rocket, Arena, Rocket Controll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60000" y="3157560"/>
            <a:ext cx="266796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cket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00280" y="4191120"/>
            <a:ext cx="11455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11520" y="5410080"/>
            <a:ext cx="103428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733920"/>
            <a:ext cx="99072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4876920"/>
            <a:ext cx="914400" cy="380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6668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ocket Controller directs the rocket's flight using the rocket's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ocket appears on the A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25780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Information about ground, obstacles and arena edges supplied on request to the R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104-DB39-4BC0-9D8E-D818F4803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at are we finding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del made up of components –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bjects have internal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rocket has thrust level, attitude, velo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ach object has a number of contr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object may activate a control of another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en a control is activated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ither an action is performed –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increase thr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r some information is gathered –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have I hit the grou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B9E-68B8-491E-9A7A-4A83066A2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Control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ever a control is activated, some activity takes place inside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w values for the internal values may b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updating the thrust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new position when coa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rols of other objects are activ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while coasting, rocket must communicate with Arena to check on the 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126-6FA4-4D2A-B40D-508E57427D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Applying this to the problem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rena consist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tGround?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eftUniverse?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ision?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ever the rocket activates one of these controls, the rocket supplies details of the its current 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170-3EAC-4F9D-BBE0-9E46898552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0:19:47Z</dcterms:modified>
  <cp:revision>8</cp:revision>
  <dc:subject/>
  <dc:title>PowerPoint Presentation</dc:title>
</cp:coreProperties>
</file>