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4CA7-89D3-4214-8536-B3DEBE41A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7D32-A4B4-4667-8EC5-DDE6CBDF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269B-8C57-4516-89AC-651F89877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C81D-5167-44A0-BF75-D1016305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1B01-6BF1-403B-A1C4-F745C4A9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B92C-45BC-4043-A56F-52174345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32DB-D6E9-4AFE-915D-A49C77EC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B439-219B-4F87-8A25-65146A22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FB83-975A-4AB3-8091-58306E09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6CA3-9C1E-421C-A6B3-5F0F5080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925B-B7FB-45EC-AB81-C504E01F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B645-05E5-45FA-8CA9-2A59B3A9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Learning to Program with C# -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6DB5-C6F4-46AC-9E5A-8C9F1348FA0A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Unit 8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troduced two of the three key aspects in any programming languag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tructuring of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tatements and control fl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inal key are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ata process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ow are new values created from old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Using additional features of Visual Stud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understand clearly how all this fits toget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C48C-9B39-4165-9896-A937DCA5038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Further assistanc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Visual Studio can also show you the values that these locations contain during exec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using its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debugg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you can step through the instructions of a program, seeing how values change and how the output develo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irst attempt at th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ove the pointer into the left margin of the IncThrustLevel method, click the mou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 purple circle should appear and the line go purp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is is a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breakpoint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– when the program runs, it will halt every time execution reaches this poin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47920" y="5410080"/>
            <a:ext cx="6324480" cy="83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AF1D-AABF-496E-9BFC-C8B3E77FF1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This is the Debug Toolbar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80880" y="1828440"/>
            <a:ext cx="9524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isplay it, through View menu, if it isn't visi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elements are as follows, respective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tart – gets the program running (same as the menu optio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f you're stopped in a program, this will simply continue execu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Pause and Stop and Restart – self-explanato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how next statement – jumps to the next statement to be execu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tep In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f you've stopped at a method call, this will take you one statement INTO the code of the method, so you can see what's happen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tep Ov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teps to the next statement in sequence, executing the one you're 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tep Ou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jumps out to the call of the method that you're stopped in, executing any statements between the stopping point and the end of the metho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14600" y="838080"/>
            <a:ext cx="4419720" cy="89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569A-9F8F-439D-9C21-D498A28946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Try it ou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esize Visual Studio so that you will be able to see the rocket flying at the same time as you can see the VS wind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ith your breakpoint set, click St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animation window will partially displ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nd then VS will halt at the breakpo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6781680" cy="64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E8B5-7C1C-4D21-9AD0-464C469B08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First, let's examine values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emember, this is happening on the first call to IncThrust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heck where you expect that is, in the AutoFly method of the RocketController you are currently using in ExecuteMi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Bring up QuickWatch from Debug men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ype in, for example, EngineThrust followed by En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You will see details about the current value of EngineThrust appearing in the wind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ry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level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al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re you getting the values you expectednt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 got 10 for EngineThrust – the default value it is set to when the engines are switched 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nd 60 for level, the amount of the first call to IncThrust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21B5-A714-4041-9BD7-CC78776F1D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Now let's try the step command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se allow you to see statement by statement as the program execu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irst, press Step Over a couple of ti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is should take you out of IncThrustLevel, back to the point it was called fr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s this what you expected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ntinue pressing Step Over until the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Land();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tatement is highligh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otice that the Animation window is updated each time you pass a call to Coast, and that it takes a little time for a Coast statement to be comple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CAEF-97A6-4189-B058-B003855408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Exploring Land();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hoose Step Into this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you are taken to the code for L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Now choose Step Over repeated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en you get to the while loop, you see the behaviour you should exp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ycling between the test and the statement, as the rocket is brought back to vertic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you can even see Theta chang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184040" indent="-168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choose 'Autos' in Windows in Debug men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184040" indent="-168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click + next to ARocket, the continue pressing +s until a whole list of data is display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184040" indent="-168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ook for Theta in there – it'll have some radian valu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ow go back to pressing Step Ov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184040" indent="-168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you should see the value of Theta chang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you'll probably get bored of this after a wh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184040" indent="-168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pick Stop from the tool bar th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284D-A605-453A-967C-9C59204E2E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Back to expression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is is a sta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 full treatment is beyond this cour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 few important opera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(full stop) is the member access opera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used to access methods and data values of an obje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.g. ARocket.EnginesOn accesses the EnginesOn metho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round brackets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…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after a method are the method call opera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ny necessary parameters should be supplied within the bracke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4AF5-2A9E-4DC3-A3D0-74AB65680B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Method calls…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re sometimes stat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en it is marked as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vo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.g. move pointer over the method names in the body of the TakeOff method – they are all marked initially as void, and are all being used as state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nd at other times, they're express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en they deliver a val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en they are marked with a type/class na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.g. move pointer over IsTilting in the Land metho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t is marked as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bool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indicating that it returns a value of boolean type when it is evalua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BD04-DDC5-4703-BF54-F5AACB7D49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azingly, this limited treatment covers most of the expressions coming up in the Rocketry pro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plore around and see them in a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he debugger to move around the code as it execu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best way to really get on board how these instructions wo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e small changes and see if they do what you expe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rything we've done so far has involved mostly looking at existing co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sential first step in programming is understanding what the language can 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xt, we'll start building some small programs from scrat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8EBE-45C9-4710-B9F6-2F38AD23DD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Key aspect of object-orientation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tructuring of the problem solution according to the data inherent in the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 the whole rocket project, the smallest data values 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rena size, obstacles, obstacle size, obstacle position, rocket position, thrust level, velocity, distance travelled in last time period, acceleration due to gravity, rocket attitude, sky colour, ground colo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object model allows these values to be stored in clumps – e.g. rocket values toge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ong with the operations over those values – the metho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AC49-CE8A-4882-9EB1-1540A1E3DD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But this is </a:t>
            </a:r>
            <a:r>
              <a:rPr b="0" i="1" lang="en-GB" sz="4400" spc="-1" strike="noStrike">
                <a:solidFill>
                  <a:srgbClr val="ffff00"/>
                </a:solidFill>
                <a:latin typeface="Tahoma"/>
              </a:rPr>
              <a:t>computing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whole point is that we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compute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new values from o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t is all these individual little values that must be updated for the model to change over time, and be interes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rocket velocity for example changes over time, and as adjustments are made through the flight contro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ime to see how this computing takes 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8306-FEBE-43FD-8DD6-F4ED2BFC30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Expression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 order to compute new values during the execution of a progr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e must write down the description of that computation when we write the progr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se descriptions are called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expression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and get combined together with the textual descriptions for statements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t is very valuable to keep track of these different grammatical catego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xpressions look quite mathemati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unsurprisingly, since they are a form of algeb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y can operate over numbers, but also the wide range of other values/objects available in the programming langu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839A-D7A5-4396-B260-DEA1502352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Of what do expressions consist of?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ree primary components may appea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Identifi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ese are names for stored val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we won't know exactly what the value is until the program ru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Literal val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ese are values known about at the time we write the expression e.g. 1, 7.3, tr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Opera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ese are the actual functions that take existing values and produce new val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familiar examples are + and – from mathematic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hey have just the same meaning he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many others al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C66A-8E70-4D0E-A72E-13500CB554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One </a:t>
            </a:r>
            <a:r>
              <a:rPr b="0" i="1" lang="en-GB" sz="4400" spc="-1" strike="noStrike">
                <a:solidFill>
                  <a:srgbClr val="ffff00"/>
                </a:solidFill>
                <a:latin typeface="Tahoma"/>
              </a:rPr>
              <a:t>crucial</a:t>
            </a: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 new statemen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assignment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stat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nce new values are computed, we need to store them often, for use l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 new value is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assigned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to a storage lo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e location has a name – an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identifi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e data members of an object are storage loc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First the expression is evaluated to get our new value, then this is stored into the location identified by the location identifi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e = sign is NOT a test for equality, but signifies assign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4419720"/>
            <a:ext cx="6400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ourier New"/>
              </a:rPr>
              <a:t>LocationIdentifier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ff0000"/>
                </a:solidFill>
                <a:latin typeface="Courier New"/>
              </a:rPr>
              <a:t>=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Courier New"/>
              </a:rPr>
              <a:t>Expression</a:t>
            </a:r>
            <a:r>
              <a:rPr b="1" i="1" lang="en-GB" sz="1600" spc="-1" strike="noStrike">
                <a:solidFill>
                  <a:srgbClr val="ff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50CD-7F0B-4C47-84FF-8B3F413246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Let's go on an expression hunt…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 the AdvancedRocketry sol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use Object Browser to get to the code for the EnginesOn/EnginesOff methods of Rock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anipulate the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gineThrust lo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etting it to an initial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value, or to zero,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spective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expressions are a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imple as they come – just a single literal val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remember, expression is the bit on the right of the =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971800"/>
            <a:ext cx="4572000" cy="25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EnginesO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cc99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cc99"/>
                </a:solidFill>
                <a:latin typeface="Courier New"/>
              </a:rPr>
              <a:t>// 10.0 is the initial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ngineThrust = 10.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EnginesOff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ngineThrust = 0.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DA01-B320-4697-BA21-91BC293E3D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Now find IncThrustLevel…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till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EngineThrust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that is being upd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but by a more complicated expres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EngineThrust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level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are being added together – the + operator combines th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n passing,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level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is an integer – so it is being converted to a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double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or floating point number, before being add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ow is this expression evaluated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first, the identifiers are replaced by whatever values they currently ha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e, the current value stored as the rocket's thrust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and the value passed to the method on the call that has caused this line to be executed – this value is stored under the identifier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level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as specified in the first line of the metho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990720"/>
            <a:ext cx="731520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IncThrustLevel( int level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ngineThrust = EngineThrust + (double)leve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A48F-5BDC-47A5-A250-883B98B07C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Assistance from Visual Studio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mplexity is increas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Where do the identifiers come from?  What do they mean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VS can hel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ove the pointer over an identifi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e location and type of the identifier should appe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Here, EngineThrust is shown to be a location of type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double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– that is a floating point value, and it is a member of Rocket (from Rocket.EngineThrust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 short description may also be giv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depends how thorough the programmer who created this w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ry this on the body of the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TurnLeft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05120" y="3124080"/>
            <a:ext cx="4738680" cy="99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972D-14F4-44C8-9A1E-E1CCF9046D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Quintin Cutts</cp:lastModifiedBy>
  <dcterms:modified xsi:type="dcterms:W3CDTF">2002-02-09T19:39:34Z</dcterms:modified>
  <cp:revision>34</cp:revision>
  <dc:subject/>
  <dc:title>PowerPoint Presentation</dc:title>
</cp:coreProperties>
</file>