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E271-CCFA-4017-9346-01B1BD0C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006D-B0A4-41D3-AA10-C426A3C5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0AAD-2F78-45A2-A9C4-D97DA783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89E4-33F3-48A8-90AB-2AAB70F6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BA9C-729C-43A9-9986-E14956E2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33AF-A35F-48D2-ABDA-F7BAE862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1F3D-3710-4796-AFF1-A8328A1B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FCEC-1F43-4A81-9B9A-7FBCC04D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1628-B6D8-4182-B9B7-8CC758C3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6B82-1196-4715-ADC6-57F2A525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F7D8-84CB-4506-95FC-AE6DB3F7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C771-72D9-474E-A513-F7553542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Learning to Program with C# -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554D-D143-4840-9FDE-C51821A8EDD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Unit 10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mpletion of the cour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visit the purpose of the cour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nsider what was not cov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- and your next ste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0014-CB33-418B-8306-455BD8A97D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Methodologies for tackling problem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nsidering a new prob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ever seen it– in which case start from scr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een identical problem – just reuse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een similar – pick out the similar pa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tepwise Refinement / Divide &amp; Conqu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reak the problem into pieces, solve each smaller piece (maybe by dividing it too), then recombine to get the who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arious Object Modelling Techniq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igher level notation and language for describing the components that a problem breaks down 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.g. U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asy to translate into programming langu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515E-DA55-4441-B091-21BB68C43C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Gaps – other application area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've examined only one style of application – the animation/sim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You will need to become familiar with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ventually each new problem will fall into a style you've seen before – makes solving it easi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ther important sty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indow/Form based programm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24812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ll around us – most modern PC applications have an interface that used windows/for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ext/data processing progra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24812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often used for introductory programming, but boring – however, they're essential for some probl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atabase/web programm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24812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equire particular skills to connect to the database and interrogate it, and to make connections via the we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C1E2-ED8C-4C69-89A2-2C53E5BDB1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ell done for making it this fa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earning to program is a huge challen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 hope your first experience has been produ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est of luck with your next step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B91-E9F4-4F8D-B3A0-050FCB831C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Two targets for the cours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ose looking for fundamental O-O concep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first six units covered this ma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ave some idea of the benefits and tradeoffs of using the model, and why it has evolved this w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 hope this has been helpf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mplete beginners to program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e in the water - Is this for m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im has been to cover enough of the basics to give a flavour, but not to go into any deta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ee if there is any enthusiasm in this way of working that could be cultiv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'm primarily talking to this group n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395B-4AA7-41E3-B460-12C1F7EDF1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Learning to program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f you are somewhat lost with all the different concep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ang in ther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is like this for most learn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key 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re you enjoying it, even though it is sometimes baffl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 gene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o you enjoy the idea of building things…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f wrestling with a problem until it is solved…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f fixing things that aren't working…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f so, this is probably for you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5C04-C12B-46BE-971F-04B4D9C033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Teaching vs. Learning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ogramming has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never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been tau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Good programmers are almost always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self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-tau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y have learned through their own effo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bably quite considerable effo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y have a passion for exploration and fix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is is the only way you will learn, t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f course, it can be a frustrating pa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o creating a good environment will help to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57160" indent="-171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seful books, folk nearby who can advise if necess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857160" indent="-171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ots of tea and coffee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857160" indent="-171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any long spare evenings and weeke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 hope you now have passion &amp; enough vocabul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understand a book or the folk around you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ADA0-7E3B-463A-A7E5-54F9C5E69B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Learning O-O in particula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ogramming languages all have three pa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chanisms to structure code and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ifferent in each different language sty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chanisms to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do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something -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chanisms to process data values -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expres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 O-O, you need to be working with all three very quick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nlike in other language styles, where the second two, or even only the last need be covered initial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benefits are great however – hang in t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autiful solutions can be develop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de can be safely and efficiently reu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EDCC-651F-4F5B-9D6A-EE5E8B107D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The </a:t>
            </a:r>
            <a:r>
              <a:rPr b="0" i="1" lang="en-GB" sz="4400" spc="-1" strike="noStrike">
                <a:solidFill>
                  <a:srgbClr val="ffff00"/>
                </a:solidFill>
                <a:latin typeface="Tahoma"/>
              </a:rPr>
              <a:t>artistry</a:t>
            </a: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 in programming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 the first unit, we looked at aspects of the programming discip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 hope that perhaps now you can see the artistry mentioned t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elegance of the different cla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ow they work togeth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ow pieces can be replace with other pie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nd from this, perhaps the elegance of all enginee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artistry comes very much from the programmer's own personal creative flair in seeing how a problem can be broken d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0F4A-1A14-48CA-94F7-840AA11635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Gaps – Fine detail of C#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ne grammatical detail of C# has been largely by-pas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e've looked at pre-written co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ot enough time on the cour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isual Studio is very helpful in guiding 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owever, just as with spoken langua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you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do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eed to develop an accurate knowledge of the language gramm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uge increase in your confidence and productivity when you know that you are writing (nearly) correct code before the system checks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7684-A129-4418-A862-DE997858DB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Gaps – whole areas of the languag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ncentrated on minimum set of fundamentals found in all progr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articularly thin 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ide range of built-in typ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urther operators and stat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rrays &amp; strings and their associated oper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isibility and scope rules over members &amp; loc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ith a good text book, and a grounding in what we've covered 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you'll pick these 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692E-7DC1-4073-A0AB-B80C723F20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Gaps – more on problem solving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ovice programmers often 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 understand about the language constructs, but I can't see how to start solving this new probl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wn to problem solving ski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orly described at the very basic level, few good boo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rial and error, brings the necessary skill 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ar in mind the heuristics from the last lec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re is no perfect recipe, no easy rules to follo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nly heuristics that sometimes 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 good problem solver becomes sharper in picking the right one early 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ose with lateral thinking skills will do we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B998-0D4A-41F5-A209-D84D01EF70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uintin Cutts</cp:lastModifiedBy>
  <dcterms:modified xsi:type="dcterms:W3CDTF">2002-02-10T14:48:51Z</dcterms:modified>
  <cp:revision>39</cp:revision>
  <dc:subject/>
  <dc:title>PowerPoint Presentation</dc:title>
</cp:coreProperties>
</file>