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93F-8CAC-40A7-B023-D8EED094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ABD-C285-4F83-81C4-6DA1DDA1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5DB-C7CA-4A6B-8D84-FC62EEE3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6B5-E2FB-4E9A-A1C5-7A2240BD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097-62A1-4F9D-8672-7083FAC0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F14-E3E1-4CBF-8467-269F1E0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DBF-D707-46E5-A369-1DCAEF4D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222-CE71-4E0B-BAD3-D2F70D5E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907-8606-44CB-A0C6-91BA6162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25F-2397-41A2-9D8F-0E5E8AE2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C08-BB04-497A-9BD9-A936AA4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421-2368-4A18-9A0B-6D7FC61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2086-1910-4E8F-8C81-B192858D4C8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7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roduction to Control Flow conce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di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roduce values, minimally, at the sam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e how these can be used to automatically fly the ro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960-D682-4812-884A-6038FB16BF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Repetitive 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do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statement of doing is repeated a number of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metimes the number is known in adv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metimes we only know when to stop at some point in the middle of the repetitive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these cases, again, a condition is used to determine when to stop – perhaps continue repeating the activity as long as the condition holds, stopping when it no longer hol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A38-5140-48A3-B6F9-47EDB91D49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onsider these statements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ll the fridge with b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mber of repeats known in advance: 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peated action: put another beer in fri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dition: The fridge is not fu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nge the spark plugs in the c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mber of reps known in advance: y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peated action: change the next plu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 up shirt butt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ps known in advance: usually not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peated action: move hand to next button and do it 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dition: Some buttons unfaste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up a series of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ps known in advance: sometimes, sometimes n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peated action: get next number, add it to running to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dition: More numbers available in the se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4D3-6939-4DA8-939B-83C0EBD06B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ow are these expressed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need a formal way of expressing thes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hi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 fridge is not full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ut another beer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eac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ylinder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nge spark plug in that cylinder for new 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hi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re are buttons undone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ick an undone one and faste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hi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re are more numbers in the list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ad the next one and add it to the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tice the structu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le:  the condition and the repeated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r: the number of reps is implicitly spec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68A-BC7B-42C9-8E56-31FC394405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tep up in understanding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flat textual description comes to life only when it is exec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need to be able to imagine this happ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oncept seems easy, but the reality is often harder to abso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 exampl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hi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 fridge is not full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ut another beer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ght result in 100 executions of "put another beer in" – we don't know from simply looking at the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ditionals simila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don't know precisely what will happen until they are execu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652-1855-48DB-AA6D-B03A5221BA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onditional statements in C#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ngle option conditional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do nothing if condition doesn't hol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a template.  The words in italics are expanded out in use to be a valid expression and statement.  Remember that a sequence of statements can be viewed as one statement with br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ditional with two alterna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ondition decides which of two actions to per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execute these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dition is evaluated first.  The appropriate statement is then executed, if any, depending on the res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648320"/>
            <a:ext cx="5715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Stateme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949400"/>
            <a:ext cx="4419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490-9B53-4E17-8C55-7463B03BD1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epetitive Statements in C#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will look at just one for 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ypically used when we don't know in advance how many repetition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execute this stat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rst the condition is evalu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it is true t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contained statement is execu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e start executing the whole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statement from the top ag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condition is false and we complete execution of the whole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whil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tatement.  The contained statement is NOT execu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048120"/>
            <a:ext cx="4635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FED-9B13-4734-88CC-04443A5D1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ee it in action - AdvancedRocket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un ExecuteMission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should be using AutoRocket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anding sequence engag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ssage comes up,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a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thod is execu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efore examining that method clos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would you try to land the rocket safel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this rocket version,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afel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pright, nose pointing up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ut could be travelling at any speed down or sidewa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it's a sturdy rocket, this one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132-5FB9-4302-8865-E98902BBEA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Getting to the ground – how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ust be upr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ust be dropping downw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ust stop once we've reached the 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eed sideways or downwards un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be dropping downwards but upr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ngines must be turned off, let gravity do the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 we coast downwards, must check periodically to see whether we've reached the grou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cedu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urn engines o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t upr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t to 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CF5-9DFE-475F-A730-561FBD3A67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amine the Land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ines off is easy enough – simply a method c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tting upright is trick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n't know the starting attitu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nce continually test to see if the rocket is til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it is, then nudge it round by 1 degr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ually, after enough repeats, the rocket will be up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te that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IsTilt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turns a true or false va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known as a Boolean, or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boo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or sh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98440"/>
            <a:ext cx="640080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Rocket.EnginesOf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// Get upright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while( ARocket.IsTilting(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ARocket.TurnLeft( 1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… </a:t>
            </a: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there's mor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F3B-B669-4229-A306-DEBDF39F9F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lly, to get to the 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ust ask the Arena how close we are to the gr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ile we are still above it, we must continue to Coast with engines off – hence fall down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ow do we ask the Arena about positio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NearestBelow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method returns distance to the nearest object below the supplied position.  This distance is a numb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e supply the position of the rocket, using GetPos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distance returned by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NearestBelow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is then tested to see if it is greater than zero (ie we're above the grou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is final test gives us the true/false boolean value we need for the while stat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// Get down to the ground</a:t>
            </a:r>
            <a:br>
              <a:rPr sz="1600"/>
            </a:b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// The condition in the while loop tests if we're above ground</a:t>
            </a:r>
            <a:br>
              <a:rPr sz="1600"/>
            </a:b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while( AArena.NearestBelow( ARocket.GetPosition() ) &gt; 0 )</a:t>
            </a:r>
            <a:br>
              <a:rPr sz="1600"/>
            </a:b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ARocket.Coast( 1 );</a:t>
            </a:r>
            <a:br>
              <a:rPr sz="1600"/>
            </a:b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464-5105-4223-90C1-A0B000761F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Programs must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do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someth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centrated so far on the structure of a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omponents, the members of each compon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way in which models evol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the unique part of the O-O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programs, however, must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o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mething in order to be 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ine now the different ways of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do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how they can be expressed in prog langu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C10-F2D8-4FE4-8DEA-9F8FF47B4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ry a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delicate 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ocket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rocket didn't care about landing spe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ExecuteMission, at the bottom,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w AdvancedRoc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w DelicateAdvRoc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run it to see what happ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rocket crashes if landing speed downwards is greater than 20 and sideways motion is greater than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6BC-4F05-468E-A394-C0D09F6761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ee if you can do better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SmartLander.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derived class of AutoRocket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ing ONLY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a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itially it is the same as AutoRocket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just ExecuteMission, so it uses this controller instead of AutoRocket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hange needed at bottom of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e if you can work out how to slow the rocket gently so it doesn't crash h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ke the following hints one at a time, working to get an answer on each before going to the n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756-434D-4670-A03E-F12F4635A2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i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can brake the desc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y firing the engines for a short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 you always need to brake the desc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f not alw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at is the condition for firing the rocke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re is a testing method FallingFasterT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pass a number – it returns true if the rocket is falling faster than this va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answer is on the next sl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nly go on if you are totally stu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just try something o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D33-56A9-4EBF-BE72-48899EB43D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General pla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side the repetitive loop taking the rocket to the g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need to check how fast the rocket is falling, if it's too fast, fire the rock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unds like a conditional stat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at is the condi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at is th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f the condition is tru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f the condition is fals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de on next slid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432-8C9A-445F-A833-C74AC73D6E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y this out, if you didn't get t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y also now to slow the sideways mo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167840" indent="-166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ethods available to test speed sidew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167840" indent="-166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milar technique should be u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167840" indent="-166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hen will you do the sideways braking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501560" indent="-166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 suggest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befor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this while statement, and after you've got the rocket back upri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167840" indent="-166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f you need it, there's some useful code in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spare code.t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52280"/>
            <a:ext cx="883944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// Get down to the ground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( AArena.NearestBelow( ARocket.GetPosition() ) &gt; 0 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 ARocket.FallingFasterThan( 20 ) 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Rocket.IncThrustLevel( 10 );   // Turn engines on t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Rocket.Coast( 1 )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// brake the f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Rocket.EnginesOff(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Rocket.Coast( 1 )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fall with no brak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7DB-364A-45F9-921F-2579403FB9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red the structure inside methods, the code that does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tat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quences of sta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ditional statements - i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titive statements - w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cessarily looked 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ions, values and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'll explore these more in the next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D64-2DE1-4324-B0FA-84B9FE8F95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e've looked at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doing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already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ember playing with th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Fl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method from the RocketControll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justing or creating a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eque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operations/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statement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 a single indivisible unit of do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ecution model for a sequence of statements is si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are executed, one at a time, from first to l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tches closely to some typical behaviours we see in everyday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llowing a simple step by step cooking recipe, or our work plan for the day – do this, then this, then th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098-3DFF-43C0-8ADB-95CD04C87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echnical/Grammatical detail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statement is always completed with a semi-co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sequence of statements can be made to look like a single statement b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nclosing it in br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is used all the time, as we'll see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81C-440E-4230-8344-F2B01294CF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ore advanced forms of doing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 this sequencing of operations enoug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, not typically, be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inflex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 opportunity to adjust our behaviour according to what we find in our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 example, a simple daily working plan does not explicitly tell you what to do if there's a fire ala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emember the rocket – we needed to know the environment before setting o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ineffic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we want to do something repeatedly, we must write the repetitions out in fu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 what do we ne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F82-9FC4-419E-9C13-631786807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Conditional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do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rtain doing is performed only if some condition is m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arious ways we express this notion in Engl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I'll take an umbrella if it's raining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If it's raining then I'll take an umbrella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If it's raining or it's cloudy then I'll take an umbrella, otherwise I'll take a sunhat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If it's raining then I'll take an umbrella, otherwise if it's very sunny then I'll take a sunh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y all express doing, with some condition attach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metimes, nothing will be done at 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metimes, we are choosing between alternatives – something will always be d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53B-6D5D-45AB-8661-CF7F510164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tating this in a prog. languag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statement forms most often fou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"IF a condition holds THEN do something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te, if the condition doesn't hold, nothing is d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"IF a condition holds THEN do something ELSE do a different thing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ne or other of the two things must be d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ich one is decided when the condition is evaluated – see the next sl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'll leave them for 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DA7-7756-40C9-878B-C2010E08A1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Notice the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"a condition holds"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from previous sl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d in both forms – what does it me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condition is a factual statement to be verified as true or fa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ual sta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is ra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r hair is bl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re is an obstacle ah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 condition hold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ans that the statement was verified as being tr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en does the verification take pla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the point when the decision must be m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the conditional statement is execu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ucially – not until the program is run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679-E294-48B3-B7C7-FB103DDD8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Values, expressions and evalu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avoid confusion between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doing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statements, and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factu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latter are called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expres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 idea or a computatio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ich i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evaluated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o produce a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case of a conditional ex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idea evaluates to 'true' or 'false'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se are just two values in the great universe of values that we'll be explo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CBA-1F20-49E0-8F1F-9BB2963677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09T16:46:41Z</dcterms:modified>
  <cp:revision>28</cp:revision>
  <dc:subject/>
  <dc:title>PowerPoint Presentation</dc:title>
</cp:coreProperties>
</file>