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620-CDFD-4D55-9B1A-A9BE35BD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 of this l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look at some real C# code using Visual Studio.  To identify the difference between the language and the programm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6E7-3977-4A56-8EEB-99C1ADAC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611-401A-460C-94F9-37E954F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250-A980-4B16-AE2E-555423A7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37C-D9B1-4C9B-A2B8-F8EF2C16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F4C-FE3E-4CA0-AA98-E607E7C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0E5-0DDF-471E-9CDF-A3FC4EF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E5E-9940-46A0-AA52-C2024B8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BBF-D2AA-4A75-B678-73D8C22A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A52-7380-4C40-885C-8B3471D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0AC-7CF9-46AA-95DE-B95150D3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A85-C8CC-403D-9461-94FC447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2AC-5009-47FC-8F00-AF3E2E6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D77-A3A4-4641-8111-83AFD4FF3CCC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4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amine the structure of th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es/methods.  Who calls what?  How does it work?  Show how ExecuteMission and Rocket/Arena fit into all of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tivate the introduction of new behaviours without throwing away the 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roduce 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w it happening in the Rocket example, and get some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3E2-1D57-4EFA-A730-112155A568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reate your own controll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oose a flight style, ballistic missile perhap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kes off, flies left, then down nose-first into the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need a new class in the project, inheriting from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oose menu item Project/Add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lect the Templat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de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ype a class name – sa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allisticFlight.c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– then E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en LoopingFlight and select and cop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text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ste it into the empty BallisticFlight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nge occurrences of LoopingFlight to BallisticF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just the comment in green to describe this f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just ExecuteMission so that BallisticFlight i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bug/Start to see if it all works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44C-8240-4E66-8A70-2E9F1A7C32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Important terminolog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opingFlight is 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erived clas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nherit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rom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cketController is 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ase clas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f Looping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Fly method of LoopingFlight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verrid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he Fly method of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code for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y is marked as a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virtu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.  This indicates that it can be overriden in the way we want in an inherited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code for Looping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inheritance relationship is made clear in the first line of the class spec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ublic class LoopingFlight : RocketController etc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y is marke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overrid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show it is overriding the base 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357-A7B7-4B64-99A3-EA7E86898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ook around the code files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rt to see the patterns that repeat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is a class spec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is each method spec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ick up the genera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will address specifics as the course progr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ually, a text book will help you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17B-5CD0-432E-9434-B1D0C2ED8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the concept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ing new classes that are related to existing classes at minimum c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ally, thi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ed base and derived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iding existing behaviour with new behavi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ing new behaviour will be covered l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used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irtual meth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echnique in the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2E4-DEB7-4E60-9199-23D2D3A130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aming the Rocket projec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ree major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one to get it all go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ecute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s an arena ob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s a rocket object, passing it the arena to fly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s a rocket controller, passing it both the rocket and ar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structs the rocket controller to start the mission – F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 objects are created by this class – not a fac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ne method –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ai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– the starting point for the whole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B1A-DEA2-4428-8701-300E8612F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 new kind of controller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ay we are happy with the flight executed by the controlle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, we now want to try a different fligh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keep the old flight al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e the general case 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:  We want to keep the old behavi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:  We want to keep all else the 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just make an adjustment to the flight instru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FAE-5F55-416B-A44F-6A7AA9E6A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ncept: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Inheritan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want to minimise the work involved in building our new 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ant to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nheri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s much of the old controller's structure as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ly creating anew that which we want chan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nheritanc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– a core concept in the object-oriented programm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key feature of large systems bui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we have an item, and we want a new, related, item, we have to build only that part which is different, reusing unchanged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build families of related classes/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CA3-EA99-415B-AE20-C1DFFA62E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hanging or adding behaviou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ere, we are proposing to change an existing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ould also use the inheritance concept to add new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 example, add a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utoLand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ethod to the rocket 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will examine this style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5C7-FE64-4B5D-87E6-E99C21E6B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nalogy – a car engine facto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often have an engine management chip in them, controlling how the engine ru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factory, we can arrange to have one kind of chip put into some cars and another kind put into other c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do not build a whole new engine pl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can pick alternate behavi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effect we have two factories, in that two kinds of engines are produced – but almost all the technology is shared and re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27F-FB18-4E7D-B8F4-5221946EB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et's see this in action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ing the Object Browser, click on the + next to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eep pressing the +s until you get no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e same on + next to Looping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Controller inherits from Object – this is a root class for ALL classes, containing behaviour common to all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9160" y="2575080"/>
            <a:ext cx="3309840" cy="29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D80-D74F-4DC6-A62B-F9A6315F4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e LoopingFlight Clas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ick on LoopingFlight in the Obj Brow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members window, there's only two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pingFlight – a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nstruct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y – the new version of Rocket Controller's 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are this with Rocket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re are additional members for the Rocket and the Arena that are being controlled, of which the controller must keep tr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re is no need to re-specify these in LoopingF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1D8-97D3-45D0-B544-156ED38FE5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unning the LoopingFlight controller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executing a different kind of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, in the Object Browser, double click on ExecuteMission to open its code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wn near the bottom, you'll see the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ocketController RC = new RocketController( rArena,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ng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ew RocketControll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ew LoopingF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are simply telling the system to use a different kind of controller to fly the 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verything else stays the s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w choose Start from the Debug menu as bef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F3C-5A0B-431E-92B3-E797BD10A6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0:18:49Z</dcterms:modified>
  <cp:revision>18</cp:revision>
  <dc:subject/>
  <dc:title>PowerPoint Presentation</dc:title>
</cp:coreProperties>
</file>