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FD3-8180-41B3-9F05-B028FD20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6915-2E3F-435B-8AE7-D5E5CB53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EEF-BDC9-4B27-9A29-1D4A5338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E7F-5899-412B-861A-7799CD73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606-2C41-4BAB-A808-AD68D33E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654-2891-4824-AE22-0B413A3F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D221-AD69-49CE-B858-D628554C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1611-8BE0-46FD-8423-AA9F2598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D388-2EBB-4B54-BC15-7B7D56A3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CCDB-C7D2-4BC5-9CC5-EF68C58E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133-A6D0-4071-AD4B-672AAB57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6A26-03EB-4800-A360-A4FF8767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Learning to Program with C# -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6F70-0099-4A46-9180-E2881DE587E6}" type="slidenum">
              <a:rPr b="0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Unit 5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Adding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behaviour using inheri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roducing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ability of a single piece of code to operate with objects of different shap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3B4-1389-4DC9-99FE-E7BE4F963C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What's the point of all this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e have two kinds each of Rocket &amp; Ar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simple and the advanced version, defined by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d an implementation for each interf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ocket, AdvancedRocket, SimpleArena, AdvancedAre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ink of an interface as a contractual agreement on services suppli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Rocket specifies a limited service, IAdvancedRocket a slightly more advanced serv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D54D-D0BA-4374-833F-DDD8F395E4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Interfaces as contractual agreemen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class can guarantee to produce objects meeting these agre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.g. Rocket guarantees to meet the interface IRo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ow, many different factories can produce objects meeting the spec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 have a competitive market for the best implementation of a given interf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te that the free market hasn't yet come to Rocketry – there is only one factory for each kind of o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y have we built Rocketry this w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is good engineering prac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've shared/reused as much design/code as pos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l the components we've created may be flexibly used with one another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AE0D-A9B4-4993-AF89-29504D1615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Interoperatio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original RocketController will work wi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y class that implements IRo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y class that implements IAr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includes the advanced versions of Rocket and Arena, because they ar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derive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from the simpler ver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is feature is known as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polymorph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iterally:  poly – many,  morphism – sha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Rocket Controller will handle rockets and arenas of many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sha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Key benefit her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ld code (e.g. RocketController) is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guarantee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to still work with new code (e.g. AdvancedRocke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uge cost sav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16A7-5FE4-4DA9-8826-0EA525744C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B8B-30BF-413D-B74A-09473755F0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Analog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ideo rec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y video recorder, no matter how new and with however many new features, will still play through virtually any televi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y? because the interface specification – the aerial socket – is still suppor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ven though the new SCART connectors have also been added, the original coaxial connection is still t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though note this interface is country-spe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interface specification in the UK is PAL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nd in the US it is NTS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804-7568-4150-BDEB-418C307B2B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nded the concepts arou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time, we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dd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ehavio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ed th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nte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ontractual agreement on minimum services provided by a cl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ed the concept o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olymorph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s of many different classes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ppe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be of the one class or interface, i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y are derived from that one class, 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y implement the interf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roves code reuse and interoper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74DD-2700-4524-83DD-76CD496478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A simple addition firs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 each rocket controller, we re-write the same code for taking o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ow about adding a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keOff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method,  which contains the necessary instruc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each version of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Fl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that we write, we can simply call the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keOff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method rather than having to include all those instru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614-93F6-4578-8846-9085204ACC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Examine this solution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are now working with the Visual Studio solution directory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AdvancedRocke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pen up the Rocketry solution in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ook for and open the AutoRocketController cl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se the members pull-down to get to the new TakeOff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d then go to the AutoFly method to see it in 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57400" y="4076640"/>
            <a:ext cx="5524560" cy="25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93F9-1700-40FD-AEE0-1E40A5E15A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General technique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observed that we wanted additional behaviour – in this case a set of operations performed regular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added a new method in a derived class of the origi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sers of our engineering can now use either ver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ry it out for your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d to this class a method LoopTheLoop, including the necessary code to perform a loop, and then use it in the AutoFly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asiest: take a copy of TakeOff and change the name and code appropriate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8C8-91B7-4B51-93EA-40E22C66B1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ok around the rest of the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otice it is inherited from RocketContro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w can you tell this…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t has quite a different kind of Fly method, and there's a complicated looking Land method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'll explore these n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D01-323C-4D79-9802-DFEE04A7D5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Motivation, using Rocketr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sider the Fly methods we've bui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 have written a simple sequence of instructions that depend on knowing the exact layout of the ar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is fine for some applications – ballistic missile for exampl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ow consider sending a rocket to the moon or another pla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n we risk being so certain of our surrounding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istory says no, since Neil Armstrong had to take over from the 'fixed' landing sequence to avoid Apollo 11 crashing into a cr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o we need increased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adapt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6A85-0633-4D75-BB21-D5F611B2C8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Adaptabilit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need for the RocketController to adjust the instructions it sends to the rocke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n the basis of the surrounding environment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r example, how fast and in what direction is the rocket travelling?  what obstacles are nearb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eil Armstrong was a very adaptable contro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e had gauges in the spacecraft to check his velo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e looked out of the window and saw the nasty crat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 need these ab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DD0B-2259-4340-A7F2-3F6CAD8DBA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Extending the Rocketry model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rocket controller must be able to interrog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R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w fast are you moving in each direct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is your attitud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ensure safe land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Are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w close is the nearest obstacle in each direct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avoid crashes along the way, and land saf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3CD9-1F23-4474-BD51-53B4DB3AD6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Explore with the Object brows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AdvancedRocket &amp; IAdvancedAre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se both inherit from simpler versions of Rocket and Arena respectiv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amine the added meth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xactly the interrogation functionality we ne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d run ExecuteMission to see the new AutoRocketController in 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ou will see the rocket automatically landing itsel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periment by changing the in-flight code, see if it still manages to perform a safe la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 will look at the detail of the Land method in Unit 7 – it is interesting stuff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7167-1F43-4F91-AB34-7F3ECFABCE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uintin Cutts</cp:lastModifiedBy>
  <dcterms:modified xsi:type="dcterms:W3CDTF">2002-02-10T10:19:02Z</dcterms:modified>
  <cp:revision>21</cp:revision>
  <dc:subject/>
  <dc:title>PowerPoint Presentation</dc:title>
</cp:coreProperties>
</file>