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9D1-2681-4E01-AD09-B7DA28FD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AC77-829B-453E-A3F7-C29B00D2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E81-1640-408B-B37E-D136EAAB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B34-14D6-4E1F-A051-8EF00110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807A-8353-4332-9D50-4DBC1155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454-36B0-4888-B531-4417E473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EBB-674F-42D2-9F50-67CF6086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6DB-5CBE-457A-B369-0E90279A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DCE-2705-4341-9994-5F29BE83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A38-CECF-4AC3-823B-69F5E1EE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CE5-65F5-44C8-B91B-096466D1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0B3C-2B7A-437E-B9FF-34EB9869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Learning to Program with C# -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F743-F5A3-49AF-A0CF-4FEDA1C13E51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Unit 6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flection on the C# Model of Computation introduced so f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rner stones of the object-oriented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y is it like th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have considered modelling aspects only so f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 else has caused the computing world to build a model like thi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675-A175-44A2-A99E-117E604D7B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o why have inheritance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heritance &amp; interfaces often conf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cause the polymorphism offered by interfaces is also offered by classes related by inheri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undamental value of inheri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s a series of classes to be related together according to their common pa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mmon members only specified once, in base c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n be accessed in objects of all classes derived from the base c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creases efficiency of production and flex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7D9-032A-4FFB-A989-9BEAAC731B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Polymorphic aspects of inheritanc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rstl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haring of methods is a form of polymorphic behaviour – the code of the one common method can operate on objects of all derived clas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ditionall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relationship defined between objects using inheritance – "is a" – introduces the same fragmentation of the class as did the interf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ype safety can be specified on the base class only – effectively, the base class is the interf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o matter what additional operations the derived classes have,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s long as we view them with base class spectacle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we can mix safely mix objects from all derived clas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63E-8CF4-4CF3-981F-BFEE22FCE8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ed the model so f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s, classes, methods, inheritance, polymorph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re the defining features of the object-oriented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separate it from the other major models of compu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ow need to explore some of the other features of th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 to both the imperative and functional models of compu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F67-30B0-4B74-A1C3-28DC8921BC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Introduced so far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fundamental building block of the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actories that create ob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d by a class to operate on objects of that class.  May adjust internal data stored in the object or class, or call up operations on other ob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s the reuse of existing classes in the construction of new cla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s viewing of an object in different w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3B3-41C7-41FC-A75B-4E54AA3955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Modelling aspec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s structure introduced as a result of the need to model the real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world is made up of ob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are naturally class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books, the chairs, the rockets, the peop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ur use of objects requires us to operate on t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e open a book:  book.Open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e ask someone their name:  person.GetName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ineering techni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e reuse technology as often as we are 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.g. a screwdriver is reused in countless problem solu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ackwards and forwards compat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e work with standards in th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y allow new and old technology to co-exist successful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7D7-B0E2-498C-ACD2-E707040ABD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nother Motivation - Safet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lass model brings saf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afety: a  guarantee that components of a system operate together without damage to internal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r previous programmers, class safety &amp;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typ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afety are synonymo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safety depends on the external structure of an object defined by its cl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s visible methods and data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a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wer adaptors for laptop computers are usually uniquely shaped to the power level they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shape (external structure) ensures that we don't mix the wrong supply and compu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EB4-7321-42DB-A583-75F97F33B5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Class as safety mechanism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l objects are categorised according to the class that produced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l methods specify the class of any parameter objects they rece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very call of a method can be checked for safety before execution,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oting the class of all parameters to the method in that method's defini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hecking that each parameter supplied at the call site is of the expected 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f this check fails, this method call cannot r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ually this check is performed before the program is executed at all, sometimes it is just before the call itsel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350-5FD1-4FEC-99BD-5282909876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Repercussions of class safet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rget all about inheritance &amp; interfaces for a minu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t's see what it's like without t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point here is to show why we need them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o, an object is associated with only ONE cl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ay we have four 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desk, a bicycle, a fridge and a televi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all have a method GetWe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841F-4C8F-4997-816F-AA3A6F7CC6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Working with objects of different class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find the weight of a collection of the four kinds of objects, I must treat them all differently – adding desks, cycles etc independently, then adding the to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e I need to write a separate code fragment for each kind of object to do the addi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y?  remember that code can only operate over objects of a single c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is inflexible and tedio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dditional coding for each class involv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dding code doesn't gracefully adapt to the appearance of new clas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F51-3039-4976-9CE9-E76D13A6B6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What is the dilemma here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afe application of operation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s been determined by a match on the whole class 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tuitively, we notice tha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afe application only requires that the particular operation expected at the call site matches the operation available in the object present at exec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ence we could define safety on subsets of the whole class's stru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ich is exactly what interfaces allow us to 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790-85F8-44AF-A169-88130CF7F1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Trust &amp; Flexibility vs Safet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interface requires us to trust that if many operations have the same name and signature (parameters), then they are compat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example, we assume that all GetWeight methods are operating in the same w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vels of saf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f all objects come from one class, high confidence that they are compat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f they come from a number of classes, all implementing one interface, we necessarily must be less certain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ut we've gained a level of flexibility not otherwise avail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gramming often involves trade-offs – here is an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016-42AF-4D97-BD3B-6AC9F2435B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uintin Cutts</cp:lastModifiedBy>
  <dcterms:modified xsi:type="dcterms:W3CDTF">2002-02-10T10:20:24Z</dcterms:modified>
  <cp:revision>24</cp:revision>
  <dc:subject/>
  <dc:title>PowerPoint Presentation</dc:title>
</cp:coreProperties>
</file>