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8A-306F-4B55-AC0E-1B919A2B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430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D4B-8DCF-4D6F-AA3B-283B45E5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256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0FB-D077-432E-845B-88554C19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710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864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430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710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864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6DE-9FA2-43D3-9C32-8A66FEA4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393-D581-4A30-BFD8-F560480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962A-D9E9-4BCB-AAB6-45CBD6F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BBF6-2C6C-4F10-9E76-B0E32C1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256-A3DD-45BF-9D3F-B515A95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8F54-AA26-438F-A258-A649A1A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C213-0301-41E9-A534-C7C524F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916-9114-4581-A3CF-611DE54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916-78E1-4A00-8DAA-8978EFF4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256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562-C824-40D8-A792-8C684C5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582-1783-490A-9C19-BC4D556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430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2396-5BAA-4F0A-B4AE-D986652A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256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8401-85B2-4A9C-8E0C-BD142F01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710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9864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430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710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9864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AC38-0AC5-4340-BA1D-4B39C0C4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6AE-66EC-4492-BDA8-86E195B4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B93-530B-46CC-919E-2462FA2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F6B-7FE6-4F00-9375-3F76924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8ED-23D0-44F7-8D0A-1A9AC4A7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09C-C86E-45E4-AE1C-8684DF25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256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55C-E8DC-40B7-A4FF-AD10FDC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C51-921C-4385-ACCA-8A2898E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914400"/>
            <a:ext cx="8542080" cy="1052280"/>
            <a:chOff x="152280" y="91440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442800" y="10224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25480" y="10224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6640" y="14446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36360" y="14446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13716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7320" y="9144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000" y="17049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70F3-0C4F-4E31-A46C-8B17244D0B25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400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19B-7331-40B6-98C8-04D1AB7DC9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tic Training Simul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343160" cy="171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600200" cy="170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95880"/>
            <a:ext cx="596880" cy="5968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2054160"/>
            <a:ext cx="556272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Crossan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hen Brew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lasgow Interactive System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 of Computing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versity of Glasg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, stephen@dcs.gla.ac.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ww.dcs.gla.ac.uk/~step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9-10/10/2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60A-4691-4287-8AC9-632FE0BC2AE7}" type="slidenum">
              <a:t>1</a:t>
            </a:fld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rce-Feedback   Technologies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Cs - 2 degree of freedom force-feedback joysticks cost £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ce-feedback mice - 3 degree of freedom mice are now available costing £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joystick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86364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mouse" descr=""/>
          <p:cNvPicPr/>
          <p:nvPr/>
        </p:nvPicPr>
        <p:blipFill>
          <a:blip r:embed="rId2"/>
          <a:stretch/>
        </p:blipFill>
        <p:spPr>
          <a:xfrm>
            <a:off x="7543800" y="3352680"/>
            <a:ext cx="1009800" cy="8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B02-3CA0-4316-AC33-E010771AEE6D}" type="slidenum">
              <a:t>10</a:t>
            </a:fld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rce-Feedback   Technologies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PHANToM is a state-of-the-art research de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s 6 dof in, 3 dof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sts &gt;£25,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smallphantom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990720" y="4114800"/>
            <a:ext cx="2895480" cy="24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419720" y="3809880"/>
          <a:ext cx="3809880" cy="276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809880"/>
                    <a:ext cx="3809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048-7F12-4C6C-8956-2A820D6C34E4}" type="slidenum">
              <a:t>11</a:t>
            </a:fld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: Multi 3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multy3d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00600" cy="38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A27-1B05-44C7-9661-08C034379D79}" type="slidenum">
              <a:t>12</a:t>
            </a:fld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HANT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iginally developed for VR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duces rich range of feedback suitable for many of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sual models created in OpenGL or VR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object haptic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f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/static fr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m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E35-DD88-429D-8EAF-E4ACC8EA7AD4}" type="slidenum">
              <a:t>13</a:t>
            </a:fld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Haptic Training Simulators for A&amp;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fe, controll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ve performance 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ed a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ulate a wide range of cases/complications/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bination with anatomical and physiological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AB7-6FBC-4197-8898-9743C4CCD03E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erformance Feed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ortant for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lex multi-dimensional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utcome is more than just success or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 usually presented post-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pendent on simulator type (ie. MIS, Surgery, Palpatio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ssue damage/time taken/correct diagnosis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chart performance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ve performance 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ful for assessment/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CEC-AED1-467C-858B-E3878CE03888}" type="slidenum">
              <a:t>15</a:t>
            </a:fld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cal Haptics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S Simulators - (KISMET, MIST-V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KISMET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5800" y="2743200"/>
            <a:ext cx="3962520" cy="203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876920" y="2743200"/>
          <a:ext cx="2971800" cy="19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2743200"/>
                    <a:ext cx="297180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6BB-2E04-4DB2-A980-7C0CB4F8D8BD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cal Haptics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gery Simulators (Penn State Suture Simulation, Caths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Suture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133720" y="3276720"/>
            <a:ext cx="472428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E5E-7EBD-4356-BFE3-0187B7829884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cal Haptics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pation Simulators (Rutgers Prostate Simulator, Glasgow H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rostate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504960" cy="34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D94-ECBC-4CFD-B873-05274BF0C246}" type="slidenum">
              <a:t>18</a:t>
            </a:fld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lasgow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llaboration with Glasgow University Vet School and Weipers Equine Cent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duce a training simulation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rse Ovary Palpation Simulation (H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lsing simu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B24-2A71-4D43-849C-09FCCE9D3460}" type="slidenum">
              <a:t>19</a:t>
            </a:fld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 and background to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ulti-3D 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ptic training simul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asgow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lsing 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lpation 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1C0-B343-426D-B0C7-3CE36EF34AF6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ulsing 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ulse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27968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90E-8680-4B1C-A15C-328FD369D09B}" type="slidenum">
              <a:t>20</a:t>
            </a:fld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rse Ovary Palp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exa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nosis through haptic properties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access for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liminary study has been carri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good as traditional metho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room for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895480"/>
          <a:ext cx="350496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350496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C9A-8CD1-418D-9494-2D20CA5C1F11}" type="slidenum">
              <a:t>21</a:t>
            </a:fld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PS 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ovaries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562720" cy="367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A08-3033-47D2-A65F-416DE4CA8D55}" type="slidenum">
              <a:t>22</a:t>
            </a:fld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ultimodal C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es Haptic/Auditory/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ented during the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d to provide performance feedback or guidance through the Virtu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present different levels of help depending on the students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E7B-89E4-41B9-B8D1-8CA0E032BACC}" type="slidenum">
              <a:t>23</a:t>
            </a:fld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urrent Work Extending HOP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ing feedback c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s to th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orce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al PHANToM palpation - An initial haptic object identification pilot has been run using 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651-757A-48CA-A159-5C6D99445A98}" type="slidenum">
              <a:t>24</a:t>
            </a:fld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m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aturity of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NToM allows only a single point of cont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finger maximum, not whole hand with high 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tend to be tactile or kinesthetic, not bo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ion of simul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0C9-74B2-4F30-A16D-49CDD33C1104}" type="slidenum">
              <a:t>25</a:t>
            </a:fld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ptics has great potential for training simul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liminary studies suggest haptics can be a useful train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benefits to A&amp;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without risk to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for rar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241-FB6C-423B-81F7-3F7C651763DB}" type="slidenum">
              <a:t>26</a:t>
            </a:fld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tic Training Simul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34316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600200" cy="1706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280" y="6095880"/>
            <a:ext cx="596880" cy="5968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00400" y="2054160"/>
            <a:ext cx="556272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Crossan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hen Brew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lasgow Interactive System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 of Computing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versity of Glasg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, stephen@dcs.gla.ac.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ww.dcs.gla.ac.uk/~step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9-10/10/2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74E-C9F0-4474-B4F3-6403B0F13723}" type="slidenum">
              <a:t>27</a:t>
            </a:fld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aptics and Tou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Haptic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hap'tik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j.[Gr. haptein, to touch + ic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, or having to do with, the sense of to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ebster's New World Dictionary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uter haptics is difficult to describe - should be experie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738-2EFF-4919-BA1B-078F29A23956}" type="slidenum">
              <a:t>3</a:t>
            </a:fld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Sense of Tou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ively unused in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ginning to change - devices are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ique fe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y duplex channel. You can both transmit and receive information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uch is a complex sense consisting of several distinct sensory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44D-CC52-47E8-823D-EF0FC770CD3D}" type="slidenum">
              <a:t>4</a:t>
            </a:fld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pti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ng to the sense of tou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st general ter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inestheti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feeling of motion. Relating to sensations originating in muscles, tendons and joi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3BC-C61F-4A9B-B430-1D8142FB86E9}" type="slidenum">
              <a:t>5</a:t>
            </a:fld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ct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taining to the cutaneous sense - the sensation of pressure (temperature and pain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ce feedba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ng to the mechanical production of information sensed by the kinesthetic syste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54A-DBFC-448F-A052-B37BB2A27D92}" type="slidenum">
              <a:t>6</a:t>
            </a:fld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ctile Tech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ctile information is produced chiefly by perturbing the sk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ins - as in devices for Braille dis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ir jets - blow to produce a disturb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shions of air - inflated or deflated to vary pressure on sk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A70-BC72-40C9-A494-408D68F22D43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ctile Tech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lectrical stimulation - low levels of current provide a localised tingling s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ically used in gloves, or for larger body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technologies all share the same lack of re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4F4-798A-4481-BDC9-5830E4C76D92}" type="slidenum">
              <a:t>8</a:t>
            </a:fld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rce-Feedback   Technologies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inesthetic information is produced by exerting mechanical fo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chnologies are easier to produce than tactile and are now reaching the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soles - Dual Shock, Rumble Pack - cost £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dual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71784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744-5EDF-476C-BC5D-83E5EC273DA4}" type="slidenum">
              <a:t>9</a:t>
            </a:fld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9:43:52Z</dcterms:created>
  <dc:creator>Stephen Brewster</dc:creator>
  <dc:description/>
  <dc:language>en-US</dc:language>
  <cp:lastModifiedBy>stephen-admin</cp:lastModifiedBy>
  <cp:lastPrinted>2000-08-29T16:59:03Z</cp:lastPrinted>
  <dcterms:modified xsi:type="dcterms:W3CDTF">2000-10-08T14:45:23Z</dcterms:modified>
  <cp:revision>362</cp:revision>
  <dc:subject/>
  <dc:title>Feeling and Hearing Things</dc:title>
</cp:coreProperties>
</file>